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EA23A4-7F39-4004-85A0-752F677B807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01F7F1-ECD5-477B-A1A3-2D161D493DE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BD3E-36CA-4AC2-AB6F-9002C14DA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AC7C-35CE-4658-890F-52CEA2B89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A902-7D4A-43B5-96FB-98889AF43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6F76-4618-45CC-9DA7-A43B39BA0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D054-352D-4C7F-BC96-EF137BDAFD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AB72-704F-4C98-A98A-E824C53F6B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FB3B-28D5-4B86-9E5A-DC045BD07C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5FD7-44F5-4927-8C50-76EF29E2B7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A752-D646-437B-A062-D7D1A6F5D3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6034-7A9B-4D11-9F16-F4AB92CDC8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5DA7-296C-4A62-B5E1-386022CCF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B763-4901-4806-B7D7-E4D24916E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D767-16A5-4A77-87B6-B303D6AD45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72E3-DCB4-4DC7-9C45-5746B8F70B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AF49-F1A3-4013-BC94-F022D9708E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CD0D-9A59-4F96-88DD-57F4C6D5FC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2120-F15A-4B48-924B-99340AAC1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2AD9-8AEE-44E0-A3C2-CEB680588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2C12-BE8C-4554-A451-18EA65201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2F82-AE34-4D1D-8637-E9557E081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E27E-01A8-4B36-AC0E-EC2659EA4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B1A1-79E0-478F-A99D-65901504E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7DCA-D642-4B35-99FB-6294F3273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E458-253E-49E7-B589-5DC12A934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6680" y="64101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41016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29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57C668-BD87-4B6B-AE10-DD14796EE71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88" t="-1196" r="0" b="-36839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E9E08F-4965-44C8-89C2-50F761F1AE72}" type="slidenum">
              <a: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197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                             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0066"/>
                </a:solidFill>
                <a:latin typeface="Times New Roman"/>
              </a:rPr>
              <a:t>Елена Ваенга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7531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00000" y="720720"/>
            <a:ext cx="7550280" cy="5737320"/>
            <a:chOff x="900000" y="720720"/>
            <a:chExt cx="7550280" cy="57373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900000" y="720720"/>
              <a:ext cx="7550280" cy="57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00000" y="720720"/>
              <a:ext cx="7550280" cy="57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90792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цертирует Елена Ваенга с 19 лет. Она — лауреат Санкт-Петербургского конкурса «Шлягер года 1998» с песней «Цыган», лауреат конкурса «Достойная песня 2002». Участник концертов-фестивалей «Весна романса» в БКЗ «Октябрьский», «Вольная песня над вольной Невой», «Невский бриз». Давала сольные концерты в ДК им. М. Горького, много гастролирует по стране. Ежегодно по случаю своего дня рождения в конце января дает концерты в БКЗ «Октябрьский»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9640" y="4140360"/>
            <a:ext cx="251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720720"/>
            <a:ext cx="81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лена Ваенга — тонкая, художественная, мечтательная и романтичная натура. Музыкальная одарённость, природный темперамент, трудолюбие, жизнерадостность — всё это составляющие её жизни и творчества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2852640"/>
            <a:ext cx="2960640" cy="386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254952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765000"/>
            <a:ext cx="518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есмотря на внешнюю хрупкость и молодость, за спиной у этой очаровательной девушки богатая творческая биография и не такая уж простая человеческая судьба. Жанр, в котором работает певица, с большим трудом определяет даже она сама: «На 50 процентов это фолк-рок, есть старинные баллады, городские романсы, шансон. Но границы между ними провести почти невозможно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6226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0360" y="179280"/>
            <a:ext cx="86407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В 2009 году получила свой первый приз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 Золотой граммофон »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за песню « Курю».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 В 2010 году во второй раз получила премию «Золотой граммофон» за песню «Аэропорт». В этом же году Елена Ваенга впервые стала лауреатом фестиваля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Песня года» , исполнив песню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Абсент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161928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Times New Roman"/>
              </a:rPr>
              <a:t>Дискографи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Портре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Флейта 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4 — Флейта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5 — Белая птиц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6 — Шопе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bsen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юн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 B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8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лавиш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10 — Принцесс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00720" y="3898800"/>
            <a:ext cx="3313080" cy="276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59280" y="1440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59280" y="1557360"/>
            <a:ext cx="60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аенга Елена (настоящая фамилия Хрулева) родилась 27 января 1977 года в Североморске. Прежде на месте города Североморска находились два поселка - Нижняя Ваенга и Верхняя Ваенга. Между ними протекала саамская река Ваенга. В дальнейшем Елена решила взять творческий псевдоним - Ваенга. Слово Ваенга на саамском языке означает самка олен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18572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720" y="720720"/>
            <a:ext cx="575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Елена закончила художественную, музыкальную и горно-лыжную спортивную школы. Впоследствии Елена Ваенга навсегда сохранила привязанность к горным лыжам. Свою первую песню «Голуби» написала в 9 лет, стала победителем Всесоюзного конкурса молодых композиторов на Кольском полуострове. Имеет классическое музыкальное образование. После школы приехала в Санкт-Петербург, где окончила музыкальное училище им. Н. А. Римского-Корсакова по классу фортепиано, получив диплом педагога-концертмейстера. Факультативно занималась вокало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692280"/>
            <a:ext cx="241920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16720" y="3716280"/>
            <a:ext cx="237636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29068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1341360"/>
            <a:ext cx="57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 детства мечтала стать актрисой, поэтому после музыкального училища поступила в Театральную академию   на курс Г. Тростянецкого, но проучилась лишь два месяца, так как её пригласили в Москву записывать первый альбом. Альбом был записан, песни Елены Ваенги стали петь Александр Маршал , Татьяна Тишинская , группы « Стрелки », « Божья коровка »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43640" y="3789360"/>
            <a:ext cx="23050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765000"/>
            <a:ext cx="4822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Московский творческий период продлился всего один год, после чего Елена вернулась обратно в Петербург. Здесь она узнала, что в Балтийском институте экономики, политики и права на кафедре театрального искусства набирает курс П. С. Вельяминов , и в 2000 году пошла учиться к нему. Закончив курс, получила диплом по специальности «драматическое искусство». Свой драматический талант певица проявляет в антрепризном спектакле «Свободная пара» в паре с однокурсником А. Родимовым 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0360" y="539640"/>
            <a:ext cx="8137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Часть вторая –</a:t>
            </a:r>
            <a:br>
              <a:rPr sz="4400"/>
            </a:b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 переговорная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5800" y="4500720"/>
            <a:ext cx="85838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Елена, вы производите приятное впечатление человека, долюбленного уже в детстве, в отличие от многих недолюбленных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48440" y="225360"/>
            <a:ext cx="3571560" cy="39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692280"/>
            <a:ext cx="8604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родилась 27 января 1977 года. Моя мама по образованию химик, папа – инженер. Они работали в поселке Вьюжный на заводе «Нерпа», который обслуживал атомные подводные лодки. Дедушка по линии матери, Василий Семенович Журавель, был контр-адмиралом Северного флота. Родители моего отца – коренные петербуржцы, блокадники: дедушка был зенитчиком, воевал под Ораниенбаумом, а бабушка – врачом в госпитал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739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179280"/>
            <a:ext cx="8443800" cy="66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думаю, что сила моих родителей заключается и в том, что они даже сейчас не видят во мне, скажем так, звезды. Они считают, что я еще только начала что-либо делать. Человек всю жизнь должен что-то делать. Как Ломоносов. Или Моцарт. Он же, умирая, в постели диктовал своей жене «Реквием». И умер с нотами в руках. Короче говоря, взялся за какое-то дело, делай его до конца жизни, потому что завершенное дело – это конец творческого пути. То есть ты должен быть постоянно в созидан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А что вы вкладываете в понятие всенародной певицы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360" y="2276640"/>
            <a:ext cx="651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бы хотела, чтобы не в кафе звучали мои песни, а чтобы люди, слушая их, получали удовольствие для ума и души. Я не хочу всенародного фанатизма. Я хочу всенародной любви. К моим песням, а не ко мн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2852640"/>
            <a:ext cx="1836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8:57:38Z</dcterms:created>
  <dc:creator>Сергей</dc:creator>
  <dc:description/>
  <dc:language>en-US</dc:language>
  <cp:lastModifiedBy>Елена</cp:lastModifiedBy>
  <dcterms:modified xsi:type="dcterms:W3CDTF">2011-03-30T08:16:29Z</dcterms:modified>
  <cp:revision>66</cp:revision>
  <dc:subject/>
  <dc:title>   Нам дан во владение самый богатый, меткий, могучий и поистине волшебный русский язык.                               К. Паустовский</dc:title>
</cp:coreProperties>
</file>