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130577-B2F3-496B-B78D-A482846C429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6022F6-65BF-4C2A-85F2-60528921890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8497-8F86-4D89-B8B2-36336795C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A3D4-E611-4821-B84F-B9C147DFD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127C-E0F2-4E4D-A2E0-9E8B832C7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1BB8-39EA-4149-A0E3-E16142351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CC51-428F-4CFF-AF70-9D5FBE724F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6AAE-EF6F-462D-9F67-96A7114D1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1D92-0815-42D1-B7E3-0F488B072D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B95F-7265-404E-AA3F-41762B40E9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C112-353F-4394-BF66-817A00D0C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7669-6739-4BC7-A70A-3E26F4505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9343-F38D-4892-A048-0DB3770BC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CD1B-CF11-49CA-9BF8-0942B8C5B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07B4-EB73-45E6-8C6C-7BF0D9423D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4C0E-6CC8-4D8D-8DE0-05D127868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B9DC-27EB-4C79-BCBE-F32835098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5226-D23F-4203-B1AC-8329FA14AC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0D24-51F3-4556-8E08-FD60860080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F50A-8529-4CE5-8D1D-195B02E8B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3E5A-3EB5-4B22-BDB2-F53C96B47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0BF-6322-4109-815D-3CED73324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079D-5E28-4F9E-8641-8AB4B0375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9F8F-C0DF-40D2-A31A-EA64A1A26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754-19A7-49B9-959C-45F5E1CFD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F3AE-059F-4F5B-A978-F8F236781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101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101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B9619A-66F1-4C70-9EB8-9175FDA479F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474C33-03C2-40BA-9EEB-23775B18734C}" type="slidenum">
              <a: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19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Елена Ваенг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753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00000" y="720720"/>
            <a:ext cx="7550280" cy="5737320"/>
            <a:chOff x="900000" y="720720"/>
            <a:chExt cx="7550280" cy="5737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900000" y="720720"/>
              <a:ext cx="75502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0000" y="720720"/>
              <a:ext cx="75502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цертирует Елена Ваенга с 19 лет. Она — лауреат Санкт-Петербургского конкурса «Шлягер года 1998» с песней «Цыган», лауреат конкурса «Достойная песня 2002». Участник концертов-фестивалей «Весна романса» в БКЗ «Октябрьский», «Вольная песня над вольной Невой», «Невский бриз». Давала сольные концерты в ДК им. М. Горького, много гастролирует по стране. Ежегодно по случаю своего дня рождения в конце января дает концерты в БКЗ «Октябрьский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251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72072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лена Ваенга — тонкая, художественная, мечтательная и романтичная натура. Музыкальная одарённость, природный темперамент, трудолюбие, жизнерадостность — всё это составляющие её жизни и творчества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2960640" cy="386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54952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765000"/>
            <a:ext cx="51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смотря на внешнюю хрупкость и молодость, за спиной у этой очаровательной девушки богатая творческая биография и не такая уж простая человеческая судьба. Жанр, в котором работает певица, с большим трудом определяет даже она сама: «На 50 процентов это фолк-рок, есть старинные баллады, городские романсы, шансон. Но границы между ними провести почти невозможно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2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360" y="17928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В 2009 году получила свой первый приз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 Золотой граммофон »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за песню « Курю».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 В 2010 году во второй раз получила премию «Золотой граммофон» за песню «Аэропорт». В этом же году Елена Ваенга впервые стала лауреатом фестивал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Песня года» , исполнив песню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Абсент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61928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Times New Roman"/>
              </a:rPr>
              <a:t>Дискограф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Портре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Флейта 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4 — Флейта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5 — Белая пти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6 — Шоп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bse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ю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B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8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авиш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10 — Принцес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00720" y="389880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1557360"/>
            <a:ext cx="60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аенга Елена (настоящая фамилия Хрулева) родилась 27 января 1977 года в Североморске. Прежде на месте города Североморска находились два поселка - Нижняя Ваенга и Верхняя Ваенга. Между ними протекала саамская река Ваенга. В дальнейшем Елена решила взять творческий псевдоним - Ваенга. Слово Ваенга на саамском языке означает самка олен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1857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720720"/>
            <a:ext cx="57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Елена закончила художественную, музыкальную и горно-лыжную спортивную школы. Впоследствии Елена Ваенга навсегда сохранила привязанность к горным лыжам. Свою первую песню «Голуби» написала в 9 лет, стала победителем Всесоюзного конкурса молодых композиторов на Кольском полуострове. Имеет классическое музыкальное образование. После школы приехала в Санкт-Петербург, где окончила музыкальное училище им. Н. А. Римского-Корсакова по классу фортепиано, получив диплом педагога-концертмейстера. Факультативно занималась вокало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419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3763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9068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34136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 детства мечтала стать актрисой, поэтому после музыкального училища поступила в Театральную академию   на курс Г. Тростянецкого, но проучилась лишь два месяца, так как её пригласили в Москву записывать первый альбом. Альбом был записан, песни Елены Ваенги стали петь Александр Маршал , Татьяна Тишинская , группы « Стрелки », « Божья коровка »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765000"/>
            <a:ext cx="482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Московский творческий период продлился всего один год, после чего Елена вернулась обратно в Петербург. Здесь она узнала, что в Балтийском институте экономики, политики и права на кафедре театрального искусства набирает курс П. С. Вельяминов , и в 2000 году пошла учиться к нему. Закончив курс, получила диплом по специальности «драматическое искусство». Свой драматический талант певица проявляет в антрепризном спектакле «Свободная пара» в паре с однокурсником А. Родимовым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360" y="539640"/>
            <a:ext cx="8137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Часть вторая –</a:t>
            </a:r>
            <a:br>
              <a:rPr sz="4400"/>
            </a:b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 перегово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4500720"/>
            <a:ext cx="8583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лена, вы производите приятное впечатление человека, долюбленного уже в детстве, в отличие от многих недолюблен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48440" y="225360"/>
            <a:ext cx="357156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69228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родилась 27 января 1977 года. Моя мама по образованию химик, папа – инженер. Они работали в поселке Вьюжный на заводе «Нерпа», который обслуживал атомные подводные лодки. Дедушка по линии матери, Василий Семенович Журавель, был контр-адмиралом Северного флота. Родители моего отца – коренные петербуржцы, блокадники: дедушка был зенитчиком, воевал под Ораниенбаумом, а бабушка – врачом в госпита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739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79280"/>
            <a:ext cx="844380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думаю, что сила моих родителей заключается и в том, что они даже сейчас не видят во мне, скажем так, звезды. Они считают, что я еще только начала что-либо делать. Человек всю жизнь должен что-то делать. Как Ломоносов. Или Моцарт. Он же, умирая, в постели диктовал своей жене «Реквием». И умер с нотами в руках. Короче говоря, взялся за какое-то дело, делай его до конца жизни, потому что завершенное дело – это конец творческого пути. То есть ты должен быть постоянно в созидан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А что вы вкладываете в понятие всенародной певиц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276640"/>
            <a:ext cx="651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бы хотела, чтобы не в кафе звучали мои песни, а чтобы люди, слушая их, получали удовольствие для ума и души. Я не хочу всенародного фанатизма. Я хочу всенародной любви. К моим песням, а не ко м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57:38Z</dcterms:created>
  <dc:creator>Сергей</dc:creator>
  <dc:description/>
  <dc:language>en-US</dc:language>
  <cp:lastModifiedBy>Елена</cp:lastModifiedBy>
  <dcterms:modified xsi:type="dcterms:W3CDTF">2011-03-30T08:16:29Z</dcterms:modified>
  <cp:revision>66</cp:revision>
  <dc:subject/>
  <dc:title>   Нам дан во владение самый богатый, меткий, могучий и поистине волшебный русский язык.                               К. Паустовский</dc:title>
</cp:coreProperties>
</file>