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BE60-A86E-446E-B55C-61EEC4101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2F42-BD55-4177-A93C-3B414A60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99FA-0579-4280-A4BF-3D0FAC522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AECF-884C-4841-83BF-BBDA95C57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979F-28BF-4574-BE15-1E77D751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E3B6-3F3A-4E6E-811B-39D5C4E5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6978-EEDE-4454-820F-8E353736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37B2-73BD-4E26-8F04-441493DD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157E-CD2F-4E8E-817B-19482353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B46D-01D1-49CC-9E4B-6FDE659F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1B46-4244-4EF7-BFEF-7C2217E7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A888-590D-4B1F-AC4D-F58C07EF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50D7-A2E1-4FA4-B09E-E4095E055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3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9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56000" y="3573360"/>
            <a:ext cx="4037040" cy="2971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71640" y="260280"/>
            <a:ext cx="6999120" cy="381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Аппаратное обеспечен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современного компьют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еративное запоминающее устройство (ОЗУ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08000" y="4724280"/>
            <a:ext cx="2295720" cy="190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643280" y="4437000"/>
            <a:ext cx="2265480" cy="22654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116000" y="1773360"/>
            <a:ext cx="7632720" cy="29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З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быстродействующая часть памяти компьютера в виде набора чипов, с помощью которой можно записывать данные и считывать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выключении компьютера все данные, внесенные в ОЗУ, пропад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копи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1268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копите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устройство для записи информации на магнитные или лазерные диски и считывания информации с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9280" y="2492280"/>
            <a:ext cx="2943360" cy="2229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435640" y="2492280"/>
            <a:ext cx="3456000" cy="2170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916360" y="2421000"/>
            <a:ext cx="2933640" cy="30477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4000" y="4581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ско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87640" y="5445000"/>
            <a:ext cx="252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сткий ди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винчест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4508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-ROM, DVD-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900000" y="530064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6516720" y="5445000"/>
            <a:ext cx="1582560" cy="1181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58920" y="5013360"/>
            <a:ext cx="288720" cy="503280"/>
          </a:xfrm>
          <a:prstGeom prst="downArrow">
            <a:avLst>
              <a:gd name="adj1" fmla="val 50000"/>
              <a:gd name="adj2" fmla="val 43579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20000" y="4941720"/>
            <a:ext cx="288720" cy="503280"/>
          </a:xfrm>
          <a:prstGeom prst="downArrow">
            <a:avLst>
              <a:gd name="adj1" fmla="val 50000"/>
              <a:gd name="adj2" fmla="val 43579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нитор(дисплей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219640" y="3429000"/>
            <a:ext cx="2538360" cy="2651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268360" y="3789360"/>
            <a:ext cx="2305080" cy="1901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124000" y="5589720"/>
            <a:ext cx="288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дкокристаллический дисп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155736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испле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модуль компьютера, на экране которого отображается текстовая и графическа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нипулятор 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141300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ыш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устройство для работы с графическим интерфейсо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268360" y="2492280"/>
            <a:ext cx="1727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19640" y="2492280"/>
            <a:ext cx="1656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342900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тические(лазер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24360" y="3429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хан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651640" y="4221000"/>
            <a:ext cx="3006720" cy="1686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971640" y="4149720"/>
            <a:ext cx="259236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емы работы с основными клавишами мыш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6920" y="1773360"/>
            <a:ext cx="756144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елчок левой кнопкой мы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елчок правой кнопкой мы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войной щелчок левой кнопкой мы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таскивание объекта благодаря перемещению мыши при нажатой  левой или правой кноп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ави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1268280"/>
            <a:ext cx="828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лавиатур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модуль компьютера, используемый для ввода различных данных и команд в компью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580000" y="2781360"/>
            <a:ext cx="3274920" cy="2455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979640" y="4581360"/>
            <a:ext cx="3527280" cy="1494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50920" y="2781360"/>
            <a:ext cx="395928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группы клави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759880" cy="3035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flipV="1">
            <a:off x="2916360" y="3357360"/>
            <a:ext cx="287280" cy="19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500360" y="1341360"/>
            <a:ext cx="1150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724360" y="4005000"/>
            <a:ext cx="79236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885080" y="3284640"/>
            <a:ext cx="14292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971640" y="3789000"/>
            <a:ext cx="7128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6360" y="5373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лфавитно-цифровое п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869000"/>
            <a:ext cx="23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е управляющих клави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544500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е клавиш управления курсо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20000" y="472428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е малой цифровой клави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0000" y="98100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е функциональных клави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ругие аппаратные сред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64000" y="1341360"/>
            <a:ext cx="2448000" cy="1720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11280" y="4076640"/>
            <a:ext cx="1657080" cy="1623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203640" y="3645000"/>
            <a:ext cx="2892240" cy="2170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6372360" y="3573360"/>
            <a:ext cx="2206440" cy="2206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468360" y="1197000"/>
            <a:ext cx="2448000" cy="2184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6588000" y="1773360"/>
            <a:ext cx="1800360" cy="1253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11280" y="32846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н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92360" y="3284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ан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59640" y="3284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д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58053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о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92360" y="57340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кроф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72360" y="573408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уш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Хранение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24000" y="119700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амять компью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410920" y="1773360"/>
            <a:ext cx="1008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08720" y="1773360"/>
            <a:ext cx="1368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5640" y="2349360"/>
            <a:ext cx="3311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я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сткий диск(винчест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зерные(оптические) ди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гнитные диски(диске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лэш-ка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2349360"/>
            <a:ext cx="2376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утрення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эш-пам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619280" y="472428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843280" y="4724280"/>
            <a:ext cx="1280880" cy="9558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108000" y="4724280"/>
            <a:ext cx="1062000" cy="1103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2484360" y="5734080"/>
            <a:ext cx="1187640" cy="890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900000" y="5734080"/>
            <a:ext cx="1224000" cy="9190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6732720" y="4724280"/>
            <a:ext cx="936360" cy="9954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7"/>
          <a:stretch/>
        </p:blipFill>
        <p:spPr>
          <a:xfrm>
            <a:off x="5508720" y="4724280"/>
            <a:ext cx="1224000" cy="1016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8"/>
          <a:stretch/>
        </p:blipFill>
        <p:spPr>
          <a:xfrm>
            <a:off x="8028000" y="4581360"/>
            <a:ext cx="91908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ипы устрой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68360" y="1197000"/>
          <a:ext cx="8229600" cy="5040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рой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рой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в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ройства хранения информ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539640" y="2708280"/>
            <a:ext cx="259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ави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ы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ан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кроф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03640" y="2637000"/>
            <a:ext cx="27367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ни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н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ло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ш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ек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40360" y="2637000"/>
            <a:ext cx="2735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нчес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ппаратное обеспечение современного компьют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79640" y="1916280"/>
            <a:ext cx="583236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истемный б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Мони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Мы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Клави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Другие аппаратные сре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стемный б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00720" y="1844640"/>
            <a:ext cx="2397240" cy="3290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525600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стемный б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16000" y="1341360"/>
            <a:ext cx="7921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истемный бло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модуль компьютера, состоящий из материнской платы, центрального процессора, оперативного запоминающего устройства (ОЗУ), накопителей и других устрой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24360" y="4076640"/>
            <a:ext cx="127800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стемный б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80000" y="2637000"/>
            <a:ext cx="2735280" cy="1368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истем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35280" y="1197000"/>
            <a:ext cx="2735280" cy="863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копи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40360" y="1197000"/>
            <a:ext cx="2735280" cy="863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869000"/>
            <a:ext cx="2735280" cy="863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нтраль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цесс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4869000"/>
            <a:ext cx="2735280" cy="863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терин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2421000"/>
            <a:ext cx="2735280" cy="431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уг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2997360"/>
            <a:ext cx="2735280" cy="431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р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3860640"/>
            <a:ext cx="273528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3640" y="2060640"/>
            <a:ext cx="1512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435640" y="2060640"/>
            <a:ext cx="1512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059280" y="4005000"/>
            <a:ext cx="1368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1640" y="4005360"/>
            <a:ext cx="1368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16360" y="2637000"/>
            <a:ext cx="8636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16360" y="3213000"/>
            <a:ext cx="863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916360" y="3573360"/>
            <a:ext cx="8636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342900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164360" y="2060640"/>
            <a:ext cx="539640" cy="2808360"/>
          </a:xfrm>
          <a:custGeom>
            <a:avLst/>
            <a:gdLst/>
            <a:ahLst/>
            <a:rect l="l" t="t" r="r" b="b"/>
            <a:pathLst>
              <a:path w="340" h="1769">
                <a:moveTo>
                  <a:pt x="0" y="0"/>
                </a:moveTo>
                <a:cubicBezTo>
                  <a:pt x="147" y="261"/>
                  <a:pt x="294" y="522"/>
                  <a:pt x="317" y="817"/>
                </a:cubicBezTo>
                <a:cubicBezTo>
                  <a:pt x="340" y="1112"/>
                  <a:pt x="238" y="1440"/>
                  <a:pt x="136" y="1769"/>
                </a:cubicBezTo>
              </a:path>
            </a:pathLst>
          </a:custGeom>
          <a:noFill/>
          <a:ln w="34920">
            <a:solidFill>
              <a:srgbClr val="3333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00720" y="5300640"/>
            <a:ext cx="1295280" cy="216000"/>
          </a:xfrm>
          <a:custGeom>
            <a:avLst/>
            <a:gdLst/>
            <a:ahLst/>
            <a:rect l="l" t="t" r="r" b="b"/>
            <a:pathLst>
              <a:path w="816" h="136">
                <a:moveTo>
                  <a:pt x="0" y="0"/>
                </a:moveTo>
                <a:cubicBezTo>
                  <a:pt x="113" y="68"/>
                  <a:pt x="227" y="136"/>
                  <a:pt x="363" y="136"/>
                </a:cubicBezTo>
                <a:cubicBezTo>
                  <a:pt x="499" y="136"/>
                  <a:pt x="657" y="68"/>
                  <a:pt x="816" y="0"/>
                </a:cubicBezTo>
              </a:path>
            </a:pathLst>
          </a:custGeom>
          <a:noFill/>
          <a:ln w="34920">
            <a:solidFill>
              <a:srgbClr val="3333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теринская пл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6769080" cy="40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теринская пл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51280" y="4365720"/>
            <a:ext cx="1863720" cy="2162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258920" y="1484280"/>
            <a:ext cx="741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теринская пла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основной аппаратный компонент компьюте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де реализованы, в частности магистраль обмена, разъемы для центрального процессора, оперативной памяти, слоты расширения для установки контролеров внешних устрой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нтральный процесс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63640" y="1197000"/>
            <a:ext cx="5927760" cy="5297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835280" y="1628640"/>
            <a:ext cx="5476680" cy="41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нтральный процесс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76720" y="3860640"/>
            <a:ext cx="2520720" cy="2252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619280" y="1413000"/>
            <a:ext cx="6119640" cy="18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нтральный процессор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цессор, устанавливаемый в разъем материнской платы и управляющий работой всех компонентов компью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09:45:20Z</dcterms:created>
  <dc:creator>Саша&amp;Наташа</dc:creator>
  <dc:description/>
  <dc:language>en-US</dc:language>
  <cp:lastModifiedBy>Саша&amp;Наташа</cp:lastModifiedBy>
  <dcterms:modified xsi:type="dcterms:W3CDTF">2009-09-20T11:08:03Z</dcterms:modified>
  <cp:revision>2</cp:revision>
  <dc:subject/>
  <dc:title>Слайд 1</dc:title>
</cp:coreProperties>
</file>