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14E-2806-47AB-A410-70388548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AAA-5753-48E6-8FE9-E815BD7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18D-8D68-4599-A14F-4B6B8EE2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E6C-9CED-4A5D-ACDD-3FD56110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9A1-FEED-4DEE-BBA7-B71EB53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C8D-EB6D-4765-82F8-76C02CAD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594-6D66-474C-965B-E5901D81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CB0-4CD6-4A88-B26E-3F3FE5D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A61-68AC-491A-832E-3F92FF2E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A5F-85E8-49B7-876B-21BCBEB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7A-655C-4356-94B6-F2677EA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474-9C27-436C-96AF-B9C9F5C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9FB-69B6-4217-A97F-3DBB9923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МА 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едмет и задачи курса «Территориальная организация насе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«Территориальная организация населения» как научная дисциплина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редполагает вы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еления, проживающего на определенной территории и формирующего определенный круг потребностей и интере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ритории с имеющимися на ней ресурсами, использование которых может обеспечить соответствующий уровень удовлетворения потребностей (общественных, коллективных и лич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ю, обеспечивающую процесс удовлетворения потре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держание ТОН включает понятия «объект» и «предмет»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сследования является население, которое представляет собой совокупность людей, проживающих на определенной территории (континент, страна или ее часть, отдельный регион, населенный пунк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казатели, характеризующие насел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ленность и плотность насел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го состав по полу, возраст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циональности, языку, семей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ожению, образовани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адлежность к социальной группе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Предмет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сследования – основные закономерности и факторы размещения населения и развития отдельных территорий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сновные факторы, влияющие на размещение нас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ные условия терри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богатых и разнообразных природ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экономического развития терри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я для развития транспорта и товарообм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своения и заселения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Определения «Территориальной организации насе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Н – это область научных знаний, изучающая размещение населения на территории страны и ее регионов в тесной увязке с природно-экономическими условиями, функциональными территориальными взаимосвязями населенных мест и миграци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Н – научная дисциплина, изучающая процессы по размещению и сложившиеся территориальные структуры населения с целью их оптимизации для ускорения социально-экономического развит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Два аспекта 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как процесс по организации населения и хозяйства на какой либо террито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как результат этого процесса – сложившиеся территориальные системы, связанные с населением и хозяй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опрос 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Место территориальной организации населения в системе на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емография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наука о закономерностях воспроизводства населения в общественно-исторической обусловленности этого проце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оспроизводство населения вклю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тественное дви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ческое дви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ое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Региональная экономи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ка, которая изучает закономерности размещения хозяйства и регионального развития, включая разработку теоретических основ оптимального размещения предприятий в зависимости от разных факто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прос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Задачи и содержание дисциплины территориальной организации населения как научной област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учения курса обусловлена остротой проблемы территориальной организации общества (населения и хозяйства) в России и необходимостью решать ее с помощью специальной государственной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Социально-экономическая географ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ука о процессах формирования, развития и функционирования территориальных социально-экономических систем и об управлении этими систем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Методы, используемые 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демограф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географ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етоды социологии и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етоды истории, антропологии и этн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методы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методы районной планировки и градо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математические и статист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Главная цель Т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необходимых условий для преумножения социально-демографического, интеллектуального, производственно-технологического и природно-ресурсного потенциала данной территории, повышения уровня жизни населения, усиление воздействия социально-экономического потенциала данной территории на состояние общего социально-экономического пространства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Главные задачи учебной дисципл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ить студентов анализировать территориальную организацию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тенденции и факторы изменения расселения и миграционной подвижности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своить основные приемы прогнозирования изменений в территориальной организации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яснить особенности территориальной организации населения в мире, России и ее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следовател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ТОН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 К. Кири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здал первый атлас России и дал территориально-организационное и статистическое описание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Н. Татищ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дал первый "Лексикон российский исторический, географический, политический и гражданский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. И. Рын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здал первый образец регионального описания "Топография Оренбургская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Баран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Ю. Г. Саушк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оветский период развития территориальной организации населения написали обозрения тру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ова, Арсеньева, Колосовского, Ломоносова, Семенова-Тян-Шан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 Н. Бара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ились классическим образцом применения регионально-отраслевой модели территориальной организации населения для обработки статистических данных и обобщенной характеристики хозяйства Советского Сою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569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нятие «территория»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ь земной поверх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ранственный рес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местилище» множества друг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я история развития  жизни на Земле связана с борьбой за жизненное пространство, за владение конкретной территорией и находящимися на ней ресурсами. В основе этой борьбы – стремление всего животного к развитию и совершенств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нятие «насел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ерывно возобновляющаяся в процессе воспроизводства совокупность людей, живущих на Земле в целом или в пределах какой-либо ее части (стране, группе стран и т.п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 и субъект производства и всех общественны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окупность людей, проживающих на данной территории, имеющих с ней постоянную правовую связь (Конституция Р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Понятие «организац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ядок;   ( Порядок первого типа устанавливается на основе интуитивного, логического мышления, накопления, обобщения и трансформации исторического опыта, на основе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высший порядок – это «продукт деятельности многих людей», но не «результат человеческого замысла». Пример такого спонтанного порядка общество, которое состоит из индивидов и таких организаций, как семья, ферма, завод, государственные институты, включая правительст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экономическая система, созданная для достижения коммерческих и не коммерчески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ение людей, совместно реализующих программу или цель и действующих на основе определенных правил и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рганизаци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разумевает управление, выработку и реализацию управляющих воздействий на управляемый объект (в данном случае население), создание определенной структуры управления (совокупность взаимосвязанных звеньев), или субъекта управления жизнедеятельностью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03:55:29Z</dcterms:created>
  <dc:creator>Чупров</dc:creator>
  <dc:description/>
  <dc:language>en-US</dc:language>
  <cp:lastModifiedBy>Чупров</cp:lastModifiedBy>
  <dcterms:modified xsi:type="dcterms:W3CDTF">2009-10-26T04:52:09Z</dcterms:modified>
  <cp:revision>33</cp:revision>
  <dc:subject/>
  <dc:title>ТЕМА № 1 Предмет и задачи курса «Территориальная организация населения»</dc:title>
</cp:coreProperties>
</file>