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CF5-7024-4768-A877-8389B4CE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182-95BE-436B-8712-A35F75CB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5B0-3504-408A-953D-AEB20736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FA6-A93C-4C71-BA9B-55C89EED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ED1-C111-4EA8-BC40-BAD9F94A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B14-2FC2-4E27-BD36-004C2B12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618-7B69-40F1-ACF1-EFAC8DE1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58E-F4AE-430F-81E5-C3E8358B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1BF-DD7B-4623-9F3F-7AB597CD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31F-E6E2-4E71-BEB6-81E48816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848-4CB5-4338-88A5-E26E61E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ED8-55DF-45BD-824E-009D4223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E4F0-74A6-4DB4-9894-7E7A51EE1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Образование славянских государст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05720" y="228240"/>
            <a:ext cx="2286000" cy="114300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асселение слав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4876560"/>
            <a:ext cx="8991720" cy="198108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Древние славяне.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VI</a:t>
            </a:r>
            <a:r>
              <a:rPr b="1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 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Центральная Евро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севере – Балтий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востоке – р. Дне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юге – р. Дунай и Черн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западе – р. Эл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5301" r="0" b="0"/>
          <a:stretch/>
        </p:blipFill>
        <p:spPr>
          <a:xfrm>
            <a:off x="0" y="0"/>
            <a:ext cx="6562800" cy="468144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81120" y="274320"/>
            <a:ext cx="3505320" cy="114300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VII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век – славя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904760" cy="2971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пад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е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ля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лова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мор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лаб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л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459320" cy="609588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7162920" y="1981080"/>
            <a:ext cx="1752480" cy="17528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Юж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олга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ер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хорв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3962520"/>
            <a:ext cx="2133360" cy="19810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осточ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е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усск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украинц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елор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447920"/>
            <a:ext cx="0" cy="5331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371600"/>
            <a:ext cx="0" cy="25909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1447920"/>
            <a:ext cx="0" cy="5331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Древние славяне – стр. 68-6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1600200"/>
          <a:ext cx="8534520" cy="2944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29718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а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Общественное устро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Управ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045" t="19503" r="2602" b="5966"/>
          <a:stretch/>
        </p:blipFill>
        <p:spPr>
          <a:xfrm>
            <a:off x="990720" y="44280"/>
            <a:ext cx="7086600" cy="681372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92480" y="152280"/>
            <a:ext cx="44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Славянские государства в дре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Славянские государства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стр. 69-7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2133720"/>
          <a:ext cx="8915400" cy="3100320"/>
        </p:xfrm>
        <a:graphic>
          <a:graphicData uri="http://schemas.openxmlformats.org/drawingml/2006/table">
            <a:tbl>
              <a:tblPr/>
              <a:tblGrid>
                <a:gridCol w="1981440"/>
                <a:gridCol w="1676160"/>
                <a:gridCol w="2514600"/>
                <a:gridCol w="1371600"/>
                <a:gridCol w="13716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опросы для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лгарское цар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ликоморавская держ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ех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ль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 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 Внутренняя полит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 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362320"/>
            <a:ext cx="8352000" cy="3654360"/>
          </a:xfrm>
          <a:custGeom>
            <a:avLst/>
            <a:gdLst>
              <a:gd name="textAreaLeft" fmla="*/ 1268280 w 8352000"/>
              <a:gd name="textAreaRight" fmla="*/ 7083720 w 8352000"/>
              <a:gd name="textAreaTop" fmla="*/ 456840 h 3654360"/>
              <a:gd name="textAreaBottom" fmla="*/ 3654720 h 36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05" y="0"/>
                </a:lnTo>
                <a:arcTo wR="675" hR="675" stAng="16200000" swAng="5400000"/>
                <a:lnTo>
                  <a:pt x="5980" y="2700"/>
                </a:lnTo>
                <a:lnTo>
                  <a:pt x="15620" y="2700"/>
                </a:lnTo>
                <a:lnTo>
                  <a:pt x="1562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20" y="18900"/>
                </a:lnTo>
                <a:lnTo>
                  <a:pt x="18320" y="20925"/>
                </a:lnTo>
                <a:arcTo wR="675" hR="675" stAng="0" swAng="5400000"/>
                <a:lnTo>
                  <a:pt x="3955" y="21600"/>
                </a:lnTo>
                <a:arcTo wR="675" hR="675" stAng="5400000" swAng="5400000"/>
                <a:lnTo>
                  <a:pt x="328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80" y="675"/>
                </a:moveTo>
                <a:arcTo wR="675" hR="675" stAng="0" swAng="5400000"/>
                <a:lnTo>
                  <a:pt x="3955" y="1350"/>
                </a:lnTo>
                <a:arcTo wR="675" hR="675" stAng="16200000" swAng="-5400000"/>
                <a:arcTo wR="675" hR="675" stAng="10800000" swAng="-5400000"/>
                <a:lnTo>
                  <a:pt x="5980" y="2700"/>
                </a:lnTo>
              </a:path>
              <a:path fill="none" w="21600" h="21600">
                <a:moveTo>
                  <a:pt x="15620" y="675"/>
                </a:moveTo>
                <a:arcTo wR="675" hR="675" stAng="10800000" swAng="-5400000"/>
                <a:lnTo>
                  <a:pt x="17645" y="1350"/>
                </a:lnTo>
                <a:arcTo wR="675" hR="675" stAng="16200000" swAng="5400000"/>
                <a:arcTo wR="675" hR="675" stAng="0" swAng="5400000"/>
                <a:lnTo>
                  <a:pt x="15620" y="2700"/>
                </a:lnTo>
              </a:path>
              <a:path fill="none" w="21600" h="21600">
                <a:moveTo>
                  <a:pt x="3280" y="2025"/>
                </a:moveTo>
                <a:lnTo>
                  <a:pt x="3280" y="18900"/>
                </a:lnTo>
              </a:path>
              <a:path fill="none" w="21600" h="21600">
                <a:moveTo>
                  <a:pt x="18320" y="2025"/>
                </a:moveTo>
                <a:lnTo>
                  <a:pt x="18320" y="18900"/>
                </a:lnTo>
              </a:path>
            </a:pathLst>
          </a:custGeom>
          <a:solidFill>
            <a:srgbClr val="ffcc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 Cyr"/>
              </a:rPr>
              <a:t>§ 8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 Cyr"/>
              </a:rPr>
              <a:t>р/т № 2-5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 Cyr"/>
              </a:rPr>
              <a:t>кроссворд на стр. 27-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09600"/>
            <a:ext cx="8153280" cy="2903400"/>
          </a:xfrm>
          <a:prstGeom prst="downArrowCallout">
            <a:avLst>
              <a:gd name="adj1" fmla="val -23240"/>
              <a:gd name="adj2" fmla="val 32060"/>
              <a:gd name="adj3" fmla="val 14981"/>
              <a:gd name="adj4" fmla="val 66667"/>
            </a:avLst>
          </a:prstGeom>
          <a:solidFill>
            <a:srgbClr val="ffcc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Times New Roman Cyr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13T09:27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