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3D7-9718-4A32-B5DC-999BE84F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2D3-1DED-4E75-A19F-29CD8830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09C-4CF1-4F0B-A9EB-FFBE90EF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4AC-4F80-43F9-B95D-22BE5490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637-73DE-4E33-8A97-06D87A1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022-3F62-4FA5-B102-3D77ABF3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265-2B82-46F8-B982-F7776C8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A82-160D-4A71-83BE-71F8166C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EE9-EDE8-4B64-8595-4E479950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BCE-7859-4A8B-B975-0B9111B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E91-7BAD-45D9-BB86-C697395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B10-5DA5-40E8-94BD-A861494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BC2-3AAA-4439-B8DB-F47CADCE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Образование славянских государст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05720" y="228240"/>
            <a:ext cx="2286000" cy="11430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сселение слав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4876560"/>
            <a:ext cx="8991720" cy="198108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Древние славяне.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VI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 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Центральная Евр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севере – Балтий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востоке – р. Дне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юге – р. Дунай и Черн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западе – р. Эл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5301" r="0" b="0"/>
          <a:stretch/>
        </p:blipFill>
        <p:spPr>
          <a:xfrm>
            <a:off x="0" y="0"/>
            <a:ext cx="6562800" cy="468144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81120" y="274320"/>
            <a:ext cx="3505320" cy="11430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VII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век – славя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904760" cy="29718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па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е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ля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лова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м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лаб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л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459320" cy="60958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162920" y="1981080"/>
            <a:ext cx="1752480" cy="17528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Юж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олга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ер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хорв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3962520"/>
            <a:ext cx="2133360" cy="19810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осточ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е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ус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украинц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елор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447920"/>
            <a:ext cx="0" cy="533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0" cy="25909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1447920"/>
            <a:ext cx="0" cy="533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Древние славяне – стр. 68-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1600200"/>
          <a:ext cx="8534520" cy="2944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29718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За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Общественное устро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Упра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045" t="19503" r="2602" b="5966"/>
          <a:stretch/>
        </p:blipFill>
        <p:spPr>
          <a:xfrm>
            <a:off x="990720" y="44280"/>
            <a:ext cx="7086600" cy="681372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92480" y="152280"/>
            <a:ext cx="44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Славянские государства в дре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Славянские государства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стр. 69-7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2133720"/>
          <a:ext cx="8915400" cy="3100320"/>
        </p:xfrm>
        <a:graphic>
          <a:graphicData uri="http://schemas.openxmlformats.org/drawingml/2006/table">
            <a:tbl>
              <a:tblPr/>
              <a:tblGrid>
                <a:gridCol w="1981440"/>
                <a:gridCol w="1676160"/>
                <a:gridCol w="2514600"/>
                <a:gridCol w="137160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лгарское ца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ликоморавская держ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ех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ь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 Внутренняя полит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362320"/>
            <a:ext cx="8352000" cy="3654360"/>
          </a:xfrm>
          <a:custGeom>
            <a:avLst/>
            <a:gdLst>
              <a:gd name="textAreaLeft" fmla="*/ 1268280 w 8352000"/>
              <a:gd name="textAreaRight" fmla="*/ 7083720 w 8352000"/>
              <a:gd name="textAreaTop" fmla="*/ 456840 h 3654360"/>
              <a:gd name="textAreaBottom" fmla="*/ 3654720 h 365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05" y="0"/>
                </a:lnTo>
                <a:arcTo wR="675" hR="675" stAng="16200000" swAng="5400000"/>
                <a:lnTo>
                  <a:pt x="5980" y="2700"/>
                </a:lnTo>
                <a:lnTo>
                  <a:pt x="15620" y="2700"/>
                </a:lnTo>
                <a:lnTo>
                  <a:pt x="1562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20" y="18900"/>
                </a:lnTo>
                <a:lnTo>
                  <a:pt x="18320" y="20925"/>
                </a:lnTo>
                <a:arcTo wR="675" hR="675" stAng="0" swAng="5400000"/>
                <a:lnTo>
                  <a:pt x="3955" y="21600"/>
                </a:lnTo>
                <a:arcTo wR="675" hR="675" stAng="5400000" swAng="5400000"/>
                <a:lnTo>
                  <a:pt x="328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80" y="675"/>
                </a:moveTo>
                <a:arcTo wR="675" hR="675" stAng="0" swAng="5400000"/>
                <a:lnTo>
                  <a:pt x="3955" y="1350"/>
                </a:lnTo>
                <a:arcTo wR="675" hR="675" stAng="16200000" swAng="-5400000"/>
                <a:arcTo wR="675" hR="675" stAng="10800000" swAng="-5400000"/>
                <a:lnTo>
                  <a:pt x="5980" y="2700"/>
                </a:lnTo>
              </a:path>
              <a:path fill="none" w="21600" h="21600">
                <a:moveTo>
                  <a:pt x="15620" y="675"/>
                </a:moveTo>
                <a:arcTo wR="675" hR="675" stAng="10800000" swAng="-5400000"/>
                <a:lnTo>
                  <a:pt x="17645" y="1350"/>
                </a:lnTo>
                <a:arcTo wR="675" hR="675" stAng="16200000" swAng="5400000"/>
                <a:arcTo wR="675" hR="675" stAng="0" swAng="5400000"/>
                <a:lnTo>
                  <a:pt x="15620" y="2700"/>
                </a:lnTo>
              </a:path>
              <a:path fill="none" w="21600" h="21600">
                <a:moveTo>
                  <a:pt x="3280" y="2025"/>
                </a:moveTo>
                <a:lnTo>
                  <a:pt x="3280" y="18900"/>
                </a:lnTo>
              </a:path>
              <a:path fill="none" w="21600" h="21600">
                <a:moveTo>
                  <a:pt x="18320" y="2025"/>
                </a:moveTo>
                <a:lnTo>
                  <a:pt x="18320" y="18900"/>
                </a:lnTo>
              </a:path>
            </a:pathLst>
          </a:custGeom>
          <a:solidFill>
            <a:srgbClr val="ff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 Cyr"/>
              </a:rPr>
              <a:t>§ 8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 Cyr"/>
              </a:rPr>
              <a:t>р/т № 2-5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 Cyr"/>
              </a:rPr>
              <a:t>кроссворд на стр. 27-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09600"/>
            <a:ext cx="8153280" cy="2903400"/>
          </a:xfrm>
          <a:prstGeom prst="downArrowCallout">
            <a:avLst>
              <a:gd name="adj1" fmla="val -23240"/>
              <a:gd name="adj2" fmla="val 32060"/>
              <a:gd name="adj3" fmla="val 14981"/>
              <a:gd name="adj4" fmla="val 66667"/>
            </a:avLst>
          </a:prstGeom>
          <a:solidFill>
            <a:srgbClr val="ff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 Cyr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13T09:27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