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9F4-0DC7-43E7-B4B9-A92304E9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D7D-2632-4C8C-B841-D538F459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1D6-4767-44CA-96AD-89BAB3DB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325-D913-4DF8-9108-1EE1E400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A0F-57E2-4F28-B862-7C36FEF4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F53-B838-44A3-9E37-528FF8C4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961-455E-4E35-AB94-A84DA730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5845-D55B-4721-9967-796C47E7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850-42BE-4AC0-8993-5B4C356D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CEB-8489-46BF-BCAF-BF6B134D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D0F-12DF-49D3-AD82-F132120A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575-3F04-49E6-8A9F-C2149F8E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8EDC-DBED-43ED-8E9C-BDDA7CE4A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10960" y="254160"/>
            <a:ext cx="4224600" cy="1990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984240" y="4994280"/>
            <a:ext cx="8721720" cy="147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4497480" y="2104920"/>
            <a:ext cx="108108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68520" y="1730160"/>
            <a:ext cx="7022880" cy="24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99"/>
                </a:solidFill>
                <a:latin typeface="Arial"/>
              </a:rPr>
              <a:t>Задание В1 ЕГЭ по русскому языку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65080" y="4551120"/>
            <a:ext cx="661500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МОУ Новомансуркинская СОШ Похвистневского района Самарской област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Фаткуллина Рузалия Музагитовна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896400" cy="2371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0" y="1968480"/>
            <a:ext cx="98107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159920" cy="2371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0" y="2286000"/>
            <a:ext cx="1015992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159920" cy="2371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0" y="2200320"/>
            <a:ext cx="973764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896400" cy="2371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0" y="1724040"/>
            <a:ext cx="9599760" cy="3219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04640" y="4900680"/>
            <a:ext cx="943164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м было жаль расставаться с Пюхяярве, и, когда наступил день отъезда, мы пришли попрощаться с озером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896400" cy="2371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274680" y="2200320"/>
            <a:ext cx="988524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274680" y="41400"/>
            <a:ext cx="9621720" cy="2330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517680" y="2529000"/>
            <a:ext cx="91249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0" y="41400"/>
            <a:ext cx="9896400" cy="2330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58920" y="2127240"/>
            <a:ext cx="980280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8561520" y="41400"/>
            <a:ext cx="1334880" cy="23302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4640" y="219240"/>
            <a:ext cx="2711520" cy="6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юч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4280" y="1058760"/>
            <a:ext cx="10071360" cy="55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Суффиксальны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Погонитс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Проезда или проез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Соотечественник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Современн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Сдела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Расставатьс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. Напротив, расстави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 Потихоньк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. Встави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8561520" y="41400"/>
            <a:ext cx="1334880" cy="23302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4400" y="339480"/>
            <a:ext cx="7545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Источник: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45120" y="1781280"/>
            <a:ext cx="551016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учкова Л.И. ЕГЭ 2010. Русский язык. Типовые тестовые задания .- М: « Экзамен»,2010-127с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358920" y="1247760"/>
            <a:ext cx="352584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561520" y="41400"/>
            <a:ext cx="1334880" cy="2330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4640" y="50400"/>
            <a:ext cx="75456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Задание В1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06400" y="2082960"/>
            <a:ext cx="846288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Задание В1 проверяет умение учащихся производить словообразовательный анализ слова.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8561520" y="41400"/>
            <a:ext cx="1334880" cy="2330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3828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Важно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4280" y="1541520"/>
            <a:ext cx="10071360" cy="53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 отличие от морфемного, при словообразовательном анализе вам не нужно разбирать слово по составу (морфемам), для определения способа образования следует соотнести слово с ближайшим по смыслу, от которого оно непосредственно образовано, и решить, каким способом оно образовано. Например, слово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связано с глаголом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развивать (развить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и образовано от него с помощью суффикса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 –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8561520" y="41400"/>
            <a:ext cx="1334880" cy="2330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Слообразовательный разбор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62120" y="2444760"/>
            <a:ext cx="888048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0" y="41400"/>
            <a:ext cx="9896400" cy="2330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0" y="2370240"/>
            <a:ext cx="10159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0" y="41400"/>
            <a:ext cx="10159920" cy="610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3960" y="500040"/>
            <a:ext cx="77518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0000"/>
                </a:solidFill>
                <a:latin typeface="Arial"/>
              </a:rPr>
              <a:t>Образец рассуждения: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0" y="41400"/>
            <a:ext cx="1015992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762120" y="41400"/>
            <a:ext cx="9397800" cy="23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0" y="1809720"/>
            <a:ext cx="981072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896400" cy="2371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0" y="1968480"/>
            <a:ext cx="98964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