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45E-6979-44A6-800B-2470CD44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153-D9F4-4C98-84D9-CEFCBF2B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9AB-F10C-4314-91B8-E73E3F1E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A8D-7C2E-476E-8784-7E93D781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0EF-1F7D-437C-8E68-0C52907F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0F9-B987-4180-8BB3-BA2AD561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D3E-BACE-4768-9B20-65B6A7E7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5E4-935F-4390-B768-C2F40888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B6B-F8F5-47FC-9275-EF8E07EC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53E-B5B1-4085-A371-B1769E8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BEC-1A97-4EF8-BEF2-699296F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86F-780C-4FDA-B9A1-93FDA6C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A204-FBB3-4528-BC50-DA4DB5A39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10960" y="254160"/>
            <a:ext cx="4224600" cy="1990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984240" y="4994280"/>
            <a:ext cx="8721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4497480" y="2104920"/>
            <a:ext cx="108108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68520" y="1730160"/>
            <a:ext cx="7022880" cy="24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99"/>
                </a:solidFill>
                <a:latin typeface="Arial"/>
              </a:rPr>
              <a:t>Задание В1 ЕГЭ по русскому языку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65080" y="4551120"/>
            <a:ext cx="661500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МОУ Новомансуркинская СОШ Похвистневского района Самарской област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Фаткуллина Рузалия Музагитовна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96400" cy="2371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1968480"/>
            <a:ext cx="98107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159920" cy="237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0" y="2286000"/>
            <a:ext cx="101599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159920" cy="2371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0" y="2200320"/>
            <a:ext cx="97376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96400" cy="2371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0" y="1724040"/>
            <a:ext cx="9599760" cy="3219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04640" y="4900680"/>
            <a:ext cx="9431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м было жаль расставаться с Пюхяярве, и, когда наступил день отъезда, мы пришли попрощаться с озером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96400" cy="2371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74680" y="2200320"/>
            <a:ext cx="98852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74680" y="41400"/>
            <a:ext cx="9621720" cy="2330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517680" y="2529000"/>
            <a:ext cx="91249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41400"/>
            <a:ext cx="9896400" cy="2330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58920" y="2127240"/>
            <a:ext cx="98028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640" y="219240"/>
            <a:ext cx="2711520" cy="6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4280" y="1058760"/>
            <a:ext cx="1007136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Суффиксальны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Погони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Проезда или проез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Соотечественник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Современ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Сдела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Расставать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Напротив, расстави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 Потихоньк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 Встави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4400" y="339480"/>
            <a:ext cx="7545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45120" y="1781280"/>
            <a:ext cx="551016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чкова Л.И. ЕГЭ 2010. Русский язык. Типовые тестовые задания .- М: « Экзамен»,2010-127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358920" y="1247760"/>
            <a:ext cx="352584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4640" y="50400"/>
            <a:ext cx="7545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Задание В1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06400" y="2082960"/>
            <a:ext cx="84628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Задание В1 проверяет умение учащихся производить словообразовательный анализ слова.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3828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Важно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4280" y="1541520"/>
            <a:ext cx="100713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отличие от морфемного, при словообразовательном анализе вам не нужно разбирать слово по составу (морфемам), для определения способа образования следует соотнести слово с ближайшим по смыслу, от которого оно непосредственно образовано, и решить, каким способом оно образовано. Например, слово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вязано с глаголом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развивать (развить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и образовано от него с помощью суффикса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 –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561520" y="41400"/>
            <a:ext cx="1334880" cy="2330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Слообразовательный разбор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62120" y="2444760"/>
            <a:ext cx="888048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41400"/>
            <a:ext cx="9896400" cy="233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0" y="2370240"/>
            <a:ext cx="10159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41400"/>
            <a:ext cx="10159920" cy="610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3960" y="500040"/>
            <a:ext cx="7751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0000"/>
                </a:solidFill>
                <a:latin typeface="Arial"/>
              </a:rPr>
              <a:t>Образец рассуждения: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0" y="41400"/>
            <a:ext cx="1015992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762120" y="41400"/>
            <a:ext cx="9397800" cy="23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0" y="1809720"/>
            <a:ext cx="98107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677440" y="115920"/>
            <a:ext cx="1271520" cy="228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731080" y="254160"/>
            <a:ext cx="1090800" cy="1704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6148440"/>
            <a:ext cx="2000160" cy="1398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9640800" y="2349360"/>
            <a:ext cx="435240" cy="479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96400" cy="2371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0" y="1968480"/>
            <a:ext cx="98964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