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8.jpeg" ContentType="image/jpeg"/>
  <Override PartName="/ppt/media/image23.gif" ContentType="image/gif"/>
  <Override PartName="/ppt/media/image21.png" ContentType="image/png"/>
  <Override PartName="/ppt/media/image4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1553-A91A-459E-96C6-86B91D4EBA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3E81-4334-431E-9E42-2F4963A458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0F8-7EA8-4787-9E85-285A105F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3D9-8E26-43EB-9142-5C04C0EC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D7D-FF7A-42F6-84EC-5B140672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B35-E6E7-4C20-ACE3-C8852F11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865-82C0-413A-9D18-53DFB18D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EFB-DDC9-45C1-A3A1-732B5564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815-295E-47FE-A7D9-34CA54AC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873-0F3C-4B8F-881B-274E5812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4CE3-8678-49D5-AE68-FD5DC89D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9FE-3343-4228-B24F-2D35429F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6BE-D7EF-4131-A735-BB551E60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EFA-3722-4742-8131-580F567F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D6F3-FE22-47F5-BB7C-A8F53E5D8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стория открытия атмосферного д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Monotype Corsiva"/>
              </a:rPr>
              <a:t>Следствия из опы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39290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62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Торричелли обнаружил, что высота столба          ртути в его опыте не зависит ни от формы трубки, </a:t>
            </a:r>
            <a:r>
              <a:rPr b="1" lang="en-US" sz="25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ни от ее наклона. На уровне моря высота ртутного столба всегда была около 760 м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0" descr=""/>
          <p:cNvPicPr/>
          <p:nvPr/>
        </p:nvPicPr>
        <p:blipFill>
          <a:blip r:embed="rId2"/>
          <a:stretch/>
        </p:blipFill>
        <p:spPr>
          <a:xfrm>
            <a:off x="3857760" y="1357200"/>
            <a:ext cx="5022720" cy="450072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едположение Торричел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785840" y="12139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ченый предположил, что высота столба жидкости уравновешивается давлением воздуха. Зная высоту столба и плотность жидкости, можно определить величину давления атмо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09"/>
          <p:cNvPicPr/>
          <p:nvPr/>
        </p:nvPicPr>
        <p:blipFill>
          <a:blip r:embed="rId1"/>
          <a:stretch/>
        </p:blipFill>
        <p:spPr>
          <a:xfrm>
            <a:off x="268200" y="1341360"/>
            <a:ext cx="4627800" cy="4211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тверждение предположения Торричел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4" descr="010.jpg"/>
          <p:cNvPicPr/>
          <p:nvPr/>
        </p:nvPicPr>
        <p:blipFill>
          <a:blip r:embed="rId1"/>
          <a:stretch/>
        </p:blipFill>
        <p:spPr>
          <a:xfrm>
            <a:off x="285840" y="1357200"/>
            <a:ext cx="4817880" cy="4176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785840" y="1142640"/>
            <a:ext cx="3900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1648 г . опыт Блеза Паскаля на горе Пью-де-Дом доказал, что меньший столб воздуха оказывает меньшее дав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следствие притяжения Земли и недостаточной скорости молекулы воздуха не могут покинуть околоземное пространство. Однако они не падают на поверхность Земли, а парят над ней, т.к. находятся в непрерывном тепловом дви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ОТТО фон ГЕР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ного и плодотворно изучением атмосферного давления, занимался Отто фон Герике – бургомистр города Магдебурга. В мае 1654 г. Он поставил опыт, который явился наглядным доказательством существования атмосферного давления.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571680" y="1143000"/>
            <a:ext cx="3639960" cy="481968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Comic Sans MS"/>
              </a:rPr>
              <a:t>Опыт «магдебурские полуша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●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Для опыта подготовили </a:t>
            </a:r>
            <a:r>
              <a:rPr b="0" i="1" lang="ru-RU" sz="2000" spc="-1" strike="noStrike">
                <a:solidFill>
                  <a:srgbClr val="0000ff"/>
                </a:solidFill>
                <a:latin typeface="Comic Sans MS"/>
              </a:rPr>
              <a:t>два металлических полушария 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( одно с трубкой для откачивания воздух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●</a:t>
            </a:r>
            <a:r>
              <a:rPr b="0" lang="ru-RU" sz="9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Их </a:t>
            </a:r>
            <a:r>
              <a:rPr b="0" i="1" lang="ru-RU" sz="2000" spc="-1" strike="noStrike">
                <a:solidFill>
                  <a:srgbClr val="0000ff"/>
                </a:solidFill>
                <a:latin typeface="Comic Sans MS"/>
              </a:rPr>
              <a:t>сложили вместе,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между ними поместили кожаное кольцо, пропитанное расплавленным вос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●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С помощью насоса </a:t>
            </a:r>
            <a:r>
              <a:rPr b="0" i="1" lang="ru-RU" sz="2000" spc="-1" strike="noStrike">
                <a:solidFill>
                  <a:srgbClr val="0000ff"/>
                </a:solidFill>
                <a:latin typeface="Comic Sans MS"/>
              </a:rPr>
              <a:t>откачали воздух из полости, образовавшейся между полушариями.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На каждом из полушарий имелось прочное железное кольц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Рисунок1"/>
          <p:cNvPicPr/>
          <p:nvPr/>
        </p:nvPicPr>
        <p:blipFill>
          <a:blip r:embed="rId1"/>
          <a:stretch/>
        </p:blipFill>
        <p:spPr>
          <a:xfrm>
            <a:off x="4929120" y="1928880"/>
            <a:ext cx="3940200" cy="31845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4805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Две восьмерки лошадей, впряженных в эти кольца, </a:t>
            </a: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потянули в разные стороны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, пытаясь </a:t>
            </a: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разъединить полушария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, но это им </a:t>
            </a: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не удалось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Когда внутрь полушарий впустили воздух, они распались без внешнего усилия</a:t>
            </a:r>
            <a:r>
              <a:rPr b="0" i="1" lang="ru-RU" sz="2800" spc="-1" strike="noStrike">
                <a:solidFill>
                  <a:srgbClr val="009900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2050920" y="3716280"/>
            <a:ext cx="4970520" cy="275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Интересно знать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Narrow"/>
              </a:rPr>
              <a:t>    </a:t>
            </a:r>
            <a:r>
              <a:rPr b="1" lang="ru-RU" sz="3600" spc="-1" strike="noStrike">
                <a:solidFill>
                  <a:srgbClr val="cc0099"/>
                </a:solidFill>
                <a:latin typeface="Arial Narrow"/>
              </a:rPr>
              <a:t>Магдебургские  полушария   есть у каждого  человека: головки бедренных костей   удерживаются в тазобедренном суставе атмосферным                     давлением</a:t>
            </a:r>
            <a:r>
              <a:rPr b="1" lang="ru-RU" sz="2800" spc="-1" strike="noStrike">
                <a:solidFill>
                  <a:srgbClr val="cc0099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novyiy_risunok_intro.png"/>
          <p:cNvPicPr/>
          <p:nvPr/>
        </p:nvPicPr>
        <p:blipFill>
          <a:blip r:embed="rId1"/>
          <a:stretch/>
        </p:blipFill>
        <p:spPr>
          <a:xfrm>
            <a:off x="5357880" y="3071880"/>
            <a:ext cx="3074760" cy="3060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ак мы пь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3" descr="s9.gif"/>
          <p:cNvPicPr/>
          <p:nvPr/>
        </p:nvPicPr>
        <p:blipFill>
          <a:blip r:embed="rId2"/>
          <a:stretch/>
        </p:blipFill>
        <p:spPr>
          <a:xfrm>
            <a:off x="5297400" y="1428840"/>
            <a:ext cx="3846600" cy="4356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571680" y="1357200"/>
            <a:ext cx="4786200" cy="47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тягивание ртом жидкости вызывает расширение грудной клетки и разрежение воздуха как в легких, так и во рту. Повышенное по сравнению с внутренним наружное атмосферное давление «вгоняет» туда часть жидкости. Так организм человека использует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тмосферное давлени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>
            <a:alpha val="1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785880" y="785880"/>
            <a:ext cx="757224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то фон Гери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20.11.1602-11.05.1686) - немецкий физик. Родился в Магдебурге. В 1617-1623 годах учился в Лейпцигском, Гельмштадском, Йенском и Лейденском университетах. В 1646-1678 годах - бургомистр Магдебур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брел воздушный насос и, усовершенствовав его, осуществил ряд опытов: продемонстрировал в 1654 году существование давления воздуха (опыт с "магдебургскими полушариями"), доказал его упругость, определил плотность, выяснил, что воздух является проводником звука, в пустоте звук не распространяется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роил также первый водяной барометр (1657) и использовал его для предсказания погоды, изобрел гигрометр, построил воздушный термометр, манометр (не позже 166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ике изучал магнитные явления, заметил намагничивание длинных железных предметов, расположенных при ковке в меридиональном направл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тил внимание на уменьшение интенсивности света при отра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 трактата "Новые, так называемые магдебургские опыты с пустым пространством" (167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ная литератур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Ю.А. Храмов. "Физики". Биографический справочник., 198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-конечная звезда 2"/>
          <p:cNvSpPr/>
          <p:nvPr/>
        </p:nvSpPr>
        <p:spPr>
          <a:xfrm>
            <a:off x="6643800" y="5715000"/>
            <a:ext cx="1214280" cy="642960"/>
          </a:xfrm>
          <a:custGeom>
            <a:avLst/>
            <a:gdLst>
              <a:gd name="textAreaLeft" fmla="*/ 500400 w 1214280"/>
              <a:gd name="textAreaRight" fmla="*/ 713880 w 121428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с двумя вырезанными противолежащими углами 3"/>
          <p:cNvSpPr/>
          <p:nvPr/>
        </p:nvSpPr>
        <p:spPr>
          <a:xfrm>
            <a:off x="1071720" y="642960"/>
            <a:ext cx="7072200" cy="521496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Эванжелиста Торричелли (15.10.1608 - 25.10.1647) - итальянский физик и математик. Родился в Фаэнце. Учился в Риме у Б. Кастелли, друга и ученика Г. Галилея. В 1641 году переехал в Арчетри, где помогал Галилею. В 1642 году стал придворным математиком герцога Тосканского и профессором математики и физики Флорентийского университе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Основные физические работы в области пневматики и механики. В 1643 году открыл атмосферное давление, нанеся удар сложившемуся мнению о том, что "природа боится пустоты" . Изобрел ртутный барометр (1644).  переделав его в спиртовой термометр. Он первый объяснил ветер вариациями атмосферного д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В трактате "О движении свободно падающих и брошенных тел" (1641) Торричелли доказал постулат о равенстве скоростей тяжелых тел, падающих по наклонным плоскостям одинаковой высот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Достиг совершенства в конструировании микроскопов и шлифовании линз телескоп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Arial"/>
              </a:rPr>
              <a:t>Использованная литерату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Arial"/>
              </a:rPr>
              <a:t>1. Ю.А. Храмов. "Физики". Биографический справочник., 19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трелка влево 4"/>
          <p:cNvSpPr/>
          <p:nvPr/>
        </p:nvSpPr>
        <p:spPr>
          <a:xfrm>
            <a:off x="7215120" y="6072120"/>
            <a:ext cx="1143000" cy="50004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99"/>
                </a:solidFill>
                <a:latin typeface="Arial"/>
              </a:rPr>
              <a:t>Наши 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ление и углубление знаний по тем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учного мировоззрения через взаимосвязь явл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ь представления о мире и его причинно-следственных связях, развить навыки логического мышления, применять теоретические знания для решения практических задач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42680" y="274320"/>
            <a:ext cx="50720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ез Паскаль (родился 19 июня 1623 в Клермон-Ферране, ныне французский регион Овер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р 19 августа 1662 в Париже) - физик, математи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, писатель. Человек пораз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ллектуальных способностей, проявившихся уж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аннем детстве. Его открытия в математике и физи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ложили основы современной гидравлики и вычислите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ики, а сочинения повлияли на форм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тературного француз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я Паскаля носят единица измерения давления (1 П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зык программирования "Паскаль" и университет в 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ном го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ез Паскаль родился в семье дворянина, потомствен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риста. Отличался настолько слабым здоровьем, что не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вал близок к смерти. Отец даже запрещал ему занят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метрией, опасаясь, что чрезмерное напряжение свед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льчика в могилу. Но Блезу был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аточно узнать, что в геометрии есть окружности и прямые. Оставшись без учебников, 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оятельно доказал первые теоремы Евклида. Когда отец обнаружил, что мальчик доказ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2-ю теорему (сумма углов треугольника всегда равна 180 градусам), то сдался и разреши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ыну читать книги по математике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4" descr="250px-Pascal.jpg"/>
          <p:cNvPicPr/>
          <p:nvPr/>
        </p:nvPicPr>
        <p:blipFill>
          <a:blip r:embed="rId1"/>
          <a:stretch/>
        </p:blipFill>
        <p:spPr>
          <a:xfrm>
            <a:off x="5857920" y="1928880"/>
            <a:ext cx="2717640" cy="324000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лево 4"/>
          <p:cNvSpPr/>
          <p:nvPr/>
        </p:nvSpPr>
        <p:spPr>
          <a:xfrm>
            <a:off x="5072040" y="6286680"/>
            <a:ext cx="714240" cy="357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Утверждение Аристо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4" descr="04-19.gif"/>
          <p:cNvPicPr/>
          <p:nvPr/>
        </p:nvPicPr>
        <p:blipFill>
          <a:blip r:embed="rId2"/>
          <a:srcRect l="1417" t="1890" r="67090" b="2520"/>
          <a:stretch/>
        </p:blipFill>
        <p:spPr>
          <a:xfrm>
            <a:off x="843120" y="1285920"/>
            <a:ext cx="3300120" cy="4929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редин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 считалось непререкаемым утверждение древнегреческого ученого Аристотеля о том, что вода поднимается за поршнем насоса потому, что «природа боится пусто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Как было открыто атмосферное давлени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7120" y="1600200"/>
            <a:ext cx="41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3333cc"/>
                </a:solidFill>
                <a:latin typeface="Arial"/>
              </a:rPr>
              <a:t>Однако  утверждение, что «природа боится пустоты» привела в замешательство  в 1638 году, когда не удалась затея герцога Тосканского украсить сады Флоренции фонтанами - вода не поднималась выше   10,3 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06"/>
          <p:cNvPicPr/>
          <p:nvPr/>
        </p:nvPicPr>
        <p:blipFill>
          <a:blip r:embed="rId2"/>
          <a:stretch/>
        </p:blipFill>
        <p:spPr>
          <a:xfrm>
            <a:off x="5357880" y="1278000"/>
            <a:ext cx="3109680" cy="5364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мешательство Галил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7120" y="1213920"/>
            <a:ext cx="87868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доумевающие строители обратились за помощ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 Галилею, который пошутил, что вероятно,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йствительно не любит пустоты, но до опреде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дела. Великий ученый  не см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ъяснить это я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только ученик Галиле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рричелли после дол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пытов, доказал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здух имеет ве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давление атмосферы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Галилео Галилей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4" descr="galilei_1.jpg"/>
          <p:cNvPicPr/>
          <p:nvPr/>
        </p:nvPicPr>
        <p:blipFill>
          <a:blip r:embed="rId1"/>
          <a:stretch/>
        </p:blipFill>
        <p:spPr>
          <a:xfrm>
            <a:off x="5857920" y="2643120"/>
            <a:ext cx="2766960" cy="334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0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99"/>
                </a:solidFill>
                <a:uFillTx/>
                <a:latin typeface="Arial"/>
              </a:rPr>
              <a:t>В чем же была прич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иски причин упрямства воды и опыты с более тяжелой жидкостью - ртутью, предпринятые в 1643 г. Торричелли, привели к открытию атмосферного давления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7"/>
          <p:cNvPicPr/>
          <p:nvPr/>
        </p:nvPicPr>
        <p:blipFill>
          <a:blip r:embed="rId1"/>
          <a:stretch/>
        </p:blipFill>
        <p:spPr>
          <a:xfrm>
            <a:off x="623880" y="1341360"/>
            <a:ext cx="3309840" cy="5229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{2B5456AA-0021-4006-B403-F8A56EF2F6A7}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928800" y="928800"/>
            <a:ext cx="7643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н взял стеклянную трубку длиной 1 метр, запаянную с одного конца, наполнил ее полностью ртутью и перевернул, опустив открытый конец в чашку со ртутью. К удивлению, из трубки вылилась лишь не большая часть ртути. В трубке остался столбик ртути высотой 76 см (760 мм). Торричелли утверждал, что столбик удерживается атмосферным давл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99"/>
                </a:solidFill>
                <a:latin typeface="Arial"/>
              </a:rPr>
              <a:t>Объяснение опыта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2.gif"/>
          <p:cNvPicPr/>
          <p:nvPr/>
        </p:nvPicPr>
        <p:blipFill>
          <a:blip r:embed="rId1"/>
          <a:stretch/>
        </p:blipFill>
        <p:spPr>
          <a:xfrm>
            <a:off x="5143680" y="3786120"/>
            <a:ext cx="3644640" cy="2700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571680" y="5500800"/>
            <a:ext cx="42861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ыт, подтверждающий существование атмосферного д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428760" y="357120"/>
            <a:ext cx="642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тмосфера - воздушная оболочка Земли, высотой несколько тысяч кило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Атмосферное давление — давление атмосферы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се находящиеся в 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редметы и Зем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верхность. Атмосфер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ое давление создаётся гравитационным притя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жением воздуха к Зем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0atm2.jpg"/>
          <p:cNvPicPr/>
          <p:nvPr/>
        </p:nvPicPr>
        <p:blipFill>
          <a:blip r:embed="rId1"/>
          <a:stretch/>
        </p:blipFill>
        <p:spPr>
          <a:xfrm>
            <a:off x="5214960" y="1428840"/>
            <a:ext cx="3549600" cy="3527280"/>
          </a:xfrm>
          <a:prstGeom prst="rect">
            <a:avLst/>
          </a:prstGeom>
          <a:ln w="0">
            <a:noFill/>
          </a:ln>
        </p:spPr>
      </p:pic>
      <p:sp>
        <p:nvSpPr>
          <p:cNvPr id="71" name="Стрелка влево 3"/>
          <p:cNvSpPr/>
          <p:nvPr/>
        </p:nvSpPr>
        <p:spPr>
          <a:xfrm>
            <a:off x="7286760" y="592920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2:15:41Z</dcterms:created>
  <dc:creator>Виктория</dc:creator>
  <dc:description/>
  <dc:language>en-US</dc:language>
  <cp:lastModifiedBy>Admin</cp:lastModifiedBy>
  <dcterms:modified xsi:type="dcterms:W3CDTF">2012-11-27T18:44:47Z</dcterms:modified>
  <cp:revision>40</cp:revision>
  <dc:subject/>
  <dc:title>История открытия атмосферного давления</dc:title>
</cp:coreProperties>
</file>