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8.jpeg" ContentType="image/jpeg"/>
  <Override PartName="/ppt/media/image23.gif" ContentType="image/gif"/>
  <Override PartName="/ppt/media/image21.png" ContentType="image/png"/>
  <Override PartName="/ppt/media/image4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A85-FF46-4D16-A6B3-476E0EF47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58F3-A9F0-44BD-937A-8ABBAEF4D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1C4-9FA7-4DAD-AC31-BB7DBEC7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CF4-69F8-43DB-89AC-B2A508B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10B-1AF8-4E6B-95FE-B64A75CA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219-6BC1-423F-8ADA-4832430C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A72-98E1-41D9-B5AD-5B24426F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643-F301-48E4-A061-566442B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DE6-5F33-4BAD-B9DD-042CB108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46C-3931-48DA-8DF0-2312FE8A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DF6-F93A-4F5F-BD5E-9796A75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FD0-F727-458F-A5F2-4A25808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F73-713E-49B7-99AD-2BB5CA5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EFD-F531-4B93-90B8-D18BB53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2FA-8C9B-4B9F-90A1-42166449F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стория открытия атмосферного д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Monotype Corsiva"/>
              </a:rPr>
              <a:t>Следствия из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3929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62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Торричелли обнаружил, что высота столба          ртути в его опыте не зависит ни от формы трубки,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ни от ее наклона. На уровне моря высота ртутного столба всегда была около 760 м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"/>
          <p:cNvPicPr/>
          <p:nvPr/>
        </p:nvPicPr>
        <p:blipFill>
          <a:blip r:embed="rId2"/>
          <a:stretch/>
        </p:blipFill>
        <p:spPr>
          <a:xfrm>
            <a:off x="3857760" y="1357200"/>
            <a:ext cx="5022720" cy="450072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едположение Торричел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85840" y="12139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ченый предположил, что высота столба жидкости уравновешивается давлением воздуха. Зная высоту столба и плотность жидкости, можно определить величину давления атм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09"/>
          <p:cNvPicPr/>
          <p:nvPr/>
        </p:nvPicPr>
        <p:blipFill>
          <a:blip r:embed="rId1"/>
          <a:stretch/>
        </p:blipFill>
        <p:spPr>
          <a:xfrm>
            <a:off x="268200" y="1341360"/>
            <a:ext cx="4627800" cy="421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тверждение предположения Торричел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010.jpg"/>
          <p:cNvPicPr/>
          <p:nvPr/>
        </p:nvPicPr>
        <p:blipFill>
          <a:blip r:embed="rId1"/>
          <a:stretch/>
        </p:blipFill>
        <p:spPr>
          <a:xfrm>
            <a:off x="285840" y="1357200"/>
            <a:ext cx="4817880" cy="4176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85840" y="1142640"/>
            <a:ext cx="3900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1648 г . опыт Блеза Паскаля на горе Пью-де-Дом доказал, что меньший столб воздуха оказывает меньшее д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следствие притяжения Земли и недостаточной скорости молекулы воздуха не могут покинуть околоземное пространство. Однако они не падают на поверхность Земли, а парят над ней, т.к. находятся в непрерывном тепловом дви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ОТТО фон ГЕР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ного и плодотворно изучением атмосферного давления, занимался Отто фон Герике – бургомистр города Магдебурга. В мае 1654 г. Он поставил опыт, который явился наглядным доказательством существования атмосферного давления.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3639960" cy="481968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Comic Sans MS"/>
              </a:rPr>
              <a:t>Опыт «магдебурские полуш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Для опыта подготовили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два металлических полушария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( одно с трубкой для откачивания воздух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9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Их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сложили вместе,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между ними поместили кожаное кольцо, пропитанное расплавленным во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 помощью насоса 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откачали воздух из полости, образовавшейся между полушариями.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На каждом из полушарий имелось прочное железное коль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Рисунок1"/>
          <p:cNvPicPr/>
          <p:nvPr/>
        </p:nvPicPr>
        <p:blipFill>
          <a:blip r:embed="rId1"/>
          <a:stretch/>
        </p:blipFill>
        <p:spPr>
          <a:xfrm>
            <a:off x="4929120" y="1928880"/>
            <a:ext cx="3940200" cy="31845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805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Две восьмерки лошадей, впряженных в эти кольца,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тянули в разные стороны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, пытаясь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разъединить полушария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, но это им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не удалось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Когда внутрь полушарий впустили воздух, они распались без внешнего усилия</a:t>
            </a:r>
            <a:r>
              <a:rPr b="0" i="1" lang="ru-RU" sz="2800" spc="-1" strike="noStrike">
                <a:solidFill>
                  <a:srgbClr val="0099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4970520" cy="27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Интересно зна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cc0099"/>
                </a:solidFill>
                <a:latin typeface="Arial Narrow"/>
              </a:rPr>
              <a:t>Магдебургские  полушария   есть у каждого  человека: головки бедренных костей   удерживаются в тазобедренном суставе атмосферным                     давлением</a:t>
            </a:r>
            <a:r>
              <a:rPr b="1" lang="ru-RU" sz="28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novyiy_risunok_intro.png"/>
          <p:cNvPicPr/>
          <p:nvPr/>
        </p:nvPicPr>
        <p:blipFill>
          <a:blip r:embed="rId1"/>
          <a:stretch/>
        </p:blipFill>
        <p:spPr>
          <a:xfrm>
            <a:off x="5357880" y="3071880"/>
            <a:ext cx="307476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 мы пь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s9.gif"/>
          <p:cNvPicPr/>
          <p:nvPr/>
        </p:nvPicPr>
        <p:blipFill>
          <a:blip r:embed="rId2"/>
          <a:stretch/>
        </p:blipFill>
        <p:spPr>
          <a:xfrm>
            <a:off x="5297400" y="1428840"/>
            <a:ext cx="3846600" cy="4356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571680" y="1357200"/>
            <a:ext cx="478620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тягивание ртом жидкости вызывает расширение грудной клетки и разрежение воздуха как в легких, так и во рту. Повышенное по сравнению с внутренним наружное атмосферное давление «вгоняет» туда часть жидкости. Так организм человека использует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тмосферное давл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>
            <a:alpha val="1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785880" y="785880"/>
            <a:ext cx="757224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то фон Ге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20.11.1602-11.05.1686) - немецкий физик. Родился в Магдебурге. В 1617-1623 годах учился в Лейпцигском, Гельмштадском, Йенском и Лейденском университетах. В 1646-1678 годах - бургомистр Магдебур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ел воздушный насос и, усовершенствовав его, осуществил ряд опытов: продемонстрировал в 1654 году существование давления воздуха (опыт с "магдебургскими полушариями"), доказал его упругость, определил плотность, выяснил, что воздух является проводником звука, в пустоте звук не распространяется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ил также первый водяной барометр (1657) и использовал его для предсказания погоды, изобрел гигрометр, построил воздушный термометр, манометр (не позже 166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ике изучал магнитные явления, заметил намагничивание длинных железных предметов, расположенных при ковке в меридиональном направл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л внимание на уменьшение интенсивности света при отра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трактата "Новые, так называемые магдебургские опыты с пустым пространством" (167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ая литерату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Ю.А. Храмов. "Физики". Биографический справочник., 198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2"/>
          <p:cNvSpPr/>
          <p:nvPr/>
        </p:nvSpPr>
        <p:spPr>
          <a:xfrm>
            <a:off x="6643800" y="5715000"/>
            <a:ext cx="1214280" cy="642960"/>
          </a:xfrm>
          <a:custGeom>
            <a:avLst/>
            <a:gdLst>
              <a:gd name="textAreaLeft" fmla="*/ 500400 w 1214280"/>
              <a:gd name="textAreaRight" fmla="*/ 713880 w 12142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с двумя вырезанными противолежащими углами 3"/>
          <p:cNvSpPr/>
          <p:nvPr/>
        </p:nvSpPr>
        <p:spPr>
          <a:xfrm>
            <a:off x="1071720" y="642960"/>
            <a:ext cx="7072200" cy="521496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Эванжелиста Торричелли (15.10.1608 - 25.10.1647) - итальянский физик и математик. Родился в Фаэнце. Учился в Риме у Б. Кастелли, друга и ученика Г. Галилея. В 1641 году переехал в Арчетри, где помогал Галилею. В 1642 году стал придворным математиком герцога Тосканского и профессором математики и физики Флорентийского университ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Основные физические работы в области пневматики и механики. В 1643 году открыл атмосферное давление, нанеся удар сложившемуся мнению о том, что "природа боится пустоты" . Изобрел ртутный барометр (1644).  переделав его в спиртовой термометр. Он первый объяснил ветер вариациями атмосферного д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В трактате "О движении свободно падающих и брошенных тел" (1641) Торричелли доказал постулат о равенстве скоростей тяжелых тел, падающих по наклонным плоскостям одинаковой высот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Достиг совершенства в конструировании микроскопов и шлифовании линз телескоп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Arial"/>
              </a:rPr>
              <a:t>Использованная литерату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Arial"/>
              </a:rPr>
              <a:t>1. Ю.А. Храмов. "Физики". Биографический справочник.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лево 4"/>
          <p:cNvSpPr/>
          <p:nvPr/>
        </p:nvSpPr>
        <p:spPr>
          <a:xfrm>
            <a:off x="7215120" y="60721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Наши 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и углубление знаний по те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учного мировоззрения через взаимосвязь явл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ь представления о мире и его причинно-следственных связях, развить навыки логического мышления, применять теоретические знания для решения практических зада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2680" y="274320"/>
            <a:ext cx="5072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ез Паскаль (родился 19 июня 1623 в Клермон-Ферране, ныне французский регион Овер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р 19 августа 1662 в Париже) - физик, математ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, писатель. Человек по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, проявившихся у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ннем детстве. Его открытия в математике и физ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ложили основы современной гидравлики и вычисл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ки, а сочинения повлияли на 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ного француз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аскаля носят единица измерения давления (1 П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ык программирования "Паскаль" и университет в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ном 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ез Паскаль родился в семье дворянина, потомств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ста. Отличался настолько слабым здоровьем, что не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вал близок к смерти. Отец даже запрещал ему заня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ей, опасаясь, что чрезмерное напряжение свед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чика в могилу. Но Блезу бы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аточно узнать, что в геометрии есть окружности и прямые. Оставшись без учебников,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 доказал первые теоремы Евклида. Когда отец обнаружил, что мальчик доказ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2-ю теорему (сумма углов треугольника всегда равна 180 градусам), то сдался и разреш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у читать книги по математик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4" descr="250px-Pascal.jpg"/>
          <p:cNvPicPr/>
          <p:nvPr/>
        </p:nvPicPr>
        <p:blipFill>
          <a:blip r:embed="rId1"/>
          <a:stretch/>
        </p:blipFill>
        <p:spPr>
          <a:xfrm>
            <a:off x="5857920" y="1928880"/>
            <a:ext cx="271764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лево 4"/>
          <p:cNvSpPr/>
          <p:nvPr/>
        </p:nvSpPr>
        <p:spPr>
          <a:xfrm>
            <a:off x="5072040" y="6286680"/>
            <a:ext cx="71424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тверждение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04-19.gif"/>
          <p:cNvPicPr/>
          <p:nvPr/>
        </p:nvPicPr>
        <p:blipFill>
          <a:blip r:embed="rId2"/>
          <a:srcRect l="1417" t="1890" r="67090" b="2520"/>
          <a:stretch/>
        </p:blipFill>
        <p:spPr>
          <a:xfrm>
            <a:off x="843120" y="1285920"/>
            <a:ext cx="3300120" cy="4929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ред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считалось непререкаемым утверждение древнегреческого ученого Аристотеля о том, что вода поднимается за поршнем насоса потому, что «природа боится пусто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Как было открыто атмосферное давлени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3333cc"/>
                </a:solidFill>
                <a:latin typeface="Arial"/>
              </a:rPr>
              <a:t>Однако  утверждение, что «природа боится пустоты» привела в замешательство  в 1638 году, когда не удалась затея герцога Тосканского украсить сады Флоренции фонтанами - вода не поднималась выше   10,3 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06"/>
          <p:cNvPicPr/>
          <p:nvPr/>
        </p:nvPicPr>
        <p:blipFill>
          <a:blip r:embed="rId2"/>
          <a:stretch/>
        </p:blipFill>
        <p:spPr>
          <a:xfrm>
            <a:off x="5357880" y="1278000"/>
            <a:ext cx="3109680" cy="5364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шательство Галил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доумевающие строители обратились за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Галилею, который пошутил, что вероятно,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йствительно не любит пустоты, но до опреде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ела. Великий ученый  не см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ъяснить это я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только ученик Галил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рричелли после дол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ытов, доказал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дух имеет ве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давление атмосфер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алилео Галилей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galilei_1.jpg"/>
          <p:cNvPicPr/>
          <p:nvPr/>
        </p:nvPicPr>
        <p:blipFill>
          <a:blip r:embed="rId1"/>
          <a:stretch/>
        </p:blipFill>
        <p:spPr>
          <a:xfrm>
            <a:off x="5857920" y="2643120"/>
            <a:ext cx="2766960" cy="33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Arial"/>
              </a:rPr>
              <a:t>В чем же была прич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иски причин упрямства воды и опыты с более тяжелой жидкостью - ртутью, предпринятые в 1643 г. Торричелли, привели к открытию атмосферного давления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7"/>
          <p:cNvPicPr/>
          <p:nvPr/>
        </p:nvPicPr>
        <p:blipFill>
          <a:blip r:embed="rId1"/>
          <a:stretch/>
        </p:blipFill>
        <p:spPr>
          <a:xfrm>
            <a:off x="623880" y="1341360"/>
            <a:ext cx="3309840" cy="5229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{2B5456AA-0021-4006-B403-F8A56EF2F6A7}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28800" y="928800"/>
            <a:ext cx="7643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н взял стеклянную трубку длиной 1 метр, запаянную с одного конца, наполнил ее полностью ртутью и перевернул, опустив открытый конец в чашку со ртутью. К удивлению, из трубки вылилась лишь не большая часть ртути. В трубке остался столбик ртути высотой 76 см (760 мм). Торричелли утверждал, что столбик удерживается атмосферным дав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Объяснение опыт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2.gif"/>
          <p:cNvPicPr/>
          <p:nvPr/>
        </p:nvPicPr>
        <p:blipFill>
          <a:blip r:embed="rId1"/>
          <a:stretch/>
        </p:blipFill>
        <p:spPr>
          <a:xfrm>
            <a:off x="5143680" y="3786120"/>
            <a:ext cx="364464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680" y="5500800"/>
            <a:ext cx="42861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ыт, подтверждающий существование атмосферного д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28760" y="357120"/>
            <a:ext cx="642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тмосфера - воздушная оболочка Земли, высотой несколько тысяч кило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тмосферное давление — давление атмосфер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се находящиеся в 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едметы и Зем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верхность. Атмосфе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ое давление создаётся гравитационным прит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ением воздуха к Зем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0atm2.jpg"/>
          <p:cNvPicPr/>
          <p:nvPr/>
        </p:nvPicPr>
        <p:blipFill>
          <a:blip r:embed="rId1"/>
          <a:stretch/>
        </p:blipFill>
        <p:spPr>
          <a:xfrm>
            <a:off x="5214960" y="1428840"/>
            <a:ext cx="3549600" cy="3527280"/>
          </a:xfrm>
          <a:prstGeom prst="rect">
            <a:avLst/>
          </a:prstGeom>
          <a:ln w="0">
            <a:noFill/>
          </a:ln>
        </p:spPr>
      </p:pic>
      <p:sp>
        <p:nvSpPr>
          <p:cNvPr id="71" name="Стрелка влево 3"/>
          <p:cNvSpPr/>
          <p:nvPr/>
        </p:nvSpPr>
        <p:spPr>
          <a:xfrm>
            <a:off x="7286760" y="59292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15:41Z</dcterms:created>
  <dc:creator>Виктория</dc:creator>
  <dc:description/>
  <dc:language>en-US</dc:language>
  <cp:lastModifiedBy>Admin</cp:lastModifiedBy>
  <dcterms:modified xsi:type="dcterms:W3CDTF">2012-11-27T18:44:47Z</dcterms:modified>
  <cp:revision>40</cp:revision>
  <dc:subject/>
  <dc:title>История открытия атмосферного давления</dc:title>
</cp:coreProperties>
</file>