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C15-E25D-46AB-8F0A-E1C32AB8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93C-0490-4353-8E8B-C9D645F3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BAE-85B8-45A1-9F5C-DB0755B9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0CB-BEAD-4387-BC88-687631B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521-7FD0-4AFA-A927-7464723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12C-E142-4A8E-856E-4E05061C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43F-412B-4010-91A8-86118571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A86-98A7-4528-A20B-4F8AFE96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0AD-0FD6-4005-9835-31DC674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76F-E3EF-4394-BC65-F145836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AC2-944D-4493-BF10-CFA6173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5F6-3FB3-4825-9474-1E88514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E69-7E09-4CFB-A3FA-98F81F965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203040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457200"/>
            <a:ext cx="7848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пасибо тебе, Азбука!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86360" y="2895480"/>
            <a:ext cx="3490920" cy="369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" y="455400"/>
            <a:ext cx="626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рный Ив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еревянная руб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носом провед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ам и след клад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00720" y="532080"/>
            <a:ext cx="770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ные, крив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 рождения нем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ядут в ряд, все заговоря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792440" cy="211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559160" cy="25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595160" cy="20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590920" y="29718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7560" y="532800"/>
            <a:ext cx="749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куст, а с листоч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рубашка, а сши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человек, а рассказывае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43762" t="7493" r="0" b="43756"/>
          <a:stretch/>
        </p:blipFill>
        <p:spPr>
          <a:xfrm>
            <a:off x="2743200" y="3276720"/>
            <a:ext cx="37339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303120"/>
            <a:ext cx="871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этой узенькой короб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ы найдешь карандаш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учки, перья, скрепки, кноп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угодно для душ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039" t="0" r="205" b="10865"/>
          <a:stretch/>
        </p:blipFill>
        <p:spPr>
          <a:xfrm>
            <a:off x="5867280" y="29718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57640" y="397080"/>
            <a:ext cx="774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оя в клетку, то в лин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писать по мне сумей- 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410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22500" t="7954" r="16669" b="0"/>
          <a:stretch/>
        </p:blipFill>
        <p:spPr>
          <a:xfrm>
            <a:off x="1447920" y="150840"/>
            <a:ext cx="6858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4292" t="9389" r="5576" b="9256"/>
          <a:stretch/>
        </p:blipFill>
        <p:spPr>
          <a:xfrm>
            <a:off x="0" y="152388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4283" t="0" r="0" b="2501"/>
          <a:stretch/>
        </p:blipFill>
        <p:spPr>
          <a:xfrm>
            <a:off x="197172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609480"/>
            <a:ext cx="3581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6668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43400" y="4724280"/>
            <a:ext cx="39625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6" t="5928" r="27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95480" y="4419720"/>
            <a:ext cx="3276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609480"/>
            <a:ext cx="126684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2362320"/>
            <a:ext cx="3648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ДРОСТ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125600">
            <a:off x="4876920" y="175212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УПЕНЬ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2666880"/>
            <a:ext cx="88394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 - к мудрости ступен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>
            <a:lum bright="12000"/>
          </a:blip>
          <a:srcRect l="4168" t="0" r="0" b="0"/>
          <a:stretch/>
        </p:blipFill>
        <p:spPr>
          <a:xfrm>
            <a:off x="838080" y="15238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5800" y="152280"/>
            <a:ext cx="7543800" cy="18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тебе, Азбука!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айте дружно каждый раз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учитель входит в класс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06668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льзя на уроке,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ушай, дружок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вачку жев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усать пирожок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752480"/>
            <a:ext cx="38862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а - это не кровать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ней нельзя лежать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сиди за партой стройно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еди себя достойно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67080" y="3352680"/>
            <a:ext cx="4267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ить хочешь - не шуми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олько руку подними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спросит - надо встать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он сесть позволит - сядь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51814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жедневно по утра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ься надо 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с доски не сводим глаз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учитель учит на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4705" t="12688" r="4705" b="0"/>
          <a:stretch/>
        </p:blipFill>
        <p:spPr>
          <a:xfrm>
            <a:off x="17524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370200">
            <a:off x="1752480" y="304920"/>
            <a:ext cx="59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878" r="1837" b="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95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590920"/>
            <a:ext cx="4665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4876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99800" y="379440"/>
            <a:ext cx="720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3827520"/>
            <a:ext cx="3327480" cy="28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3902040"/>
            <a:ext cx="28195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авный</cp:lastModifiedBy>
  <dcterms:modified xsi:type="dcterms:W3CDTF">2007-03-09T08:07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