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DB4E-B9C1-4C0F-AA90-2109779B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F3D-0202-4096-B5DD-8B913E28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3CF-2CBB-41F5-BAAD-C3783F2B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9041-3C98-4BB0-9B36-E9987051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C1BB-C482-42A0-AD28-B5A23FD4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F19A-934B-47F1-9288-7CAB2D9E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318B-2126-4588-8482-3ED997A8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1FB9-69A8-45BC-8E66-CA5551B7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9CFB-D3FD-4FF9-9841-7B2E83E0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839C-89F0-4CED-BC9F-7E20C6DC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C9AE-4C6B-4858-A8DC-3C95A31D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8ED4-A0AD-4E70-8CBC-018BC9A6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0915-95A7-48F5-BD72-DCB39600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7855-B307-4A80-B7F6-B9515F7F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23AB-AA54-4137-B8DD-F8A96EC2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2A22-2B1A-4C8A-94B3-4CD951DF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1767-A49A-4196-A626-BE216ADE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5AD7-F4DD-49FE-8B71-0FF0399F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8F78-2F9A-48FC-A4C7-07F6FD80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2B8F-F91E-4AA2-8CFA-9F0EA608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3B1-6A55-4CD7-B74B-1B28069C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EFC-B611-42CC-B81A-324D010C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CE4-65E0-4D5F-9662-1006D3D4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8455-BA4D-4851-B18E-29799D45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324A-1511-4DAB-935F-AA7ACF7DA68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704D-E966-4C03-BDB2-B4AE1ED92BB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траны Афри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атова Оксана Анатольевн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ьерра-Леон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2421000"/>
            <a:ext cx="44956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Пляжам Сьерра-Леоне не стыдно сравниться с более известными туристическими местами мира. Единственное, что препятствует увеличению потока туристов – это опасные штормы, весьма часто случающиеся во многих местах страны. Одно из беднейших государств Африки. Сегодня тропических лесов в стране не осталось. Богаты месторождения алмазов, титановой руды, бокситов. С\х: рис, кофе, какао, просо, рыболовство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2030" t="22907" r="3697" b="3896"/>
          <a:stretch/>
        </p:blipFill>
        <p:spPr>
          <a:xfrm>
            <a:off x="122400" y="981000"/>
            <a:ext cx="4344840" cy="5616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rcRect l="80020" t="4228" r="1999" b="80518"/>
          <a:stretch/>
        </p:blipFill>
        <p:spPr>
          <a:xfrm>
            <a:off x="6948360" y="260280"/>
            <a:ext cx="1871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Тунис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торой в мире экспортер оливкового масла. Важные источники дохода – горнодобывающая промышленность (фосфаты, нефть, газ), туризм, с\х: оливки, виноград, цитрусовые, рыболовство, текстильная промышленность, производство бумаги и дерева.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0" t="22907" r="2533" b="3896"/>
          <a:stretch/>
        </p:blipFill>
        <p:spPr>
          <a:xfrm>
            <a:off x="4441680" y="1844640"/>
            <a:ext cx="4505400" cy="4824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rcRect l="77453" t="2243" r="4607" b="80602"/>
          <a:stretch/>
        </p:blipFill>
        <p:spPr>
          <a:xfrm>
            <a:off x="7524720" y="0"/>
            <a:ext cx="13622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нг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219640" y="1341000"/>
            <a:ext cx="3673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Большую территорию Конго занимают нетронутые джунгли. Обитающим там пигмеям грозит вымирание. Суровые природные условия на экваторе обрекают местных жителей на нищенское существование. Часто конфликты, перерастающие в войн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9982" t="7915" r="13186" b="9733"/>
          <a:stretch/>
        </p:blipFill>
        <p:spPr>
          <a:xfrm>
            <a:off x="2484360" y="333360"/>
            <a:ext cx="2808360" cy="3384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rcRect l="8589" t="3045" r="16071" b="4785"/>
          <a:stretch/>
        </p:blipFill>
        <p:spPr>
          <a:xfrm>
            <a:off x="108000" y="2492280"/>
            <a:ext cx="28195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Лесот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2319" t="25190" r="3107" b="2293"/>
          <a:stretch/>
        </p:blipFill>
        <p:spPr>
          <a:xfrm>
            <a:off x="179280" y="1268280"/>
            <a:ext cx="4648320" cy="4753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rcRect l="73431" t="5785" r="806" b="78418"/>
          <a:stretch/>
        </p:blipFill>
        <p:spPr>
          <a:xfrm>
            <a:off x="5724360" y="227160"/>
            <a:ext cx="3168720" cy="2592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5076720" y="2924280"/>
            <a:ext cx="3888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Королевство Лесото славится волнующей красотой своих горных пейзажей. Источник благосостояния – туристы из ЮАР, сельское хозяйство- кукуруза, пшеница, овощ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л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91628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Сооруженные из глины дома и зерновые амбары в деревнях племени догонов на востоке Мали тесно жмутся друг к другу. Сегодня север Мали считается самым жарким и засушливым регионом Земли. Занимаются сельским хозяйством: рис, пшено, арахис, чай, хлопок, животноводство, рыбный промысе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030" t="22603" r="3697" b="3896"/>
          <a:stretch/>
        </p:blipFill>
        <p:spPr>
          <a:xfrm>
            <a:off x="179280" y="1052640"/>
            <a:ext cx="4419720" cy="5184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rcRect l="75228" t="1911" r="2399" b="82293"/>
          <a:stretch/>
        </p:blipFill>
        <p:spPr>
          <a:xfrm>
            <a:off x="5435640" y="0"/>
            <a:ext cx="2016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Бамако – город в Мал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8320" y="1267920"/>
            <a:ext cx="43164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Жизнь в этом городе в немалой степени определяется религией, имя которой – ислам. Оживленная торговля тканями, восточными духами, пряностями, птицей и украшениями. Каждую пятницу к главной мечети стекаются тысячи мусульман в цветастых праздничных одеждах, чтобы обратить взор в сторону Мекки, вознести молитву Всевышнем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2030" t="24486" r="5776" b="2313"/>
          <a:stretch/>
        </p:blipFill>
        <p:spPr>
          <a:xfrm>
            <a:off x="250920" y="1268280"/>
            <a:ext cx="42703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лав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8920" y="206028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Плодородные берега Малави густо заселены. Здесь живет главным образов народ яо, а также сена, чева, нгони. Средняя продолжительность жизни людей 41 год. Занятия: сельское хозяйство: табак, овощи, хлопок, чай, сахарный тростник, кукуруза. Рыболовство. Промышленность – цемента, производство потребительских товаров, электроэнерг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3740" t="24005" r="4109" b="3920"/>
          <a:stretch/>
        </p:blipFill>
        <p:spPr>
          <a:xfrm>
            <a:off x="4614840" y="1052640"/>
            <a:ext cx="4403880" cy="5472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rcRect l="76489" t="3163" r="2338" b="82214"/>
          <a:stretch/>
        </p:blipFill>
        <p:spPr>
          <a:xfrm>
            <a:off x="0" y="0"/>
            <a:ext cx="29527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Маврита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78920" y="2205000"/>
            <a:ext cx="4537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3\4 всей территории страны расположено на западной оконечности Сахары, но песчаные барханы продолжают свое наступление вглубь страны, принуждая многих кочевников к оседлому образу жизни. Самое драгоценное для жителей – вода, страна страдает от постоянной засухи. Развитие: горная, кожевенная промышленность, бобы, финики, рис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2233" t="22907" r="4700" b="2314"/>
          <a:stretch/>
        </p:blipFill>
        <p:spPr>
          <a:xfrm>
            <a:off x="4584600" y="981000"/>
            <a:ext cx="4273560" cy="5616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76206" t="3909" r="2830" b="80500"/>
          <a:stretch/>
        </p:blipFill>
        <p:spPr>
          <a:xfrm>
            <a:off x="4067280" y="0"/>
            <a:ext cx="2233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рокк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356000" y="2276280"/>
            <a:ext cx="4608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Искусственно орошаемый город-оазис Тизнит лежит прямо посреди пустыни. На горизонте виднеется протянувшаяся на многие км горная цепь Антиатласа. Совершить путешествие в Марокко стоит хотя бы ради природы. В этой стране вы найдете прекрасные пляжи, снежные вершины, пустынные ландшафты, от которых захватывает дух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3384" t="22907" r="2915" b="2313"/>
          <a:stretch/>
        </p:blipFill>
        <p:spPr>
          <a:xfrm>
            <a:off x="0" y="1052640"/>
            <a:ext cx="4356000" cy="5472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rcRect l="77979" t="2892" r="2978" b="85993"/>
          <a:stretch/>
        </p:blipFill>
        <p:spPr>
          <a:xfrm>
            <a:off x="6084720" y="189000"/>
            <a:ext cx="251964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Агадир – Марокканский пляжный курорт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Протяженные песчаные пляжи в бухте Агадира ежегодно привлекают в этот марокканский портовый город большое количество туристов из Европы. Для них вдоль побережья обустроена обширная зона комфортабельных отелей и пляжных комплексов. В 1960 г. мощное землетрясение не оставило от города камня на камне (за 15 сек.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0" t="24483" r="3522" b="2314"/>
          <a:stretch/>
        </p:blipFill>
        <p:spPr>
          <a:xfrm>
            <a:off x="117360" y="1052640"/>
            <a:ext cx="43801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Нигер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89000"/>
            <a:ext cx="4316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Большая часть территории занята песчаными пустынями. Растительность встречается крайне редко. Одна из самых больших и малонаселенных стран Африки. Река протекает лишь на крайнем Ю-З страны. Большие надежды в этой бедной стране возлагают на месторождения урана. С\х: просо, рис, хлопок, арахис, финики, овощи, животноводство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1403" t="24484" r="5241" b="2316"/>
          <a:stretch/>
        </p:blipFill>
        <p:spPr>
          <a:xfrm>
            <a:off x="69840" y="907920"/>
            <a:ext cx="4545000" cy="56898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rcRect l="74311" t="4304" r="1390" b="83728"/>
          <a:stretch/>
        </p:blipFill>
        <p:spPr>
          <a:xfrm>
            <a:off x="6372360" y="189000"/>
            <a:ext cx="2520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7:13:07Z</dcterms:created>
  <dc:creator>asd</dc:creator>
  <dc:description/>
  <dc:language>en-US</dc:language>
  <cp:lastModifiedBy>asd</cp:lastModifiedBy>
  <dcterms:modified xsi:type="dcterms:W3CDTF">2012-04-01T17:57:44Z</dcterms:modified>
  <cp:revision>5</cp:revision>
  <dc:subject/>
  <dc:title>Лесото</dc:title>
</cp:coreProperties>
</file>