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A4EE-9A72-4373-B996-976D0270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35E0-2F70-48FD-9E8B-F4A59AD1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2925-0183-49CB-A786-3A4650FC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7DF-ED33-42A7-9E00-874F3567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5349-AC86-4850-9046-2BF862A9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5BA2-0EC1-459C-AEE9-9CB9B1CB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701D-BA28-4353-88A9-95D66431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D7C3-C934-4147-A968-A3ABD6CB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7EC3-B45A-4E0C-A9C5-FE30E6D1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1CC1-5F08-42F1-84B0-9A336098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E012-6EC0-4D2C-8F7A-CB1118A1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E1FB-E4AD-4781-BA57-DFB979A1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5ED9-FC76-43F4-AE1C-B570D36C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5540-A7E5-4BE9-9A00-C71EBDB3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B0D4-CBFB-43D4-B823-C1F43A4C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71CA-D667-4402-A910-C84E7ED6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BB84-4ABB-4D86-BB0F-CD78B4FA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F5B-3DE4-42DC-91D3-F6AE919F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96E-42DE-4471-8779-6408A2C8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D4E-683F-455D-AD8E-F5E53548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68E-C625-4B2D-B629-9313B1E5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91F-03D1-479F-AAFB-D6621DD0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364D-55B2-4B72-87F5-83598917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488-5B9C-431B-B5D6-4FE8D88D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661A-7792-4FE3-9516-1879829F460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860B-B5BB-42D7-8C2E-E7DBC6B8FA2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траны Афри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атова Оксана Анатольевн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ьерра-Леон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2421000"/>
            <a:ext cx="44956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Пляжам Сьерра-Леоне не стыдно сравниться с более известными туристическими местами мира. Единственное, что препятствует увеличению потока туристов – это опасные штормы, весьма часто случающиеся во многих местах страны. Одно из беднейших государств Африки. Сегодня тропических лесов в стране не осталось. Богаты месторождения алмазов, титановой руды, бокситов. С\х: рис, кофе, какао, просо, рыболовство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2030" t="22907" r="3697" b="3896"/>
          <a:stretch/>
        </p:blipFill>
        <p:spPr>
          <a:xfrm>
            <a:off x="122400" y="981000"/>
            <a:ext cx="4344840" cy="5616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rcRect l="80020" t="4228" r="1999" b="80518"/>
          <a:stretch/>
        </p:blipFill>
        <p:spPr>
          <a:xfrm>
            <a:off x="6948360" y="260280"/>
            <a:ext cx="1871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Тунис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торой в мире экспортер оливкового масла. Важные источники дохода – горнодобывающая промышленность (фосфаты, нефть, газ), туризм, с\х: оливки, виноград, цитрусовые, рыболовство, текстильная промышленность, производство бумаги и дерева.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0" t="22907" r="2533" b="3896"/>
          <a:stretch/>
        </p:blipFill>
        <p:spPr>
          <a:xfrm>
            <a:off x="4441680" y="1844640"/>
            <a:ext cx="4505400" cy="4824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rcRect l="77453" t="2243" r="4607" b="80602"/>
          <a:stretch/>
        </p:blipFill>
        <p:spPr>
          <a:xfrm>
            <a:off x="7524720" y="0"/>
            <a:ext cx="13622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нг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219640" y="1341000"/>
            <a:ext cx="3673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Большую территорию Конго занимают нетронутые джунгли. Обитающим там пигмеям грозит вымирание. Суровые природные условия на экваторе обрекают местных жителей на нищенское существование. Часто конфликты, перерастающие в войн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9982" t="7915" r="13186" b="9733"/>
          <a:stretch/>
        </p:blipFill>
        <p:spPr>
          <a:xfrm>
            <a:off x="2484360" y="333360"/>
            <a:ext cx="2808360" cy="3384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rcRect l="8589" t="3045" r="16071" b="4785"/>
          <a:stretch/>
        </p:blipFill>
        <p:spPr>
          <a:xfrm>
            <a:off x="108000" y="2492280"/>
            <a:ext cx="28195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Лесот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2319" t="25190" r="3107" b="2293"/>
          <a:stretch/>
        </p:blipFill>
        <p:spPr>
          <a:xfrm>
            <a:off x="179280" y="1268280"/>
            <a:ext cx="4648320" cy="4753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rcRect l="73431" t="5785" r="806" b="78418"/>
          <a:stretch/>
        </p:blipFill>
        <p:spPr>
          <a:xfrm>
            <a:off x="5724360" y="227160"/>
            <a:ext cx="3168720" cy="2592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5076720" y="2924280"/>
            <a:ext cx="3888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Королевство Лесото славится волнующей красотой своих горных пейзажей. Источник благосостояния – туристы из ЮАР, сельское хозяйство- кукуруза, пшеница, овощ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л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91628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Сооруженные из глины дома и зерновые амбары в деревнях племени догонов на востоке Мали тесно жмутся друг к другу. Сегодня север Мали считается самым жарким и засушливым регионом Земли. Занимаются сельским хозяйством: рис, пшено, арахис, чай, хлопок, животноводство, рыбный промысе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030" t="22603" r="3697" b="3896"/>
          <a:stretch/>
        </p:blipFill>
        <p:spPr>
          <a:xfrm>
            <a:off x="179280" y="1052640"/>
            <a:ext cx="4419720" cy="5184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rcRect l="75228" t="1911" r="2399" b="82293"/>
          <a:stretch/>
        </p:blipFill>
        <p:spPr>
          <a:xfrm>
            <a:off x="5435640" y="0"/>
            <a:ext cx="2016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Бамако – город в Мал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8320" y="1267920"/>
            <a:ext cx="43164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Жизнь в этом городе в немалой степени определяется религией, имя которой – ислам. Оживленная торговля тканями, восточными духами, пряностями, птицей и украшениями. Каждую пятницу к главной мечети стекаются тысячи мусульман в цветастых праздничных одеждах, чтобы обратить взор в сторону Мекки, вознести молитву Всевышнем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2030" t="24486" r="5776" b="2313"/>
          <a:stretch/>
        </p:blipFill>
        <p:spPr>
          <a:xfrm>
            <a:off x="250920" y="1268280"/>
            <a:ext cx="42703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лав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8920" y="206028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Плодородные берега Малави густо заселены. Здесь живет главным образов народ яо, а также сена, чева, нгони. Средняя продолжительность жизни людей 41 год. Занятия: сельское хозяйство: табак, овощи, хлопок, чай, сахарный тростник, кукуруза. Рыболовство. Промышленность – цемента, производство потребительских товаров, электроэнерг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3740" t="24005" r="4109" b="3920"/>
          <a:stretch/>
        </p:blipFill>
        <p:spPr>
          <a:xfrm>
            <a:off x="4614840" y="1052640"/>
            <a:ext cx="4403880" cy="5472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rcRect l="76489" t="3163" r="2338" b="82214"/>
          <a:stretch/>
        </p:blipFill>
        <p:spPr>
          <a:xfrm>
            <a:off x="0" y="0"/>
            <a:ext cx="29527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Маврита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78920" y="2205000"/>
            <a:ext cx="4537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3\4 всей территории страны расположено на западной оконечности Сахары, но песчаные барханы продолжают свое наступление вглубь страны, принуждая многих кочевников к оседлому образу жизни. Самое драгоценное для жителей – вода, страна страдает от постоянной засухи. Развитие: горная, кожевенная промышленность, бобы, финики, рис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2233" t="22907" r="4700" b="2314"/>
          <a:stretch/>
        </p:blipFill>
        <p:spPr>
          <a:xfrm>
            <a:off x="4584600" y="981000"/>
            <a:ext cx="4273560" cy="5616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76206" t="3909" r="2830" b="80500"/>
          <a:stretch/>
        </p:blipFill>
        <p:spPr>
          <a:xfrm>
            <a:off x="4067280" y="0"/>
            <a:ext cx="2233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рокк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356000" y="2276280"/>
            <a:ext cx="4608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Искусственно орошаемый город-оазис Тизнит лежит прямо посреди пустыни. На горизонте виднеется протянувшаяся на многие км горная цепь Антиатласа. Совершить путешествие в Марокко стоит хотя бы ради природы. В этой стране вы найдете прекрасные пляжи, снежные вершины, пустынные ландшафты, от которых захватывает дух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3384" t="22907" r="2915" b="2313"/>
          <a:stretch/>
        </p:blipFill>
        <p:spPr>
          <a:xfrm>
            <a:off x="0" y="1052640"/>
            <a:ext cx="4356000" cy="5472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rcRect l="77979" t="2892" r="2978" b="85993"/>
          <a:stretch/>
        </p:blipFill>
        <p:spPr>
          <a:xfrm>
            <a:off x="6084720" y="189000"/>
            <a:ext cx="251964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Агадир – Марокканский пляжный курорт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Протяженные песчаные пляжи в бухте Агадира ежегодно привлекают в этот марокканский портовый город большое количество туристов из Европы. Для них вдоль побережья обустроена обширная зона комфортабельных отелей и пляжных комплексов. В 1960 г. мощное землетрясение не оставило от города камня на камне (за 15 сек.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0" t="24483" r="3522" b="2314"/>
          <a:stretch/>
        </p:blipFill>
        <p:spPr>
          <a:xfrm>
            <a:off x="117360" y="1052640"/>
            <a:ext cx="43801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Нигер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89000"/>
            <a:ext cx="4316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Большая часть территории занята песчаными пустынями. Растительность встречается крайне редко. Одна из самых больших и малонаселенных стран Африки. Река протекает лишь на крайнем Ю-З страны. Большие надежды в этой бедной стране возлагают на месторождения урана. С\х: просо, рис, хлопок, арахис, финики, овощи, животноводство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1403" t="24484" r="5241" b="2316"/>
          <a:stretch/>
        </p:blipFill>
        <p:spPr>
          <a:xfrm>
            <a:off x="69840" y="907920"/>
            <a:ext cx="4545000" cy="56898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rcRect l="74311" t="4304" r="1390" b="83728"/>
          <a:stretch/>
        </p:blipFill>
        <p:spPr>
          <a:xfrm>
            <a:off x="6372360" y="189000"/>
            <a:ext cx="2520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7:13:07Z</dcterms:created>
  <dc:creator>asd</dc:creator>
  <dc:description/>
  <dc:language>en-US</dc:language>
  <cp:lastModifiedBy>asd</cp:lastModifiedBy>
  <dcterms:modified xsi:type="dcterms:W3CDTF">2012-04-01T17:57:44Z</dcterms:modified>
  <cp:revision>5</cp:revision>
  <dc:subject/>
  <dc:title>Лесото</dc:title>
</cp:coreProperties>
</file>