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B83-E019-4467-8C3F-5F49437E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C8A-3DD3-4EC2-8918-D5801E4C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B43-8459-4BE2-9AF8-CB5C03F2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0B9-0BD7-48BA-B63D-5D7F9ACB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1449-DF6B-449E-B257-9BC5AE57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C049-83FA-457E-AE62-60148FD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2C36-B14F-46CE-8CB0-598D8129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88B7-7133-48B4-BB01-FC8DF61E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9DBC-62DC-4733-97AF-32D28F42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A41B-FCA4-4A8D-A188-F153DA7A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BFCD-B6B8-4AAC-8802-139F6FF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BD2-6D94-4104-A7E8-53612FB7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1160-3054-4DB8-86A0-EF5BE1D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4DCC-63CC-4A32-A4D7-B6062C8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25E9-7295-47D5-B522-F636E3A6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6A7B-EEFA-4248-8019-44EDFDF0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D36E-4CE8-4EA2-A7B0-B54F3BBD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B642-E22E-4C1F-9A4A-184CC914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8BDA-D71A-41E9-921D-C0D6978B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0E3D-73EB-4D2F-85AA-42571FD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F6D9-11B5-4177-9C4B-3CC0B3B2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53C1-6DC6-4213-9F38-AB7983BC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16C-96E5-4152-B538-BAB748FE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1065-6E3B-40DA-B458-36053FD9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5151-1CF4-46CA-8A28-DA56F53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0009-3157-4CE9-BBEA-2551B2F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D889-D804-4AAE-8F8D-0D148B28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1F86-DD83-417A-A280-7F87212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9334-77FE-446D-81B5-B7E55294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8239-983F-4227-909B-DB99AA66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64F1-B21B-4CBD-8016-071FF34E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EDA9-61B3-4A7F-A3A0-642A9525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5328-E049-4C90-B4BD-33613A26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725-9074-48E1-833F-979E172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F90F-290E-441A-80A5-53A511C8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0186-B274-4091-A3BE-196C2E6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82F3-636C-4B98-B3E6-E1345C7F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1BD8-3967-451E-AF3C-998E82C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2C33-578C-4788-8475-7748324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E986-5A34-483F-87E3-5057CEB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E9F7-4194-44EC-A404-C666B6E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003C-4318-4CF7-AAB1-6C603FC9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DA06-4C28-4F12-BC1B-104F917D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AB0A0-B355-40E7-BB62-A8FF88A1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77D-4CC2-4D89-9D39-294095C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E64B-F973-4D04-937D-40CDD86A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9263-49B7-4C5B-95EC-31A1C1D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69253-52BE-4F20-A7DE-55FCF109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E96E0-68C9-4A61-AFAE-3545984F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95A7D-6939-4C9C-BDF4-CB45EF7B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A0A2-B664-44C7-9DDA-C2CCDAB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0CEB7-A1BB-4559-B598-DFED829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0C9E-1355-4920-9022-9CE6F55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2AF4-4B3A-4659-8774-3966E39E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F834-330C-4CC7-87BB-5F05C774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F8D-1938-4710-9ABE-0EF192C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DBBB1-9D4F-4302-BDCC-9284E44E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D174-578B-4D61-A023-282A786C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FA4B-5035-4DD4-B690-734299C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965E-54FA-4B29-BE92-83EB8914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406A-64A9-4687-9710-9F124EE1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6E48-01CF-440B-BD33-84373471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2BFC1-15C1-4E86-BEC8-113B59E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BCC2B-FEAF-4877-A227-B06F5EF0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4BF07-785B-4A14-BCA7-880BCFDE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EBD44-6675-4034-B89A-0561C03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634-908A-4D99-AFB6-78CC3F5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AB0E-7BBE-49C0-9398-18711ED1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5D04-19B6-4803-ACAD-FD643D11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6780E-DE97-4BC7-BCF5-640D9038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BA87-ACE4-40D9-B0F3-EE97FD6D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912B-CF64-40F5-A229-AEA4CF53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52D0D-5B13-4A35-A218-E6C4575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319C3-575C-4421-BB4C-F70E3C7E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A8ABF-C0D9-44B0-8C5F-E231EFE8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26EE0-07D3-41C4-8395-436900F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C8035-C578-4F21-BCFC-31F3894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FB3-69B4-42AE-899C-7742FAE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60186-D9E5-40FD-B620-0CD7F9E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54B8-42CC-4164-A4C1-33F84ECE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6DFD-77FF-4E1D-B700-1BA766B7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1F33F-DA37-40D0-A1F1-6FE4059C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431F-0890-4AB2-B106-BA6D0346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86635-4B77-4AD2-8959-2A914029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D0EB-9382-4553-85EE-A892D44F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E54F9-AA10-40DC-9987-FC41073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9BCDA-2546-4339-87D4-6FC87268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1F5A-A20C-40F3-8B63-62375088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532-1476-4672-AC0A-AADC9A7A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C6E77-F602-4252-AA2B-961F63A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3523-E7A5-4435-89B1-FE6D9AD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A9115-9850-4B0E-B9C4-40E66FF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56868-BC9A-4F47-ABCD-72F5B3B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4AC3C-8BA1-4C06-819D-DBC56049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FD919-D2B0-4B2E-9511-7AFFB686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CD34C-4037-4A80-95EE-67BEB89D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5CC-A1D2-456B-B02C-7084D0B340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966C-9DA4-470E-8AD0-038CF9DA06D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BD7E-B6AC-49A9-83AF-BFC7BF149C2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11A0-80C9-43D0-A260-7E3A11EF854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F31-7498-4297-A466-CAA9063B64D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0DE6-6061-4235-9BC8-608C8193CB6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FFD9-FB0C-4940-977C-6E5B5EB0D44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4E2C-83B2-4681-86A1-402ECC16D34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0" y="1643040"/>
            <a:ext cx="428616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ea0b0"/>
                </a:solidFill>
                <a:latin typeface="Times New Roman"/>
              </a:rPr>
              <a:t>ПРОКАРИОТЫ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556240" y="4071960"/>
            <a:ext cx="3054240" cy="159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биологии Антонова Н.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Рисунок 6" descr="yersinia.jpg"/>
          <p:cNvPicPr/>
          <p:nvPr/>
        </p:nvPicPr>
        <p:blipFill>
          <a:blip r:embed="rId1"/>
          <a:stretch/>
        </p:blipFill>
        <p:spPr>
          <a:xfrm>
            <a:off x="237960" y="1523880"/>
            <a:ext cx="4205520" cy="545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филактика заболеваний, вызываемых бактериям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употреблять сырую в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ща должна подвергаться высокотемпературной обрабо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вощи и фрукты необходимо тщательно мыть перед употребл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ичтожать переносчиков возбудителей заболе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лать профилактические приви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олировать заболевших, а помещения подвергать дез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Размножение прокарио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4286160"/>
            <a:ext cx="404028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ычно прокариоты размножаются делением на д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85840" y="157176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еблагоприятных условиях образуются сп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Содержимое 6" descr="445.jpg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22622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7" descr="Bacillus_subtilis_Spore.jpg"/>
          <p:cNvPicPr/>
          <p:nvPr/>
        </p:nvPicPr>
        <p:blipFill>
          <a:blip r:embed="rId2"/>
          <a:stretch/>
        </p:blipFill>
        <p:spPr>
          <a:xfrm>
            <a:off x="4786200" y="307188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Спора"/>
          <p:cNvPicPr/>
          <p:nvPr/>
        </p:nvPicPr>
        <p:blipFill>
          <a:blip r:embed="rId1"/>
          <a:srcRect l="1837" t="9381" r="0" b="36392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бразование спо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826920" y="1125360"/>
            <a:ext cx="676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c8c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жатие цитоплаз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c8c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зование плотной оболоч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609480" y="838080"/>
            <a:ext cx="8077320" cy="1312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лассификация прокариот по способу пит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685800" y="2438280"/>
            <a:ext cx="2742840" cy="1876680"/>
            <a:chOff x="685800" y="2438280"/>
            <a:chExt cx="2742840" cy="1876680"/>
          </a:xfrm>
        </p:grpSpPr>
        <p:sp>
          <p:nvSpPr>
            <p:cNvPr id="416" name="Text Box 4"/>
            <p:cNvSpPr/>
            <p:nvPr/>
          </p:nvSpPr>
          <p:spPr>
            <a:xfrm>
              <a:off x="685800" y="373356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гетеротроф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 flipH="1">
              <a:off x="1828440" y="243828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6"/>
          <p:cNvGrpSpPr/>
          <p:nvPr/>
        </p:nvGrpSpPr>
        <p:grpSpPr>
          <a:xfrm>
            <a:off x="5181480" y="2286000"/>
            <a:ext cx="2971800" cy="1953000"/>
            <a:chOff x="5181480" y="2286000"/>
            <a:chExt cx="2971800" cy="1953000"/>
          </a:xfrm>
        </p:grpSpPr>
        <p:sp>
          <p:nvSpPr>
            <p:cNvPr id="419" name="Text Box 7"/>
            <p:cNvSpPr/>
            <p:nvPr/>
          </p:nvSpPr>
          <p:spPr>
            <a:xfrm>
              <a:off x="5562720" y="3657600"/>
              <a:ext cx="259056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автотроф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8"/>
            <p:cNvSpPr/>
            <p:nvPr/>
          </p:nvSpPr>
          <p:spPr>
            <a:xfrm>
              <a:off x="5181480" y="228600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28600" y="4419720"/>
            <a:ext cx="2057400" cy="916920"/>
            <a:chOff x="228600" y="4419720"/>
            <a:chExt cx="2057400" cy="916920"/>
          </a:xfrm>
        </p:grpSpPr>
        <p:sp>
          <p:nvSpPr>
            <p:cNvPr id="422" name="Text Box 9"/>
            <p:cNvSpPr/>
            <p:nvPr/>
          </p:nvSpPr>
          <p:spPr>
            <a:xfrm>
              <a:off x="228600" y="4876920"/>
              <a:ext cx="205740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апротроф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>
              <a:off x="990720" y="4419720"/>
              <a:ext cx="457200" cy="398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Group 22"/>
          <p:cNvGrpSpPr/>
          <p:nvPr/>
        </p:nvGrpSpPr>
        <p:grpSpPr>
          <a:xfrm>
            <a:off x="2514600" y="4419720"/>
            <a:ext cx="1841040" cy="1301760"/>
            <a:chOff x="2514600" y="4419720"/>
            <a:chExt cx="1841040" cy="1301760"/>
          </a:xfrm>
        </p:grpSpPr>
        <p:sp>
          <p:nvSpPr>
            <p:cNvPr id="425" name="Text Box 11"/>
            <p:cNvSpPr/>
            <p:nvPr/>
          </p:nvSpPr>
          <p:spPr>
            <a:xfrm>
              <a:off x="2514600" y="4896000"/>
              <a:ext cx="184104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аразиты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18"/>
            <p:cNvSpPr/>
            <p:nvPr/>
          </p:nvSpPr>
          <p:spPr>
            <a:xfrm>
              <a:off x="2667600" y="4419720"/>
              <a:ext cx="613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Group 26"/>
          <p:cNvGrpSpPr/>
          <p:nvPr/>
        </p:nvGrpSpPr>
        <p:grpSpPr>
          <a:xfrm>
            <a:off x="4572000" y="4343400"/>
            <a:ext cx="1981080" cy="1359000"/>
            <a:chOff x="4572000" y="4343400"/>
            <a:chExt cx="1981080" cy="1359000"/>
          </a:xfrm>
        </p:grpSpPr>
        <p:sp>
          <p:nvSpPr>
            <p:cNvPr id="428" name="Text Box 15"/>
            <p:cNvSpPr/>
            <p:nvPr/>
          </p:nvSpPr>
          <p:spPr>
            <a:xfrm>
              <a:off x="4572000" y="4876920"/>
              <a:ext cx="198108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Фототрофы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 flipH="1">
              <a:off x="5714640" y="4343400"/>
              <a:ext cx="685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Group 27"/>
          <p:cNvGrpSpPr/>
          <p:nvPr/>
        </p:nvGrpSpPr>
        <p:grpSpPr>
          <a:xfrm>
            <a:off x="6858000" y="4362480"/>
            <a:ext cx="1981080" cy="1339920"/>
            <a:chOff x="6858000" y="4362480"/>
            <a:chExt cx="1981080" cy="1339920"/>
          </a:xfrm>
        </p:grpSpPr>
        <p:sp>
          <p:nvSpPr>
            <p:cNvPr id="431" name="Text Box 16"/>
            <p:cNvSpPr/>
            <p:nvPr/>
          </p:nvSpPr>
          <p:spPr>
            <a:xfrm>
              <a:off x="6858000" y="4876920"/>
              <a:ext cx="198108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Хемотрофы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0"/>
            <p:cNvSpPr/>
            <p:nvPr/>
          </p:nvSpPr>
          <p:spPr>
            <a:xfrm>
              <a:off x="7238880" y="4362480"/>
              <a:ext cx="53352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тношение к кислород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4" descr=""/>
          <p:cNvPicPr/>
          <p:nvPr/>
        </p:nvPicPr>
        <p:blipFill>
          <a:blip r:embed="rId2"/>
          <a:stretch/>
        </p:blipFill>
        <p:spPr>
          <a:xfrm>
            <a:off x="706320" y="1420920"/>
            <a:ext cx="780444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начение бактер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вляются возбудителями заболеваний (патогенные бактер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браживают кисло-молочные продукты         ( бродильные бактер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вут в организмах растений и животных, принося им пользу ( бактерии – симбионты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лагают органические и неорганические остатки (бактерии – разрушите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едают других прокариот (бактерии – хищники)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кариоты не содержат я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ледственная информация представлена  ДНК ( кольцевой хромосом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сти строения, разнообразные типы питания позволили прокариотам завоевать все среды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профилактики заболеваний необходимо соблюдать меры предосторо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Лампа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900000" y="110664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Times New Roman"/>
              </a:rPr>
              <a:t>ПРОКАРИОТЫ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657600" y="3214800"/>
            <a:ext cx="5105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ль много микроско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м тайностей открыл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609480" y="838080"/>
            <a:ext cx="807732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ровни клеточной организ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Group 10"/>
          <p:cNvGrpSpPr/>
          <p:nvPr/>
        </p:nvGrpSpPr>
        <p:grpSpPr>
          <a:xfrm>
            <a:off x="762120" y="1720800"/>
            <a:ext cx="2742840" cy="1876680"/>
            <a:chOff x="762120" y="1720800"/>
            <a:chExt cx="2742840" cy="1876680"/>
          </a:xfrm>
        </p:grpSpPr>
        <p:sp>
          <p:nvSpPr>
            <p:cNvPr id="348" name="Text Box 3"/>
            <p:cNvSpPr/>
            <p:nvPr/>
          </p:nvSpPr>
          <p:spPr>
            <a:xfrm>
              <a:off x="762120" y="301608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прокариот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 flipH="1">
              <a:off x="1904760" y="172080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11"/>
          <p:cNvGrpSpPr/>
          <p:nvPr/>
        </p:nvGrpSpPr>
        <p:grpSpPr>
          <a:xfrm>
            <a:off x="5181480" y="1676520"/>
            <a:ext cx="2971800" cy="1960560"/>
            <a:chOff x="5181480" y="1676520"/>
            <a:chExt cx="2971800" cy="1960560"/>
          </a:xfrm>
        </p:grpSpPr>
        <p:sp>
          <p:nvSpPr>
            <p:cNvPr id="351" name="Text Box 4"/>
            <p:cNvSpPr/>
            <p:nvPr/>
          </p:nvSpPr>
          <p:spPr>
            <a:xfrm>
              <a:off x="5562720" y="3048120"/>
              <a:ext cx="2590560" cy="5889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эукариот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>
              <a:off x="5181480" y="167652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Text Box 7"/>
          <p:cNvSpPr/>
          <p:nvPr/>
        </p:nvSpPr>
        <p:spPr>
          <a:xfrm>
            <a:off x="142920" y="4643280"/>
            <a:ext cx="1800360" cy="703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стоящие бакте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2286000" y="4643280"/>
            <a:ext cx="222876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рхебакт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4643280" y="464328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5940360" y="573264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б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858000" y="4643280"/>
            <a:ext cx="2124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125892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923560" y="378612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20"/>
          <p:cNvSpPr/>
          <p:nvPr/>
        </p:nvSpPr>
        <p:spPr>
          <a:xfrm flipH="1">
            <a:off x="558000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7241400" y="374796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22"/>
          <p:cNvSpPr/>
          <p:nvPr/>
        </p:nvSpPr>
        <p:spPr>
          <a:xfrm flipH="1">
            <a:off x="6587640" y="3789360"/>
            <a:ext cx="25560" cy="180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714240" y="5715000"/>
            <a:ext cx="3000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сифотобакт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2101680" y="3714840"/>
            <a:ext cx="46080" cy="2000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карио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428760" y="1356840"/>
            <a:ext cx="935856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0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кариоты – организмы, клетки которых не имеют яд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Содержимое 9" descr="0027.jpg"/>
          <p:cNvPicPr/>
          <p:nvPr/>
        </p:nvPicPr>
        <p:blipFill>
          <a:blip r:embed="rId1"/>
          <a:stretch/>
        </p:blipFill>
        <p:spPr>
          <a:xfrm>
            <a:off x="1857240" y="221472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358120" cy="113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троение бактериальной клет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9" name="Рисунок 7" descr="09010601.gif"/>
          <p:cNvPicPr/>
          <p:nvPr/>
        </p:nvPicPr>
        <p:blipFill>
          <a:blip r:embed="rId1"/>
          <a:stretch/>
        </p:blipFill>
        <p:spPr>
          <a:xfrm>
            <a:off x="357120" y="1428840"/>
            <a:ext cx="8248680" cy="47862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8"/>
          <p:cNvSpPr/>
          <p:nvPr/>
        </p:nvSpPr>
        <p:spPr>
          <a:xfrm>
            <a:off x="6500880" y="4786200"/>
            <a:ext cx="20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псула (из слиз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5435280" y="550080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14"/>
          <p:cNvSpPr/>
          <p:nvPr/>
        </p:nvSpPr>
        <p:spPr>
          <a:xfrm>
            <a:off x="3500280" y="4500720"/>
            <a:ext cx="1928880" cy="118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6215040" y="5143680"/>
            <a:ext cx="200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еточная ст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24"/>
          <p:cNvSpPr/>
          <p:nvPr/>
        </p:nvSpPr>
        <p:spPr>
          <a:xfrm>
            <a:off x="2000160" y="414324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Скругленный прямоугольник 25"/>
          <p:cNvSpPr/>
          <p:nvPr/>
        </p:nvSpPr>
        <p:spPr>
          <a:xfrm flipV="1">
            <a:off x="2214720" y="4642560"/>
            <a:ext cx="142560" cy="7164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Скругленный прямоугольник 26"/>
          <p:cNvSpPr/>
          <p:nvPr/>
        </p:nvSpPr>
        <p:spPr>
          <a:xfrm>
            <a:off x="5072040" y="3571920"/>
            <a:ext cx="142920" cy="712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Скругленный прямоугольник 27"/>
          <p:cNvSpPr/>
          <p:nvPr/>
        </p:nvSpPr>
        <p:spPr>
          <a:xfrm>
            <a:off x="4714920" y="4071960"/>
            <a:ext cx="142920" cy="7128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Box 28"/>
          <p:cNvSpPr/>
          <p:nvPr/>
        </p:nvSpPr>
        <p:spPr>
          <a:xfrm>
            <a:off x="439200" y="1500120"/>
            <a:ext cx="133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ас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татель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Прямая соединительная линия 29"/>
          <p:cNvSpPr/>
          <p:nvPr/>
        </p:nvSpPr>
        <p:spPr>
          <a:xfrm>
            <a:off x="928080" y="2357280"/>
            <a:ext cx="1143000" cy="18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Box 32"/>
          <p:cNvSpPr/>
          <p:nvPr/>
        </p:nvSpPr>
        <p:spPr>
          <a:xfrm>
            <a:off x="434160" y="46432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Прямая соединительная линия 33"/>
          <p:cNvSpPr/>
          <p:nvPr/>
        </p:nvSpPr>
        <p:spPr>
          <a:xfrm>
            <a:off x="571680" y="4143240"/>
            <a:ext cx="712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Прямая соединительная линия 37"/>
          <p:cNvSpPr/>
          <p:nvPr/>
        </p:nvSpPr>
        <p:spPr>
          <a:xfrm flipH="1">
            <a:off x="642600" y="3429000"/>
            <a:ext cx="14292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Box 43"/>
          <p:cNvSpPr/>
          <p:nvPr/>
        </p:nvSpPr>
        <p:spPr>
          <a:xfrm>
            <a:off x="4072320" y="1428840"/>
            <a:ext cx="232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ьцевая хромосо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0" y="0"/>
            <a:ext cx="88581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Кокки (сферическ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714240" y="5715000"/>
            <a:ext cx="857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ывают заболевания верхних дыхательных путей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рункулез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щевые от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Рисунок 6" descr="untitled.bmp"/>
          <p:cNvPicPr/>
          <p:nvPr/>
        </p:nvPicPr>
        <p:blipFill>
          <a:blip r:embed="rId1"/>
          <a:stretch/>
        </p:blipFill>
        <p:spPr>
          <a:xfrm>
            <a:off x="1000080" y="1571760"/>
            <a:ext cx="7215120" cy="39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87" name="TextBox 7"/>
          <p:cNvSpPr/>
          <p:nvPr/>
        </p:nvSpPr>
        <p:spPr>
          <a:xfrm>
            <a:off x="1714680" y="1928880"/>
            <a:ext cx="100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4357800" y="5000760"/>
            <a:ext cx="15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ци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5857920" y="1857240"/>
            <a:ext cx="214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фило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1643040" y="5000760"/>
            <a:ext cx="1785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пто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Box 11"/>
          <p:cNvSpPr/>
          <p:nvPr/>
        </p:nvSpPr>
        <p:spPr>
          <a:xfrm>
            <a:off x="3717000" y="1928880"/>
            <a:ext cx="146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плокок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Box 12"/>
          <p:cNvSpPr/>
          <p:nvPr/>
        </p:nvSpPr>
        <p:spPr>
          <a:xfrm>
            <a:off x="2714760" y="1571760"/>
            <a:ext cx="3786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Прямоугольник 14"/>
          <p:cNvSpPr/>
          <p:nvPr/>
        </p:nvSpPr>
        <p:spPr>
          <a:xfrm>
            <a:off x="6572160" y="3857760"/>
            <a:ext cx="1500120" cy="14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Бациллы (палочковидны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4572000" y="4572000"/>
            <a:ext cx="4038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вляются возбудителями чумы, сибирской язвы, столбняка, брюшного тифа, туберкуле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Рисунок 6" descr="bacteria5.jpg"/>
          <p:cNvPicPr/>
          <p:nvPr/>
        </p:nvPicPr>
        <p:blipFill>
          <a:blip r:embed="rId1"/>
          <a:stretch/>
        </p:blipFill>
        <p:spPr>
          <a:xfrm>
            <a:off x="357120" y="1785960"/>
            <a:ext cx="3611520" cy="43578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7" descr="02.jpg"/>
          <p:cNvPicPr/>
          <p:nvPr/>
        </p:nvPicPr>
        <p:blipFill>
          <a:blip r:embed="rId2"/>
          <a:stretch/>
        </p:blipFill>
        <p:spPr>
          <a:xfrm>
            <a:off x="4286160" y="1643040"/>
            <a:ext cx="445788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0" y="0"/>
            <a:ext cx="9144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Спириллы (спиралевидны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5111640" y="5715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reponema pallid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будитель сифили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Рисунок 6" descr="spirilla.jpg"/>
          <p:cNvPicPr/>
          <p:nvPr/>
        </p:nvPicPr>
        <p:blipFill>
          <a:blip r:embed="rId1"/>
          <a:stretch/>
        </p:blipFill>
        <p:spPr>
          <a:xfrm>
            <a:off x="428760" y="1785960"/>
            <a:ext cx="5000400" cy="37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0" y="0"/>
            <a:ext cx="9144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ых клеток. Вибрионы (дугообразны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85840" y="557208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brio cholera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являет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будителем холе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Рисунок 6" descr="Vibrio_vulnificus_01.png"/>
          <p:cNvPicPr/>
          <p:nvPr/>
        </p:nvPicPr>
        <p:blipFill>
          <a:blip r:embed="rId1"/>
          <a:stretch/>
        </p:blipFill>
        <p:spPr>
          <a:xfrm>
            <a:off x="3214800" y="2000160"/>
            <a:ext cx="4929120" cy="32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1:05:05Z</dcterms:created>
  <dc:creator>Васюков</dc:creator>
  <dc:description/>
  <dc:language>en-US</dc:language>
  <cp:lastModifiedBy>Admin</cp:lastModifiedBy>
  <dcterms:modified xsi:type="dcterms:W3CDTF">2010-09-13T17:08:03Z</dcterms:modified>
  <cp:revision>23</cp:revision>
  <dc:subject/>
  <dc:title>Презентация PowerPoint</dc:title>
</cp:coreProperties>
</file>