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B7E-3B88-420E-8217-14BF1E3A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65D-E266-46C1-A5CD-B74904B2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126-B1D1-4906-9D1B-94F1BF67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0C9-BBD1-439E-AE00-79FECEF6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58FB-74D5-4B7F-AC90-2057CB63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068E-6773-4752-8F7E-F9B5BC3D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5610-67D2-4346-A999-2B589482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784-4C7E-4417-B0A8-133E9231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DCBF-2A60-4CB3-92EB-FD99AC4F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48A4-5429-4E0E-81E5-36C7099D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B535-D2FB-49A9-BB87-6FF58212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982-F453-4D6F-A978-A227F3E3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59B2-292C-4B4B-95FF-00DA1499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C266-28D8-4D98-9945-83F2998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FC7B-6531-47DE-B28E-8846C430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EE12-B043-4135-BCE9-7E78D54D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665D-35FD-486F-A832-317B4BA9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1C5F0-11AB-46A8-9D09-2459293D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FED6E-A903-4F34-AF86-4F48021A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D20B-7F9B-4AD5-BCE5-5F9091B6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5EB9-24FB-4DD0-9E16-0C3570B8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9C41-CEBA-41D4-8AD5-6AF3B2F6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914-F5DD-4B95-9A88-731F2FC4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A069-3DB3-43D5-91A9-D917F010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159A-45A9-412C-80A1-A84A5C81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5A49-1470-456E-8BB2-3515E2F3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CA61-2014-48CA-8099-4748B3F4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5DF6E-7048-4D16-A367-5756BC1C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22487-7EAE-407D-88FC-EE3D03F6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95A0B-81F3-4F1D-82CE-EA223B9A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1E9EE-CF0E-4C70-AD93-5DA6779E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DB8C-D0E0-42C9-A314-3C3512DE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CD7D-38C1-403B-A5DA-02AB2130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76B-08D8-4C4A-BAF4-00F52E62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70B1F-CCE0-45E0-830E-8307BDEE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137C4-983F-4027-99E7-7077193D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8797-0EC2-4F6A-BDFF-D9B2E9E8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8711A-B03A-4A2C-A536-45EE0304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A39E-BAA2-4087-9086-0B78E1B0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2A2D-3476-4053-BA27-687C3C4F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50EE7-B7FC-465D-9009-38CA8741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21F0-B28C-48C5-8323-2C1BEF07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9508-4AA4-4C8F-827B-E6082C38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C3FE4-4F3C-4420-9CC8-115E0BAA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766-EEE8-4509-80F0-DE7EE630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23F02-F7D2-4C50-BCDB-E512944A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258EF-68EB-4DA4-98E4-7651CA8E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F006F-8B5D-41D6-9C23-3AD36BC5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4FD56-8866-45B5-A52E-28B4C371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28516-CC88-44E7-9421-25B1FD67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274C9-42D9-42BA-9596-2139BD10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A9620-56B9-45AF-BA28-38EB1F5D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6E7B-A9CE-4E31-A59F-A80780DB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73054-7AD4-43BE-A6D3-D099E38A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9497D-42DA-4209-8610-EFA1573F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C30-ED89-4136-9A73-2D204EDF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68BB-6E73-4DD1-9E84-CB714D39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E074B-F74E-44A5-855B-25B93BB7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9B84-8CBC-4A5B-9F2E-B6D261B1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00319-5D41-48B7-9750-1008F721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B9090-1856-40B4-8B4B-D5A6893E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5C85A-B77B-4116-964C-3596C12B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16B5A-B4A1-4ABF-9ECB-3A39BC03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FB6A5-A0C9-4ED1-B0CC-17CE8042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254D5-E4B3-49E9-87DA-AF7C577C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00DA6-5AD0-47CB-99B6-D6F9DAC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1FF-C0C6-4FC4-A2FD-E403660B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456C-178B-4EBD-A422-35A4F038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10B90-578A-4EF0-BBB5-DEAE537C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E88EE-8CEC-4FE7-BA36-31EEECCD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97335-201F-413E-8A91-579DCFDC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9D137-BE6F-4175-B852-A41C22F7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1209D-F230-48C7-B1FA-87840794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87F41-649A-4BBC-A017-4BC97E2A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B415E-4253-4141-A8D6-C6472D2D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7D900-F2EC-42AA-8644-04B2AF4C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9986F-E6CA-4351-9105-1DBA141E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442-D1FB-4A48-A5FB-8BB88641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BB3D5-4B42-456B-AA41-A63A4CA0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DE19A-98EE-46C5-8881-8E4A385E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57A50-6438-4254-A685-A2C71B12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99F26-4B50-45E0-933C-BDAD984A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FC3A-2FBB-40E2-9F91-08B0AF71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5A7C7-0CC2-4E1E-BFD0-7B00399D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C91C0-0E5C-4DDF-8755-0C7BBEA9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5FB36-ABC4-4787-9D01-4AF0BA68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2AE96-A4ED-4B3C-B2FC-B3DEED29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ED6A6-802F-4E46-AE5B-731BDB9D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FD2-1A65-4AD5-BA92-C227A644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9FA23-223D-48E9-9ABE-D958C0C1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43971-1ABF-4911-9FA5-0EA8D48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288E1-5DFD-4DFC-803B-9907295A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EBAD1-5220-4F97-BFAC-4E5ABECB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8B254-2BBA-40C2-BE15-BB6AF076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12DCE-81E8-4E1F-AB7A-990B2FD2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6DB3E-8792-41F7-B649-42C83D56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1DE-1975-484A-A1A0-57CA3215485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7816-8849-4352-B0C3-ADB19B4FD6B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1CC4-693B-4687-8395-AD10E617F36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66B3-E2A7-470B-A5A8-72A51B2AEC9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0B3B-09AA-4190-9AE8-270F8C1DBC0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9AA5-B973-4326-80D4-D66C9FFE806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4FA1-C960-4389-8692-0BA35BCE13D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3087-084B-4E82-A471-166966938B2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0" y="1643040"/>
            <a:ext cx="4286160" cy="122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ea0b0"/>
                </a:solidFill>
                <a:latin typeface="Times New Roman"/>
              </a:rPr>
              <a:t>ПРОКАРИОТЫ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556240" y="4071960"/>
            <a:ext cx="3054240" cy="159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биологии Антонова Н.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Рисунок 6" descr="yersinia.jpg"/>
          <p:cNvPicPr/>
          <p:nvPr/>
        </p:nvPicPr>
        <p:blipFill>
          <a:blip r:embed="rId1"/>
          <a:stretch/>
        </p:blipFill>
        <p:spPr>
          <a:xfrm>
            <a:off x="237960" y="1523880"/>
            <a:ext cx="4205520" cy="545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филактика заболеваний, вызываемых бактериям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употреблять сырую в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ища должна подвергаться высокотемпературной обрабо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вощи и фрукты необходимо тщательно мыть перед употребл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ничтожать переносчиков возбудителей заболе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лать профилактические приви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олировать заболевших, а помещения подвергать дезинф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Размножение прокарио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4286160"/>
            <a:ext cx="404028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ычно прокариоты размножаются делением на дв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85840" y="157176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неблагоприятных условиях образуются сп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Содержимое 6" descr="445.jpg"/>
          <p:cNvPicPr/>
          <p:nvPr/>
        </p:nvPicPr>
        <p:blipFill>
          <a:blip r:embed="rId1"/>
          <a:stretch/>
        </p:blipFill>
        <p:spPr>
          <a:xfrm>
            <a:off x="428760" y="1500120"/>
            <a:ext cx="4071960" cy="226224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7" descr="Bacillus_subtilis_Spore.jpg"/>
          <p:cNvPicPr/>
          <p:nvPr/>
        </p:nvPicPr>
        <p:blipFill>
          <a:blip r:embed="rId2"/>
          <a:stretch/>
        </p:blipFill>
        <p:spPr>
          <a:xfrm>
            <a:off x="4786200" y="307188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Спора"/>
          <p:cNvPicPr/>
          <p:nvPr/>
        </p:nvPicPr>
        <p:blipFill>
          <a:blip r:embed="rId1"/>
          <a:srcRect l="1837" t="9381" r="0" b="36392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4"/>
          <p:cNvSpPr/>
          <p:nvPr/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бразование спо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826920" y="1125360"/>
            <a:ext cx="6769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c8c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жатие цитоплаз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c8c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разование плотной оболоч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609480" y="838080"/>
            <a:ext cx="8077320" cy="1312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лассификация прокариот по способу пит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685800" y="2438280"/>
            <a:ext cx="2742840" cy="1876680"/>
            <a:chOff x="685800" y="2438280"/>
            <a:chExt cx="2742840" cy="1876680"/>
          </a:xfrm>
        </p:grpSpPr>
        <p:sp>
          <p:nvSpPr>
            <p:cNvPr id="416" name="Text Box 4"/>
            <p:cNvSpPr/>
            <p:nvPr/>
          </p:nvSpPr>
          <p:spPr>
            <a:xfrm>
              <a:off x="685800" y="3733560"/>
              <a:ext cx="266688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гетеротроф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 flipH="1">
              <a:off x="1828440" y="2438280"/>
              <a:ext cx="160020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6"/>
          <p:cNvGrpSpPr/>
          <p:nvPr/>
        </p:nvGrpSpPr>
        <p:grpSpPr>
          <a:xfrm>
            <a:off x="5181480" y="2286000"/>
            <a:ext cx="2971800" cy="1953000"/>
            <a:chOff x="5181480" y="2286000"/>
            <a:chExt cx="2971800" cy="1953000"/>
          </a:xfrm>
        </p:grpSpPr>
        <p:sp>
          <p:nvSpPr>
            <p:cNvPr id="419" name="Text Box 7"/>
            <p:cNvSpPr/>
            <p:nvPr/>
          </p:nvSpPr>
          <p:spPr>
            <a:xfrm>
              <a:off x="5562720" y="3657600"/>
              <a:ext cx="259056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автотроф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8"/>
            <p:cNvSpPr/>
            <p:nvPr/>
          </p:nvSpPr>
          <p:spPr>
            <a:xfrm>
              <a:off x="5181480" y="2286000"/>
              <a:ext cx="152424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28600" y="4419720"/>
            <a:ext cx="2057400" cy="916920"/>
            <a:chOff x="228600" y="4419720"/>
            <a:chExt cx="2057400" cy="916920"/>
          </a:xfrm>
        </p:grpSpPr>
        <p:sp>
          <p:nvSpPr>
            <p:cNvPr id="422" name="Text Box 9"/>
            <p:cNvSpPr/>
            <p:nvPr/>
          </p:nvSpPr>
          <p:spPr>
            <a:xfrm>
              <a:off x="228600" y="4876920"/>
              <a:ext cx="205740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апротроф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>
              <a:off x="990720" y="4419720"/>
              <a:ext cx="457200" cy="398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" name="Group 22"/>
          <p:cNvGrpSpPr/>
          <p:nvPr/>
        </p:nvGrpSpPr>
        <p:grpSpPr>
          <a:xfrm>
            <a:off x="2514600" y="4419720"/>
            <a:ext cx="1841040" cy="1301760"/>
            <a:chOff x="2514600" y="4419720"/>
            <a:chExt cx="1841040" cy="1301760"/>
          </a:xfrm>
        </p:grpSpPr>
        <p:sp>
          <p:nvSpPr>
            <p:cNvPr id="425" name="Text Box 11"/>
            <p:cNvSpPr/>
            <p:nvPr/>
          </p:nvSpPr>
          <p:spPr>
            <a:xfrm>
              <a:off x="2514600" y="4896000"/>
              <a:ext cx="1841040" cy="82548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аразиты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18"/>
            <p:cNvSpPr/>
            <p:nvPr/>
          </p:nvSpPr>
          <p:spPr>
            <a:xfrm>
              <a:off x="2667600" y="4419720"/>
              <a:ext cx="61380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Group 26"/>
          <p:cNvGrpSpPr/>
          <p:nvPr/>
        </p:nvGrpSpPr>
        <p:grpSpPr>
          <a:xfrm>
            <a:off x="4572000" y="4343400"/>
            <a:ext cx="1981080" cy="1359000"/>
            <a:chOff x="4572000" y="4343400"/>
            <a:chExt cx="1981080" cy="1359000"/>
          </a:xfrm>
        </p:grpSpPr>
        <p:sp>
          <p:nvSpPr>
            <p:cNvPr id="428" name="Text Box 15"/>
            <p:cNvSpPr/>
            <p:nvPr/>
          </p:nvSpPr>
          <p:spPr>
            <a:xfrm>
              <a:off x="4572000" y="4876920"/>
              <a:ext cx="1981080" cy="82548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Фототрофы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 flipH="1">
              <a:off x="5714640" y="4343400"/>
              <a:ext cx="68580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Group 27"/>
          <p:cNvGrpSpPr/>
          <p:nvPr/>
        </p:nvGrpSpPr>
        <p:grpSpPr>
          <a:xfrm>
            <a:off x="6858000" y="4362480"/>
            <a:ext cx="1981080" cy="1339920"/>
            <a:chOff x="6858000" y="4362480"/>
            <a:chExt cx="1981080" cy="1339920"/>
          </a:xfrm>
        </p:grpSpPr>
        <p:sp>
          <p:nvSpPr>
            <p:cNvPr id="431" name="Text Box 16"/>
            <p:cNvSpPr/>
            <p:nvPr/>
          </p:nvSpPr>
          <p:spPr>
            <a:xfrm>
              <a:off x="6858000" y="4876920"/>
              <a:ext cx="1981080" cy="82548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Хемотрофы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0"/>
            <p:cNvSpPr/>
            <p:nvPr/>
          </p:nvSpPr>
          <p:spPr>
            <a:xfrm>
              <a:off x="7238880" y="4362480"/>
              <a:ext cx="53352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тношение к кислород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435" name="Содержимое 4" descr=""/>
          <p:cNvPicPr/>
          <p:nvPr/>
        </p:nvPicPr>
        <p:blipFill>
          <a:blip r:embed="rId2"/>
          <a:stretch/>
        </p:blipFill>
        <p:spPr>
          <a:xfrm>
            <a:off x="706320" y="1420920"/>
            <a:ext cx="7804440" cy="48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начение бактери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вляются возбудителями заболеваний (патогенные бактер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браживают кисло-молочные продукты         ( бродильные бактер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ивут в организмах растений и животных, принося им пользу ( бактерии – симбионты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лагают органические и неорганические остатки (бактерии – разрушите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едают других прокариот (бактерии – хищники)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кариоты не содержат я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следственная информация представлена  ДНК ( кольцевой хромосом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сти строения, разнообразные типы питания позволили прокариотам завоевать все среды об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профилактики заболеваний необходимо соблюдать меры предосторож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Лампа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"/>
          <p:cNvSpPr/>
          <p:nvPr/>
        </p:nvSpPr>
        <p:spPr>
          <a:xfrm>
            <a:off x="900000" y="1106640"/>
            <a:ext cx="72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Times New Roman"/>
              </a:rPr>
              <a:t>ПРОКАРИОТЫ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657600" y="3214800"/>
            <a:ext cx="5105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ль много микроско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м тайностей открыл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М.В. Ломоно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609480" y="838080"/>
            <a:ext cx="8077320" cy="703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ровни клеточной организа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Group 10"/>
          <p:cNvGrpSpPr/>
          <p:nvPr/>
        </p:nvGrpSpPr>
        <p:grpSpPr>
          <a:xfrm>
            <a:off x="762120" y="1720800"/>
            <a:ext cx="2742840" cy="1876680"/>
            <a:chOff x="762120" y="1720800"/>
            <a:chExt cx="2742840" cy="1876680"/>
          </a:xfrm>
        </p:grpSpPr>
        <p:sp>
          <p:nvSpPr>
            <p:cNvPr id="348" name="Text Box 3"/>
            <p:cNvSpPr/>
            <p:nvPr/>
          </p:nvSpPr>
          <p:spPr>
            <a:xfrm>
              <a:off x="762120" y="3016080"/>
              <a:ext cx="266688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прокариот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 flipH="1">
              <a:off x="1904760" y="1720800"/>
              <a:ext cx="160020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11"/>
          <p:cNvGrpSpPr/>
          <p:nvPr/>
        </p:nvGrpSpPr>
        <p:grpSpPr>
          <a:xfrm>
            <a:off x="5181480" y="1676520"/>
            <a:ext cx="2971800" cy="1960560"/>
            <a:chOff x="5181480" y="1676520"/>
            <a:chExt cx="2971800" cy="1960560"/>
          </a:xfrm>
        </p:grpSpPr>
        <p:sp>
          <p:nvSpPr>
            <p:cNvPr id="351" name="Text Box 4"/>
            <p:cNvSpPr/>
            <p:nvPr/>
          </p:nvSpPr>
          <p:spPr>
            <a:xfrm>
              <a:off x="5562720" y="3048120"/>
              <a:ext cx="2590560" cy="5889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эукариот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6"/>
            <p:cNvSpPr/>
            <p:nvPr/>
          </p:nvSpPr>
          <p:spPr>
            <a:xfrm>
              <a:off x="5181480" y="1676520"/>
              <a:ext cx="152424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Text Box 7"/>
          <p:cNvSpPr/>
          <p:nvPr/>
        </p:nvSpPr>
        <p:spPr>
          <a:xfrm>
            <a:off x="142920" y="4643280"/>
            <a:ext cx="1800360" cy="703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стоящие бакте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2286000" y="4643280"/>
            <a:ext cx="222876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рхебакте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4643280" y="4643280"/>
            <a:ext cx="180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5940360" y="5732640"/>
            <a:ext cx="180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б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858000" y="4643280"/>
            <a:ext cx="2124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1258920" y="3789360"/>
            <a:ext cx="43344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923560" y="3786120"/>
            <a:ext cx="421920" cy="725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20"/>
          <p:cNvSpPr/>
          <p:nvPr/>
        </p:nvSpPr>
        <p:spPr>
          <a:xfrm flipH="1">
            <a:off x="5580000" y="3789360"/>
            <a:ext cx="43344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21"/>
          <p:cNvSpPr/>
          <p:nvPr/>
        </p:nvSpPr>
        <p:spPr>
          <a:xfrm>
            <a:off x="7241400" y="3747960"/>
            <a:ext cx="421920" cy="725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22"/>
          <p:cNvSpPr/>
          <p:nvPr/>
        </p:nvSpPr>
        <p:spPr>
          <a:xfrm flipH="1">
            <a:off x="6587640" y="3789360"/>
            <a:ext cx="25560" cy="180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714240" y="5715000"/>
            <a:ext cx="3000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ксифотобакте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18"/>
          <p:cNvSpPr/>
          <p:nvPr/>
        </p:nvSpPr>
        <p:spPr>
          <a:xfrm flipH="1">
            <a:off x="2101680" y="3714840"/>
            <a:ext cx="46080" cy="2000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карио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-428760" y="1356840"/>
            <a:ext cx="935856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0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кариоты – организмы, клетки которых не имеют яд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Содержимое 9" descr="0027.jpg"/>
          <p:cNvPicPr/>
          <p:nvPr/>
        </p:nvPicPr>
        <p:blipFill>
          <a:blip r:embed="rId1"/>
          <a:stretch/>
        </p:blipFill>
        <p:spPr>
          <a:xfrm>
            <a:off x="1857240" y="221472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358120" cy="113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троение бактериальной клет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69" name="Рисунок 7" descr="09010601.gif"/>
          <p:cNvPicPr/>
          <p:nvPr/>
        </p:nvPicPr>
        <p:blipFill>
          <a:blip r:embed="rId1"/>
          <a:stretch/>
        </p:blipFill>
        <p:spPr>
          <a:xfrm>
            <a:off x="357120" y="1428840"/>
            <a:ext cx="8248680" cy="47862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8"/>
          <p:cNvSpPr/>
          <p:nvPr/>
        </p:nvSpPr>
        <p:spPr>
          <a:xfrm>
            <a:off x="6500880" y="4786200"/>
            <a:ext cx="20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псула (из слизи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5435280" y="550080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итоплаз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Прямая соединительная линия 14"/>
          <p:cNvSpPr/>
          <p:nvPr/>
        </p:nvSpPr>
        <p:spPr>
          <a:xfrm>
            <a:off x="3500280" y="4500720"/>
            <a:ext cx="1928880" cy="118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6215040" y="5143680"/>
            <a:ext cx="2000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еточная сте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Скругленный прямоугольник 24"/>
          <p:cNvSpPr/>
          <p:nvPr/>
        </p:nvSpPr>
        <p:spPr>
          <a:xfrm>
            <a:off x="2000160" y="414324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Скругленный прямоугольник 25"/>
          <p:cNvSpPr/>
          <p:nvPr/>
        </p:nvSpPr>
        <p:spPr>
          <a:xfrm flipV="1">
            <a:off x="2214720" y="4642560"/>
            <a:ext cx="142560" cy="7164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Скругленный прямоугольник 26"/>
          <p:cNvSpPr/>
          <p:nvPr/>
        </p:nvSpPr>
        <p:spPr>
          <a:xfrm>
            <a:off x="5072040" y="3571920"/>
            <a:ext cx="142920" cy="712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Скругленный прямоугольник 27"/>
          <p:cNvSpPr/>
          <p:nvPr/>
        </p:nvSpPr>
        <p:spPr>
          <a:xfrm>
            <a:off x="4714920" y="4071960"/>
            <a:ext cx="142920" cy="712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Box 28"/>
          <p:cNvSpPr/>
          <p:nvPr/>
        </p:nvSpPr>
        <p:spPr>
          <a:xfrm>
            <a:off x="439200" y="1500120"/>
            <a:ext cx="133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асны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тательны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ще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Прямая соединительная линия 29"/>
          <p:cNvSpPr/>
          <p:nvPr/>
        </p:nvSpPr>
        <p:spPr>
          <a:xfrm>
            <a:off x="928080" y="2357280"/>
            <a:ext cx="1143000" cy="185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Box 32"/>
          <p:cNvSpPr/>
          <p:nvPr/>
        </p:nvSpPr>
        <p:spPr>
          <a:xfrm>
            <a:off x="434160" y="46432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Прямая соединительная линия 33"/>
          <p:cNvSpPr/>
          <p:nvPr/>
        </p:nvSpPr>
        <p:spPr>
          <a:xfrm>
            <a:off x="571680" y="4143240"/>
            <a:ext cx="712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Прямая соединительная линия 37"/>
          <p:cNvSpPr/>
          <p:nvPr/>
        </p:nvSpPr>
        <p:spPr>
          <a:xfrm flipH="1">
            <a:off x="642600" y="3429000"/>
            <a:ext cx="14292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Box 43"/>
          <p:cNvSpPr/>
          <p:nvPr/>
        </p:nvSpPr>
        <p:spPr>
          <a:xfrm>
            <a:off x="4072320" y="1428840"/>
            <a:ext cx="232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ьцевая хромосо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0" y="0"/>
            <a:ext cx="88581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ы бактериальных клеток. Кокки (сферическ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714240" y="5715000"/>
            <a:ext cx="857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зывают заболевания верхних дыхательных путей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урункулез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ищевые от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Рисунок 6" descr="untitled.bmp"/>
          <p:cNvPicPr/>
          <p:nvPr/>
        </p:nvPicPr>
        <p:blipFill>
          <a:blip r:embed="rId1"/>
          <a:stretch/>
        </p:blipFill>
        <p:spPr>
          <a:xfrm>
            <a:off x="1000080" y="1571760"/>
            <a:ext cx="7215120" cy="39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87" name="TextBox 7"/>
          <p:cNvSpPr/>
          <p:nvPr/>
        </p:nvSpPr>
        <p:spPr>
          <a:xfrm>
            <a:off x="1714680" y="1928880"/>
            <a:ext cx="100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к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4357800" y="5000760"/>
            <a:ext cx="1571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ци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Box 9"/>
          <p:cNvSpPr/>
          <p:nvPr/>
        </p:nvSpPr>
        <p:spPr>
          <a:xfrm>
            <a:off x="5857920" y="1857240"/>
            <a:ext cx="214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филокок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1643040" y="5000760"/>
            <a:ext cx="1785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птокок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Box 11"/>
          <p:cNvSpPr/>
          <p:nvPr/>
        </p:nvSpPr>
        <p:spPr>
          <a:xfrm>
            <a:off x="3717000" y="1928880"/>
            <a:ext cx="146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плокок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Box 12"/>
          <p:cNvSpPr/>
          <p:nvPr/>
        </p:nvSpPr>
        <p:spPr>
          <a:xfrm>
            <a:off x="2714760" y="1571760"/>
            <a:ext cx="37861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Прямоугольник 14"/>
          <p:cNvSpPr/>
          <p:nvPr/>
        </p:nvSpPr>
        <p:spPr>
          <a:xfrm>
            <a:off x="6572160" y="3857760"/>
            <a:ext cx="1500120" cy="142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ы бактериальных клеток. Бациллы (палочковидны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4572000" y="4572000"/>
            <a:ext cx="4038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вляются возбудителями чумы, сибирской язвы, столбняка, брюшного тифа, туберкуле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Рисунок 6" descr="bacteria5.jpg"/>
          <p:cNvPicPr/>
          <p:nvPr/>
        </p:nvPicPr>
        <p:blipFill>
          <a:blip r:embed="rId1"/>
          <a:stretch/>
        </p:blipFill>
        <p:spPr>
          <a:xfrm>
            <a:off x="357120" y="1785960"/>
            <a:ext cx="3611520" cy="43578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7" descr="02.jpg"/>
          <p:cNvPicPr/>
          <p:nvPr/>
        </p:nvPicPr>
        <p:blipFill>
          <a:blip r:embed="rId2"/>
          <a:stretch/>
        </p:blipFill>
        <p:spPr>
          <a:xfrm>
            <a:off x="4286160" y="1643040"/>
            <a:ext cx="445788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0" y="0"/>
            <a:ext cx="9144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ы бактериальных клеток. Спириллы (спиралевидны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5111640" y="5715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reponema pallid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будитель сифили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Рисунок 6" descr="spirilla.jpg"/>
          <p:cNvPicPr/>
          <p:nvPr/>
        </p:nvPicPr>
        <p:blipFill>
          <a:blip r:embed="rId1"/>
          <a:stretch/>
        </p:blipFill>
        <p:spPr>
          <a:xfrm>
            <a:off x="428760" y="1785960"/>
            <a:ext cx="5000400" cy="375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0" y="0"/>
            <a:ext cx="91440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ы бактериальных клеток. Вибрионы (дугообразны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85840" y="557208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brio cholera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являет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будителем холе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Рисунок 6" descr="Vibrio_vulnificus_01.png"/>
          <p:cNvPicPr/>
          <p:nvPr/>
        </p:nvPicPr>
        <p:blipFill>
          <a:blip r:embed="rId1"/>
          <a:stretch/>
        </p:blipFill>
        <p:spPr>
          <a:xfrm>
            <a:off x="3214800" y="2000160"/>
            <a:ext cx="4929120" cy="32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1:05:05Z</dcterms:created>
  <dc:creator>Васюков</dc:creator>
  <dc:description/>
  <dc:language>en-US</dc:language>
  <cp:lastModifiedBy>Admin</cp:lastModifiedBy>
  <dcterms:modified xsi:type="dcterms:W3CDTF">2010-09-13T17:08:03Z</dcterms:modified>
  <cp:revision>23</cp:revision>
  <dc:subject/>
  <dc:title>Презентация PowerPoint</dc:title>
</cp:coreProperties>
</file>