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87B-26E9-4533-B6B6-D4F93F06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492-DBA2-4681-ACA7-19C420B2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6A69-04E6-46A2-B0C7-B09C9F83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4E77-0AA3-4DF7-BA00-B3F37704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5F7-4C6E-4871-9573-452F78E2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52C5-123F-40B1-B7DF-E3267190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B5A-3228-488C-96F3-1DFFB7B3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B949-F2C9-4716-AECE-AB6786F1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D8F4-213C-4286-A7D3-44D3BCEE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36BE-6E35-4B0F-8A4D-C3B73930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38A5-4D45-4059-8919-360C714C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4472-1168-4927-B26D-1E0BE487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0C88-670C-4AB5-9160-F7BBAE7746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ff00"/>
                </a:solidFill>
                <a:latin typeface="Calibri"/>
              </a:rPr>
              <a:t>Риторика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Алёнка\Desktop\ШКОЛЬНАЯ ВСЯЧИНА\0006-003-Konstruktivno-vypolnit-zadachi-obrazovanija-21-veka-pomogaet.png"/>
          <p:cNvPicPr/>
          <p:nvPr/>
        </p:nvPicPr>
        <p:blipFill>
          <a:blip r:embed="rId1"/>
          <a:stretch/>
        </p:blipFill>
        <p:spPr>
          <a:xfrm>
            <a:off x="1403280" y="1230480"/>
            <a:ext cx="462600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Calibri"/>
              </a:rPr>
              <a:t>Физминутка"Улыбнитесь"</a:t>
            </a:r>
            <a:br>
              <a:rPr sz="3500"/>
            </a:br>
            <a:r>
              <a:rPr b="1" lang="ru-RU" sz="35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3500"/>
            </a:br>
            <a:r>
              <a:rPr b="1" lang="ru-RU" sz="3500" spc="-1" strike="noStrike">
                <a:solidFill>
                  <a:srgbClr val="ffff00"/>
                </a:solidFill>
                <a:latin typeface="Calibri"/>
              </a:rPr>
              <a:t>Дети хором произносят слова и выполняют соответствующие движения:</a:t>
            </a:r>
            <a:br>
              <a:rPr sz="3500"/>
            </a:br>
            <a:r>
              <a:rPr b="1" lang="ru-RU" sz="3500" spc="-1" strike="noStrike">
                <a:solidFill>
                  <a:srgbClr val="ffff00"/>
                </a:solidFill>
                <a:latin typeface="Calibri"/>
              </a:rPr>
              <a:t>Быстро встаньте, улыбнитесь,</a:t>
            </a:r>
            <a:br>
              <a:rPr sz="3500"/>
            </a:br>
            <a:r>
              <a:rPr b="1" lang="ru-RU" sz="3500" spc="-1" strike="noStrike">
                <a:solidFill>
                  <a:srgbClr val="ffff00"/>
                </a:solidFill>
                <a:latin typeface="Calibri"/>
              </a:rPr>
              <a:t>Выше, выше потянитесь.</a:t>
            </a:r>
            <a:br>
              <a:rPr sz="3500"/>
            </a:br>
            <a:r>
              <a:rPr b="1" lang="ru-RU" sz="3500" spc="-1" strike="noStrike">
                <a:solidFill>
                  <a:srgbClr val="ffff00"/>
                </a:solidFill>
                <a:latin typeface="Calibri"/>
              </a:rPr>
              <a:t>Ну-ка плечи распрямите.</a:t>
            </a:r>
            <a:br>
              <a:rPr sz="3500"/>
            </a:br>
            <a:r>
              <a:rPr b="1" lang="ru-RU" sz="3500" spc="-1" strike="noStrike">
                <a:solidFill>
                  <a:srgbClr val="ffff00"/>
                </a:solidFill>
                <a:latin typeface="Calibri"/>
              </a:rPr>
              <a:t>Поднимите, опустите.</a:t>
            </a:r>
            <a:br>
              <a:rPr sz="3500"/>
            </a:br>
            <a:r>
              <a:rPr b="1" lang="ru-RU" sz="3500" spc="-1" strike="noStrike">
                <a:solidFill>
                  <a:srgbClr val="ffff00"/>
                </a:solidFill>
                <a:latin typeface="Calibri"/>
              </a:rPr>
              <a:t>Влево, вправо повернулись,</a:t>
            </a:r>
            <a:br>
              <a:rPr sz="3500"/>
            </a:br>
            <a:r>
              <a:rPr b="1" lang="ru-RU" sz="3500" spc="-1" strike="noStrike">
                <a:solidFill>
                  <a:srgbClr val="ffff00"/>
                </a:solidFill>
                <a:latin typeface="Calibri"/>
              </a:rPr>
              <a:t>Руками коленей коснулись.</a:t>
            </a:r>
            <a:br>
              <a:rPr sz="3500"/>
            </a:br>
            <a:r>
              <a:rPr b="1" lang="ru-RU" sz="3500" spc="-1" strike="noStrike">
                <a:solidFill>
                  <a:srgbClr val="ffff00"/>
                </a:solidFill>
                <a:latin typeface="Calibri"/>
              </a:rPr>
              <a:t>Сели - встали, сели - встали</a:t>
            </a:r>
            <a:br>
              <a:rPr sz="3500"/>
            </a:br>
            <a:r>
              <a:rPr b="1" lang="ru-RU" sz="3500" spc="-1" strike="noStrike">
                <a:solidFill>
                  <a:srgbClr val="ffff00"/>
                </a:solidFill>
                <a:latin typeface="Calibri"/>
              </a:rPr>
              <a:t>И на месте побежали.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Посмотрим на объявления из газеты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Алёнка\Desktop\ШКОЛЬНАЯ ВСЯЧИНА\121169.jpeg"/>
          <p:cNvPicPr/>
          <p:nvPr/>
        </p:nvPicPr>
        <p:blipFill>
          <a:blip r:embed="rId1"/>
          <a:stretch/>
        </p:blipFill>
        <p:spPr>
          <a:xfrm>
            <a:off x="1692360" y="1989000"/>
            <a:ext cx="556236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родам небесный фонарик (сердце). Красного цвета, размер большой, точно сказать не могу, т.к. покупался давно, и не пригодился. Примерно 160х50 см. Надпись я тебя люблю. Как покупался, так в пакете и пролежал, инструкция прилагается. Место встречи обговаривается:)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8 901 801-08-3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Куплю щенка, порода не важна, главное, чтобы был не кусачим. Звоните по телефону 7-78-99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C:\Users\Алёнка\Desktop\16346126.jpg"/>
          <p:cNvPicPr/>
          <p:nvPr/>
        </p:nvPicPr>
        <p:blipFill>
          <a:blip r:embed="rId1"/>
          <a:stretch/>
        </p:blipFill>
        <p:spPr>
          <a:xfrm>
            <a:off x="1187280" y="2781360"/>
            <a:ext cx="65232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абота в группах</a:t>
            </a:r>
            <a:br>
              <a:rPr sz="40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Задание 1: 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Представьте себе, что у вас случайно оказалось 10 хорошеньких котят, и дома их оставить никак нельзя, поэтому необходимо разместить объявление, чтобы котят забрали.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ак вы это сделаете?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Задание 2: Ваша задача составить объявление о покупке той вещи, о которой вы давно мечтает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C:\Users\Алёнка\Desktop\ШКОЛЬНАЯ ВСЯЧИНА\2338f3fae411.png"/>
          <p:cNvPicPr/>
          <p:nvPr/>
        </p:nvPicPr>
        <p:blipFill>
          <a:blip r:embed="rId1"/>
          <a:stretch/>
        </p:blipFill>
        <p:spPr>
          <a:xfrm>
            <a:off x="2484360" y="2276640"/>
            <a:ext cx="484668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Calibri"/>
              </a:rPr>
              <a:t>Домашнее задание:</a:t>
            </a:r>
            <a:br>
              <a:rPr sz="6000"/>
            </a:b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Написать объявление на листе а4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Алёнка\Desktop\ШКОЛЬНАЯ ВСЯЧИНА\buch89daqgkrxz.gif"/>
          <p:cNvPicPr/>
          <p:nvPr/>
        </p:nvPicPr>
        <p:blipFill>
          <a:blip r:embed="rId1"/>
          <a:stretch/>
        </p:blipFill>
        <p:spPr>
          <a:xfrm>
            <a:off x="468360" y="2637000"/>
            <a:ext cx="32004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Тема урока: « Объявление»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Алёнка\Desktop\ШКОЛЬНАЯ ВСЯЧИНА\schoolg.gif"/>
          <p:cNvPicPr/>
          <p:nvPr/>
        </p:nvPicPr>
        <p:blipFill>
          <a:blip r:embed="rId1"/>
          <a:stretch/>
        </p:blipFill>
        <p:spPr>
          <a:xfrm>
            <a:off x="2340000" y="1268280"/>
            <a:ext cx="46674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ИЗ ИСТОРИИ ПОЯВЛЕНИЯ ОБЪЯВЛЕНИЙ….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Реклама в мире появилась практически одновременно с появлением торговли, которая была одним из первых признаков цивилизованного общества. Самым древним образцом рекламы, который дошел до нашего времени, считается  обрывок древнеегипетского папируса, на котором написано выгодное предложение о продаже рабов. С папирусных объявлений и начинается история возникновения рекламы. В Древнем Риме и Древней Греции использовались рекламные объявления, которые гравировали на медных и костных табличках или писали на деревянных дощеч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История рекламы в России начинается с X-XI веков. В это время русские купцы начали использовать различные способы для того, чтобы лучше продавать свои товары. В те времена торговое сословье считало нормальным значительное приукрашивание качеств продаваемого товара, умышленно вводя покупателей в заблуждение. Наиболее распространенным  методом был наем зазывалы, который ходил по улицам вдоль торговых лавок и во весь голос расхваливал лавки и продающиеся в них това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Непревзойденными представителями яркой устной рекламы тех лет были коробейники, которые даже попали в народный фольклор. Коробейники исполняли частушки, потешки, прибаутки, которые в веселой и понятной форме рекламировали их мелкие товары (кружева, ленты, косынки, гребни, свистульки, леденцы, бублики, пряники) и быстро их распродавали. История рекламы в России также отмечает неоценимый вклад в свое развитие лубочных картинок. Впервые они упоминаются в XVII веке, когда такими потешными дощечками украшались царские палаты. Эти картинки любил рассматривать царь Алексей Михайлович.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Со временем на картинках стали появляться надписи, которые просто и понятно знакомили с различной информацией или событиями. Все это оформлялось очень колоритно и красочно. Вскоре лубки уже можно было встретить не только в царских палатах, но и во многих домах.  В распространении лубочных картинок прочно обосновалась и рекламная информация. Когда в России стала набирать силу торговля заграничными товарами, в лубках стали рекламироваться и новомодные чужеземные товар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64072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Что такое объявление?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Какая задача объявления?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Какие бывают объявления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Алёнка\Desktop\ШКОЛЬНАЯ ВСЯЧИНА\buch89daqgkrxz.gif"/>
          <p:cNvPicPr/>
          <p:nvPr/>
        </p:nvPicPr>
        <p:blipFill>
          <a:blip r:embed="rId1"/>
          <a:stretch/>
        </p:blipFill>
        <p:spPr>
          <a:xfrm>
            <a:off x="3132000" y="3000240"/>
            <a:ext cx="32004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А знаете ли вы, что не так просто создать объявл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C:\Users\Алёнка\Desktop\ШКОЛЬНАЯ ВСЯЧИНА\s85700526.jpg"/>
          <p:cNvPicPr/>
          <p:nvPr/>
        </p:nvPicPr>
        <p:blipFill>
          <a:blip r:embed="rId1"/>
          <a:stretch/>
        </p:blipFill>
        <p:spPr>
          <a:xfrm>
            <a:off x="2700360" y="1989000"/>
            <a:ext cx="3809880" cy="445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Давайте попробуем составить алгоритм написания объявления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Алёнка\Desktop\ШКОЛЬНАЯ ВСЯЧИНА\sovik_na_sayt.gif"/>
          <p:cNvPicPr/>
          <p:nvPr/>
        </p:nvPicPr>
        <p:blipFill>
          <a:blip r:embed="rId1"/>
          <a:stretch/>
        </p:blipFill>
        <p:spPr>
          <a:xfrm>
            <a:off x="2411280" y="2349360"/>
            <a:ext cx="43005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Calibri"/>
              </a:rPr>
              <a:t>1. </a:t>
            </a: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Ваша цель;</a:t>
            </a:r>
            <a:br>
              <a:rPr sz="7200"/>
            </a:br>
            <a:r>
              <a:rPr b="1" lang="ru-RU" sz="7200" spc="-1" strike="noStrike">
                <a:solidFill>
                  <a:srgbClr val="ffff00"/>
                </a:solidFill>
                <a:latin typeface="Calibri"/>
              </a:rPr>
              <a:t>2. </a:t>
            </a: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Заголовок;</a:t>
            </a:r>
            <a:br>
              <a:rPr sz="7200"/>
            </a:br>
            <a:r>
              <a:rPr b="1" lang="ru-RU" sz="7200" spc="-1" strike="noStrike">
                <a:solidFill>
                  <a:srgbClr val="ffff00"/>
                </a:solidFill>
                <a:latin typeface="Calibri"/>
              </a:rPr>
              <a:t>3. </a:t>
            </a: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Основной текст;</a:t>
            </a:r>
            <a:br>
              <a:rPr sz="7200"/>
            </a:br>
            <a:r>
              <a:rPr b="1" lang="ru-RU" sz="7200" spc="-1" strike="noStrike">
                <a:solidFill>
                  <a:srgbClr val="ffff00"/>
                </a:solidFill>
                <a:latin typeface="Calibri"/>
              </a:rPr>
              <a:t>4. </a:t>
            </a: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Контактная информация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C:\Users\Алёнка\Desktop\ШКОЛЬНАЯ ВСЯЧИНА\69176887_1294913405_03.png"/>
          <p:cNvPicPr/>
          <p:nvPr/>
        </p:nvPicPr>
        <p:blipFill>
          <a:blip r:embed="rId1"/>
          <a:stretch/>
        </p:blipFill>
        <p:spPr>
          <a:xfrm>
            <a:off x="5867280" y="3429000"/>
            <a:ext cx="2982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0:19:25Z</dcterms:created>
  <dc:creator>Алёнка</dc:creator>
  <dc:description/>
  <dc:language>en-US</dc:language>
  <cp:lastModifiedBy>ZooM</cp:lastModifiedBy>
  <dcterms:modified xsi:type="dcterms:W3CDTF">2013-12-13T22:57:45Z</dcterms:modified>
  <cp:revision>17</cp:revision>
  <dc:subject/>
  <dc:title>Риторика</dc:title>
</cp:coreProperties>
</file>