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364-42C3-4CD8-877B-36601CD6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9D8-4F78-4E7B-9663-CA30B92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737-E8CC-490F-B587-5431B821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A54-2498-4228-B60C-2C11AC07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2B4-84A1-486D-9E3C-15CE1DC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345-DD97-4A9B-94E4-E26D863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DB0-0019-4772-B8CA-CB1C27CB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5F7-0E74-4E62-8D48-F3E5A4BC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F7F-2397-487B-9572-FAD3026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5ED-53DA-4A6E-A012-B1F2432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4B7-41E2-4FB3-8F35-51E2CB2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1ED-969B-4BAD-A953-70D9821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8B7-CA9E-4022-B590-A1B85B9F3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0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ZooM</cp:lastModifiedBy>
  <dcterms:modified xsi:type="dcterms:W3CDTF">2013-12-06T01:33:28Z</dcterms:modified>
  <cp:revision>17</cp:revision>
  <dc:subject/>
  <dc:title>Превращение веществ. История химии.</dc:title>
</cp:coreProperties>
</file>