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92E-9E47-4994-BD04-DBF84749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9EE-5EE8-4F32-AE91-24486976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8EC-2E61-4444-8A82-FA55812F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61E-276C-4CFC-8090-DD8FB6D1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402-79A9-4E71-A15B-2E61E34D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B57-7082-4087-A1A9-EBBB0C4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09D-A083-4CC0-8D49-C87DF03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27B-3C6A-4A07-9F11-4BD989F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FDC-F540-46B5-A110-3BD2CFBE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806-5B1E-4D33-8287-A2E95A67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530-6BED-4DD5-B045-6F80E2C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D4B-2AE0-4453-8BD7-EA11F6A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5EAE-A0FC-4E7E-9781-6E9BE1B1E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0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1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5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ZooM</cp:lastModifiedBy>
  <dcterms:modified xsi:type="dcterms:W3CDTF">2013-12-06T01:33:28Z</dcterms:modified>
  <cp:revision>17</cp:revision>
  <dc:subject/>
  <dc:title>Превращение веществ. История химии.</dc:title>
</cp:coreProperties>
</file>