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4.png" ContentType="image/png"/>
  <Override PartName="/ppt/media/image25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F7B-6FF2-4192-948E-04AD14D7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EA5-9F4B-4A61-A5A8-1BA389C9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FC9-6BAB-4D3F-8B4B-9BC9E209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162-5FB9-4A68-860B-0E8ED0CC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8237-6889-4EE1-A4BE-8C3F85D8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0E0-A165-4BE7-8AAF-CBE12207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741D-A54F-41F7-839E-DD25EAB2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BB1D-C93B-4E31-9A18-CF2C341E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434A-4275-4587-B8E4-DBC36E6D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46C2-E795-467F-9A27-649B0A2A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22A1-4164-47D9-9D98-68815CD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653-4B9F-4045-AE79-8E0B2C26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8D35-F258-43FF-96CE-C14B565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53EC-CF74-4F89-A698-21FBFADD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637A-1F2D-4336-9517-913E70FD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0225-ADF4-452C-8D67-6F6600FE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1470-FF71-4C62-8751-77DECC84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905-E169-4DA8-8920-40F9B153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3A3-202F-4BF6-90ED-7635E891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F22-464F-465D-B3C9-9010BEE8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A91-B210-4C9B-9D47-CE1E628E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A5E-0A42-4A59-AB1C-C5BDEC3F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BF9-544F-4C87-B36A-01E8BB82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099-3E04-479D-B67A-C336DEFD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C1DE-F09B-41C6-B243-C9065902BC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9082-F1F5-4FF8-9144-E4E8A40CBF2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54072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епредельные углеводороды</a:t>
            </a: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АЛКЕНЫ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4508280"/>
            <a:ext cx="799308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ерова Мария Владими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ГБОУ лицей №48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гского района г. Санкт-Петербур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уч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1280" y="2133720"/>
            <a:ext cx="58878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Дегалогенирование: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реакция"/>
          <p:cNvPicPr/>
          <p:nvPr/>
        </p:nvPicPr>
        <p:blipFill>
          <a:blip r:embed="rId1"/>
          <a:stretch/>
        </p:blipFill>
        <p:spPr>
          <a:xfrm>
            <a:off x="684360" y="2781360"/>
            <a:ext cx="6480000" cy="21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4"/>
          <p:cNvPicPr/>
          <p:nvPr/>
        </p:nvPicPr>
        <p:blipFill>
          <a:blip r:embed="rId2"/>
          <a:stretch/>
        </p:blipFill>
        <p:spPr>
          <a:xfrm>
            <a:off x="6948360" y="333360"/>
            <a:ext cx="17845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изические свойств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Этен,пропен, бутен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– газ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С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5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Н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10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 – С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16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Н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32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- жидкост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Высшие алке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– тв.вещества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2502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Реакции присоедине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1.Гидрирование :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CH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2.Галогениров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CH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Cl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l-CHCl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3.Гидрогалогениров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CH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НCl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CHCl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images1"/>
          <p:cNvPicPr/>
          <p:nvPr/>
        </p:nvPicPr>
        <p:blipFill>
          <a:blip r:embed="rId1"/>
          <a:stretch/>
        </p:blipFill>
        <p:spPr>
          <a:xfrm>
            <a:off x="7236000" y="620640"/>
            <a:ext cx="1295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Реакции присоедине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4.Гидратац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5.Полимеризац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5" descr="реакция"/>
          <p:cNvPicPr/>
          <p:nvPr/>
        </p:nvPicPr>
        <p:blipFill>
          <a:blip r:embed="rId1"/>
          <a:stretch/>
        </p:blipFill>
        <p:spPr>
          <a:xfrm>
            <a:off x="539640" y="3500280"/>
            <a:ext cx="5327640" cy="1297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еакция"/>
          <p:cNvPicPr/>
          <p:nvPr/>
        </p:nvPicPr>
        <p:blipFill>
          <a:blip r:embed="rId2"/>
          <a:stretch/>
        </p:blipFill>
        <p:spPr>
          <a:xfrm>
            <a:off x="611280" y="5516640"/>
            <a:ext cx="5329080" cy="93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3"/>
          <a:stretch/>
        </p:blipFill>
        <p:spPr>
          <a:xfrm>
            <a:off x="6732720" y="3284640"/>
            <a:ext cx="1871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775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I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Реакции окисле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1.Полное окисление (горение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3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2С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2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2.Неполное окисление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 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Mn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4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HO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2M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2KO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OB79CAXKHPPNCAF0CMGECAK92GDCCAA0EM3ICAH3A9F4CA0Y1RTJCAR76CZ4CAXQ68FDCA3B9Z28CALF0R8GCAOXZUNECA3PYWK0CA7V5L5ECAOEUA91CAZW1KGGCAGEO1Y0CACBJIXGCA38F8N4CAPPZ5JM"/>
          <p:cNvPicPr/>
          <p:nvPr/>
        </p:nvPicPr>
        <p:blipFill>
          <a:blip r:embed="rId1"/>
          <a:stretch/>
        </p:blipFill>
        <p:spPr>
          <a:xfrm>
            <a:off x="7308720" y="476280"/>
            <a:ext cx="1295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резин"/>
          <p:cNvPicPr/>
          <p:nvPr/>
        </p:nvPicPr>
        <p:blipFill>
          <a:blip r:embed="rId1"/>
          <a:stretch/>
        </p:blipFill>
        <p:spPr>
          <a:xfrm>
            <a:off x="324000" y="2205000"/>
            <a:ext cx="1584000" cy="172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формула полиэтилена"/>
          <p:cNvPicPr/>
          <p:nvPr/>
        </p:nvPicPr>
        <p:blipFill>
          <a:blip r:embed="rId2"/>
          <a:stretch/>
        </p:blipFill>
        <p:spPr>
          <a:xfrm>
            <a:off x="2195640" y="2060640"/>
            <a:ext cx="4321080" cy="1873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полипропилен"/>
          <p:cNvPicPr/>
          <p:nvPr/>
        </p:nvPicPr>
        <p:blipFill>
          <a:blip r:embed="rId3"/>
          <a:stretch/>
        </p:blipFill>
        <p:spPr>
          <a:xfrm>
            <a:off x="539640" y="4508640"/>
            <a:ext cx="1681200" cy="15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полиэтилен"/>
          <p:cNvPicPr/>
          <p:nvPr/>
        </p:nvPicPr>
        <p:blipFill>
          <a:blip r:embed="rId4"/>
          <a:stretch/>
        </p:blipFill>
        <p:spPr>
          <a:xfrm>
            <a:off x="3635280" y="4437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плащи"/>
          <p:cNvPicPr/>
          <p:nvPr/>
        </p:nvPicPr>
        <p:blipFill>
          <a:blip r:embed="rId5"/>
          <a:stretch/>
        </p:blipFill>
        <p:spPr>
          <a:xfrm>
            <a:off x="7020000" y="2205000"/>
            <a:ext cx="1366920" cy="1655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пленка"/>
          <p:cNvPicPr/>
          <p:nvPr/>
        </p:nvPicPr>
        <p:blipFill>
          <a:blip r:embed="rId6"/>
          <a:stretch/>
        </p:blipFill>
        <p:spPr>
          <a:xfrm>
            <a:off x="6732720" y="4508640"/>
            <a:ext cx="15699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асибо за внимание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825bf"/>
                </a:solidFill>
                <a:latin typeface="Tahoma"/>
              </a:rPr>
              <a:t>Успехов в освоении органической химии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19" descr="рол"/>
          <p:cNvPicPr/>
          <p:nvPr/>
        </p:nvPicPr>
        <p:blipFill>
          <a:blip r:embed="rId1"/>
          <a:stretch/>
        </p:blipFill>
        <p:spPr>
          <a:xfrm>
            <a:off x="7236000" y="549360"/>
            <a:ext cx="134604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CA41EROT"/>
          <p:cNvPicPr/>
          <p:nvPr/>
        </p:nvPicPr>
        <p:blipFill>
          <a:blip r:embed="rId2"/>
          <a:stretch/>
        </p:blipFill>
        <p:spPr>
          <a:xfrm>
            <a:off x="3419640" y="4005360"/>
            <a:ext cx="223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Опреде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Номенклатура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Изомерия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Строение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Получение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Физические св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Химические св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.Применение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CA89A749"/>
          <p:cNvPicPr/>
          <p:nvPr/>
        </p:nvPicPr>
        <p:blipFill>
          <a:blip r:embed="rId1"/>
          <a:stretch/>
        </p:blipFill>
        <p:spPr>
          <a:xfrm>
            <a:off x="6300720" y="2997360"/>
            <a:ext cx="17478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827064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Алке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непредельные углеводороды, в молекулах которых между атомами углерода имеется одна двойная связ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бщая формул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, гд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≥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DOUZSCA0V3ILMCA7DX3NMCA9AAJB6CAV49TNWCANQ2GQ3CA8NT95SCA3YVL0ZCAK3CY69CA5DO5EECA2WT889CAHM3XOHCAIVCIN4CAR13PD6CAQU0CGICAJMO9JBCAQG32G9CARGNR05CA5Q3JC0CA57D0J9"/>
          <p:cNvPicPr/>
          <p:nvPr/>
        </p:nvPicPr>
        <p:blipFill>
          <a:blip r:embed="rId1"/>
          <a:stretch/>
        </p:blipFill>
        <p:spPr>
          <a:xfrm>
            <a:off x="6877080" y="47628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менклатура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э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л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 =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п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проп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л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4                   3                   2                 1                      1                  2                 3                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 =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 = СН –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бу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лен-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         бу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бу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лен-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5                   4             3                2         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CH=C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илпент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омерия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2421000"/>
            <a:ext cx="877572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1orgvesh7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ро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 СН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этилен (этен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войная связь: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яз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яз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 гибридизации: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алентный угол: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120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Форма молекул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лоскостная (треугольная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image3"/>
          <p:cNvPicPr/>
          <p:nvPr/>
        </p:nvPicPr>
        <p:blipFill>
          <a:blip r:embed="rId1"/>
          <a:stretch/>
        </p:blipFill>
        <p:spPr>
          <a:xfrm>
            <a:off x="179280" y="242100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mage6"/>
          <p:cNvPicPr/>
          <p:nvPr/>
        </p:nvPicPr>
        <p:blipFill>
          <a:blip r:embed="rId2"/>
          <a:stretch/>
        </p:blipFill>
        <p:spPr>
          <a:xfrm>
            <a:off x="7128000" y="3933720"/>
            <a:ext cx="183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ро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1orgvesh5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уч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Крекинг нефтепродук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=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Дегидрирование алкан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= С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images"/>
          <p:cNvPicPr/>
          <p:nvPr/>
        </p:nvPicPr>
        <p:blipFill>
          <a:blip r:embed="rId1"/>
          <a:stretch/>
        </p:blipFill>
        <p:spPr>
          <a:xfrm>
            <a:off x="7093080" y="404640"/>
            <a:ext cx="1428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учение алке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Дегидратация спир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Дегидрогалогениров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Br 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OH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спирт.р-р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NaBr+ 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O +  + 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-CH=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РЕАКЦИЯ"/>
          <p:cNvPicPr/>
          <p:nvPr/>
        </p:nvPicPr>
        <p:blipFill>
          <a:blip r:embed="rId1"/>
          <a:stretch/>
        </p:blipFill>
        <p:spPr>
          <a:xfrm>
            <a:off x="324000" y="2708280"/>
            <a:ext cx="6553080" cy="1297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36Y31CA8IHQNHCARC3UXOCAVYKCQ3CANA3OUPCAMPTP7XCATAJ3HMCAH8162NCAYZ9RHZCAWIDY3OCAM7F6U4CAPVAT15CAESKO4VCA6LCNKBCA43HFQRCAKMO285CAY0TW6DCACN0AZXCANWMXHSCAN0F196"/>
          <p:cNvPicPr/>
          <p:nvPr/>
        </p:nvPicPr>
        <p:blipFill>
          <a:blip r:embed="rId2"/>
          <a:stretch/>
        </p:blipFill>
        <p:spPr>
          <a:xfrm>
            <a:off x="6948360" y="549360"/>
            <a:ext cx="14320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37:51Z</dcterms:created>
  <dc:creator>М</dc:creator>
  <dc:description/>
  <dc:language>en-US</dc:language>
  <cp:lastModifiedBy>Администратор</cp:lastModifiedBy>
  <dcterms:modified xsi:type="dcterms:W3CDTF">2012-10-21T18:59:14Z</dcterms:modified>
  <cp:revision>26</cp:revision>
  <dc:subject/>
  <dc:title> Непредельные углеводороды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