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4.png" ContentType="image/png"/>
  <Override PartName="/ppt/media/image25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2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866-3298-48E6-A8A9-8D1FFBF2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005-4541-46D5-8FC0-31D48FDC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C97-BA44-4199-B6BD-47BD2D3D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047A-0F12-4A7F-BFC4-29FA9DAA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B038-9E66-4B7E-98A7-F664B587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7ED9-5155-4571-9E04-99B02B70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490F-47C2-4ED4-B006-D2F787DE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B028-1573-418D-B52B-FC539BB8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C18F-E61D-4A5A-B2E0-B87E25D2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2FA2-7074-4B5D-AEA1-C751B79E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22FA-49C9-4946-82E0-64F2E3B3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D57-C9A9-4FFB-A246-00C4D40E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9CC2-AFC9-4E4E-91BD-B15C40C6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D423-DCD1-4448-BDDD-5DF6B3D4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1934-C633-46CD-BEFD-F4F4AAC8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0327-B22C-4349-8AF9-14309CF4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F9E4-E457-4130-B2F5-0E642E10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084-EBCB-4048-AC15-E81CA387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E031-27C8-4EE5-B972-1FE761EA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0AD-203E-4D86-81E7-16E2E72C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8BD-9D75-47B3-A502-B7906EA0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B962-65F0-437B-8B37-651FA43D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461C-50F1-47E8-BA05-288FB041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A39-2595-4E7D-8B39-918201EB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08CB-338B-45BA-88CE-6E9285CC00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C11E-3AD0-4B21-A047-020AA8CA29F4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540720" cy="27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епредельные углеводороды</a:t>
            </a:r>
            <a:br>
              <a:rPr sz="4400"/>
            </a:br>
            <a:br>
              <a:rPr sz="4400"/>
            </a:b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АЛКЕНЫ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9280" y="4508280"/>
            <a:ext cx="7993080" cy="14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ерова Мария Владими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химии ГБОУ лицей №48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гского района г. Санкт-Петербург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учение алке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11280" y="2133720"/>
            <a:ext cx="58878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.Дегалогенирование: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5" descr="реакция"/>
          <p:cNvPicPr/>
          <p:nvPr/>
        </p:nvPicPr>
        <p:blipFill>
          <a:blip r:embed="rId1"/>
          <a:stretch/>
        </p:blipFill>
        <p:spPr>
          <a:xfrm>
            <a:off x="684360" y="2781360"/>
            <a:ext cx="6480000" cy="21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4"/>
          <p:cNvPicPr/>
          <p:nvPr/>
        </p:nvPicPr>
        <p:blipFill>
          <a:blip r:embed="rId2"/>
          <a:stretch/>
        </p:blipFill>
        <p:spPr>
          <a:xfrm>
            <a:off x="6948360" y="333360"/>
            <a:ext cx="17845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изические свойств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Этен,пропен, бутен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– газ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С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5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Н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10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 – С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16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Н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32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- жидкост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Высшие алкены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– тв.вещества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6156360" y="2205000"/>
            <a:ext cx="2502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.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Реакции присоединения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1.Гидрирование :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CH-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2.Галогенирован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CH-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Cl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l-CHCl-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3.Гидрогалогенирован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CH-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НCl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CHCl-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4" descr="images1"/>
          <p:cNvPicPr/>
          <p:nvPr/>
        </p:nvPicPr>
        <p:blipFill>
          <a:blip r:embed="rId1"/>
          <a:stretch/>
        </p:blipFill>
        <p:spPr>
          <a:xfrm>
            <a:off x="7236000" y="620640"/>
            <a:ext cx="1295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.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Реакции присоединения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4.Гидратаци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5.Полимеризаци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5" descr="реакция"/>
          <p:cNvPicPr/>
          <p:nvPr/>
        </p:nvPicPr>
        <p:blipFill>
          <a:blip r:embed="rId1"/>
          <a:stretch/>
        </p:blipFill>
        <p:spPr>
          <a:xfrm>
            <a:off x="539640" y="3500280"/>
            <a:ext cx="5327640" cy="1297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реакция"/>
          <p:cNvPicPr/>
          <p:nvPr/>
        </p:nvPicPr>
        <p:blipFill>
          <a:blip r:embed="rId2"/>
          <a:stretch/>
        </p:blipFill>
        <p:spPr>
          <a:xfrm>
            <a:off x="611280" y="5516640"/>
            <a:ext cx="5329080" cy="93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3"/>
          <a:stretch/>
        </p:blipFill>
        <p:spPr>
          <a:xfrm>
            <a:off x="6732720" y="3284640"/>
            <a:ext cx="18716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8920" y="2276280"/>
            <a:ext cx="8775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I.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Реакции окисления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1.Полное окисление (горение)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+ 3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2С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+ 2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2.Неполное окисление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 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Mn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4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HO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H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2M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 2KO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FOB79CAXKHPPNCAF0CMGECAK92GDCCAA0EM3ICAH3A9F4CA0Y1RTJCAR76CZ4CAXQ68FDCA3B9Z28CALF0R8GCAOXZUNECA3PYWK0CA7V5L5ECAOEUA91CAZW1KGGCAGEO1Y0CACBJIXGCA38F8N4CAPPZ5JM"/>
          <p:cNvPicPr/>
          <p:nvPr/>
        </p:nvPicPr>
        <p:blipFill>
          <a:blip r:embed="rId1"/>
          <a:stretch/>
        </p:blipFill>
        <p:spPr>
          <a:xfrm>
            <a:off x="7308720" y="476280"/>
            <a:ext cx="1295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нение алке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2017440"/>
            <a:ext cx="8775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4" descr="резин"/>
          <p:cNvPicPr/>
          <p:nvPr/>
        </p:nvPicPr>
        <p:blipFill>
          <a:blip r:embed="rId1"/>
          <a:stretch/>
        </p:blipFill>
        <p:spPr>
          <a:xfrm>
            <a:off x="324000" y="2205000"/>
            <a:ext cx="1584000" cy="1727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формула полиэтилена"/>
          <p:cNvPicPr/>
          <p:nvPr/>
        </p:nvPicPr>
        <p:blipFill>
          <a:blip r:embed="rId2"/>
          <a:stretch/>
        </p:blipFill>
        <p:spPr>
          <a:xfrm>
            <a:off x="2195640" y="2060640"/>
            <a:ext cx="4321080" cy="1873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полипропилен"/>
          <p:cNvPicPr/>
          <p:nvPr/>
        </p:nvPicPr>
        <p:blipFill>
          <a:blip r:embed="rId3"/>
          <a:stretch/>
        </p:blipFill>
        <p:spPr>
          <a:xfrm>
            <a:off x="539640" y="4508640"/>
            <a:ext cx="1681200" cy="1584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полиэтилен"/>
          <p:cNvPicPr/>
          <p:nvPr/>
        </p:nvPicPr>
        <p:blipFill>
          <a:blip r:embed="rId4"/>
          <a:stretch/>
        </p:blipFill>
        <p:spPr>
          <a:xfrm>
            <a:off x="3635280" y="4437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плащи"/>
          <p:cNvPicPr/>
          <p:nvPr/>
        </p:nvPicPr>
        <p:blipFill>
          <a:blip r:embed="rId5"/>
          <a:stretch/>
        </p:blipFill>
        <p:spPr>
          <a:xfrm>
            <a:off x="7020000" y="2205000"/>
            <a:ext cx="1366920" cy="1655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пленка"/>
          <p:cNvPicPr/>
          <p:nvPr/>
        </p:nvPicPr>
        <p:blipFill>
          <a:blip r:embed="rId6"/>
          <a:stretch/>
        </p:blipFill>
        <p:spPr>
          <a:xfrm>
            <a:off x="6732720" y="4508640"/>
            <a:ext cx="156996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асибо за внимание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92144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825bf"/>
                </a:solidFill>
                <a:latin typeface="Tahoma"/>
              </a:rPr>
              <a:t>Успехов в освоении органической химии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19" descr="рол"/>
          <p:cNvPicPr/>
          <p:nvPr/>
        </p:nvPicPr>
        <p:blipFill>
          <a:blip r:embed="rId1"/>
          <a:stretch/>
        </p:blipFill>
        <p:spPr>
          <a:xfrm>
            <a:off x="7236000" y="549360"/>
            <a:ext cx="134604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CA41EROT"/>
          <p:cNvPicPr/>
          <p:nvPr/>
        </p:nvPicPr>
        <p:blipFill>
          <a:blip r:embed="rId2"/>
          <a:stretch/>
        </p:blipFill>
        <p:spPr>
          <a:xfrm>
            <a:off x="3419640" y="4005360"/>
            <a:ext cx="223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Определ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Номенклатура алке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Изомерия алке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Строение алке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Получение алке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.Физические св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.Химические св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.Применение алке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4" descr="CA89A749"/>
          <p:cNvPicPr/>
          <p:nvPr/>
        </p:nvPicPr>
        <p:blipFill>
          <a:blip r:embed="rId1"/>
          <a:stretch/>
        </p:blipFill>
        <p:spPr>
          <a:xfrm>
            <a:off x="6300720" y="2997360"/>
            <a:ext cx="17478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преде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8270640" cy="37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Алкены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непредельные углеводороды, в молекулах которых между атомами углерода имеется одна двойная связ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Общая формул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n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, гд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≥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DOUZSCA0V3ILMCA7DX3NMCA9AAJB6CAV49TNWCANQ2GQ3CA8NT95SCA3YVL0ZCAK3CY69CA5DO5EECA2WT889CAHM3XOHCAIVCIN4CAR13PD6CAQU0CGICAJMO9JBCAQG32G9CARGNR05CA5Q3JC0CA57D0J9"/>
          <p:cNvPicPr/>
          <p:nvPr/>
        </p:nvPicPr>
        <p:blipFill>
          <a:blip r:embed="rId1"/>
          <a:stretch/>
        </p:blipFill>
        <p:spPr>
          <a:xfrm>
            <a:off x="6877080" y="476280"/>
            <a:ext cx="121932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менклатура алке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2017440"/>
            <a:ext cx="8775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= 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е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эт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ле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СН = 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п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е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проп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ле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4                   3                   2                 1                      1                  2                 3                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СН = 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СН = СН – 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ут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е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бут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лен-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         бут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е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бут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лен-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5                   4             3                2         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CH=C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илпент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е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зомерия алке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2421000"/>
            <a:ext cx="8775720" cy="37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1orgvesh7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троение алке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= СН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этилен (этен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Двойная связь: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яз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яз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п гибридизации: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алентный угол: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120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Форма молекул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плоскостная (треугольная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image3"/>
          <p:cNvPicPr/>
          <p:nvPr/>
        </p:nvPicPr>
        <p:blipFill>
          <a:blip r:embed="rId1"/>
          <a:stretch/>
        </p:blipFill>
        <p:spPr>
          <a:xfrm>
            <a:off x="179280" y="2421000"/>
            <a:ext cx="2232000" cy="1728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image6"/>
          <p:cNvPicPr/>
          <p:nvPr/>
        </p:nvPicPr>
        <p:blipFill>
          <a:blip r:embed="rId2"/>
          <a:stretch/>
        </p:blipFill>
        <p:spPr>
          <a:xfrm>
            <a:off x="7128000" y="3933720"/>
            <a:ext cx="183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троение алке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6" descr="1orgvesh5"/>
          <p:cNvPicPr/>
          <p:nvPr/>
        </p:nvPicPr>
        <p:blipFill>
          <a:blip r:embed="rId1"/>
          <a:stretch/>
        </p:blipFill>
        <p:spPr>
          <a:xfrm>
            <a:off x="0" y="-819000"/>
            <a:ext cx="9144000" cy="79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учение алке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Крекинг нефтепродук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= 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Дегидрирование алкан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= 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4" descr="images"/>
          <p:cNvPicPr/>
          <p:nvPr/>
        </p:nvPicPr>
        <p:blipFill>
          <a:blip r:embed="rId1"/>
          <a:stretch/>
        </p:blipFill>
        <p:spPr>
          <a:xfrm>
            <a:off x="7093080" y="404640"/>
            <a:ext cx="14284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учение алке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Дегидратация спир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Дегидрогалогенирован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-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Br 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OH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спирт.р-р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NaBr+ 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O +  + 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-CH=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5" descr="РЕАКЦИЯ"/>
          <p:cNvPicPr/>
          <p:nvPr/>
        </p:nvPicPr>
        <p:blipFill>
          <a:blip r:embed="rId1"/>
          <a:stretch/>
        </p:blipFill>
        <p:spPr>
          <a:xfrm>
            <a:off x="324000" y="2708280"/>
            <a:ext cx="6553080" cy="1297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36Y31CA8IHQNHCARC3UXOCAVYKCQ3CANA3OUPCAMPTP7XCATAJ3HMCAH8162NCAYZ9RHZCAWIDY3OCAM7F6U4CAPVAT15CAESKO4VCA6LCNKBCA43HFQRCAKMO285CAY0TW6DCACN0AZXCANWMXHSCAN0F196"/>
          <p:cNvPicPr/>
          <p:nvPr/>
        </p:nvPicPr>
        <p:blipFill>
          <a:blip r:embed="rId2"/>
          <a:stretch/>
        </p:blipFill>
        <p:spPr>
          <a:xfrm>
            <a:off x="6948360" y="549360"/>
            <a:ext cx="14320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0:37:51Z</dcterms:created>
  <dc:creator>М</dc:creator>
  <dc:description/>
  <dc:language>en-US</dc:language>
  <cp:lastModifiedBy>Администратор</cp:lastModifiedBy>
  <dcterms:modified xsi:type="dcterms:W3CDTF">2012-10-21T18:59:14Z</dcterms:modified>
  <cp:revision>26</cp:revision>
  <dc:subject/>
  <dc:title> Непредельные углеводороды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