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741-6934-4910-A696-349A4EE3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422-7DFD-473B-9955-029950E5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5A2-4F0E-4649-A9D9-81DFFCF5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8A1-5D37-4ADD-AEC5-3FC5A2BF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73E7-E85F-406B-9BB4-21D84928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D0FF-C187-4632-A567-7827E3C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3002-9A96-452E-BD48-868FA710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546C-6E77-4A4B-AE29-5BD9022A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0247-9D32-4EAE-923A-DA932165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ACE6-2971-4E83-8342-1A40535B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FAA1-E853-48D4-92FA-9048DC5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DFB-DE55-4C23-9DA9-4FF7D07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CF90-B47D-4029-BFE5-4ABC669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1A8E-82FA-4CCB-BD50-DA2A8876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D91-748D-4CE2-9F7B-9875EB5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88C1-EAAD-47DB-893A-8F0E8D8D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6E69-2779-491E-9301-23208919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F03-5D74-499B-932E-845C78A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549-5D01-42E7-BCEE-BCC38B9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301-450F-4CE6-9123-067FDCE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321-ACAE-446F-ABD8-1AC4F1D1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EBD-7FD0-4262-90B0-D0E0C35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BBF-F4ED-4B07-9C12-5EFBBC3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496-2C66-49AB-8007-250357B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ED8B-0739-467D-A919-5F98377B7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8A3-5578-4790-93EB-EB389D1516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gulliway.org/public/wiki/europe/" TargetMode="External"/><Relationship Id="rId2" Type="http://schemas.openxmlformats.org/officeDocument/2006/relationships/hyperlink" Target="http://ru.gulliway.org/public/wiki/europe/western-europe/france/" TargetMode="External"/><Relationship Id="rId3" Type="http://schemas.openxmlformats.org/officeDocument/2006/relationships/hyperlink" Target="http://ru.gulliway.org/public/wiki/europe/western-europe/switzerland/" TargetMode="External"/><Relationship Id="rId4" Type="http://schemas.openxmlformats.org/officeDocument/2006/relationships/hyperlink" Target="http://ru.gulliway.org/public/wiki/europe/western-europe/austria/" TargetMode="External"/><Relationship Id="rId5" Type="http://schemas.openxmlformats.org/officeDocument/2006/relationships/hyperlink" Target="http://ru.gulliway.org/public/wiki/europe/southern-europe/slovenia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3280" y="4724280"/>
            <a:ext cx="41403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готовил ученик 7 «Б» класса 125 школа Малахов Евг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верил учитель информа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ушная Елена Валерьев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630864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нежинск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115920"/>
            <a:ext cx="5329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не образовательная школа с углубленным изучением математики школа № 12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много из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 Ит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волы гос-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64000" y="1484280"/>
            <a:ext cx="3446640" cy="4348080"/>
            <a:chOff x="5364000" y="1484280"/>
            <a:chExt cx="3446640" cy="43480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364000" y="1484280"/>
              <a:ext cx="344664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5364000" y="1484280"/>
              <a:ext cx="3446640" cy="434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508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из истори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58341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звание "Италия" впервые использовали греки для обозначения южной оконечности Апеннинского полуострова, где они поселились в 8-7 вв. до н.э. Территория Италии составляла ядро Римской империи, отсюда античная цивилизация Средиземноморья проникла в Западную Европу. После падения Западной Римской империи в 5 в. н.э. эта территория неоднократно подвергалась нападениям извне, и ее политическое единство было утрачено. Она превратилась в "географическое понятие", в быстро менявшуюся мозаику небольших государств, княжеств и королевств, враждовавших между собой и становившихся объектами притязаний иностранных держав. Впрочем, традиция ведущей роли Рима не исчезала. Она воплощалась в лице римских пап, считавших себя преемниками римских императоров. Папы управляли центральной Италией и пытались распространить свое влияние на всю Европу. Благодаря церкви, возглавлявшейся римскими папами, сохранилась и даже расширилась древняя цивилизация, переданная Римом Западу. Однако из-за соперничества между папами и германскими императорами, правившими Священной Римской империей и рассматривавшими Италию как свое владение, Апеннинский полуостров превратился в арену сражений. Рост нажитого в торговле богатства крупных городов северной Италии, начавшийся в 11 в., оказался, впрочем, более мощным фактором, чем средневековые политические распри. В этих городах складывался новый мир идей, наук и искус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б Итали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56991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лагодаря своему оригинальному контуру Италия самая узнаваемая на географической карте страна. Италия располагается на Апеннинском полуострове, окруженном с трех сторон водой. Материковая часть страны в форме сапога указывает  на запад, в сторону островов Сицилия и Сарди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олица Италии - Рим - самый большой город с населением в 2,5 миллиона человек. Всего в стране проживает 58 миллионов человек. Общая площадь страны, включая острова Сардинию и Сицилию, занимает 301 230 кв. к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ая протяженность сухопутных границ составляет 1932 километра. Береговая линия тянется на 8 тысяч километров. Италия граничит с Австрией (430 км), Францией (488 км), Словенией (232 км) и Швейцарией (740 км). Кроме того, территорией страны окружены государства Ватикан (граница 3,2 км) и Сан-Марино (граница 39 км). Граница территориальных вод проходит в 12 морских милях от берега. Континентальный шельф на глубине 200 метров. Находясь в центре Средиземного моря, Италия имеет морские границы с Балканскими странами - Хорватией, Черногорией, Албанией и Грецией. У берегов Италии разбросаны десятки маленьких островов, но только два самых крупных острова - Сицилия и Сардиния - густо заселены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тал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официальное название —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тальянская 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итал. </a:t>
            </a: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Repubblica Italian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) — государство на юг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Европ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 центре Средиземноморья. Страна названа по этнониму племен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тал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ничит с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Франц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на северо-западе (протяжённость границы — 488 км), с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Швейцар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740 км) 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Австр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430 км) — на севере и со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Словение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на северо-востоке (232 км). Также имеет внутренние границы с Ватиканом (3,2 км) и Сан-Марино (39 км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нимает Апеннинский полуостров, Паданскую равнину, южные склоны Альп, острова Сицилия, Сардиния и ряд мелких остро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227640" y="620640"/>
            <a:ext cx="2687760" cy="3627360"/>
            <a:chOff x="6227640" y="620640"/>
            <a:chExt cx="2687760" cy="362736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6227640" y="620640"/>
              <a:ext cx="268776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6227640" y="620640"/>
              <a:ext cx="2687760" cy="362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Символы государства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ла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первые итальянский триколор появился 7 января 1797 в Эмилии как флаг республики, провозглашённой Джузеппе Компаньони. Во время правления Наполеона флаг также использовался как символ Французской револю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Венского Конгресса и Реставрации триколор остался символом свободы и был использован в революционных движениях 1831 года и 1848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2 статье Конституции Италии говорится, что « флаг Италии — это триколор, зелёный, белый и красный в виде трёх равных вертикальных полос».it:Bandiera itali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циональный гим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тальянский гимн, известный также как «Братья Италии» и «Песнь итальянцев» — неофициально был гимном Итальянской Республики с 12 октября 1946 года. 17 ноября 2005 года Сенат в первом чтении принял закон об официальном гимне, однако далее закон не прошёл и гимн так и остался на неофициальном уровне. Текст гимна был написан осенью 1847 года Гоффредо Мамели, а музыка, немного позже, композитором Микелем Новаро. В 80-е годы XX века также широко был распространён отрывок из оперы Джузеппе Верди «Набукко», который исполнялся в качестве гим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рб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ая эмблема Итальянской Республики была обнародована Президентом Италии Энрико де Никола 5 мая 1948 года. Эскиз эмблемы был сделан художником Паоло Паскетто, который выиграл это право в конкурсах 1946 и 1947 годов среди 500 других кандидатов и почти 800 эскиз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рб представляет собой белую звезду с пятью углами — символ Рисорджименто, которая заключена в венок из дубовых листьев, символизирующий силу и достоинство итальянского нар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Конец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340320"/>
            <a:ext cx="496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Информация взято из Интернета и собственных источников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6:26:30Z</dcterms:created>
  <dc:creator>Компьютер</dc:creator>
  <dc:description/>
  <dc:language>en-US</dc:language>
  <cp:lastModifiedBy>Компьютер</cp:lastModifiedBy>
  <dcterms:modified xsi:type="dcterms:W3CDTF">2011-10-30T06:48:00Z</dcterms:modified>
  <cp:revision>2</cp:revision>
  <dc:subject/>
  <dc:title>Презентация на тему:</dc:title>
</cp:coreProperties>
</file>