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7.gif" ContentType="image/gif"/>
  <Override PartName="/ppt/media/image16.png" ContentType="image/png"/>
  <Override PartName="/ppt/media/image15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media/image4.png" ContentType="image/png"/>
  <Override PartName="/ppt/media/image18.gif" ContentType="image/gif"/>
  <Override PartName="/ppt/media/image13.jpeg" ContentType="image/jpeg"/>
  <Override PartName="/ppt/media/image5.jpeg" ContentType="image/jpeg"/>
  <Override PartName="/ppt/media/image2.gif" ContentType="image/gi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39B9-7DF3-47CC-B044-8D9350E44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ED4E-7F43-4990-B099-3DE25CDA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0078-A53F-4318-A226-6CDC5E24F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4237-7983-4FFB-A800-90D1D616E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7656-84FD-4C11-A8A5-38B04D0B4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DECB-4773-42B8-8BA1-3FA5E66B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7F39-1A6B-406D-9362-6EE3C0C3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6A8D-6B77-4F47-BC95-2A897077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FCC2-686D-4F9E-BAED-45BF5638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CCC0-9606-4606-9718-C313F980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F77C-4BDA-407D-9894-4B42022A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9D99-9002-454D-B268-6762ECB3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A2FA-BA01-46F8-A8EF-1B2B018E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5B4F-030E-4373-B355-AA6EAE9A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C6DE8-645C-4B5B-8347-61F3B8CA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4BC8-1694-4D92-B45A-568641EAF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A34B-4A15-4C7A-93AC-7A1701484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ADE0-40FC-4F0C-A002-40799257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4059-AFDB-4787-A9FB-AC86F8D3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F928-0E42-40FA-A06F-04825CB1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49FB-3334-4279-95FA-35F3BA54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51C3-DE06-4CF8-AE68-0679356B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4372-30ED-472E-B6F9-38AA7605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2D87-AB51-404C-9D0E-804703EC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DA84-94DC-4AE1-81B3-2E96C29BF31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034A-6EE9-4785-81E7-092336DD895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yap-lyap.org/derevo/sverlenie.shtml" TargetMode="External"/><Relationship Id="rId2" Type="http://schemas.openxmlformats.org/officeDocument/2006/relationships/hyperlink" Target="http://images.yandex.ru/yandsearch?rpt=simage&amp;ed=1&amp;text=&#1088;&#1091;&#1095;&#1085;&#1099;&#1077;%20&#1076;&#1088;&#1077;&#1083;&#1080;&amp;p=0&amp;img_url=www.infracom.ru%2Fmag%2Fshop5%2Fimg%2FI0000002303_pic.jpg" TargetMode="External"/><Relationship Id="rId3" Type="http://schemas.openxmlformats.org/officeDocument/2006/relationships/hyperlink" Target="http://images.yandex.ru/yandsearch?rpt=simage&amp;ed=1&amp;text=&#1088;&#1091;&#1095;&#1085;&#1099;&#1077;%20&#1076;&#1088;&#1077;&#1083;&#1080;&amp;p=0&amp;img_url=www.infracom.ru%2Fmag%2Fshop5%2Fimg%2FI0000002303_pic.jpg" TargetMode="External"/><Relationship Id="rId4" Type="http://schemas.openxmlformats.org/officeDocument/2006/relationships/hyperlink" Target="http://images.yandex.ru/yandsearch?rpt=simage&amp;ed=1&amp;text=&#1088;&#1091;&#1095;&#1085;&#1099;&#1077;%20&#1076;&#1088;&#1077;&#1083;&#1080;&amp;p=0&amp;img_url=www.infracom.ru%2Fmag%2Fshop5%2Fimg%2FI0000002303_pic.jpg" TargetMode="External"/><Relationship Id="rId5" Type="http://schemas.openxmlformats.org/officeDocument/2006/relationships/hyperlink" Target="http://images.yandex.ru/yandsearch?rpt=simage&amp;ed=1&amp;text=&#1088;&#1091;&#1095;&#1085;&#1099;&#1077;%20&#1076;&#1088;&#1077;&#1083;&#1080;&amp;p=0&amp;img_url=www.infracom.ru%2Fmag%2Fshop5%2Fimg%2FI0000002303_pic.jpg" TargetMode="External"/><Relationship Id="rId6" Type="http://schemas.openxmlformats.org/officeDocument/2006/relationships/hyperlink" Target="http://images.yandex.ru/yandsearch?rpt=simage&amp;ed=1&amp;text=&#1088;&#1091;&#1095;&#1085;&#1099;&#1077;%20&#1076;&#1088;&#1077;&#1083;&#1080;&amp;p=0&amp;img_url=www.infracom.ru%2Fmag%2Fshop5%2Fimg%2FI0000002303_pic.jpg" TargetMode="External"/><Relationship Id="rId7" Type="http://schemas.openxmlformats.org/officeDocument/2006/relationships/hyperlink" Target="http://images.yandex.ru/yandsearch?rpt=simage&amp;ed=1&amp;text=&#1088;&#1091;&#1095;&#1085;&#1099;&#1077;%20&#1076;&#1088;&#1077;&#1083;&#1080;&amp;p=3&amp;img_url=darudar.org%2Fvar%2Ffiles%2Fimg%2F46%2Fdd%2F46dda294b4004ff34523e39b6182df2c_600.jpg" TargetMode="External"/><Relationship Id="rId8" Type="http://schemas.openxmlformats.org/officeDocument/2006/relationships/hyperlink" Target="http://images.yandex.ru/yandsearch?rpt=simage&amp;ed=1&amp;text=&#1088;&#1091;&#1095;&#1085;&#1099;&#1077;%20&#1076;&#1088;&#1077;&#1083;&#1080;&amp;p=3&amp;img_url=darudar.org%2Fvar%2Ffiles%2Fimg%2F46%2Fdd%2F46dda294b4004ff34523e39b6182df2c_600.jpg" TargetMode="External"/><Relationship Id="rId9" Type="http://schemas.openxmlformats.org/officeDocument/2006/relationships/hyperlink" Target="http://images.yandex.ru/yandsearch?rpt=simage&amp;ed=1&amp;text=&#1088;&#1091;&#1095;&#1085;&#1099;&#1077;%20&#1076;&#1088;&#1077;&#1083;&#1080;&amp;p=3&amp;img_url=darudar.org%2Fvar%2Ffiles%2Fimg%2F46%2Fdd%2F46dda294b4004ff34523e39b6182df2c_600.jpg" TargetMode="External"/><Relationship Id="rId10" Type="http://schemas.openxmlformats.org/officeDocument/2006/relationships/hyperlink" Target="http://images.yandex.ru/yandsearch?rpt=simage&amp;ed=1&amp;text=&#1088;&#1091;&#1095;&#1085;&#1099;&#1077;%20&#1076;&#1088;&#1077;&#1083;&#1080;&amp;p=3&amp;img_url=darudar.org%2Fvar%2Ffiles%2Fimg%2F46%2Fdd%2F46dda294b4004ff34523e39b6182df2c_600.jpg" TargetMode="External"/><Relationship Id="rId11" Type="http://schemas.openxmlformats.org/officeDocument/2006/relationships/hyperlink" Target="http://images.yandex.ru/yandsearch?rpt=simage&amp;ed=1&amp;text=&#1088;&#1091;&#1095;&#1085;&#1099;&#1077;%20&#1076;&#1088;&#1077;&#1083;&#1080;&amp;p=3&amp;img_url=darudar.org%2Fvar%2Ffiles%2Fimg%2F46%2Fdd%2F46dda294b4004ff34523e39b6182df2c_600.jpg" TargetMode="External"/><Relationship Id="rId12" Type="http://schemas.openxmlformats.org/officeDocument/2006/relationships/hyperlink" Target="http://images.yandex.ru/yandsearch?rpt=simage&amp;ed=1&amp;text=&#1088;&#1091;&#1095;&#1085;&#1099;&#1077;%20&#1076;&#1088;&#1077;&#1083;&#1080;&amp;p=4&amp;img_url=img-fotki.yandex.ru%2Fget%2F3303%2Frus-gap.7%2F0_20644_761e64ca_L.jpg" TargetMode="External"/><Relationship Id="rId13" Type="http://schemas.openxmlformats.org/officeDocument/2006/relationships/hyperlink" Target="http://images.yandex.ru/yandsearch?rpt=simage&amp;ed=1&amp;text=&#1088;&#1091;&#1095;&#1085;&#1099;&#1077;%20&#1076;&#1088;&#1077;&#1083;&#1080;&amp;p=4&amp;img_url=img-fotki.yandex.ru%2Fget%2F3303%2Frus-gap.7%2F0_20644_761e64ca_L.jpg" TargetMode="External"/><Relationship Id="rId14" Type="http://schemas.openxmlformats.org/officeDocument/2006/relationships/hyperlink" Target="http://images.yandex.ru/yandsearch?rpt=simage&amp;ed=1&amp;text=&#1088;&#1091;&#1095;&#1085;&#1099;&#1077;%20&#1076;&#1088;&#1077;&#1083;&#1080;&amp;p=4&amp;img_url=img-fotki.yandex.ru%2Fget%2F3303%2Frus-gap.7%2F0_20644_761e64ca_L.jpg" TargetMode="External"/><Relationship Id="rId15" Type="http://schemas.openxmlformats.org/officeDocument/2006/relationships/hyperlink" Target="http://images.yandex.ru/yandsearch?rpt=simage&amp;ed=1&amp;text=&#1088;&#1091;&#1095;&#1085;&#1099;&#1077;%20&#1076;&#1088;&#1077;&#1083;&#1080;&amp;p=4&amp;img_url=img-fotki.yandex.ru%2Fget%2F3303%2Frus-gap.7%2F0_20644_761e64ca_L.jpg" TargetMode="External"/><Relationship Id="rId16" Type="http://schemas.openxmlformats.org/officeDocument/2006/relationships/hyperlink" Target="http://images.yandex.ru/yandsearch?rpt=simage&amp;ed=1&amp;text=&#1088;&#1091;&#1095;&#1085;&#1099;&#1077;%20&#1076;&#1088;&#1077;&#1083;&#1080;&amp;p=4&amp;img_url=img-fotki.yandex.ru%2Fget%2F3303%2Frus-gap.7%2F0_20644_761e64ca_L.jpg" TargetMode="External"/><Relationship Id="rId17" Type="http://schemas.openxmlformats.org/officeDocument/2006/relationships/hyperlink" Target="http://images.yandex.ru/yandsearch?rpt=simage&amp;ed=1&amp;text=&#1082;&#1086;&#1083;&#1086;&#1074;&#1086;&#1088;&#1086;&#1090;&amp;p=1&amp;img_url=www.kimtex.ru%2Fimages%2F24860.jpg" TargetMode="External"/><Relationship Id="rId18" Type="http://schemas.openxmlformats.org/officeDocument/2006/relationships/hyperlink" Target="http://images.yandex.ru/yandsearch?rpt=simage&amp;ed=1&amp;text=&#1082;&#1086;&#1083;&#1086;&#1074;&#1086;&#1088;&#1086;&#1090;&amp;p=1&amp;img_url=www.kimtex.ru%2Fimages%2F24860.jpg" TargetMode="External"/><Relationship Id="rId19" Type="http://schemas.openxmlformats.org/officeDocument/2006/relationships/hyperlink" Target="http://images.yandex.ru/yandsearch?rpt=simage&amp;ed=1&amp;text=&#1082;&#1086;&#1083;&#1086;&#1074;&#1086;&#1088;&#1086;&#1090;&amp;p=1&amp;img_url=www.kimtex.ru%2Fimages%2F24860.jpg" TargetMode="External"/><Relationship Id="rId20" Type="http://schemas.openxmlformats.org/officeDocument/2006/relationships/hyperlink" Target="http://images.yandex.ru/yandsearch?rpt=simage&amp;ed=1&amp;text=&#1082;&#1086;&#1083;&#1086;&#1074;&#1086;&#1088;&#1086;&#1090;&amp;p=1&amp;img_url=www.kimtex.ru%2Fimages%2F24860.jpg" TargetMode="External"/><Relationship Id="rId21" Type="http://schemas.openxmlformats.org/officeDocument/2006/relationships/hyperlink" Target="http://images.yandex.ru/yandsearch?rpt=simage&amp;ed=1&amp;text=&#1082;&#1086;&#1083;&#1086;&#1074;&#1086;&#1088;&#1086;&#1090;&amp;p=1&amp;img_url=www.kimtex.ru%2Fimages%2F24860.jpg" TargetMode="External"/><Relationship Id="rId22" Type="http://schemas.openxmlformats.org/officeDocument/2006/relationships/hyperlink" Target="http://images.yandex.ru/yandsearch?rpt=simage&amp;ed=1&amp;text=&#1082;&#1086;&#1083;&#1086;&#1074;&#1086;&#1088;&#1086;&#1090;&amp;p=28&amp;img_url=www.louistools.de%2Fcatalog%2Fimages%2Fproducts%2Fstanley%2F1-02-715.jpg" TargetMode="External"/><Relationship Id="rId23" Type="http://schemas.openxmlformats.org/officeDocument/2006/relationships/hyperlink" Target="http://images.yandex.ru/yandsearch?rpt=simage&amp;ed=1&amp;text=&#1082;&#1086;&#1083;&#1086;&#1074;&#1086;&#1088;&#1086;&#1090;&amp;p=28&amp;img_url=www.louistools.de%2Fcatalog%2Fimages%2Fproducts%2Fstanley%2F1-02-715.jpg" TargetMode="External"/><Relationship Id="rId24" Type="http://schemas.openxmlformats.org/officeDocument/2006/relationships/hyperlink" Target="http://images.yandex.ru/yandsearch?rpt=simage&amp;ed=1&amp;text=&#1082;&#1086;&#1083;&#1086;&#1074;&#1086;&#1088;&#1086;&#1090;&amp;p=28&amp;img_url=www.louistools.de%2Fcatalog%2Fimages%2Fproducts%2Fstanley%2F1-02-715.jpg" TargetMode="External"/><Relationship Id="rId25" Type="http://schemas.openxmlformats.org/officeDocument/2006/relationships/hyperlink" Target="http://images.yandex.ru/yandsearch?rpt=simage&amp;ed=1&amp;text=&#1082;&#1086;&#1083;&#1086;&#1074;&#1086;&#1088;&#1086;&#1090;&amp;p=28&amp;img_url=www.louistools.de%2Fcatalog%2Fimages%2Fproducts%2Fstanley%2F1-02-715.jpg" TargetMode="External"/><Relationship Id="rId26" Type="http://schemas.openxmlformats.org/officeDocument/2006/relationships/hyperlink" Target="http://images.yandex.ru/yandsearch?rpt=simage&amp;ed=1&amp;text=&#1082;&#1086;&#1083;&#1086;&#1074;&#1086;&#1088;&#1086;&#1090;&amp;p=28&amp;img_url=www.louistools.de%2Fcatalog%2Fimages%2Fproducts%2Fstanley%2F1-02-715.jpg" TargetMode="External"/><Relationship Id="rId27" Type="http://schemas.openxmlformats.org/officeDocument/2006/relationships/hyperlink" Target="http://images.yandex.ru/yandsearch?rpt=simage&amp;ed=1&amp;text=&#1089;&#1074;&#1105;&#1088;&#1083;&#1072;&amp;p=6&amp;img_url=www.100zakazov.ru%2Fpublished%2Fpublicdata%2FU45716%2Fattachments%2FSC%2Fproducts_pictures%2Fsverla.jpg" TargetMode="External"/><Relationship Id="rId28" Type="http://schemas.openxmlformats.org/officeDocument/2006/relationships/hyperlink" Target="http://images.yandex.ru/yandsearch?rpt=simage&amp;ed=1&amp;text=&#1089;&#1074;&#1105;&#1088;&#1083;&#1072;&amp;p=6&amp;img_url=www.100zakazov.ru%2Fpublished%2Fpublicdata%2FU45716%2Fattachments%2FSC%2Fproducts_pictures%2Fsverla.jpg" TargetMode="External"/><Relationship Id="rId29" Type="http://schemas.openxmlformats.org/officeDocument/2006/relationships/hyperlink" Target="http://images.yandex.ru/yandsearch?rpt=simage&amp;ed=1&amp;text=&#1089;&#1074;&#1105;&#1088;&#1083;&#1072;&amp;p=6&amp;img_url=www.100zakazov.ru%2Fpublished%2Fpublicdata%2FU45716%2Fattachments%2FSC%2Fproducts_pictures%2Fsverla.jpg" TargetMode="External"/><Relationship Id="rId30" Type="http://schemas.openxmlformats.org/officeDocument/2006/relationships/hyperlink" Target="http://images.yandex.ru/yandsearch?rpt=simage&amp;ed=1&amp;text=&#1089;&#1074;&#1105;&#1088;&#1083;&#1072;&amp;p=6&amp;img_url=www.100zakazov.ru%2Fpublished%2Fpublicdata%2FU45716%2Fattachments%2FSC%2Fproducts_pictures%2Fsverla.jpg" TargetMode="External"/><Relationship Id="rId31" Type="http://schemas.openxmlformats.org/officeDocument/2006/relationships/hyperlink" Target="http://images.yandex.ru/yandsearch?rpt=simage&amp;ed=1&amp;text=&#1089;&#1074;&#1105;&#1088;&#1083;&#1072;&amp;p=6&amp;img_url=www.100zakazov.ru%2Fpublished%2Fpublicdata%2FU45716%2Fattachments%2FSC%2Fproducts_pictures%2Fsverla.jpg" TargetMode="External"/><Relationship Id="rId32" Type="http://schemas.openxmlformats.org/officeDocument/2006/relationships/hyperlink" Target="http://images.yandex.ru/yandsearch?rpt=simage&amp;ed=1&amp;text=&#1089;&#1074;&#1105;&#1088;&#1083;&#1072;&amp;p=13&amp;img_url=10010346.fis.ru%2Ffiles%2F10057908.jpg" TargetMode="External"/><Relationship Id="rId33" Type="http://schemas.openxmlformats.org/officeDocument/2006/relationships/hyperlink" Target="http://images.yandex.ru/yandsearch?rpt=simage&amp;ed=1&amp;text=&#1089;&#1074;&#1105;&#1088;&#1083;&#1072;&amp;p=13&amp;img_url=10010346.fis.ru%2Ffiles%2F10057908.jpg" TargetMode="External"/><Relationship Id="rId34" Type="http://schemas.openxmlformats.org/officeDocument/2006/relationships/hyperlink" Target="http://images.yandex.ru/yandsearch?rpt=simage&amp;ed=1&amp;text=&#1089;&#1074;&#1105;&#1088;&#1083;&#1072;&amp;p=13&amp;img_url=10010346.fis.ru%2Ffiles%2F10057908.jpg" TargetMode="External"/><Relationship Id="rId35" Type="http://schemas.openxmlformats.org/officeDocument/2006/relationships/hyperlink" Target="http://images.yandex.ru/yandsearch?rpt=simage&amp;ed=1&amp;text=&#1089;&#1074;&#1105;&#1088;&#1083;&#1072;&amp;p=13&amp;img_url=10010346.fis.ru%2Ffiles%2F10057908.jpg" TargetMode="External"/><Relationship Id="rId36" Type="http://schemas.openxmlformats.org/officeDocument/2006/relationships/hyperlink" Target="http://images.yandex.ru/yandsearch?rpt=simage&amp;ed=1&amp;text=&#1089;&#1074;&#1105;&#1088;&#1083;&#1072;&amp;p=13&amp;img_url=10010346.fis.ru%2Ffiles%2F10057908.jpg" TargetMode="External"/><Relationship Id="rId37" Type="http://schemas.openxmlformats.org/officeDocument/2006/relationships/hyperlink" Target="http://images.yandex.ru/yandsearch?rpt=simage&amp;text=&#1087;&#1088;&#1080;&#1105;&#1084;&#1099;%20&#1089;&#1074;&#1077;&#1088;&#1083;&#1077;&#1085;&#1080;&#1103;%20&#1082;&#1086;&#1083;&#1086;&#1074;&#1086;&#1088;&#1086;&#1090;&#1086;&#1084;&amp;p=3&amp;img_url=make-1.ru%2F1s%2Fimages4%2Fderevo68.png" TargetMode="External"/><Relationship Id="rId38" Type="http://schemas.openxmlformats.org/officeDocument/2006/relationships/hyperlink" Target="http://images.yandex.ru/yandsearch?rpt=simage&amp;text=&#1087;&#1088;&#1080;&#1105;&#1084;&#1099;%20&#1089;&#1074;&#1077;&#1088;&#1083;&#1077;&#1085;&#1080;&#1103;%20&#1082;&#1086;&#1083;&#1086;&#1074;&#1086;&#1088;&#1086;&#1090;&#1086;&#1084;&amp;p=3&amp;img_url=make-1.ru%2F1s%2Fimages4%2Fderevo68.png" TargetMode="External"/><Relationship Id="rId39" Type="http://schemas.openxmlformats.org/officeDocument/2006/relationships/hyperlink" Target="http://images.yandex.ru/yandsearch?rpt=simage&amp;text=&#1087;&#1088;&#1080;&#1105;&#1084;&#1099;%20&#1089;&#1074;&#1077;&#1088;&#1083;&#1077;&#1085;&#1080;&#1103;%20&#1082;&#1086;&#1083;&#1086;&#1074;&#1086;&#1088;&#1086;&#1090;&#1086;&#1084;&amp;p=3&amp;img_url=make-1.ru%2F1s%2Fimages4%2Fderevo68.png" TargetMode="External"/><Relationship Id="rId40" Type="http://schemas.openxmlformats.org/officeDocument/2006/relationships/hyperlink" Target="http://images.yandex.ru/yandsearch?rpt=simage&amp;text=&#1087;&#1088;&#1080;&#1105;&#1084;&#1099;%20&#1089;&#1074;&#1077;&#1088;&#1083;&#1077;&#1085;&#1080;&#1103;%20&#1082;&#1086;&#1083;&#1086;&#1074;&#1086;&#1088;&#1086;&#1090;&#1086;&#1084;&amp;p=3&amp;img_url=make-1.ru%2F1s%2Fimages4%2Fderevo68.png" TargetMode="External"/><Relationship Id="rId41" Type="http://schemas.openxmlformats.org/officeDocument/2006/relationships/hyperlink" Target="http://images.yandex.ru/yandsearch?rpt=simage&amp;text=&#1087;&#1088;&#1080;&#1105;&#1084;&#1099;%20&#1089;&#1074;&#1077;&#1088;&#1083;&#1077;&#1085;&#1080;&#1103;%20&#1082;&#1086;&#1083;&#1086;&#1074;&#1086;&#1088;&#1086;&#1090;&#1086;&#1084;&amp;p=3&amp;img_url=make-1.ru%2F1s%2Fimages4%2Fderevo68.png" TargetMode="External"/><Relationship Id="rId4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Сверление отверстий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готовил: Попов Н.В. - учитель технологии, МОУ СОШ №4                   г. Ртищево, 2011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564000" y="2276640"/>
            <a:ext cx="1585800" cy="15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Техника безопасности при сверлени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дёжно закреплять заготовку и подкладную доску на верстак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дёжно, без перекоса, закреплять сверло в патроне, не допуская его перекос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учку коловорота или дрели вращать свободно, без больших усил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оловорот или дрель класть на верстак сверлом от себ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380360" y="537372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Вопросы для закрепления материала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Что называют отверстиям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ие виды отверстий вы знает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ие виды свёрл вы знает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 определить диаметр сверл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Чем отличается коловорот от дрел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ля какой цели при сверлении отверстия под заготовку подкладывают доск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172360" y="5157720"/>
            <a:ext cx="7812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Список литератур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имоненко В.Д. Технология. – Москва.: ПРОСВЕЩЕНИЕ, 2002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Интернет- ресурсы:</a:t>
            </a:r>
            <a:r>
              <a:rPr b="0" lang="ru-RU" sz="11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tyap-lyap.org/derevo/sverlenie.s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images.yandex.ru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yandsearch?rpt=simage&amp;ed=1&amp;text=%D1%80%D1%83%D1%87%D0%BD%D1%8B%D0%B5%20%D0%B4%D1%80%D0%B5%D0%BB%D0%B8&amp;p=0&amp;img_url=www.infracom.ru%2Fmag%2Fshop5%2Fimg%2FI0000002303_pic.jpg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http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://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9"/>
              </a:rPr>
              <a:t>images.yandex.ru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10"/>
              </a:rPr>
              <a:t>/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11"/>
              </a:rPr>
              <a:t>yandsearch?rpt=simage&amp;ed=1&amp;text=%D1%80%D1%83%D1%87%D0%BD%D1%8B%D0%B5%20%D0%B4%D1%80%D0%B5%D0%BB%D0%B8&amp;p=3&amp;img_url=darudar.org%2Fvar%2Ffiles%2Fimg%2F46%2Fdd%2F46dda294b4004ff34523e39b6182df2c_600.jpg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12"/>
              </a:rPr>
              <a:t>http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13"/>
              </a:rPr>
              <a:t>://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14"/>
              </a:rPr>
              <a:t>images.yandex.ru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15"/>
              </a:rPr>
              <a:t>/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16"/>
              </a:rPr>
              <a:t>yandsearch?rpt=simage&amp;ed=1&amp;text=%D1%80%D1%83%D1%87%D0%BD%D1%8B%D0%B5%20%D0%B4%D1%80%D0%B5%D0%BB%D0%B8&amp;p=4&amp;img_url=img-fotki.yandex.ru%2Fget%2F3303%2Frus-gap.7%2F0_20644_761e64ca_L.jpg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17"/>
              </a:rPr>
              <a:t>http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18"/>
              </a:rPr>
              <a:t>://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19"/>
              </a:rPr>
              <a:t>images.yandex.ru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20"/>
              </a:rPr>
              <a:t>/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21"/>
              </a:rPr>
              <a:t>yandsearch?rpt=simage&amp;ed=1&amp;text=%D0%BA%D0%BE%D0%BB%D0%BE%D0%B2%D0%BE%D1%80%D0%BE%D1%82&amp;p=1&amp;img_url=www.kimtex.ru%2Fimages%2F24860.jpg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22"/>
              </a:rPr>
              <a:t>http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23"/>
              </a:rPr>
              <a:t>://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24"/>
              </a:rPr>
              <a:t>images.yandex.ru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25"/>
              </a:rPr>
              <a:t>/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26"/>
              </a:rPr>
              <a:t>yandsearch?rpt=simage&amp;ed=1&amp;text=%D0%BA%D0%BE%D0%BB%D0%BE%D0%B2%D0%BE%D1%80%D0%BE%D1%82&amp;p=28&amp;img_url=www.louistools.de%2Fcatalog%2Fimages%2Fproducts%2Fstanley%2F1-02-715.jpg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27"/>
              </a:rPr>
              <a:t>http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28"/>
              </a:rPr>
              <a:t>://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29"/>
              </a:rPr>
              <a:t>images.yandex.ru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30"/>
              </a:rPr>
              <a:t>/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31"/>
              </a:rPr>
              <a:t>yandsearch?rpt=simage&amp;ed=1&amp;text=%D1%81%D0%B2%D1%91%D1%80%D0%BB%D0%B0&amp;p=6&amp;img_url=www.100zakazov.ru%2Fpublished%2Fpublicdata%2FU45716%2Fattachments%2FSC%2Fproducts_pictures%2Fsverla.jpg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32"/>
              </a:rPr>
              <a:t>http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33"/>
              </a:rPr>
              <a:t>://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34"/>
              </a:rPr>
              <a:t>images.yandex.ru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35"/>
              </a:rPr>
              <a:t>/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36"/>
              </a:rPr>
              <a:t>yandsearch?rpt=simage&amp;ed=1&amp;text=%D1%81%D0%B2%D1%91%D1%80%D0%BB%D0%B0&amp;p=13&amp;img_url=10010346.fis.ru%2Ffiles%2F10057908.jpg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37"/>
              </a:rPr>
              <a:t>http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38"/>
              </a:rPr>
              <a:t>://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39"/>
              </a:rPr>
              <a:t>images.yandex.ru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40"/>
              </a:rPr>
              <a:t>/</a:t>
            </a:r>
            <a:r>
              <a:rPr b="0" lang="ru-RU" sz="1100" spc="-1" strike="noStrike" u="sng">
                <a:solidFill>
                  <a:srgbClr val="996600"/>
                </a:solidFill>
                <a:uFillTx/>
                <a:latin typeface="Arial"/>
                <a:hlinkClick r:id="rId41"/>
              </a:rPr>
              <a:t>yandsearch?rpt=simage&amp;text=%D0%BF%D1%80%D0%B8%D1%91%D0%BC%D1%8B%20%D1%81%D0%B2%D0%B5%D1%80%D0%BB%D0%B5%D0%BD%D0%B8%D1%8F%20%D0%BA%D0%BE%D0%BB%D0%BE%D0%B2%D0%BE%D1%80%D0%BE%D1%82%D0%BE%D0%BC&amp;p=3&amp;img_url=make-1.ru%2F1s%2Fimages4%2Fderevo68.png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лан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иды отверст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иды свёрл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элементы сверла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нструменты для сверле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иёмы сверле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ехника безопасности при сверлен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опросы для закрепления материал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писок литератур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164360" y="1557360"/>
            <a:ext cx="5238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иды отверстий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33cc"/>
                </a:solidFill>
                <a:latin typeface="Arial"/>
              </a:rPr>
              <a:t>Отверст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представляют собой углубления в деталях. Они могут быть </a:t>
            </a:r>
            <a:r>
              <a:rPr b="0" i="1" lang="en-US" sz="2200" spc="-1" strike="noStrike">
                <a:solidFill>
                  <a:srgbClr val="0033cc"/>
                </a:solidFill>
                <a:latin typeface="Arial"/>
              </a:rPr>
              <a:t>сквозными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33cc"/>
                </a:solidFill>
                <a:latin typeface="Arial"/>
              </a:rPr>
              <a:t>глухим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Сквозные отверстия проходят через всю деталь насквозь. Глухие не выходят наружу, а только выполняются на определённую глубин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321080" cy="18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иды отверстий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тверстиями называют углубления любой формы в поперечном сечении: круглые,  квадратные, прямоугольные, овальные, треугольные и т.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68440" y="2352600"/>
            <a:ext cx="5708520" cy="8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иды свёр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руглые отверстия легко и довольно точно высверливают свёрла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иболее распространены </a:t>
            </a:r>
            <a:r>
              <a:rPr b="0" i="1" lang="en-US" sz="2200" spc="-1" strike="noStrike">
                <a:solidFill>
                  <a:srgbClr val="0033cc"/>
                </a:solidFill>
                <a:latin typeface="Arial"/>
              </a:rPr>
              <a:t>спиральные свёрл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Их применяют для сверления различных материалов: металлов, древесины, пластмас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435640" y="1413000"/>
            <a:ext cx="2766960" cy="2185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116000" y="1557360"/>
            <a:ext cx="3095640" cy="19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иды свёр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высверливания отверстий в древесине применяют также </a:t>
            </a:r>
            <a:r>
              <a:rPr b="0" lang="ru-RU" sz="2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i="1" lang="ru-RU" sz="2600" spc="-1" strike="noStrike">
                <a:solidFill>
                  <a:srgbClr val="0033cc"/>
                </a:solidFill>
                <a:latin typeface="Arial"/>
              </a:rPr>
              <a:t>центровые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вёрла с подрезателями, </a:t>
            </a:r>
            <a:r>
              <a:rPr b="0" i="1" lang="ru-RU" sz="2600" spc="-1" strike="noStrike">
                <a:solidFill>
                  <a:srgbClr val="0033cc"/>
                </a:solidFill>
                <a:latin typeface="Arial"/>
              </a:rPr>
              <a:t>винтовые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600" spc="-1" strike="noStrike">
                <a:solidFill>
                  <a:srgbClr val="0033cc"/>
                </a:solidFill>
                <a:latin typeface="Arial"/>
              </a:rPr>
              <a:t>шнековые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ложечны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др. Диаметр сверла (в миллиметрах) указан на его стержн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1787760" cy="2185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643280" y="1224000"/>
            <a:ext cx="3313440" cy="227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Элементы сверла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ждое сверло на своей торцевой части имеет две режущие кромки. Режущими кромками при сверлении подрезаются  волокна древесины, и её частички в виде стружек выходят наружу через винтовые канавки. Хвостовая часть сверла служит для крепления его в </a:t>
            </a:r>
            <a:r>
              <a:rPr b="0" i="1" lang="en-US" sz="2000" spc="-1" strike="noStrike">
                <a:solidFill>
                  <a:srgbClr val="0033cc"/>
                </a:solidFill>
                <a:latin typeface="Arial"/>
              </a:rPr>
              <a:t>патроне коловоро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en-US" sz="2000" spc="-1" strike="noStrike">
                <a:solidFill>
                  <a:srgbClr val="0033cc"/>
                </a:solidFill>
                <a:latin typeface="Arial"/>
              </a:rPr>
              <a:t>ручной дре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Эти инструменты предназначены для вращения свер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3168720" cy="3313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804000" y="1413000"/>
            <a:ext cx="1504800" cy="2376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500720" y="1413000"/>
            <a:ext cx="164304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Инструменты для сверления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486900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оловорот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рел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2417760" cy="21924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372360" y="1916280"/>
            <a:ext cx="2305080" cy="1253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348000" y="1628640"/>
            <a:ext cx="2879640" cy="2159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219640" y="3789360"/>
            <a:ext cx="3095640" cy="232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риёмы сверления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050920" y="530028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зажиме верста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подстав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56000" y="1338120"/>
            <a:ext cx="3960720" cy="3803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9T06:45:22Z</dcterms:created>
  <dc:creator>Admin</dc:creator>
  <dc:description/>
  <dc:language>en-US</dc:language>
  <cp:lastModifiedBy>Admin</cp:lastModifiedBy>
  <dcterms:modified xsi:type="dcterms:W3CDTF">2011-07-21T12:41:39Z</dcterms:modified>
  <cp:revision>10</cp:revision>
  <dc:subject/>
  <dc:title>Сверление отверстий.</dc:title>
</cp:coreProperties>
</file>