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7.gif" ContentType="image/gif"/>
  <Override PartName="/ppt/media/image16.png" ContentType="image/png"/>
  <Override PartName="/ppt/media/image15.jpeg" ContentType="image/jpeg"/>
  <Override PartName="/ppt/media/image1.jpeg" ContentType="image/jpeg"/>
  <Override PartName="/ppt/media/image7.jpeg" ContentType="image/jpeg"/>
  <Override PartName="/ppt/media/image12.jpeg" ContentType="image/jpeg"/>
  <Override PartName="/ppt/media/image3.jpeg" ContentType="image/jpeg"/>
  <Override PartName="/ppt/media/image4.png" ContentType="image/png"/>
  <Override PartName="/ppt/media/image18.gif" ContentType="image/gif"/>
  <Override PartName="/ppt/media/image13.jpeg" ContentType="image/jpeg"/>
  <Override PartName="/ppt/media/image5.jpeg" ContentType="image/jpeg"/>
  <Override PartName="/ppt/media/image2.gif" ContentType="image/gif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BA97-5178-488B-B20D-1B6528551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A218-5CC8-472E-8C5D-1FC1AED78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53C4-3415-4BA7-A4B6-F52F6649E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76F8-562E-49B5-A14F-E9DE3AE8B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183A1-442F-4685-AD2B-6186102FE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E2E2D-5BC8-4928-B2EB-C14D1D6C3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68188-AC76-4087-BC04-24BDD853A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0BF57-7CD4-4A62-B6A8-D16FCEB14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57903-AD63-4FAE-90B4-5CC85C186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0CC9B-0379-4916-A54C-2B65DE9FE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5804F-4FCA-4E37-9429-C2386161F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606F-8296-4EEE-886F-A2C3A4D64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D15D8-2D16-4D6F-8664-5F3425E40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86CFB-C781-4D17-8F96-67361ABD3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C1D01-AE15-454D-B3E8-928AB4991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FC2F4-9E34-492C-A9E9-7C0F611A8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D2E93-4964-4C80-804E-A0CF23815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70DE-6700-42C8-B009-DC145840A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A95A-7D2A-48CB-8AE7-CADEBC05A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1E8B-87CB-4E78-A885-4501AAFF5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B029-AF08-4EC4-A5F9-AB5798412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F7F8-88A8-4DCD-85F9-6872F42FF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D150-8336-4765-8195-3D0D2EE73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4BE5-4BC7-43A3-97B7-9F9D3DC4E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8A92B-4E2E-4790-8806-3B6F3E5C8602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89A5D-1889-40CF-B375-8FE4583CCFC0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tyap-lyap.org/derevo/sverlenie.shtml" TargetMode="External"/><Relationship Id="rId2" Type="http://schemas.openxmlformats.org/officeDocument/2006/relationships/hyperlink" Target="http://images.yandex.ru/yandsearch?rpt=simage&amp;ed=1&amp;text=&#1088;&#1091;&#1095;&#1085;&#1099;&#1077;%20&#1076;&#1088;&#1077;&#1083;&#1080;&amp;p=0&amp;img_url=www.infracom.ru%2Fmag%2Fshop5%2Fimg%2FI0000002303_pic.jpg" TargetMode="External"/><Relationship Id="rId3" Type="http://schemas.openxmlformats.org/officeDocument/2006/relationships/hyperlink" Target="http://images.yandex.ru/yandsearch?rpt=simage&amp;ed=1&amp;text=&#1088;&#1091;&#1095;&#1085;&#1099;&#1077;%20&#1076;&#1088;&#1077;&#1083;&#1080;&amp;p=0&amp;img_url=www.infracom.ru%2Fmag%2Fshop5%2Fimg%2FI0000002303_pic.jpg" TargetMode="External"/><Relationship Id="rId4" Type="http://schemas.openxmlformats.org/officeDocument/2006/relationships/hyperlink" Target="http://images.yandex.ru/yandsearch?rpt=simage&amp;ed=1&amp;text=&#1088;&#1091;&#1095;&#1085;&#1099;&#1077;%20&#1076;&#1088;&#1077;&#1083;&#1080;&amp;p=0&amp;img_url=www.infracom.ru%2Fmag%2Fshop5%2Fimg%2FI0000002303_pic.jpg" TargetMode="External"/><Relationship Id="rId5" Type="http://schemas.openxmlformats.org/officeDocument/2006/relationships/hyperlink" Target="http://images.yandex.ru/yandsearch?rpt=simage&amp;ed=1&amp;text=&#1088;&#1091;&#1095;&#1085;&#1099;&#1077;%20&#1076;&#1088;&#1077;&#1083;&#1080;&amp;p=0&amp;img_url=www.infracom.ru%2Fmag%2Fshop5%2Fimg%2FI0000002303_pic.jpg" TargetMode="External"/><Relationship Id="rId6" Type="http://schemas.openxmlformats.org/officeDocument/2006/relationships/hyperlink" Target="http://images.yandex.ru/yandsearch?rpt=simage&amp;ed=1&amp;text=&#1088;&#1091;&#1095;&#1085;&#1099;&#1077;%20&#1076;&#1088;&#1077;&#1083;&#1080;&amp;p=0&amp;img_url=www.infracom.ru%2Fmag%2Fshop5%2Fimg%2FI0000002303_pic.jpg" TargetMode="External"/><Relationship Id="rId7" Type="http://schemas.openxmlformats.org/officeDocument/2006/relationships/hyperlink" Target="http://images.yandex.ru/yandsearch?rpt=simage&amp;ed=1&amp;text=&#1088;&#1091;&#1095;&#1085;&#1099;&#1077;%20&#1076;&#1088;&#1077;&#1083;&#1080;&amp;p=3&amp;img_url=darudar.org%2Fvar%2Ffiles%2Fimg%2F46%2Fdd%2F46dda294b4004ff34523e39b6182df2c_600.jpg" TargetMode="External"/><Relationship Id="rId8" Type="http://schemas.openxmlformats.org/officeDocument/2006/relationships/hyperlink" Target="http://images.yandex.ru/yandsearch?rpt=simage&amp;ed=1&amp;text=&#1088;&#1091;&#1095;&#1085;&#1099;&#1077;%20&#1076;&#1088;&#1077;&#1083;&#1080;&amp;p=3&amp;img_url=darudar.org%2Fvar%2Ffiles%2Fimg%2F46%2Fdd%2F46dda294b4004ff34523e39b6182df2c_600.jpg" TargetMode="External"/><Relationship Id="rId9" Type="http://schemas.openxmlformats.org/officeDocument/2006/relationships/hyperlink" Target="http://images.yandex.ru/yandsearch?rpt=simage&amp;ed=1&amp;text=&#1088;&#1091;&#1095;&#1085;&#1099;&#1077;%20&#1076;&#1088;&#1077;&#1083;&#1080;&amp;p=3&amp;img_url=darudar.org%2Fvar%2Ffiles%2Fimg%2F46%2Fdd%2F46dda294b4004ff34523e39b6182df2c_600.jpg" TargetMode="External"/><Relationship Id="rId10" Type="http://schemas.openxmlformats.org/officeDocument/2006/relationships/hyperlink" Target="http://images.yandex.ru/yandsearch?rpt=simage&amp;ed=1&amp;text=&#1088;&#1091;&#1095;&#1085;&#1099;&#1077;%20&#1076;&#1088;&#1077;&#1083;&#1080;&amp;p=3&amp;img_url=darudar.org%2Fvar%2Ffiles%2Fimg%2F46%2Fdd%2F46dda294b4004ff34523e39b6182df2c_600.jpg" TargetMode="External"/><Relationship Id="rId11" Type="http://schemas.openxmlformats.org/officeDocument/2006/relationships/hyperlink" Target="http://images.yandex.ru/yandsearch?rpt=simage&amp;ed=1&amp;text=&#1088;&#1091;&#1095;&#1085;&#1099;&#1077;%20&#1076;&#1088;&#1077;&#1083;&#1080;&amp;p=3&amp;img_url=darudar.org%2Fvar%2Ffiles%2Fimg%2F46%2Fdd%2F46dda294b4004ff34523e39b6182df2c_600.jpg" TargetMode="External"/><Relationship Id="rId12" Type="http://schemas.openxmlformats.org/officeDocument/2006/relationships/hyperlink" Target="http://images.yandex.ru/yandsearch?rpt=simage&amp;ed=1&amp;text=&#1088;&#1091;&#1095;&#1085;&#1099;&#1077;%20&#1076;&#1088;&#1077;&#1083;&#1080;&amp;p=4&amp;img_url=img-fotki.yandex.ru%2Fget%2F3303%2Frus-gap.7%2F0_20644_761e64ca_L.jpg" TargetMode="External"/><Relationship Id="rId13" Type="http://schemas.openxmlformats.org/officeDocument/2006/relationships/hyperlink" Target="http://images.yandex.ru/yandsearch?rpt=simage&amp;ed=1&amp;text=&#1088;&#1091;&#1095;&#1085;&#1099;&#1077;%20&#1076;&#1088;&#1077;&#1083;&#1080;&amp;p=4&amp;img_url=img-fotki.yandex.ru%2Fget%2F3303%2Frus-gap.7%2F0_20644_761e64ca_L.jpg" TargetMode="External"/><Relationship Id="rId14" Type="http://schemas.openxmlformats.org/officeDocument/2006/relationships/hyperlink" Target="http://images.yandex.ru/yandsearch?rpt=simage&amp;ed=1&amp;text=&#1088;&#1091;&#1095;&#1085;&#1099;&#1077;%20&#1076;&#1088;&#1077;&#1083;&#1080;&amp;p=4&amp;img_url=img-fotki.yandex.ru%2Fget%2F3303%2Frus-gap.7%2F0_20644_761e64ca_L.jpg" TargetMode="External"/><Relationship Id="rId15" Type="http://schemas.openxmlformats.org/officeDocument/2006/relationships/hyperlink" Target="http://images.yandex.ru/yandsearch?rpt=simage&amp;ed=1&amp;text=&#1088;&#1091;&#1095;&#1085;&#1099;&#1077;%20&#1076;&#1088;&#1077;&#1083;&#1080;&amp;p=4&amp;img_url=img-fotki.yandex.ru%2Fget%2F3303%2Frus-gap.7%2F0_20644_761e64ca_L.jpg" TargetMode="External"/><Relationship Id="rId16" Type="http://schemas.openxmlformats.org/officeDocument/2006/relationships/hyperlink" Target="http://images.yandex.ru/yandsearch?rpt=simage&amp;ed=1&amp;text=&#1088;&#1091;&#1095;&#1085;&#1099;&#1077;%20&#1076;&#1088;&#1077;&#1083;&#1080;&amp;p=4&amp;img_url=img-fotki.yandex.ru%2Fget%2F3303%2Frus-gap.7%2F0_20644_761e64ca_L.jpg" TargetMode="External"/><Relationship Id="rId17" Type="http://schemas.openxmlformats.org/officeDocument/2006/relationships/hyperlink" Target="http://images.yandex.ru/yandsearch?rpt=simage&amp;ed=1&amp;text=&#1082;&#1086;&#1083;&#1086;&#1074;&#1086;&#1088;&#1086;&#1090;&amp;p=1&amp;img_url=www.kimtex.ru%2Fimages%2F24860.jpg" TargetMode="External"/><Relationship Id="rId18" Type="http://schemas.openxmlformats.org/officeDocument/2006/relationships/hyperlink" Target="http://images.yandex.ru/yandsearch?rpt=simage&amp;ed=1&amp;text=&#1082;&#1086;&#1083;&#1086;&#1074;&#1086;&#1088;&#1086;&#1090;&amp;p=1&amp;img_url=www.kimtex.ru%2Fimages%2F24860.jpg" TargetMode="External"/><Relationship Id="rId19" Type="http://schemas.openxmlformats.org/officeDocument/2006/relationships/hyperlink" Target="http://images.yandex.ru/yandsearch?rpt=simage&amp;ed=1&amp;text=&#1082;&#1086;&#1083;&#1086;&#1074;&#1086;&#1088;&#1086;&#1090;&amp;p=1&amp;img_url=www.kimtex.ru%2Fimages%2F24860.jpg" TargetMode="External"/><Relationship Id="rId20" Type="http://schemas.openxmlformats.org/officeDocument/2006/relationships/hyperlink" Target="http://images.yandex.ru/yandsearch?rpt=simage&amp;ed=1&amp;text=&#1082;&#1086;&#1083;&#1086;&#1074;&#1086;&#1088;&#1086;&#1090;&amp;p=1&amp;img_url=www.kimtex.ru%2Fimages%2F24860.jpg" TargetMode="External"/><Relationship Id="rId21" Type="http://schemas.openxmlformats.org/officeDocument/2006/relationships/hyperlink" Target="http://images.yandex.ru/yandsearch?rpt=simage&amp;ed=1&amp;text=&#1082;&#1086;&#1083;&#1086;&#1074;&#1086;&#1088;&#1086;&#1090;&amp;p=1&amp;img_url=www.kimtex.ru%2Fimages%2F24860.jpg" TargetMode="External"/><Relationship Id="rId22" Type="http://schemas.openxmlformats.org/officeDocument/2006/relationships/hyperlink" Target="http://images.yandex.ru/yandsearch?rpt=simage&amp;ed=1&amp;text=&#1082;&#1086;&#1083;&#1086;&#1074;&#1086;&#1088;&#1086;&#1090;&amp;p=28&amp;img_url=www.louistools.de%2Fcatalog%2Fimages%2Fproducts%2Fstanley%2F1-02-715.jpg" TargetMode="External"/><Relationship Id="rId23" Type="http://schemas.openxmlformats.org/officeDocument/2006/relationships/hyperlink" Target="http://images.yandex.ru/yandsearch?rpt=simage&amp;ed=1&amp;text=&#1082;&#1086;&#1083;&#1086;&#1074;&#1086;&#1088;&#1086;&#1090;&amp;p=28&amp;img_url=www.louistools.de%2Fcatalog%2Fimages%2Fproducts%2Fstanley%2F1-02-715.jpg" TargetMode="External"/><Relationship Id="rId24" Type="http://schemas.openxmlformats.org/officeDocument/2006/relationships/hyperlink" Target="http://images.yandex.ru/yandsearch?rpt=simage&amp;ed=1&amp;text=&#1082;&#1086;&#1083;&#1086;&#1074;&#1086;&#1088;&#1086;&#1090;&amp;p=28&amp;img_url=www.louistools.de%2Fcatalog%2Fimages%2Fproducts%2Fstanley%2F1-02-715.jpg" TargetMode="External"/><Relationship Id="rId25" Type="http://schemas.openxmlformats.org/officeDocument/2006/relationships/hyperlink" Target="http://images.yandex.ru/yandsearch?rpt=simage&amp;ed=1&amp;text=&#1082;&#1086;&#1083;&#1086;&#1074;&#1086;&#1088;&#1086;&#1090;&amp;p=28&amp;img_url=www.louistools.de%2Fcatalog%2Fimages%2Fproducts%2Fstanley%2F1-02-715.jpg" TargetMode="External"/><Relationship Id="rId26" Type="http://schemas.openxmlformats.org/officeDocument/2006/relationships/hyperlink" Target="http://images.yandex.ru/yandsearch?rpt=simage&amp;ed=1&amp;text=&#1082;&#1086;&#1083;&#1086;&#1074;&#1086;&#1088;&#1086;&#1090;&amp;p=28&amp;img_url=www.louistools.de%2Fcatalog%2Fimages%2Fproducts%2Fstanley%2F1-02-715.jpg" TargetMode="External"/><Relationship Id="rId27" Type="http://schemas.openxmlformats.org/officeDocument/2006/relationships/hyperlink" Target="http://images.yandex.ru/yandsearch?rpt=simage&amp;ed=1&amp;text=&#1089;&#1074;&#1105;&#1088;&#1083;&#1072;&amp;p=6&amp;img_url=www.100zakazov.ru%2Fpublished%2Fpublicdata%2FU45716%2Fattachments%2FSC%2Fproducts_pictures%2Fsverla.jpg" TargetMode="External"/><Relationship Id="rId28" Type="http://schemas.openxmlformats.org/officeDocument/2006/relationships/hyperlink" Target="http://images.yandex.ru/yandsearch?rpt=simage&amp;ed=1&amp;text=&#1089;&#1074;&#1105;&#1088;&#1083;&#1072;&amp;p=6&amp;img_url=www.100zakazov.ru%2Fpublished%2Fpublicdata%2FU45716%2Fattachments%2FSC%2Fproducts_pictures%2Fsverla.jpg" TargetMode="External"/><Relationship Id="rId29" Type="http://schemas.openxmlformats.org/officeDocument/2006/relationships/hyperlink" Target="http://images.yandex.ru/yandsearch?rpt=simage&amp;ed=1&amp;text=&#1089;&#1074;&#1105;&#1088;&#1083;&#1072;&amp;p=6&amp;img_url=www.100zakazov.ru%2Fpublished%2Fpublicdata%2FU45716%2Fattachments%2FSC%2Fproducts_pictures%2Fsverla.jpg" TargetMode="External"/><Relationship Id="rId30" Type="http://schemas.openxmlformats.org/officeDocument/2006/relationships/hyperlink" Target="http://images.yandex.ru/yandsearch?rpt=simage&amp;ed=1&amp;text=&#1089;&#1074;&#1105;&#1088;&#1083;&#1072;&amp;p=6&amp;img_url=www.100zakazov.ru%2Fpublished%2Fpublicdata%2FU45716%2Fattachments%2FSC%2Fproducts_pictures%2Fsverla.jpg" TargetMode="External"/><Relationship Id="rId31" Type="http://schemas.openxmlformats.org/officeDocument/2006/relationships/hyperlink" Target="http://images.yandex.ru/yandsearch?rpt=simage&amp;ed=1&amp;text=&#1089;&#1074;&#1105;&#1088;&#1083;&#1072;&amp;p=6&amp;img_url=www.100zakazov.ru%2Fpublished%2Fpublicdata%2FU45716%2Fattachments%2FSC%2Fproducts_pictures%2Fsverla.jpg" TargetMode="External"/><Relationship Id="rId32" Type="http://schemas.openxmlformats.org/officeDocument/2006/relationships/hyperlink" Target="http://images.yandex.ru/yandsearch?rpt=simage&amp;ed=1&amp;text=&#1089;&#1074;&#1105;&#1088;&#1083;&#1072;&amp;p=13&amp;img_url=10010346.fis.ru%2Ffiles%2F10057908.jpg" TargetMode="External"/><Relationship Id="rId33" Type="http://schemas.openxmlformats.org/officeDocument/2006/relationships/hyperlink" Target="http://images.yandex.ru/yandsearch?rpt=simage&amp;ed=1&amp;text=&#1089;&#1074;&#1105;&#1088;&#1083;&#1072;&amp;p=13&amp;img_url=10010346.fis.ru%2Ffiles%2F10057908.jpg" TargetMode="External"/><Relationship Id="rId34" Type="http://schemas.openxmlformats.org/officeDocument/2006/relationships/hyperlink" Target="http://images.yandex.ru/yandsearch?rpt=simage&amp;ed=1&amp;text=&#1089;&#1074;&#1105;&#1088;&#1083;&#1072;&amp;p=13&amp;img_url=10010346.fis.ru%2Ffiles%2F10057908.jpg" TargetMode="External"/><Relationship Id="rId35" Type="http://schemas.openxmlformats.org/officeDocument/2006/relationships/hyperlink" Target="http://images.yandex.ru/yandsearch?rpt=simage&amp;ed=1&amp;text=&#1089;&#1074;&#1105;&#1088;&#1083;&#1072;&amp;p=13&amp;img_url=10010346.fis.ru%2Ffiles%2F10057908.jpg" TargetMode="External"/><Relationship Id="rId36" Type="http://schemas.openxmlformats.org/officeDocument/2006/relationships/hyperlink" Target="http://images.yandex.ru/yandsearch?rpt=simage&amp;ed=1&amp;text=&#1089;&#1074;&#1105;&#1088;&#1083;&#1072;&amp;p=13&amp;img_url=10010346.fis.ru%2Ffiles%2F10057908.jpg" TargetMode="External"/><Relationship Id="rId37" Type="http://schemas.openxmlformats.org/officeDocument/2006/relationships/hyperlink" Target="http://images.yandex.ru/yandsearch?rpt=simage&amp;text=&#1087;&#1088;&#1080;&#1105;&#1084;&#1099;%20&#1089;&#1074;&#1077;&#1088;&#1083;&#1077;&#1085;&#1080;&#1103;%20&#1082;&#1086;&#1083;&#1086;&#1074;&#1086;&#1088;&#1086;&#1090;&#1086;&#1084;&amp;p=3&amp;img_url=make-1.ru%2F1s%2Fimages4%2Fderevo68.png" TargetMode="External"/><Relationship Id="rId38" Type="http://schemas.openxmlformats.org/officeDocument/2006/relationships/hyperlink" Target="http://images.yandex.ru/yandsearch?rpt=simage&amp;text=&#1087;&#1088;&#1080;&#1105;&#1084;&#1099;%20&#1089;&#1074;&#1077;&#1088;&#1083;&#1077;&#1085;&#1080;&#1103;%20&#1082;&#1086;&#1083;&#1086;&#1074;&#1086;&#1088;&#1086;&#1090;&#1086;&#1084;&amp;p=3&amp;img_url=make-1.ru%2F1s%2Fimages4%2Fderevo68.png" TargetMode="External"/><Relationship Id="rId39" Type="http://schemas.openxmlformats.org/officeDocument/2006/relationships/hyperlink" Target="http://images.yandex.ru/yandsearch?rpt=simage&amp;text=&#1087;&#1088;&#1080;&#1105;&#1084;&#1099;%20&#1089;&#1074;&#1077;&#1088;&#1083;&#1077;&#1085;&#1080;&#1103;%20&#1082;&#1086;&#1083;&#1086;&#1074;&#1086;&#1088;&#1086;&#1090;&#1086;&#1084;&amp;p=3&amp;img_url=make-1.ru%2F1s%2Fimages4%2Fderevo68.png" TargetMode="External"/><Relationship Id="rId40" Type="http://schemas.openxmlformats.org/officeDocument/2006/relationships/hyperlink" Target="http://images.yandex.ru/yandsearch?rpt=simage&amp;text=&#1087;&#1088;&#1080;&#1105;&#1084;&#1099;%20&#1089;&#1074;&#1077;&#1088;&#1083;&#1077;&#1085;&#1080;&#1103;%20&#1082;&#1086;&#1083;&#1086;&#1074;&#1086;&#1088;&#1086;&#1090;&#1086;&#1084;&amp;p=3&amp;img_url=make-1.ru%2F1s%2Fimages4%2Fderevo68.png" TargetMode="External"/><Relationship Id="rId41" Type="http://schemas.openxmlformats.org/officeDocument/2006/relationships/hyperlink" Target="http://images.yandex.ru/yandsearch?rpt=simage&amp;text=&#1087;&#1088;&#1080;&#1105;&#1084;&#1099;%20&#1089;&#1074;&#1077;&#1088;&#1083;&#1077;&#1085;&#1080;&#1103;%20&#1082;&#1086;&#1083;&#1086;&#1074;&#1086;&#1088;&#1086;&#1090;&#1086;&#1084;&amp;p=3&amp;img_url=make-1.ru%2F1s%2Fimages4%2Fderevo68.png" TargetMode="External"/><Relationship Id="rId4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0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0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Сверление отверстий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дготовил: Попов Н.В. - учитель технологии, МОУ СОШ №4                   г. Ртищево, 2011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564000" y="2276640"/>
            <a:ext cx="1585800" cy="158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Техника безопасности при сверлении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Надёжно закреплять заготовку и подкладную доску на верстак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Надёжно, без перекоса, закреплять сверло в патроне, не допуская его перекос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Ручку коловорота или дрели вращать свободно, без больших усили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Коловорот или дрель класть на верстак сверлом от себ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7380360" y="5373720"/>
            <a:ext cx="1218960" cy="121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Вопросы для закрепления материала: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Что называют отверстиями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Какие виды отверстий вы знаете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Какие виды свёрл вы знаете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Как определить диаметр сверла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Чем отличается коловорот от дрели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Для какой цели при сверлении отверстия под заготовку подкладывают доску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8172360" y="5157720"/>
            <a:ext cx="781200" cy="95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Список литератур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Симоненко В.Д. Технология. – Москва.: ПРОСВЕЩЕНИЕ, 2002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Интернет- ресурсы:</a:t>
            </a:r>
            <a:r>
              <a:rPr b="0" lang="ru-RU" sz="11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http://www.tyap-lyap.org/derevo/sverlenie.shtm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996600"/>
                </a:solidFill>
                <a:uFillTx/>
                <a:latin typeface="Arial"/>
                <a:hlinkClick r:id="rId2"/>
              </a:rPr>
              <a:t>http</a:t>
            </a:r>
            <a:r>
              <a:rPr b="0" lang="ru-RU" sz="1100" spc="-1" strike="noStrike" u="sng">
                <a:solidFill>
                  <a:srgbClr val="996600"/>
                </a:solidFill>
                <a:uFillTx/>
                <a:latin typeface="Arial"/>
                <a:hlinkClick r:id="rId3"/>
              </a:rPr>
              <a:t>://</a:t>
            </a:r>
            <a:r>
              <a:rPr b="0" lang="ru-RU" sz="1100" spc="-1" strike="noStrike" u="sng">
                <a:solidFill>
                  <a:srgbClr val="996600"/>
                </a:solidFill>
                <a:uFillTx/>
                <a:latin typeface="Arial"/>
                <a:hlinkClick r:id="rId4"/>
              </a:rPr>
              <a:t>images.yandex.ru</a:t>
            </a:r>
            <a:r>
              <a:rPr b="0" lang="ru-RU" sz="1100" spc="-1" strike="noStrike" u="sng">
                <a:solidFill>
                  <a:srgbClr val="996600"/>
                </a:solidFill>
                <a:uFillTx/>
                <a:latin typeface="Arial"/>
                <a:hlinkClick r:id="rId5"/>
              </a:rPr>
              <a:t>/</a:t>
            </a:r>
            <a:r>
              <a:rPr b="0" lang="ru-RU" sz="1100" spc="-1" strike="noStrike" u="sng">
                <a:solidFill>
                  <a:srgbClr val="996600"/>
                </a:solidFill>
                <a:uFillTx/>
                <a:latin typeface="Arial"/>
                <a:hlinkClick r:id="rId6"/>
              </a:rPr>
              <a:t>yandsearch?rpt=simage&amp;ed=1&amp;text=%D1%80%D1%83%D1%87%D0%BD%D1%8B%D0%B5%20%D0%B4%D1%80%D0%B5%D0%BB%D0%B8&amp;p=0&amp;img_url=www.infracom.ru%2Fmag%2Fshop5%2Fimg%2FI0000002303_pic.jpg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996600"/>
                </a:solidFill>
                <a:uFillTx/>
                <a:latin typeface="Arial"/>
                <a:hlinkClick r:id="rId7"/>
              </a:rPr>
              <a:t>http</a:t>
            </a:r>
            <a:r>
              <a:rPr b="0" lang="ru-RU" sz="1100" spc="-1" strike="noStrike" u="sng">
                <a:solidFill>
                  <a:srgbClr val="996600"/>
                </a:solidFill>
                <a:uFillTx/>
                <a:latin typeface="Arial"/>
                <a:hlinkClick r:id="rId8"/>
              </a:rPr>
              <a:t>://</a:t>
            </a:r>
            <a:r>
              <a:rPr b="0" lang="ru-RU" sz="1100" spc="-1" strike="noStrike" u="sng">
                <a:solidFill>
                  <a:srgbClr val="996600"/>
                </a:solidFill>
                <a:uFillTx/>
                <a:latin typeface="Arial"/>
                <a:hlinkClick r:id="rId9"/>
              </a:rPr>
              <a:t>images.yandex.ru</a:t>
            </a:r>
            <a:r>
              <a:rPr b="0" lang="ru-RU" sz="1100" spc="-1" strike="noStrike" u="sng">
                <a:solidFill>
                  <a:srgbClr val="996600"/>
                </a:solidFill>
                <a:uFillTx/>
                <a:latin typeface="Arial"/>
                <a:hlinkClick r:id="rId10"/>
              </a:rPr>
              <a:t>/</a:t>
            </a:r>
            <a:r>
              <a:rPr b="0" lang="ru-RU" sz="1100" spc="-1" strike="noStrike" u="sng">
                <a:solidFill>
                  <a:srgbClr val="996600"/>
                </a:solidFill>
                <a:uFillTx/>
                <a:latin typeface="Arial"/>
                <a:hlinkClick r:id="rId11"/>
              </a:rPr>
              <a:t>yandsearch?rpt=simage&amp;ed=1&amp;text=%D1%80%D1%83%D1%87%D0%BD%D1%8B%D0%B5%20%D0%B4%D1%80%D0%B5%D0%BB%D0%B8&amp;p=3&amp;img_url=darudar.org%2Fvar%2Ffiles%2Fimg%2F46%2Fdd%2F46dda294b4004ff34523e39b6182df2c_600.jpg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996600"/>
                </a:solidFill>
                <a:uFillTx/>
                <a:latin typeface="Arial"/>
                <a:hlinkClick r:id="rId12"/>
              </a:rPr>
              <a:t>http</a:t>
            </a:r>
            <a:r>
              <a:rPr b="0" lang="ru-RU" sz="1100" spc="-1" strike="noStrike" u="sng">
                <a:solidFill>
                  <a:srgbClr val="996600"/>
                </a:solidFill>
                <a:uFillTx/>
                <a:latin typeface="Arial"/>
                <a:hlinkClick r:id="rId13"/>
              </a:rPr>
              <a:t>://</a:t>
            </a:r>
            <a:r>
              <a:rPr b="0" lang="ru-RU" sz="1100" spc="-1" strike="noStrike" u="sng">
                <a:solidFill>
                  <a:srgbClr val="996600"/>
                </a:solidFill>
                <a:uFillTx/>
                <a:latin typeface="Arial"/>
                <a:hlinkClick r:id="rId14"/>
              </a:rPr>
              <a:t>images.yandex.ru</a:t>
            </a:r>
            <a:r>
              <a:rPr b="0" lang="ru-RU" sz="1100" spc="-1" strike="noStrike" u="sng">
                <a:solidFill>
                  <a:srgbClr val="996600"/>
                </a:solidFill>
                <a:uFillTx/>
                <a:latin typeface="Arial"/>
                <a:hlinkClick r:id="rId15"/>
              </a:rPr>
              <a:t>/</a:t>
            </a:r>
            <a:r>
              <a:rPr b="0" lang="ru-RU" sz="1100" spc="-1" strike="noStrike" u="sng">
                <a:solidFill>
                  <a:srgbClr val="996600"/>
                </a:solidFill>
                <a:uFillTx/>
                <a:latin typeface="Arial"/>
                <a:hlinkClick r:id="rId16"/>
              </a:rPr>
              <a:t>yandsearch?rpt=simage&amp;ed=1&amp;text=%D1%80%D1%83%D1%87%D0%BD%D1%8B%D0%B5%20%D0%B4%D1%80%D0%B5%D0%BB%D0%B8&amp;p=4&amp;img_url=img-fotki.yandex.ru%2Fget%2F3303%2Frus-gap.7%2F0_20644_761e64ca_L.jpg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996600"/>
                </a:solidFill>
                <a:uFillTx/>
                <a:latin typeface="Arial"/>
                <a:hlinkClick r:id="rId17"/>
              </a:rPr>
              <a:t>http</a:t>
            </a:r>
            <a:r>
              <a:rPr b="0" lang="ru-RU" sz="1100" spc="-1" strike="noStrike" u="sng">
                <a:solidFill>
                  <a:srgbClr val="996600"/>
                </a:solidFill>
                <a:uFillTx/>
                <a:latin typeface="Arial"/>
                <a:hlinkClick r:id="rId18"/>
              </a:rPr>
              <a:t>://</a:t>
            </a:r>
            <a:r>
              <a:rPr b="0" lang="ru-RU" sz="1100" spc="-1" strike="noStrike" u="sng">
                <a:solidFill>
                  <a:srgbClr val="996600"/>
                </a:solidFill>
                <a:uFillTx/>
                <a:latin typeface="Arial"/>
                <a:hlinkClick r:id="rId19"/>
              </a:rPr>
              <a:t>images.yandex.ru</a:t>
            </a:r>
            <a:r>
              <a:rPr b="0" lang="ru-RU" sz="1100" spc="-1" strike="noStrike" u="sng">
                <a:solidFill>
                  <a:srgbClr val="996600"/>
                </a:solidFill>
                <a:uFillTx/>
                <a:latin typeface="Arial"/>
                <a:hlinkClick r:id="rId20"/>
              </a:rPr>
              <a:t>/</a:t>
            </a:r>
            <a:r>
              <a:rPr b="0" lang="ru-RU" sz="1100" spc="-1" strike="noStrike" u="sng">
                <a:solidFill>
                  <a:srgbClr val="996600"/>
                </a:solidFill>
                <a:uFillTx/>
                <a:latin typeface="Arial"/>
                <a:hlinkClick r:id="rId21"/>
              </a:rPr>
              <a:t>yandsearch?rpt=simage&amp;ed=1&amp;text=%D0%BA%D0%BE%D0%BB%D0%BE%D0%B2%D0%BE%D1%80%D0%BE%D1%82&amp;p=1&amp;img_url=www.kimtex.ru%2Fimages%2F24860.jpg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996600"/>
                </a:solidFill>
                <a:uFillTx/>
                <a:latin typeface="Arial"/>
                <a:hlinkClick r:id="rId22"/>
              </a:rPr>
              <a:t>http</a:t>
            </a:r>
            <a:r>
              <a:rPr b="0" lang="ru-RU" sz="1100" spc="-1" strike="noStrike" u="sng">
                <a:solidFill>
                  <a:srgbClr val="996600"/>
                </a:solidFill>
                <a:uFillTx/>
                <a:latin typeface="Arial"/>
                <a:hlinkClick r:id="rId23"/>
              </a:rPr>
              <a:t>://</a:t>
            </a:r>
            <a:r>
              <a:rPr b="0" lang="ru-RU" sz="1100" spc="-1" strike="noStrike" u="sng">
                <a:solidFill>
                  <a:srgbClr val="996600"/>
                </a:solidFill>
                <a:uFillTx/>
                <a:latin typeface="Arial"/>
                <a:hlinkClick r:id="rId24"/>
              </a:rPr>
              <a:t>images.yandex.ru</a:t>
            </a:r>
            <a:r>
              <a:rPr b="0" lang="ru-RU" sz="1100" spc="-1" strike="noStrike" u="sng">
                <a:solidFill>
                  <a:srgbClr val="996600"/>
                </a:solidFill>
                <a:uFillTx/>
                <a:latin typeface="Arial"/>
                <a:hlinkClick r:id="rId25"/>
              </a:rPr>
              <a:t>/</a:t>
            </a:r>
            <a:r>
              <a:rPr b="0" lang="ru-RU" sz="1100" spc="-1" strike="noStrike" u="sng">
                <a:solidFill>
                  <a:srgbClr val="996600"/>
                </a:solidFill>
                <a:uFillTx/>
                <a:latin typeface="Arial"/>
                <a:hlinkClick r:id="rId26"/>
              </a:rPr>
              <a:t>yandsearch?rpt=simage&amp;ed=1&amp;text=%D0%BA%D0%BE%D0%BB%D0%BE%D0%B2%D0%BE%D1%80%D0%BE%D1%82&amp;p=28&amp;img_url=www.louistools.de%2Fcatalog%2Fimages%2Fproducts%2Fstanley%2F1-02-715.jpg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996600"/>
                </a:solidFill>
                <a:uFillTx/>
                <a:latin typeface="Arial"/>
                <a:hlinkClick r:id="rId27"/>
              </a:rPr>
              <a:t>http</a:t>
            </a:r>
            <a:r>
              <a:rPr b="0" lang="ru-RU" sz="1100" spc="-1" strike="noStrike" u="sng">
                <a:solidFill>
                  <a:srgbClr val="996600"/>
                </a:solidFill>
                <a:uFillTx/>
                <a:latin typeface="Arial"/>
                <a:hlinkClick r:id="rId28"/>
              </a:rPr>
              <a:t>://</a:t>
            </a:r>
            <a:r>
              <a:rPr b="0" lang="ru-RU" sz="1100" spc="-1" strike="noStrike" u="sng">
                <a:solidFill>
                  <a:srgbClr val="996600"/>
                </a:solidFill>
                <a:uFillTx/>
                <a:latin typeface="Arial"/>
                <a:hlinkClick r:id="rId29"/>
              </a:rPr>
              <a:t>images.yandex.ru</a:t>
            </a:r>
            <a:r>
              <a:rPr b="0" lang="ru-RU" sz="1100" spc="-1" strike="noStrike" u="sng">
                <a:solidFill>
                  <a:srgbClr val="996600"/>
                </a:solidFill>
                <a:uFillTx/>
                <a:latin typeface="Arial"/>
                <a:hlinkClick r:id="rId30"/>
              </a:rPr>
              <a:t>/</a:t>
            </a:r>
            <a:r>
              <a:rPr b="0" lang="ru-RU" sz="1100" spc="-1" strike="noStrike" u="sng">
                <a:solidFill>
                  <a:srgbClr val="996600"/>
                </a:solidFill>
                <a:uFillTx/>
                <a:latin typeface="Arial"/>
                <a:hlinkClick r:id="rId31"/>
              </a:rPr>
              <a:t>yandsearch?rpt=simage&amp;ed=1&amp;text=%D1%81%D0%B2%D1%91%D1%80%D0%BB%D0%B0&amp;p=6&amp;img_url=www.100zakazov.ru%2Fpublished%2Fpublicdata%2FU45716%2Fattachments%2FSC%2Fproducts_pictures%2Fsverla.jpg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996600"/>
                </a:solidFill>
                <a:uFillTx/>
                <a:latin typeface="Arial"/>
                <a:hlinkClick r:id="rId32"/>
              </a:rPr>
              <a:t>http</a:t>
            </a:r>
            <a:r>
              <a:rPr b="0" lang="ru-RU" sz="1100" spc="-1" strike="noStrike" u="sng">
                <a:solidFill>
                  <a:srgbClr val="996600"/>
                </a:solidFill>
                <a:uFillTx/>
                <a:latin typeface="Arial"/>
                <a:hlinkClick r:id="rId33"/>
              </a:rPr>
              <a:t>://</a:t>
            </a:r>
            <a:r>
              <a:rPr b="0" lang="ru-RU" sz="1100" spc="-1" strike="noStrike" u="sng">
                <a:solidFill>
                  <a:srgbClr val="996600"/>
                </a:solidFill>
                <a:uFillTx/>
                <a:latin typeface="Arial"/>
                <a:hlinkClick r:id="rId34"/>
              </a:rPr>
              <a:t>images.yandex.ru</a:t>
            </a:r>
            <a:r>
              <a:rPr b="0" lang="ru-RU" sz="1100" spc="-1" strike="noStrike" u="sng">
                <a:solidFill>
                  <a:srgbClr val="996600"/>
                </a:solidFill>
                <a:uFillTx/>
                <a:latin typeface="Arial"/>
                <a:hlinkClick r:id="rId35"/>
              </a:rPr>
              <a:t>/</a:t>
            </a:r>
            <a:r>
              <a:rPr b="0" lang="ru-RU" sz="1100" spc="-1" strike="noStrike" u="sng">
                <a:solidFill>
                  <a:srgbClr val="996600"/>
                </a:solidFill>
                <a:uFillTx/>
                <a:latin typeface="Arial"/>
                <a:hlinkClick r:id="rId36"/>
              </a:rPr>
              <a:t>yandsearch?rpt=simage&amp;ed=1&amp;text=%D1%81%D0%B2%D1%91%D1%80%D0%BB%D0%B0&amp;p=13&amp;img_url=10010346.fis.ru%2Ffiles%2F10057908.jpg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996600"/>
                </a:solidFill>
                <a:uFillTx/>
                <a:latin typeface="Arial"/>
                <a:hlinkClick r:id="rId37"/>
              </a:rPr>
              <a:t>http</a:t>
            </a:r>
            <a:r>
              <a:rPr b="0" lang="ru-RU" sz="1100" spc="-1" strike="noStrike" u="sng">
                <a:solidFill>
                  <a:srgbClr val="996600"/>
                </a:solidFill>
                <a:uFillTx/>
                <a:latin typeface="Arial"/>
                <a:hlinkClick r:id="rId38"/>
              </a:rPr>
              <a:t>://</a:t>
            </a:r>
            <a:r>
              <a:rPr b="0" lang="ru-RU" sz="1100" spc="-1" strike="noStrike" u="sng">
                <a:solidFill>
                  <a:srgbClr val="996600"/>
                </a:solidFill>
                <a:uFillTx/>
                <a:latin typeface="Arial"/>
                <a:hlinkClick r:id="rId39"/>
              </a:rPr>
              <a:t>images.yandex.ru</a:t>
            </a:r>
            <a:r>
              <a:rPr b="0" lang="ru-RU" sz="1100" spc="-1" strike="noStrike" u="sng">
                <a:solidFill>
                  <a:srgbClr val="996600"/>
                </a:solidFill>
                <a:uFillTx/>
                <a:latin typeface="Arial"/>
                <a:hlinkClick r:id="rId40"/>
              </a:rPr>
              <a:t>/</a:t>
            </a:r>
            <a:r>
              <a:rPr b="0" lang="ru-RU" sz="1100" spc="-1" strike="noStrike" u="sng">
                <a:solidFill>
                  <a:srgbClr val="996600"/>
                </a:solidFill>
                <a:uFillTx/>
                <a:latin typeface="Arial"/>
                <a:hlinkClick r:id="rId41"/>
              </a:rPr>
              <a:t>yandsearch?rpt=simage&amp;text=%D0%BF%D1%80%D0%B8%D1%91%D0%BC%D1%8B%20%D1%81%D0%B2%D0%B5%D1%80%D0%BB%D0%B5%D0%BD%D0%B8%D1%8F%20%D0%BA%D0%BE%D0%BB%D0%BE%D0%B2%D0%BE%D1%80%D0%BE%D1%82%D0%BE%D0%BC&amp;p=3&amp;img_url=make-1.ru%2F1s%2Fimages4%2Fderevo68.png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План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виды отверстий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виды свёрл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996600"/>
                </a:solidFill>
                <a:uFillTx/>
                <a:latin typeface="Arial"/>
                <a:hlinkClick r:id="rId1" action="ppaction://hlinksldjump"/>
              </a:rPr>
              <a:t>элементы сверла;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инструменты для сверления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риёмы сверления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техника безопасности при сверлении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вопросы для закрепления материала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список литературы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7164360" y="1557360"/>
            <a:ext cx="523800" cy="47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Виды отверстий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394344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i="1" lang="en-US" sz="2200" spc="-1" strike="noStrike">
                <a:solidFill>
                  <a:srgbClr val="0033cc"/>
                </a:solidFill>
                <a:latin typeface="Arial"/>
              </a:rPr>
              <a:t>Отверстия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представляют собой углубления в деталях. Они могут быть </a:t>
            </a:r>
            <a:r>
              <a:rPr b="0" i="1" lang="en-US" sz="2200" spc="-1" strike="noStrike">
                <a:solidFill>
                  <a:srgbClr val="0033cc"/>
                </a:solidFill>
                <a:latin typeface="Arial"/>
              </a:rPr>
              <a:t>сквозными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i="1" lang="en-US" sz="2200" spc="-1" strike="noStrike">
                <a:solidFill>
                  <a:srgbClr val="0033cc"/>
                </a:solidFill>
                <a:latin typeface="Arial"/>
              </a:rPr>
              <a:t>глухим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 Сквозные отверстия проходят через всю деталь насквозь. Глухие не выходят наружу, а только выполняются на определённую глубин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340000" y="1557360"/>
            <a:ext cx="4321080" cy="186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Виды отверстий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394344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Отверстиями называют углубления любой формы в поперечном сечении: круглые,  квадратные, прямоугольные, овальные, треугольные и т.д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468440" y="2352600"/>
            <a:ext cx="5708520" cy="82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Виды свёрл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394344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Круглые отверстия легко и довольно точно высверливают свёрлам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Наиболее распространены </a:t>
            </a:r>
            <a:r>
              <a:rPr b="0" i="1" lang="en-US" sz="2200" spc="-1" strike="noStrike">
                <a:solidFill>
                  <a:srgbClr val="0033cc"/>
                </a:solidFill>
                <a:latin typeface="Arial"/>
              </a:rPr>
              <a:t>спиральные свёрл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 Их применяют для сверления различных материалов: металлов, древесины, пластмасс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435640" y="1413000"/>
            <a:ext cx="2766960" cy="21859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1116000" y="1557360"/>
            <a:ext cx="3095640" cy="191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Виды свёрл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394344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Для высверливания отверстий в древесине применяют также </a:t>
            </a:r>
            <a:r>
              <a:rPr b="0" lang="ru-RU" sz="26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i="1" lang="ru-RU" sz="2600" spc="-1" strike="noStrike">
                <a:solidFill>
                  <a:srgbClr val="0033cc"/>
                </a:solidFill>
                <a:latin typeface="Arial"/>
              </a:rPr>
              <a:t>центровые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вёрла с подрезателями, </a:t>
            </a:r>
            <a:r>
              <a:rPr b="0" i="1" lang="ru-RU" sz="2600" spc="-1" strike="noStrike">
                <a:solidFill>
                  <a:srgbClr val="0033cc"/>
                </a:solidFill>
                <a:latin typeface="Arial"/>
              </a:rPr>
              <a:t>винтовые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2600" spc="-1" strike="noStrike">
                <a:solidFill>
                  <a:srgbClr val="0033cc"/>
                </a:solidFill>
                <a:latin typeface="Arial"/>
              </a:rPr>
              <a:t>шнековые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ложечные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и др. Диаметр сверла (в миллиметрах) указан на его стержне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547640" y="1413000"/>
            <a:ext cx="1787760" cy="21859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643280" y="1224000"/>
            <a:ext cx="3313440" cy="227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Элементы сверла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394344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аждое сверло на своей торцевой части имеет две режущие кромки. Режущими кромками при сверлении подрезаются  волокна древесины, и её частички в виде стружек выходят наружу через винтовые канавки. Хвостовая часть сверла служит для крепления его в </a:t>
            </a:r>
            <a:r>
              <a:rPr b="0" i="1" lang="en-US" sz="2000" spc="-1" strike="noStrike">
                <a:solidFill>
                  <a:srgbClr val="0033cc"/>
                </a:solidFill>
                <a:latin typeface="Arial"/>
              </a:rPr>
              <a:t>патроне коловорот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0" i="1" lang="en-US" sz="2000" spc="-1" strike="noStrike">
                <a:solidFill>
                  <a:srgbClr val="0033cc"/>
                </a:solidFill>
                <a:latin typeface="Arial"/>
              </a:rPr>
              <a:t>ручной дрел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Эти инструменты предназначены для вращения свер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755640" y="836640"/>
            <a:ext cx="3168720" cy="33130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6804000" y="1413000"/>
            <a:ext cx="1504800" cy="23763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4500720" y="1413000"/>
            <a:ext cx="1643040" cy="237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Инструменты для сверления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24000" y="486900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коловорот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дрел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84360" y="1628640"/>
            <a:ext cx="2417760" cy="21924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6372360" y="1916280"/>
            <a:ext cx="2305080" cy="12538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3348000" y="1628640"/>
            <a:ext cx="2879640" cy="21592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5219640" y="3789360"/>
            <a:ext cx="3095640" cy="232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Приёмы сверления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050920" y="5300280"/>
            <a:ext cx="8229600" cy="21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зажиме верста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 подстав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556000" y="1338120"/>
            <a:ext cx="3960720" cy="38037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9T06:45:22Z</dcterms:created>
  <dc:creator>Admin</dc:creator>
  <dc:description/>
  <dc:language>en-US</dc:language>
  <cp:lastModifiedBy>Admin</cp:lastModifiedBy>
  <dcterms:modified xsi:type="dcterms:W3CDTF">2011-07-21T12:41:39Z</dcterms:modified>
  <cp:revision>10</cp:revision>
  <dc:subject/>
  <dc:title>Сверление отверстий.</dc:title>
</cp:coreProperties>
</file>