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951-4007-46D8-A5C1-71B64522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061-AB93-4959-B4CA-86C0FC34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1CC-FB0E-4576-B9B0-FA6BEE4B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C25-C26E-4FA8-B451-803AB774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B121-EDB6-4DAE-BB31-E8120C07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9961-C26E-4293-9A05-543C560E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5475-4D1D-4AF5-8787-D65E42BB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C9A8-5705-470E-ADEA-2D4CF40B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0127-837E-4226-8FAD-59D2024B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97B3-C856-4A9C-AAAF-42C85712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4593-114B-4B6E-B4C9-5F88D7BC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FC21-B49A-4DBA-BB86-9A8BFD9B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F5C2-D2A0-495C-BA22-2D141575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5A1D-3512-46A3-B46E-DBE47E7A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A616-75A1-479C-A3EF-3C2460F8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1E00-EABE-4E77-BB8D-AB4D5201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F84A-5FFC-4F2D-8C5D-4E84D52F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AF0-7A2A-4637-85D8-DF3678DE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F4A-FD0F-40A1-9453-F6C219D6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1C2-F1AA-407D-A0F1-59C92435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A15-41F7-4060-A262-459AF21B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D32-858A-4F2D-B941-78E0691C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B37-03D5-4A50-BB2F-6E720B88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C9F-B3F6-4868-91A9-DE297821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7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ba75f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ba75f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ba75f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ba7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ba75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4C0E-4B95-4E09-8E3E-EA5CC31A54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7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ba75ff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ba75f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7850ba"/>
                </a:gs>
                <a:gs pos="50000">
                  <a:srgbClr val="00cc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ba75f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ba7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ba75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2266-1A65-4D51-9BFB-9A38E51915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dd7df"/>
                </a:solidFill>
                <a:latin typeface="Tahoma"/>
              </a:rPr>
              <a:t>Тема урока :</a:t>
            </a:r>
            <a:r>
              <a:rPr b="1" lang="ru-RU" sz="4400" spc="-1" strike="noStrike">
                <a:solidFill>
                  <a:srgbClr val="cdd7d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00ccff"/>
                </a:solidFill>
                <a:latin typeface="Tahoma"/>
              </a:rPr>
              <a:t>«Строение и функции нервной системы»</a:t>
            </a:r>
            <a:r>
              <a:rPr b="1" lang="ru-RU" sz="4400" spc="-1" strike="noStrike">
                <a:solidFill>
                  <a:srgbClr val="cdd7df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5298120"/>
            <a:ext cx="640080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4172"/>
          <p:cNvPicPr/>
          <p:nvPr/>
        </p:nvPicPr>
        <p:blipFill>
          <a:blip r:embed="rId1"/>
          <a:stretch/>
        </p:blipFill>
        <p:spPr>
          <a:xfrm>
            <a:off x="1116000" y="260280"/>
            <a:ext cx="7128000" cy="626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153_8"/>
          <p:cNvPicPr/>
          <p:nvPr/>
        </p:nvPicPr>
        <p:blipFill>
          <a:blip r:embed="rId1"/>
          <a:stretch/>
        </p:blipFill>
        <p:spPr>
          <a:xfrm>
            <a:off x="900000" y="260280"/>
            <a:ext cx="755964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image001"/>
          <p:cNvPicPr/>
          <p:nvPr/>
        </p:nvPicPr>
        <p:blipFill>
          <a:blip r:embed="rId1"/>
          <a:stretch/>
        </p:blipFill>
        <p:spPr>
          <a:xfrm>
            <a:off x="1042920" y="260280"/>
            <a:ext cx="7274160" cy="64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редача нервных импульсов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нервная система"/>
          <p:cNvPicPr/>
          <p:nvPr/>
        </p:nvPicPr>
        <p:blipFill>
          <a:blip r:embed="rId1"/>
          <a:stretch/>
        </p:blipFill>
        <p:spPr>
          <a:xfrm>
            <a:off x="2916360" y="1773360"/>
            <a:ext cx="3527280" cy="43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рвная система подразделяется на 2            отдела ( по расположению)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1.Центральная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пинной мозг                   Головной моз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флекторная и              аналитиче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водниковая                и   рефлектор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ункция                            фун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2.Перифириче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рвы                              нервные уз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4"/>
          <p:cNvSpPr/>
          <p:nvPr/>
        </p:nvSpPr>
        <p:spPr>
          <a:xfrm flipH="1">
            <a:off x="2195280" y="2205000"/>
            <a:ext cx="1439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788000" y="2205000"/>
            <a:ext cx="158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6"/>
          <p:cNvSpPr/>
          <p:nvPr/>
        </p:nvSpPr>
        <p:spPr>
          <a:xfrm flipH="1">
            <a:off x="1403280" y="5157720"/>
            <a:ext cx="165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4284720" y="5157720"/>
            <a:ext cx="1511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инной мозг расположен в позвоночном канале, на границе между спинным и головным мозгом. Находится на уровне большого затылочного отверс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инной мозг разделяется на две половины передней и задней бороздами. Через межпозвоночные отверстия позвоночного канала от спинного мозга отходит </a:t>
            </a:r>
            <a:r>
              <a:rPr b="1" lang="ru-RU" sz="3200" spc="-1" strike="noStrike">
                <a:solidFill>
                  <a:srgbClr val="0796b3"/>
                </a:solidFill>
                <a:latin typeface="Tahoma"/>
              </a:rPr>
              <a:t>31 пара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смешанных спинномозговых нерв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10023-1"/>
          <p:cNvPicPr/>
          <p:nvPr/>
        </p:nvPicPr>
        <p:blipFill>
          <a:blip r:embed="rId1"/>
          <a:stretch/>
        </p:blipFill>
        <p:spPr>
          <a:xfrm>
            <a:off x="684360" y="260280"/>
            <a:ext cx="7848360" cy="619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пинной мозг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4" descr="спиной мозг"/>
          <p:cNvPicPr/>
          <p:nvPr/>
        </p:nvPicPr>
        <p:blipFill>
          <a:blip r:embed="rId1"/>
          <a:stretch/>
        </p:blipFill>
        <p:spPr>
          <a:xfrm>
            <a:off x="2700360" y="1413000"/>
            <a:ext cx="4319640" cy="518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пинной мозг в разрезе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спиной мозг разрез"/>
          <p:cNvPicPr/>
          <p:nvPr/>
        </p:nvPicPr>
        <p:blipFill>
          <a:blip r:embed="rId1"/>
          <a:stretch/>
        </p:blipFill>
        <p:spPr>
          <a:xfrm>
            <a:off x="2050920" y="1990800"/>
            <a:ext cx="5257800" cy="4390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оперечный срез нервного волокна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поперечный срез нервного волокна"/>
          <p:cNvPicPr/>
          <p:nvPr/>
        </p:nvPicPr>
        <p:blipFill>
          <a:blip r:embed="rId1"/>
          <a:stretch/>
        </p:blipFill>
        <p:spPr>
          <a:xfrm>
            <a:off x="1042920" y="1844640"/>
            <a:ext cx="7632720" cy="453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49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Нервная ткань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представлена нервными клетками-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нейронами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 функциям нейроны бывают 3 видов 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1.</a:t>
            </a:r>
            <a:r>
              <a:rPr b="1" i="1" lang="ru-RU" sz="4000" spc="-1" strike="noStrike">
                <a:solidFill>
                  <a:srgbClr val="6600cc"/>
                </a:solidFill>
                <a:latin typeface="Tahoma"/>
              </a:rPr>
              <a:t>чувствительные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2.</a:t>
            </a:r>
            <a:r>
              <a:rPr b="1" i="1" lang="ru-RU" sz="4000" spc="-1" strike="noStrike">
                <a:solidFill>
                  <a:srgbClr val="6600cc"/>
                </a:solidFill>
                <a:latin typeface="Tahoma"/>
              </a:rPr>
              <a:t>двигательные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3.</a:t>
            </a:r>
            <a:r>
              <a:rPr b="1" i="1" lang="ru-RU" sz="4000" spc="-1" strike="noStrike">
                <a:solidFill>
                  <a:srgbClr val="6600cc"/>
                </a:solidFill>
                <a:latin typeface="Tahoma"/>
              </a:rPr>
              <a:t>вставочные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5805000"/>
            <a:ext cx="7543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nerv"/>
          <p:cNvPicPr/>
          <p:nvPr/>
        </p:nvPicPr>
        <p:blipFill>
          <a:blip r:embed="rId1"/>
          <a:stretch/>
        </p:blipFill>
        <p:spPr>
          <a:xfrm>
            <a:off x="1619280" y="115920"/>
            <a:ext cx="6121440" cy="65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V2038_L_the-nervous-system-rear"/>
          <p:cNvPicPr/>
          <p:nvPr/>
        </p:nvPicPr>
        <p:blipFill>
          <a:blip r:embed="rId1"/>
          <a:stretch/>
        </p:blipFill>
        <p:spPr>
          <a:xfrm>
            <a:off x="1908000" y="189000"/>
            <a:ext cx="5759640" cy="64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Tahoma"/>
              </a:rPr>
              <a:t>Домашнее задание:</a:t>
            </a:r>
            <a:br>
              <a:rPr sz="4400"/>
            </a:b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ahoma"/>
              </a:rPr>
              <a:t>§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14 читать ,устно отвечать на вопрос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Рис. 31, 32 зарисовать в тетрад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60896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Аксоны и дендриты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аксоны и дендриты"/>
          <p:cNvPicPr/>
          <p:nvPr/>
        </p:nvPicPr>
        <p:blipFill>
          <a:blip r:embed="rId1"/>
          <a:stretch/>
        </p:blipFill>
        <p:spPr>
          <a:xfrm>
            <a:off x="2050920" y="1197000"/>
            <a:ext cx="576108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Различные типы нейронов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различные типы нейронов"/>
          <p:cNvPicPr/>
          <p:nvPr/>
        </p:nvPicPr>
        <p:blipFill>
          <a:blip r:embed="rId1"/>
          <a:stretch/>
        </p:blipFill>
        <p:spPr>
          <a:xfrm>
            <a:off x="1042920" y="191628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ейрон сетчатки глаза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нейрон сетчатки глаза"/>
          <p:cNvPicPr/>
          <p:nvPr/>
        </p:nvPicPr>
        <p:blipFill>
          <a:blip r:embed="rId1"/>
          <a:stretch/>
        </p:blipFill>
        <p:spPr>
          <a:xfrm>
            <a:off x="2771640" y="1916280"/>
            <a:ext cx="4608720" cy="43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Функции нервной системы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.Сохраняет целостность орган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.Регулирует работу органов и систем орг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3.Обеспечивает связь организма с внешней средой, осуществляет приспособление организма к изменяющимся условиям сре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4.Определяет психические действия мышления ,членораздельную реч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Рефлекс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–это ответная реакция организма на внутренние и внешние раздражители, осуществляемая с помощью ЦНС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Рефлекторная дуга-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это путь , по которому проходит нервный импульс для осуществления рефлекс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троение сенсорного  и моторного нервов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строение сенсорного и моторного нервов"/>
          <p:cNvPicPr/>
          <p:nvPr/>
        </p:nvPicPr>
        <p:blipFill>
          <a:blip r:embed="rId1"/>
          <a:stretch/>
        </p:blipFill>
        <p:spPr>
          <a:xfrm>
            <a:off x="900000" y="2000160"/>
            <a:ext cx="7775640" cy="4381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нервная система"/>
          <p:cNvPicPr/>
          <p:nvPr/>
        </p:nvPicPr>
        <p:blipFill>
          <a:blip r:embed="rId1"/>
          <a:stretch/>
        </p:blipFill>
        <p:spPr>
          <a:xfrm>
            <a:off x="1908000" y="189000"/>
            <a:ext cx="5616720" cy="626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0:48:33Z</dcterms:created>
  <dc:creator>SamLab.ws</dc:creator>
  <dc:description/>
  <dc:language>en-US</dc:language>
  <cp:lastModifiedBy>Windows XP</cp:lastModifiedBy>
  <dcterms:modified xsi:type="dcterms:W3CDTF">2011-04-24T07:18:20Z</dcterms:modified>
  <cp:revision>5</cp:revision>
  <dc:subject/>
  <dc:title>Тема урока : «Строение и функции нервной системы» </dc:title>
</cp:coreProperties>
</file>