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05C-A7F2-497A-A615-854A0FF2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A3C-66E7-4598-9A28-148CD523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BA5-8C63-4EA1-B076-5ECBDB0D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585-3D61-41F5-9C2D-674672C4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1ABE-CD4E-460D-84BC-24003A71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E0A2-273C-4000-9956-E4550A92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DB3F-2DF2-423D-B30F-A0EC2748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E725-8AA8-4F92-82E7-FBF49CD5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A42A-30DF-4307-AB62-EE4F11FA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3C7-9DE4-4982-BC95-365000E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D54-1B4C-4845-A772-42B5B8C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570-959F-4CBC-BE3E-504E1EAF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5FB0-C212-485F-B363-EEC4DE1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42C8-142F-40C5-B731-34C909F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0C6-94C1-4A9C-8B2F-DFC5B79F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83D4-591D-403E-B636-98F484B4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7AF0-D5FA-4768-9B4E-FBEFE867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735-4CF1-4DF8-BB42-4FC06FA4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BB0-CCBF-45BD-AB79-3E69CC3D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26D-8EC7-40FE-92DB-9AEEE619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411-1647-4A31-BFD2-2891951F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A41-59FA-4A30-B6AE-D26FBE1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6F3-990C-4DF6-B891-DE19013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D6C-D380-410F-9DEE-1A3C5C35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7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ba75f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ba75f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221B-DBC2-4809-9D55-DA6BE24936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7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1C15-4329-44E6-8556-5571A392B8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dd7df"/>
                </a:solidFill>
                <a:latin typeface="Tahoma"/>
              </a:rPr>
              <a:t>Тема урока :</a:t>
            </a:r>
            <a:r>
              <a:rPr b="1" lang="ru-RU" sz="44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00ccff"/>
                </a:solidFill>
                <a:latin typeface="Tahoma"/>
              </a:rPr>
              <a:t>«Строение и функции нервной системы»</a:t>
            </a:r>
            <a:r>
              <a:rPr b="1" lang="ru-RU" sz="4400" spc="-1" strike="noStrike">
                <a:solidFill>
                  <a:srgbClr val="cdd7df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4172"/>
          <p:cNvPicPr/>
          <p:nvPr/>
        </p:nvPicPr>
        <p:blipFill>
          <a:blip r:embed="rId1"/>
          <a:stretch/>
        </p:blipFill>
        <p:spPr>
          <a:xfrm>
            <a:off x="1116000" y="260280"/>
            <a:ext cx="712800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153_8"/>
          <p:cNvPicPr/>
          <p:nvPr/>
        </p:nvPicPr>
        <p:blipFill>
          <a:blip r:embed="rId1"/>
          <a:stretch/>
        </p:blipFill>
        <p:spPr>
          <a:xfrm>
            <a:off x="900000" y="260280"/>
            <a:ext cx="755964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image001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ача нервных импульсов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нервная система"/>
          <p:cNvPicPr/>
          <p:nvPr/>
        </p:nvPicPr>
        <p:blipFill>
          <a:blip r:embed="rId1"/>
          <a:stretch/>
        </p:blipFill>
        <p:spPr>
          <a:xfrm>
            <a:off x="2916360" y="1773360"/>
            <a:ext cx="3527280" cy="43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рвная система подразделяется на 2            отдела ( по расположению)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1.Центральна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инной мозг                   Головной моз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флекторная и              аналит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водниковая                и   рефлектор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ункция                            фун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2.Перифир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рвы                              нервные уз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2195280" y="2205000"/>
            <a:ext cx="1439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788000" y="2205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1403280" y="5157720"/>
            <a:ext cx="165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284720" y="5157720"/>
            <a:ext cx="1511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инной мозг расположен в позвоночном канале, на границе между спинным и головным мозгом. Находится на уровне большого затылочного отверс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инной мозг разделяется на две половины передней и задней бороздами. Через межпозвоночные отверстия позвоночного канала от спинного мозга отходит </a:t>
            </a:r>
            <a:r>
              <a:rPr b="1" lang="ru-RU" sz="3200" spc="-1" strike="noStrike">
                <a:solidFill>
                  <a:srgbClr val="0796b3"/>
                </a:solidFill>
                <a:latin typeface="Tahoma"/>
              </a:rPr>
              <a:t>31 пар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смешанных спинномозговых нерв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10023-1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19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пинной мозг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спиной мозг"/>
          <p:cNvPicPr/>
          <p:nvPr/>
        </p:nvPicPr>
        <p:blipFill>
          <a:blip r:embed="rId1"/>
          <a:stretch/>
        </p:blipFill>
        <p:spPr>
          <a:xfrm>
            <a:off x="2700360" y="1413000"/>
            <a:ext cx="431964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пинной мозг в разрезе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спиной мозг разрез"/>
          <p:cNvPicPr/>
          <p:nvPr/>
        </p:nvPicPr>
        <p:blipFill>
          <a:blip r:embed="rId1"/>
          <a:stretch/>
        </p:blipFill>
        <p:spPr>
          <a:xfrm>
            <a:off x="2050920" y="1990800"/>
            <a:ext cx="5257800" cy="439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перечный срез нервного волокн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поперечный срез нервного волокна"/>
          <p:cNvPicPr/>
          <p:nvPr/>
        </p:nvPicPr>
        <p:blipFill>
          <a:blip r:embed="rId1"/>
          <a:stretch/>
        </p:blipFill>
        <p:spPr>
          <a:xfrm>
            <a:off x="1042920" y="184464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Нервная ткань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представлена нервными клетками-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нейронами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 функциям нейроны бывают 3 видов 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1.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чувствительны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2.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двигательны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3.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вставочные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5805000"/>
            <a:ext cx="7543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nerv"/>
          <p:cNvPicPr/>
          <p:nvPr/>
        </p:nvPicPr>
        <p:blipFill>
          <a:blip r:embed="rId1"/>
          <a:stretch/>
        </p:blipFill>
        <p:spPr>
          <a:xfrm>
            <a:off x="1619280" y="115920"/>
            <a:ext cx="612144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V2038_L_the-nervous-system-rear"/>
          <p:cNvPicPr/>
          <p:nvPr/>
        </p:nvPicPr>
        <p:blipFill>
          <a:blip r:embed="rId1"/>
          <a:stretch/>
        </p:blipFill>
        <p:spPr>
          <a:xfrm>
            <a:off x="1908000" y="189000"/>
            <a:ext cx="575964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Tahoma"/>
              </a:rPr>
              <a:t>Домашнее задание:</a:t>
            </a:r>
            <a:br>
              <a:rPr sz="4400"/>
            </a:b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14 читать ,устно отвечать на вопр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ис. 31, 32 зарисовать в тетра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0896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ксоны и дендриты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аксоны и дендриты"/>
          <p:cNvPicPr/>
          <p:nvPr/>
        </p:nvPicPr>
        <p:blipFill>
          <a:blip r:embed="rId1"/>
          <a:stretch/>
        </p:blipFill>
        <p:spPr>
          <a:xfrm>
            <a:off x="2050920" y="119700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азличные типы нейронов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различные типы нейронов"/>
          <p:cNvPicPr/>
          <p:nvPr/>
        </p:nvPicPr>
        <p:blipFill>
          <a:blip r:embed="rId1"/>
          <a:stretch/>
        </p:blipFill>
        <p:spPr>
          <a:xfrm>
            <a:off x="1042920" y="191628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йрон сетчатки глаз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нейрон сетчатки глаза"/>
          <p:cNvPicPr/>
          <p:nvPr/>
        </p:nvPicPr>
        <p:blipFill>
          <a:blip r:embed="rId1"/>
          <a:stretch/>
        </p:blipFill>
        <p:spPr>
          <a:xfrm>
            <a:off x="2771640" y="1916280"/>
            <a:ext cx="4608720" cy="43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ункции нервной системы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.Сохраняет целостность орган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.Регулирует работу органов и систем орг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3.Обеспечивает связь организма с внешней средой, осуществляет приспособление организма к изменяющимся условиям ср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4.Определяет психические действия мышления ,членораздельную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Рефлекс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–это ответная реакция организма на внутренние и внешние раздражители, осуществляемая с помощью ЦН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Рефлекторная дуга-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это путь , по которому проходит нервный импульс для осуществления рефлекс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роение сенсорного  и моторного нервов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строение сенсорного и моторного нервов"/>
          <p:cNvPicPr/>
          <p:nvPr/>
        </p:nvPicPr>
        <p:blipFill>
          <a:blip r:embed="rId1"/>
          <a:stretch/>
        </p:blipFill>
        <p:spPr>
          <a:xfrm>
            <a:off x="900000" y="2000160"/>
            <a:ext cx="7775640" cy="438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нервная система"/>
          <p:cNvPicPr/>
          <p:nvPr/>
        </p:nvPicPr>
        <p:blipFill>
          <a:blip r:embed="rId1"/>
          <a:stretch/>
        </p:blipFill>
        <p:spPr>
          <a:xfrm>
            <a:off x="1908000" y="189000"/>
            <a:ext cx="561672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0:48:33Z</dcterms:created>
  <dc:creator>SamLab.ws</dc:creator>
  <dc:description/>
  <dc:language>en-US</dc:language>
  <cp:lastModifiedBy>Windows XP</cp:lastModifiedBy>
  <dcterms:modified xsi:type="dcterms:W3CDTF">2011-04-24T07:18:20Z</dcterms:modified>
  <cp:revision>5</cp:revision>
  <dc:subject/>
  <dc:title>Тема урока : «Строение и функции нервной системы» </dc:title>
</cp:coreProperties>
</file>