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A60-96D8-4B79-921A-9A8ED8D0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5A4-02D0-43AF-BF37-95AB4339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26F-3D24-4568-9A0A-CA25E38E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567-A32A-49E7-ABB7-02C3C8A1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8A3-F73C-49F1-881E-F5CD9AB9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D0E-7E81-4732-8277-081B8AD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87D-01B3-437D-B9E4-6976D94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81A-1C57-403C-84B8-9555033B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6BB-E4D5-4A7D-B324-6E8F1832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DD3-EC4F-45EC-9E68-A123458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499-BFC9-4E25-B16E-389C499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4E3-E7F0-47CA-AB55-AE84E29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BDC4-D082-43AA-A0ED-67C0677F8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52280" y="176040"/>
            <a:ext cx="8832960" cy="6553440"/>
            <a:chOff x="152280" y="176040"/>
            <a:chExt cx="8832960" cy="655344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2280" y="176040"/>
              <a:ext cx="883296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14200" y="214200"/>
              <a:ext cx="8715600" cy="64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3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Рисунок 8" descr="beb3a736c127.jpg"/>
          <p:cNvPicPr/>
          <p:nvPr/>
        </p:nvPicPr>
        <p:blipFill>
          <a:blip r:embed="rId4"/>
          <a:stretch/>
        </p:blipFill>
        <p:spPr>
          <a:xfrm>
            <a:off x="285840" y="5357880"/>
            <a:ext cx="1214280" cy="12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пенко Ирина Борисо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итель математики и информати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У Барановская СО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1628640"/>
            <a:ext cx="6791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ножение десятичных дробей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Один, два, три, четыре, п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Все умеем мы с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Отдыхать умеем тож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Руки за спину положи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Голову поднимем вы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легко – легко подыш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Все ребята дружно вс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на месте зашаг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На носочки потяну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И друг к другу поверну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Как пружинки мы присе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alibri"/>
              </a:rPr>
              <a:t>А потом тихонько с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260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15520" cy="43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а) 1,2; 1,8; 2,4; 3; …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б) 9,6; 8,9; 8,2; 7,5…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в) 0,9; 1,8; 3,6; 7,2;… 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числите рациональ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)  3,4∙2,6+1,3∙2,6+5,3∙0,7+5,3∙1,9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) 3,6∙3,8+3,6∙1,6+2,7∙4,6+0,9∙4,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32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53∙8,3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,04∙0,6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∙1,7=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полнитель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7,3∙0,9-0,8015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,72∙1,5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86640"/>
            <a:ext cx="424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ариант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26∙8,4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08∙0,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8∙1,6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ополнитель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6,2-15,24∙4,2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,4∙2,5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6028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Итог пора нам подвести.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Кто лучше всех трудился 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На уроке отличил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62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Какие правила использовались на уроке при решении задач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п. 4.3 (стр 76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№ 362,36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69228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 задание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075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Ну-ка проверь, дружок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Ты готов начать урок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на месте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в порядке-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Ручка, книжка и тетрадка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и правильно сидят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Все ль внимательно глядят?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Тут затеи и задачи,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Игры, шутки – все для вас!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Пожелаю всем у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1624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77336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Кто ничего не замеча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Тот ничего не изуч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Кто ничего не изуча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Тот вечно хнычет и скуч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04760" y="2714760"/>
            <a:ext cx="713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276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Ж   3,7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   7,02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    0,067∙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    0,08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    34,06∙0,1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13360"/>
            <a:ext cx="37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   123,1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   0,34∙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И   0,034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Е   0,037∙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9640" y="2349360"/>
          <a:ext cx="8353440" cy="1231920"/>
        </p:xfrm>
        <a:graphic>
          <a:graphicData uri="http://schemas.openxmlformats.org/drawingml/2006/table">
            <a:tbl>
              <a:tblPr/>
              <a:tblGrid>
                <a:gridCol w="990360"/>
                <a:gridCol w="916200"/>
                <a:gridCol w="917640"/>
                <a:gridCol w="922320"/>
                <a:gridCol w="920520"/>
                <a:gridCol w="922320"/>
                <a:gridCol w="920880"/>
                <a:gridCol w="922320"/>
                <a:gridCol w="920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улируйте правило деления десятичной дроби на натуральное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умножить десятичную дробь на 10, 100, 1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  Как разделить десятичную дробь на 10, 100,1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  Как обратить обычную дробь в десятичну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Сформулируйте правило умножения десятичных д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24000" y="655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произведение двух чисел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3,55 и 6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) 4,77 и 3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) 0,235 и 4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) 6,71 и 2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Один метр ткани стоит 450 р. Сколько стоят 5м, 2,5м этой тка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Найдите значения выражения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) 17-3,44∙3,5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б) 2,15∙(3,9+0,18)∙5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43:53Z</dcterms:created>
  <dc:creator>Admin</dc:creator>
  <dc:description/>
  <dc:language>en-US</dc:language>
  <cp:lastModifiedBy>ны</cp:lastModifiedBy>
  <dcterms:modified xsi:type="dcterms:W3CDTF">2011-05-15T14:59:09Z</dcterms:modified>
  <cp:revision>7</cp:revision>
  <dc:subject/>
  <dc:title>Слайд 1</dc:title>
</cp:coreProperties>
</file>