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.gif" ContentType="image/gif"/>
  <Override PartName="/ppt/media/image11.wmf" ContentType="image/x-wmf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gif" ContentType="image/gif"/>
  <Override PartName="/ppt/media/image13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55A-309F-460A-9FD0-177CE498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B89-C951-4D31-976C-A7C7CFDA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80A-FC0E-4E77-B9DF-404C16FD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EFC-0B35-4D90-BC76-2A71D125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3F3-16A3-451A-BA2F-40E34E51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4BF-DCF3-4867-8943-D3AEFCEB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44B-F4A2-40A1-9907-24197748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791-B7CA-43DF-A8A6-E5617787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801-0960-4485-AFC7-20EBFAB9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FE5-E7E2-4E6E-AD8E-D1A1D435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D4E-EB1D-4393-969B-7391AEEF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509-4871-4DA9-BF7F-ACEDCD86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59F2-F15F-49BE-B4BA-0916F72C9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baseline="30000">
                <a:solidFill>
                  <a:srgbClr val="ff3300"/>
                </a:solidFill>
                <a:latin typeface="Arial"/>
              </a:rPr>
              <a:t>Урок математи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42960" y="1428840"/>
            <a:ext cx="81057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Тема: Повторение и закрепление изученного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dbdee13c60c9204fee7ec8d256b5f9fa"/>
          <p:cNvPicPr/>
          <p:nvPr/>
        </p:nvPicPr>
        <p:blipFill>
          <a:blip r:embed="rId1"/>
          <a:stretch/>
        </p:blipFill>
        <p:spPr>
          <a:xfrm>
            <a:off x="714240" y="3071880"/>
            <a:ext cx="1905120" cy="2076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9" descr="P1010079.JPG"/>
          <p:cNvPicPr/>
          <p:nvPr/>
        </p:nvPicPr>
        <p:blipFill>
          <a:blip r:embed="rId2"/>
          <a:stretch/>
        </p:blipFill>
        <p:spPr>
          <a:xfrm>
            <a:off x="3919680" y="29401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Без имени-2"/>
          <p:cNvPicPr/>
          <p:nvPr/>
        </p:nvPicPr>
        <p:blipFill>
          <a:blip r:embed="rId1"/>
          <a:stretch/>
        </p:blipFill>
        <p:spPr>
          <a:xfrm>
            <a:off x="5857920" y="1143000"/>
            <a:ext cx="3002040" cy="48610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214200" y="214200"/>
            <a:ext cx="5286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тарый гном разложил свои сокровища в три цветных сундука, стоящих у стены: в один – драгоценные камни, в другой – золотые монеты. А в третий – магические книги. Он помнит, что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  красный сундук правее, чем красный сунд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магические книги правее, чем красный сунд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каком сундуке лежат магические книги, если зеленый сундук стоит левее, чем с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684360" y="1125360"/>
            <a:ext cx="792000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!!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Picture 5" descr="2"/>
          <p:cNvPicPr/>
          <p:nvPr/>
        </p:nvPicPr>
        <p:blipFill>
          <a:blip r:embed="rId1"/>
          <a:stretch/>
        </p:blipFill>
        <p:spPr>
          <a:xfrm>
            <a:off x="6732720" y="4581360"/>
            <a:ext cx="1584360" cy="121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2"/>
          <p:cNvPicPr/>
          <p:nvPr/>
        </p:nvPicPr>
        <p:blipFill>
          <a:blip r:embed="rId2"/>
          <a:stretch/>
        </p:blipFill>
        <p:spPr>
          <a:xfrm>
            <a:off x="611280" y="4437000"/>
            <a:ext cx="1584360" cy="1219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20"/>
          <p:cNvPicPr/>
          <p:nvPr/>
        </p:nvPicPr>
        <p:blipFill>
          <a:blip r:embed="rId3"/>
          <a:stretch/>
        </p:blipFill>
        <p:spPr>
          <a:xfrm>
            <a:off x="1763640" y="2852640"/>
            <a:ext cx="2301840" cy="302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20"/>
          <p:cNvPicPr/>
          <p:nvPr/>
        </p:nvPicPr>
        <p:blipFill>
          <a:blip r:embed="rId4"/>
          <a:stretch/>
        </p:blipFill>
        <p:spPr>
          <a:xfrm>
            <a:off x="2916360" y="2781360"/>
            <a:ext cx="2301840" cy="3021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20"/>
          <p:cNvPicPr/>
          <p:nvPr/>
        </p:nvPicPr>
        <p:blipFill>
          <a:blip r:embed="rId5"/>
          <a:stretch/>
        </p:blipFill>
        <p:spPr>
          <a:xfrm>
            <a:off x="4427640" y="2997360"/>
            <a:ext cx="23018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045800"/>
            <a:ext cx="612144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Чтение  многозначн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429080" y="1643040"/>
            <a:ext cx="4319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 от Сол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Земл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9 606 0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00040" y="4214880"/>
            <a:ext cx="5357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экватор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 40 075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40 075 676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globe"/>
          <p:cNvPicPr/>
          <p:nvPr/>
        </p:nvPicPr>
        <p:blipFill>
          <a:blip r:embed="rId1"/>
          <a:stretch/>
        </p:blipFill>
        <p:spPr>
          <a:xfrm>
            <a:off x="5950080" y="3714840"/>
            <a:ext cx="195732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sun_earth_vibrate_in_sympathy"/>
          <p:cNvPicPr/>
          <p:nvPr/>
        </p:nvPicPr>
        <p:blipFill>
          <a:blip r:embed="rId2"/>
          <a:stretch/>
        </p:blipFill>
        <p:spPr>
          <a:xfrm>
            <a:off x="395280" y="1643040"/>
            <a:ext cx="4176720" cy="2500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1214280" y="28584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Гимнастика 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419640" y="69228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крупный ос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емле -  Гренландия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площадь 2 175 600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9640" y="4437000"/>
            <a:ext cx="40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е крупное озеро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пийское море,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370 999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3X1MJFCAYQ40SJCAN193TXCAUJL40ICAYT604MCAAROKQ2CAM96IL2CAZE0977CASA0CBRCAMDA21BCACL3N9LCA32E4T1CAP82IRNCAJVC629CAAFB4V4CAA2AVSKCAG6XNAOCAHZRAB4CA8UHZ7T"/>
          <p:cNvPicPr/>
          <p:nvPr/>
        </p:nvPicPr>
        <p:blipFill>
          <a:blip r:embed="rId1"/>
          <a:stretch/>
        </p:blipFill>
        <p:spPr>
          <a:xfrm>
            <a:off x="5076720" y="3357720"/>
            <a:ext cx="3357720" cy="3108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greenlan"/>
          <p:cNvPicPr/>
          <p:nvPr/>
        </p:nvPicPr>
        <p:blipFill>
          <a:blip r:embed="rId2"/>
          <a:stretch/>
        </p:blipFill>
        <p:spPr>
          <a:xfrm>
            <a:off x="611280" y="404640"/>
            <a:ext cx="2635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4500720" y="692280"/>
            <a:ext cx="410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ритория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ет площ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 075 400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50920" y="350028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анным перепи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8 года на терри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и  п. Горный пр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ет  око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karta"/>
          <p:cNvPicPr/>
          <p:nvPr/>
        </p:nvPicPr>
        <p:blipFill>
          <a:blip r:embed="rId1"/>
          <a:stretch/>
        </p:blipFill>
        <p:spPr>
          <a:xfrm>
            <a:off x="324000" y="333360"/>
            <a:ext cx="4103640" cy="264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фото(октябрь) 094"/>
          <p:cNvPicPr/>
          <p:nvPr/>
        </p:nvPicPr>
        <p:blipFill>
          <a:blip r:embed="rId2"/>
          <a:stretch/>
        </p:blipFill>
        <p:spPr>
          <a:xfrm>
            <a:off x="4002120" y="3000240"/>
            <a:ext cx="5141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285920" y="21420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571680" y="1071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гра «Верно, невер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434480" y="457200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Частота вашего пуль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j0198594"/>
          <p:cNvPicPr/>
          <p:nvPr/>
        </p:nvPicPr>
        <p:blipFill>
          <a:blip r:embed="rId1"/>
          <a:stretch/>
        </p:blipFill>
        <p:spPr>
          <a:xfrm>
            <a:off x="785880" y="1143000"/>
            <a:ext cx="1795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родолжи числовой ря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26920" y="1484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, 31 , 930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276720" y="148428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643280" y="1484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8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516720" y="1484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8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3203640" y="1413000"/>
            <a:ext cx="1152360" cy="720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572000" y="1341360"/>
            <a:ext cx="1584360" cy="792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6443640" y="1341360"/>
            <a:ext cx="1584360" cy="792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15"/>
          <p:cNvSpPr/>
          <p:nvPr/>
        </p:nvSpPr>
        <p:spPr>
          <a:xfrm rot="7899600">
            <a:off x="1152360" y="1808280"/>
            <a:ext cx="432000" cy="504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6"/>
          <p:cNvSpPr/>
          <p:nvPr/>
        </p:nvSpPr>
        <p:spPr>
          <a:xfrm rot="7899600">
            <a:off x="2016000" y="1808280"/>
            <a:ext cx="432000" cy="504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050920" y="2276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826920" y="2276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684360" y="3573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, 200 , 150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3276720" y="35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4859280" y="35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9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6516720" y="350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990 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27"/>
          <p:cNvSpPr/>
          <p:nvPr/>
        </p:nvSpPr>
        <p:spPr>
          <a:xfrm rot="7899600">
            <a:off x="1008000" y="3824280"/>
            <a:ext cx="432000" cy="504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28"/>
          <p:cNvSpPr/>
          <p:nvPr/>
        </p:nvSpPr>
        <p:spPr>
          <a:xfrm rot="7899600">
            <a:off x="2016000" y="3824280"/>
            <a:ext cx="432000" cy="504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"/>
          <p:cNvSpPr/>
          <p:nvPr/>
        </p:nvSpPr>
        <p:spPr>
          <a:xfrm>
            <a:off x="1979640" y="2492280"/>
            <a:ext cx="712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755640" y="4292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4"/>
          <p:cNvSpPr/>
          <p:nvPr/>
        </p:nvSpPr>
        <p:spPr>
          <a:xfrm>
            <a:off x="684360" y="4581360"/>
            <a:ext cx="712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1763640" y="416736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4788000" y="3357720"/>
            <a:ext cx="1584360" cy="792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7"/>
          <p:cNvSpPr/>
          <p:nvPr/>
        </p:nvSpPr>
        <p:spPr>
          <a:xfrm>
            <a:off x="3276720" y="3357720"/>
            <a:ext cx="1366560" cy="792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8"/>
          <p:cNvSpPr/>
          <p:nvPr/>
        </p:nvSpPr>
        <p:spPr>
          <a:xfrm>
            <a:off x="6516720" y="3357720"/>
            <a:ext cx="2016000" cy="792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0"/>
          <p:cNvSpPr/>
          <p:nvPr/>
        </p:nvSpPr>
        <p:spPr>
          <a:xfrm>
            <a:off x="4356000" y="17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ычисли удобным спосо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9640" y="1700280"/>
            <a:ext cx="4918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5   29   4   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8360" y="3500280"/>
            <a:ext cx="4917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3   5 + 7   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68360" y="5300640"/>
            <a:ext cx="4917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69 + 27) - 17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2050920" y="2060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2986200" y="2060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3708360" y="2060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1908000" y="3933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3492360" y="3862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2268360" y="1484280"/>
            <a:ext cx="7308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980360" y="2924280"/>
            <a:ext cx="15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93 +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3055680" y="1197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9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0"/>
          <p:cNvSpPr/>
          <p:nvPr/>
        </p:nvSpPr>
        <p:spPr>
          <a:xfrm>
            <a:off x="3635280" y="1484280"/>
            <a:ext cx="7308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3781440" y="295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"/>
          <p:cNvSpPr/>
          <p:nvPr/>
        </p:nvSpPr>
        <p:spPr>
          <a:xfrm>
            <a:off x="3635280" y="3213000"/>
            <a:ext cx="7308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1478160" y="479412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69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4"/>
          <p:cNvSpPr/>
          <p:nvPr/>
        </p:nvSpPr>
        <p:spPr>
          <a:xfrm>
            <a:off x="2843280" y="148608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2627640" y="4794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27 –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4643280" y="177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4572000" y="357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5003640" y="537372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1690560" y="1197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5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248, 284, 482,       , 824, 8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5"/>
          <p:cNvGrpSpPr/>
          <p:nvPr/>
        </p:nvGrpSpPr>
        <p:grpSpPr>
          <a:xfrm>
            <a:off x="1042920" y="1916280"/>
            <a:ext cx="1800360" cy="1338840"/>
            <a:chOff x="1042920" y="1916280"/>
            <a:chExt cx="1800360" cy="1338840"/>
          </a:xfrm>
        </p:grpSpPr>
        <p:sp>
          <p:nvSpPr>
            <p:cNvPr id="120" name="Line 4"/>
            <p:cNvSpPr/>
            <p:nvPr/>
          </p:nvSpPr>
          <p:spPr>
            <a:xfrm>
              <a:off x="1116000" y="3252960"/>
              <a:ext cx="151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1042920" y="23176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1403280" y="1916280"/>
              <a:ext cx="144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42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1403280" y="2490840"/>
              <a:ext cx="144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70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7"/>
          <p:cNvGrpSpPr/>
          <p:nvPr/>
        </p:nvGrpSpPr>
        <p:grpSpPr>
          <a:xfrm>
            <a:off x="179280" y="3282840"/>
            <a:ext cx="2952720" cy="2102400"/>
            <a:chOff x="179280" y="3282840"/>
            <a:chExt cx="2952720" cy="2102400"/>
          </a:xfrm>
        </p:grpSpPr>
        <p:sp>
          <p:nvSpPr>
            <p:cNvPr id="125" name="Line 5"/>
            <p:cNvSpPr/>
            <p:nvPr/>
          </p:nvSpPr>
          <p:spPr>
            <a:xfrm>
              <a:off x="395280" y="4549320"/>
              <a:ext cx="230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179280" y="3416040"/>
              <a:ext cx="61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1116000" y="3282840"/>
              <a:ext cx="144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128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468360" y="378756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299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468360" y="4620960"/>
              <a:ext cx="26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30088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24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з цифр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2,8,4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составьте трёхзначн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4502160" y="11970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4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0039"/>
          <p:cNvPicPr/>
          <p:nvPr/>
        </p:nvPicPr>
        <p:blipFill>
          <a:blip r:embed="rId1"/>
          <a:stretch/>
        </p:blipFill>
        <p:spPr>
          <a:xfrm flipH="1">
            <a:off x="7143840" y="5572080"/>
            <a:ext cx="1619280" cy="96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0039"/>
          <p:cNvPicPr/>
          <p:nvPr/>
        </p:nvPicPr>
        <p:blipFill>
          <a:blip r:embed="rId2"/>
          <a:stretch/>
        </p:blipFill>
        <p:spPr>
          <a:xfrm>
            <a:off x="7236000" y="1700280"/>
            <a:ext cx="16189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3321E-006 C 0.00139 -0.01781 0.0033 -0.03561 0.01371 -0.03561 C 0.02396 -0.03561 0.04687 -1.3321E-006 0.0618 -1.3321E-006 C 0.07673 -1.3321E-006 0.08715 -0.03839 0.1033 -0.03561 C 0.11944 -0.03261 0.14566 0.0148 0.15833 0.01781 C 0.17101 0.02082 0.17552 -0.01179 0.17917 -0.01781 E">
                                      <p:cBhvr>
                                        <p:cTn id="334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0.01041 C 0.02379 -0.0088 0.01267 -0.02801 -0.00434 -0.02107 C -0.02135 -0.01412 -0.04236 0.05069 -0.06736 0.05231 C -0.09236 0.05393 -0.12899 -0.00903 -0.15399 -0.01065 C -0.17899 -0.01227 -0.19201 0.04189 -0.21701 0.04189 C -0.24201 0.04189 -0.27604 -0.00903 -0.30364 -0.01065 C -0.33125 -0.01227 -0.35729 0.02963 -0.38229 0.03148 C -0.40729 0.03333 -0.4401 0.00694 -0.4533 4.44444E-006 C -0.46649 -0.00695 -0.46389 -0.0088 -0.46111 -0.01065 E">
                                      <p:cBhvr>
                                        <p:cTn id="336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2143080" y="85716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По моделям составить и решить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6929280" y="214308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660066"/>
                </a:solidFill>
                <a:uFillTx/>
                <a:latin typeface="Arial"/>
              </a:rPr>
              <a:t>Машины выехали одноврем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304920" y="2209680"/>
          <a:ext cx="2209680" cy="7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22096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"/>
          <p:cNvGraphicFramePr/>
          <p:nvPr/>
        </p:nvGraphicFramePr>
        <p:xfrm>
          <a:off x="4267080" y="2209680"/>
          <a:ext cx="189720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209680"/>
                    <a:ext cx="1897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Прямоугольник 6"/>
          <p:cNvSpPr/>
          <p:nvPr/>
        </p:nvSpPr>
        <p:spPr>
          <a:xfrm>
            <a:off x="285840" y="35686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5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м\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4039920" y="324468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3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км\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2500200" y="335772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80880" y="3124080"/>
            <a:ext cx="51055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666880" y="2819520"/>
            <a:ext cx="228600" cy="45720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1087920" y="214200"/>
            <a:ext cx="52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Решение задач на дви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304920" y="4572000"/>
          <a:ext cx="1695240" cy="65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572000"/>
                    <a:ext cx="16952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5867280" y="4724280"/>
          <a:ext cx="213372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4724280"/>
                    <a:ext cx="21337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Прямоугольник 15"/>
          <p:cNvSpPr/>
          <p:nvPr/>
        </p:nvSpPr>
        <p:spPr>
          <a:xfrm>
            <a:off x="714240" y="5143680"/>
            <a:ext cx="26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км\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 flipH="1">
            <a:off x="6072120" y="5715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58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км\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380880" y="5638680"/>
            <a:ext cx="7239240" cy="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2"/>
          <p:cNvSpPr/>
          <p:nvPr/>
        </p:nvSpPr>
        <p:spPr>
          <a:xfrm>
            <a:off x="3048120" y="5334120"/>
            <a:ext cx="228600" cy="457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3714840" y="5832360"/>
            <a:ext cx="492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2714760" y="57862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60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2:38:07Z</dcterms:created>
  <dc:creator>Федя Чижиков</dc:creator>
  <dc:description/>
  <dc:language>en-US</dc:language>
  <cp:lastModifiedBy>User</cp:lastModifiedBy>
  <dcterms:modified xsi:type="dcterms:W3CDTF">2009-05-02T09:46:15Z</dcterms:modified>
  <cp:revision>33</cp:revision>
  <dc:subject/>
  <dc:title>Урок математики</dc:title>
</cp:coreProperties>
</file>