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51F-F154-41F2-94F0-FCFBB8D9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C7E-8500-4428-B133-C25A4514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8A2-38AA-4FFA-83F5-E1C61AF2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8E5-0C33-49E4-8F1E-D5A2A589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F029-B264-43A0-B34A-0CE92A8A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A456-050E-4CC7-BB65-A7288A26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8741-0B21-4949-8CB8-7FF846BB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CD4A-D974-4A1C-9BDC-5B9674AD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12A1-C4B3-4F15-9F7D-AAEC4AA3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379E-6438-49E3-AE10-184D9666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06C2-0B19-4266-B51A-96FEA85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EFC-665E-45B4-80B1-9CB63E5C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9B6D-F0EF-43B9-B93C-4ECC191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35AB-EAC8-4ED4-BA62-C3734062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AF6B-99DE-496E-B2A1-B38162CE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E5BC-A15D-473C-B019-7FA3B130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341C-0650-4239-A233-4CA1C287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12E-DDC3-4F19-A855-929B9EE7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D0E-4D50-45C7-B796-B45526FE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C36-53D7-4044-BFE5-6DACA498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016-E676-4038-A80C-A150D0F0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AA2-740C-4C18-B643-E5545DE0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583-BDEC-45FB-A6A4-AF68EA6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535-FC83-49FC-A7B7-44B67E8B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8A83-B864-4C81-88DA-195A93AF37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E25C-8477-45C1-9522-096A9D2864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13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Население и хозяйство Центрального район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141720"/>
            <a:ext cx="6781680" cy="25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и урока: 1. Познакомиться с особенностями и характерными чертами  населения Центрального ра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Выявление территорий с наибольшей плотностью насе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Изучение хозяйства района. Отрасли специ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Химическая промышленность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ставлена производством фосфатных удобр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40360" y="2684520"/>
            <a:ext cx="47052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мысл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753080" cy="37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2924280"/>
            <a:ext cx="4643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10080" y="404640"/>
            <a:ext cx="4633920" cy="329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3429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ельское хозяй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851280" cy="3962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5051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оанализируйте текст учебника на странице 109 и заполните таблицу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905120"/>
          <a:ext cx="8007480" cy="48387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характера и внеш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ные условия и тип внеш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ровая скудная природа, лиш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откое лето, переменчивость погоды, долгая зи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авянский тип внеш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7280" y="189000"/>
            <a:ext cx="8856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1612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обенности хозяйства Центрального райо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ислите основные особенности хозяйства Центрального экономического рай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обенности хозяйства Центрального экономического райо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толичное полож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граниченность собственной ресурсной баз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оизводство для удовлетворения собственных потреб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нергетика: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Каширская, Рязанская, Новомосковская, Шатурская ГРЭС.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Московский ТЭЦ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427640" cy="3579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381560" y="3068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ашиностроение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рославль – мотор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ваново – текстильное машиностроение, торфяное машин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ла – сельскохозяйственное машин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адимир – трактор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ь – вагон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янск – вагоно-тепловоз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омна – тепловозо- и станк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ктросталь – тяжелое машин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вров – производство мотоциклов и экскава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нтром какого машиностроения является Моск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Легкая промышленность представлена пищевой и текстильной промышленностью. Текстильная промышленность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лопчатобумажная промышленность: Иваново, Шуя, Кострома, Ковров, Струни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ьняная: Кострома, Нерехта, Ярославль, Тута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ерстяная: Павловский Пос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 развита кожевенно-обувная промышленность. Назовите цент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8:45:26Z</dcterms:created>
  <dc:creator>лена</dc:creator>
  <dc:description/>
  <dc:language>en-US</dc:language>
  <cp:lastModifiedBy>www.PHILka.RU</cp:lastModifiedBy>
  <dcterms:modified xsi:type="dcterms:W3CDTF">2011-09-23T10:24:52Z</dcterms:modified>
  <cp:revision>2</cp:revision>
  <dc:subject/>
  <dc:title>Население и хозяйство Центрального рай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50300207f7000400038000</vt:lpwstr>
  </property>
</Properties>
</file>