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97A-39BA-4CBB-A4F6-739CA971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3A9-30A5-44B2-A3E5-3E8227DD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BBB-2B06-420D-8050-D03EB4ED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82B-4A96-47EA-BB9B-516E8C2E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2D3F-FA88-44FC-A4EA-C78CB825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3338-17A1-4D76-8566-7BF7D4E8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3F6B-A4D0-4EE7-A0D2-9FE5559C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B321-B2B9-43FF-9734-6C048216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28E8-8CE8-4C32-A1C5-6335DFBD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1F1F-54BF-4C98-A991-BE7F86CC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A801-DA12-43F1-AF12-93BC53F1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5B9-27EB-4427-9D07-F78B98A0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D83D-4982-42A2-9C71-190D3D54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85ED-4EC8-4520-9E33-CDBAC149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EA2B-50BF-451D-AFF7-236AAE9B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D85A-C743-4D53-B918-6AA0FED9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85C5-DD48-40CB-9E84-70EC27BB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90D-8213-410A-B191-146095F2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05A-4164-435F-B2A3-2924BC32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1A8-3EA3-4D1F-823D-5B434351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DDA-1D5A-4FF1-AD05-F7971C85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DC5-AEAC-41DC-8C28-DB92EACF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C10-B853-4B53-8F8A-DA11625B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947-4BD4-494F-8ABB-3ED0E815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341F-095B-4F54-9BEE-275D7FF6F4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B6AA-BF67-47A3-A0FE-B8630FA03D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13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Население и хозяйство Центрального район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141720"/>
            <a:ext cx="6781680" cy="25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и урока: 1. Познакомиться с особенностями и характерными чертами  населения Центрального ра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Выявление территорий с наибольшей плотностью насе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Изучение хозяйства района. Отрасли специ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Химическая промышленность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ставлена производством фосфатных удобр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40360" y="2684520"/>
            <a:ext cx="47052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мысл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753080" cy="37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2924280"/>
            <a:ext cx="4643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10080" y="404640"/>
            <a:ext cx="4633920" cy="329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3429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ельское хозяй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851280" cy="3962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5051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оанализируйте текст учебника на странице 109 и заполните таблицу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905120"/>
          <a:ext cx="8007480" cy="48387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характера и внеш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ные условия и тип внеш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ровая скудная природа, лиш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откое лето, переменчивость погоды, долгая зи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авянский тип внеш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7280" y="189000"/>
            <a:ext cx="8856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1612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обенности хозяйства Центрального райо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ислите основные особенности хозяйства Центрального экономического рай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обенности хозяйства Центрального экономического райо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толичное полож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граниченность собственной ресурсной баз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оизводство для удовлетворения собственных потреб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нергетика: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Каширская, Рязанская, Новомосковская, Шатурская ГРЭС.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Московский ТЭЦ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427640" cy="3579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381560" y="3068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ашиностроение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рославль – мотор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ваново – текстильное машиностроение, торфяное машин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ла – сельскохозяйственное машин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адимир – трактор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ь – вагон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янск – вагоно-тепловоз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омна – тепловозо- и станк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ктросталь – тяжелое машиностро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вров – производство мотоциклов и экскава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нтром какого машиностроения является Моск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Легкая промышленность представлена пищевой и текстильной промышленностью. Текстильная промышленность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лопчатобумажная промышленность: Иваново, Шуя, Кострома, Ковров, Струни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ьняная: Кострома, Нерехта, Ярославль, Тута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ерстяная: Павловский Пос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 развита кожевенно-обувная промышленность. Назовите цент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8:45:26Z</dcterms:created>
  <dc:creator>лена</dc:creator>
  <dc:description/>
  <dc:language>en-US</dc:language>
  <cp:lastModifiedBy>www.PHILka.RU</cp:lastModifiedBy>
  <dcterms:modified xsi:type="dcterms:W3CDTF">2011-09-23T10:24:52Z</dcterms:modified>
  <cp:revision>2</cp:revision>
  <dc:subject/>
  <dc:title>Население и хозяйство Центрального рай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50300207f7000400038000</vt:lpwstr>
  </property>
</Properties>
</file>