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659-540A-4220-8CF0-4047C520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B3A-14F4-4354-9D44-9ACABDDE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EFC-99C8-4BA0-ABAF-31C87282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D6E-19D3-4C08-B8F5-C689B28A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BCC9-E2E3-4D21-A266-850BA9FA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2CEC-2FDB-4878-B45C-B2681F5D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DC60-CD57-40F1-9B92-276FBBE0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44B7-2F3D-402C-B83C-484085BA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F317-F36C-4DE1-BF54-99EB56A9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FEAB-37B7-4C0D-943B-2C9BB15A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DB59-A465-4DC8-94D2-98303DD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6DE-51AD-4F16-BD5E-6E9B7533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4823-CDDD-4FBC-AC3D-B27E0DA2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905C-2C55-437C-8AF0-7468DBE5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09DA-C7C7-45CF-A668-A47A3F61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6299-985C-479F-BEA3-841A6DE9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8F0E-5181-4674-9309-D7FBBD59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0EC-076B-4227-A56A-67F00BF0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BE0-F22D-4696-BC52-C438143A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B73-F465-419B-A7D2-18DBDA8A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D5E-2066-4178-B834-5CD193F4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A32-E63B-4B4E-8603-2E1B966E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EC0-CF00-488D-B6EB-74832C57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5E2-D576-4298-8EA6-29A1F3D8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7081-68D7-4C47-AEB4-03A43F6B54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B36-5A71-4C07-BCD5-358EC3BB51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47640" y="1773360"/>
            <a:ext cx="596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a004e"/>
                </a:solidFill>
                <a:latin typeface="Times New Roman"/>
              </a:rPr>
              <a:t>КУЛЬТУРА ЕВРОПЫ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a004e"/>
                </a:solidFill>
                <a:latin typeface="Times New Roman"/>
              </a:rPr>
              <a:t>В  ПЕРИОД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a004e"/>
                </a:solidFill>
                <a:latin typeface="Times New Roman"/>
              </a:rPr>
              <a:t>РАННЕГО СРЕДНЕВЕКОВЬ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876840" cy="624816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784760" y="471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9368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b4e1d"/>
                </a:solidFill>
                <a:latin typeface="Times New Roman"/>
              </a:rPr>
              <a:t>Донжон</a:t>
            </a:r>
            <a:r>
              <a:rPr b="0" lang="ru-RU" sz="2400" spc="-1" strike="noStrike">
                <a:solidFill>
                  <a:srgbClr val="7b4e1d"/>
                </a:solidFill>
                <a:latin typeface="Times New Roman"/>
              </a:rPr>
              <a:t> – самая высокая и большая башня замка, в которой феодал укрывался во время ос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733920" cy="409572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267080" cy="266868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038480" cy="266688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04920" y="3429000"/>
            <a:ext cx="2476440" cy="320040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019320" y="3429000"/>
            <a:ext cx="3105360" cy="320040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324480" y="3429000"/>
            <a:ext cx="2557440" cy="320040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4.Книги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7640" y="3932280"/>
            <a:ext cx="8915400" cy="2736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При Карле количество образованных людей быстро возрастало. При монастырях появились мастерские по переписке книг. На создание 1 книги уходило около 1-года, поэтому они представляли огромную ценность. В библиотеках книги приковывали к стене цепями, спасая их от воров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24000" y="915840"/>
            <a:ext cx="5040360" cy="294480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75960"/>
            <a:ext cx="7772400" cy="533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00093"/>
                </a:solidFill>
                <a:latin typeface="Times New Roman"/>
              </a:rPr>
              <a:t>4.Книги.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По виду книга стала резко отличаться от античной-на смену папирусу при-шел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пергамент -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очень прочный, но дорогой материа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Книга приобрела современ ный вид. Над ней труди-лось много людей- пере-писчики и художн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Каждый из них делал свою часть-текст, инициалы, заставки, миниатю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844800" cy="533880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6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4.Книги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19720" y="765000"/>
            <a:ext cx="44956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Монахи разработали еди-ный шрифт. В книгах по-явились изображения люд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место тростниковых перьев писать стали перьями пти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Книги были предметом рос коши, и позволить себе иметь их могли только очень состоятельные лю-ди, т.к. каждая  книга бы-ла настоящим шедев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73320" cy="547056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5" dur="1" fill="hold"/>
                                  <p:tgtEl>
                                    <p:spTgt spid="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5.Средневековая литература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91120" y="914400"/>
            <a:ext cx="487656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средневековой литературе основным жанром была ре-лигиозная литература-</a:t>
            </a:r>
            <a:r>
              <a:rPr b="0" lang="ru-RU" sz="2800" spc="-1" strike="noStrike" u="sng">
                <a:solidFill>
                  <a:srgbClr val="d60093"/>
                </a:solidFill>
                <a:uFillTx/>
                <a:latin typeface="Times New Roman"/>
              </a:rPr>
              <a:t>еван-гелия и Жития свят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житиях рассказывалось о подвигах святых во имя бо-га и звучали призывы о ми-лосердии и любви к люд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Другим жанрам были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хрони-ки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-в них излагались собы-тия от «сотворения мира». В них были как реальные факты, так и вымысе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2000" y="1301760"/>
            <a:ext cx="3978360" cy="515160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9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75960"/>
            <a:ext cx="7772400" cy="533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5.Средневековая литература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5320" y="762120"/>
            <a:ext cx="44960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Наряду с официальной ли-тературой существовала народная литерату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Певцы и сказители сочиня-ли эпические поэмы,саги   и бал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них наряду с реальными героями - вождями нор-манов, английскими коро лями, действуют сказоч- ные герои-волшебники, эльфы, гномы, тролли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948120" cy="514512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2440" y="75960"/>
            <a:ext cx="7772400" cy="533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6.Народные зрелища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0" y="914400"/>
            <a:ext cx="44956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Любимыми народными зре лищами были выступле-ния бродячих артистов-</a:t>
            </a: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жонгле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Сначала это были певцы и музыканты,но затем этот жанр расширился и жон-глеры стали выступать с цирковыми номе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отличие от народа цер-ковь жонглеров не люби-ла- их   преследовали и отлучали от церкв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7960" y="1273320"/>
            <a:ext cx="3632400" cy="489240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7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1.Географические представления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2560" y="979560"/>
            <a:ext cx="4343400" cy="5689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период раннего средневековья географические познания людей были крайне скудными.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Ученые стали опровергать убеждение греков в том, что Земля-ш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Вспомните как представляли люди Земл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954000"/>
            <a:ext cx="3384360" cy="463572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094400" y="584676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рта Евро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чало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706920" y="1003320"/>
            <a:ext cx="5113080" cy="300204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1.Географические представления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8420040" cy="2667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Люди думали, что в центре вселенной находится Земля , представляющая из себя плоский дис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округ нее вращаются Солнце,Луна и 5 план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На обратной стороне Земли живут антиподы-люди с лисьими головами.Они ходят «вниз головой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4038480"/>
            <a:ext cx="8420040" cy="2667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Со времен Рима год делился на 12 месяцев.Всё большую роль начинают играть религиозные праздники-Рождество и пасх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Жизнь тогда была размеренной, время не ценилось, поэтому часы были лишь в крупных монастыр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003320"/>
            <a:ext cx="3024360" cy="293832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75960"/>
            <a:ext cx="7772400" cy="533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2. Образование.Церковная школа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19720" y="914400"/>
            <a:ext cx="44956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По преданию первые школы в Европе создал Карл Великий,</a:t>
            </a:r>
            <a:r>
              <a:rPr b="0" lang="en-US" sz="2800" spc="-1" strike="noStrike">
                <a:solidFill>
                  <a:srgbClr val="50009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даже многие из королей не умели читать и пис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Большинство школ располагались при церквях, здесь учили читать Библию, писать,счит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Церковь давала только выгодные ей  знания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89120" y="1085760"/>
            <a:ext cx="2990880" cy="551196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0240" y="76320"/>
            <a:ext cx="77724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2. Образование. Церковная школа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3789000"/>
            <a:ext cx="8591400" cy="291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Для подготовки священников Карл открыл школы в монастырях, здесь изучали: грамматику, риторику, диалекти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Тексты  книг заучивались наизусть, повторяя их вслу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Потребности жизни привели к изучению в школах геометрии и астроном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ПОЧЕМУ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98800" y="692280"/>
            <a:ext cx="4895640" cy="306540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3.Каролингское возрождение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0" y="762120"/>
            <a:ext cx="44956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При Карле, нуждавшемся в грамотных чиновниках, началось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КАРОЛИНГС-КОЕ ВОЗРОЖДЕНИЕ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- период бурного расцвета культу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Карл пригласил к себе ученых из других стран. Один из них монах Алкуин создал при дворе Дворцовую академию и написал школьные учебн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79280" y="1916280"/>
            <a:ext cx="4249800" cy="398304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" dur="1" fill="hold"/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3.Каролингское возрождение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95320" y="762120"/>
            <a:ext cx="44960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Карл построил немало дворцов и церквей, подражая римским императорам. В этих сооружениях с сохранились черты анти-чной архитектуры - стро-гость и простота линий, легкость и красота соо-руж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Сам Карл знал латынь,но не смотря на огромное желание писать не научил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103640" cy="387972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4762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4. Архитектура: романский стиль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55640" y="692280"/>
            <a:ext cx="44960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10 в. в Европе начинается строительство огромных зам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Замок во время нападения мог укрыть не только феодала с семьёй, но и его крестья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Замки строились на высо-ком месте, или острове сначала из дерева,а позже - из кам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836880" cy="552276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>ЧЕРНОВ АЛЕКСЕЙ</dc:creator>
  <dc:description/>
  <dc:language>en-US</dc:language>
  <cp:lastModifiedBy>пользователь</cp:lastModifiedBy>
  <dcterms:modified xsi:type="dcterms:W3CDTF">2008-01-23T12:04:00Z</dcterms:modified>
  <cp:revision>33</cp:revision>
  <dc:subject/>
  <dc:title>Заголовок слайда отсутствует</dc:title>
</cp:coreProperties>
</file>