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51F3-9C0C-44EF-9BB2-B72050DFE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3F3F-CD6D-4876-840F-AB6232598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9424-C2C1-4DAF-8754-E5C914F99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37DF-EB2C-435A-873F-7E595FE4E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045C-CFC1-4876-9944-491B8D677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8FAD-9A3B-44DD-A5A5-B64A06A70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2E67-87C2-4233-A54C-041161B3F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6D7F-6573-446D-BAE3-1B222F4747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56F1-970B-45F8-8380-4CC597A4F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397B-4380-4763-863E-1A5261761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5036-8784-4EF7-90AB-95AADEB51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4A0A-8ADE-4F24-A0F7-AB312CDABD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B686-41D6-4B9F-9E47-2A7F881E46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E7D0-21E2-4DEA-992F-05740C9E37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8CFA-D008-495E-8B71-517C37391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8C98-1312-421C-B8B8-0C9F3D665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FF8A-0097-4D42-A8AD-0127893168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5DA4-5AF8-4CAC-8057-BD08EEF3CB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9440-8238-409F-BE79-C79E23BC3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E022-A47C-4FE0-9909-59A6EF9B4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3A51-9870-4593-A103-63F131596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076E-4CDB-44C7-BDDB-0EBF80417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46FF-A080-4C7A-981C-151719ED1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7F2E-8B49-4EC9-962B-4DDD6F813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6088-FCB5-42F5-8D1C-7EFFED7D3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22FD-7F34-43D6-BE7F-A5226872C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19FD-A945-4D23-B3E3-5F7646A92D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8767-09D3-4CE4-BA2E-2B57C46EA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713C-76AD-4767-8D59-FE222B362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ECD1-8EC1-40A9-A214-EB6F722C1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EC9A-8305-41BE-98C7-027B83763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3CB9-2DCC-40E3-893D-FBCFC903C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4AE6-A3B0-4257-9A6A-6B13C7816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D3BF-0ADD-47CF-BF08-56D8BD990B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9487-E535-4B8F-BC6F-0FF24C65B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92CC-74A2-47B6-9543-C866F4B2E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895-1BF6-48F0-9563-4F496B71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E3F-1618-42A7-814B-EB2187F3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E30-C33D-406D-9132-708561BF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446-8A32-4098-99A1-6B5A6ED5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F54-8B5C-4E3F-99A4-519E1A88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AB0-2501-4946-8B1F-88DE3040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8E2-A4FF-4ACD-94E5-011FE0F6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D3E-08F9-40A1-93E0-F0E99B6B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610-1DDE-408F-95A6-045223B5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5A9-AE1F-49B7-991B-11770A5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705-CA8B-469E-8A36-8DF15F3E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9A1-DCF4-45B7-BA24-3B74B305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92B9-5681-4D83-9CA6-C1C2302A5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ssl.dnttm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. Сходство и различ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В. Хорева, к.п.н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цент каф. Д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цессе учебно-исследовательской деятельности дети 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еть и выделять пробл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ть и ставить пробл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ть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 объект (предмет, явление, событие, их свойств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ть существенные признаки и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лять различные фа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вигать гипотезы, предпо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рать средства и материалы для самостоя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генерировать идеи, т. е. изобретать способ действия, привлекая знания из различных обла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мысливать задачу, для решения которой недостаточно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ть на вопрос: че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учиться для решения поставленной зада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находить недостающую информацию в информационном п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ашивать недостающую информацию у эксперта (учителя, консультанта, специалис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 несколько вариантов решения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ть причинно-следственны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ть экспери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ть вы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ксировать этапы действий и результат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u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шенный вперёд) – тесно связанная с наукой и инженерией деятельность по разработке и созданию проекта (прототипа, прообраза предполагаемого или возможного объекта или состоя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ектн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 практико-ориентированная деятельность, целью которой является разработка новых, не существующих в практике «объект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ектное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рганизация самостоятельной творческой деятельности учеников в рамках работы над определённой выбранной темой (проектом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смоловская Т.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ая педагогическая цель любого проект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различных ключевых компетенци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 которыми в современной педагогике понимаются комплексные свойства личности, включающие взаимосвязанные знания, умения, ценности, а также готовность мобилизовать их в необходим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проек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роектный этап (иначе называют предварительным или стартовы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вны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проектны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98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98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98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бные проек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й проект – это «организационная форма работы, ориентированная на изучение законченной учебной темы или учебного раздела и составляющая часть стандартного учебного курса или нескольких курсов»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Обучение для будущего при поддержк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4-е изд. – М., 2004. С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чебном проектировании сфера приложения преобразовательной активности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екстно задана предметной областью (отдельным предметом) или учебной проблемой, носящей межпредметный характер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метры формата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школьный, внешко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штабу су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ндивидуальный, групповой, коллективный, корпоратив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раткосрочный, среднесрочный, долгосро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рритории распростра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нутришкольный, региональный, сетевой, международны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едметный, межпредметный, междисциплинарный, интегратив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арактеру приорите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сследовательский, экспериментальный, поисковый, коммуникацио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характеру участия Ребёнка в проект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азчик, эксперт, исполнитель, участник от зарождения идеи до полученного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98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98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98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98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98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98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работы над учебным проектом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педагога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учащихся в проект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и утверждение темати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графика работы над про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ор и анализ литератур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 контроль процесса выполнения проекта (консульт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за оформлением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 проведение предзащиты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за доработко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дение итог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да возникает запрос на исследование или запрос на проектирование в образова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работы над учебным проектом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учащихся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ие информации о прое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темы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 индивидуального графика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ение хода выполнения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ормление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защита в груп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аботк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ий проект «Моё животное»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полнение к учебной программе по природоведе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ту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е наносим ли мы вреда животному, когда берём его в свой д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зучение жизни домашних животных с человеком и возможностей её улуч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учить самостоятельно собирать необходимую информацию, проводить наблюдения за жизнью и поведением домашних животных, выработать практические рекомендации по улучшению и оздоровлению и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 целенаправленного наблю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ошка, собака, хомяк, рыбки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тогом проект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гут быть: газета, альбом, инсценировка, кодекс правил поведения с животны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уговые проект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ое проектирование, связанное со сферой досу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каникулярный проект. Это может быть программа деятельности летнего школьного лагеря или концепция воспитательной работы школы во время каникул, сценарий какого-либо праздника, план работы на смену, положение о детском фестивале и др.  Каникулярные проекты имеют смысл, если носят событийный характер, органично вписываясь в жизнедеятельность детей и взрослых, вместе проводящих каник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цессе проектной деятельности дети 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ать и осознавать изучаемую пробл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гументированно формулировать и отстаивать свои проектные замыс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батывать реальные гипотезы, проверять их в соответствии с четким план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пределению и позицииров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ости и четкости в раб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ю планировать свои изыск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гаться к намеченной цели (важному для жизни стремлени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98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98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98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98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: сходство и разли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основные «параметры» сравнения исследовательской и проектной деятельности и продумайте мотивацию выдвижения именно таких пара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и проектирование – изначально принципиально разные по направленности, смыслу и содержан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– бескорыстный поиск истины, а проектирование – решение определённой, ясно осознаваемой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наружив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, что уже е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зда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, чего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схема орган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умал – спроектировал – осуществи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.е. получил продук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схема организации исследования (естественнонаучного типа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явление – описание – модел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ъясне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98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98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98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98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98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98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98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98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ючевыми становя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особы вер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бор данных) или проверки правильности (истинности) той или иной определяемой модели. 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ючевыми явля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особы коммун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нформационные, организационные и иные производственные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отличие рассматриваемых методов заключается в рефлексивной составляющей. Речь идёт об осознании того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акую культурную роль я исполня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того или иного процесса: исследователя или проектировщ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98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личия исследования 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ит вневрем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 –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нания важен критерий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направлено на идеальный объе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ает бесконечное движение вглу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тво в чистом виде. В исследовании значительно больше места для импров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ён временными рам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 –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оекта – критерий реализу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рование направлено на организационную фор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начально задает предел, глубину решения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тво не в полной мере, творчество по плану, в определенных контролируемых рам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ение исследованию и проектированию предполаг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учащихся в процесс переоткрытия знаний, что позволяет воспроизводить разные формы научного труда и теоретического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с детьми границ их знания и незнания, благодаря чему их можно учить такому типу исследовательской деятельности, который выводит на передний план порождение человеческ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операциям и процедурам исследования (обследование, наблюдение, эксперимент, анализ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оответствующи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соответствующих образовательны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детей в процесс создания новых организационно-деятельностных форм при работе в образовательных прое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запаса знаний, опыта и впечатлений, благодаря чему происходит обогащение (расширение и детализация) знаний и предста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операциям и процедурам проектирования (проблематизация, самоопределение, позицирование,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оответствующи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-организацию всех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следование и проектирование могут задавать основу современного содержания образо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е и проект осуществляются 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реде неопределё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менно это и активизирует познавательную деятельность су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через исследование и проект личностно ориентировано. Ученик становится субъектом, а не объектом образователь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ение исследованию и проектированию формирует такие основные качества лич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поставить творческую (достойную) цель и подчинить свою деятельность её достиж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планировать и самоконтролировать свою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находить и решать проблемы, составляющие основу ц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защищать свои уб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ая и проектная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но учиться делать проекты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потом осуществлять их в жизни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понимать: хорошая идея сама по себе ещё не решает исход дела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еобходимо представлять себе, каков механизм её реал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к будет выглядеть конечный проду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но учиться проводить исследо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ддерживать врожденное любопытство Ребё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снабжать его инструментарием, показывающим, что мы можем успешно познавать ми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у же цель можно определить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вращение поведенческой модели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ультурную рол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«исследовател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98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98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98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еобходимо для освоения деятельности исследования и деятельности проектирования в начальной шко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Мир полон решени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ищущих свои проблем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.Эван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Исследовательская работа школьников"Ссылка: </a:t>
            </a:r>
            <a:r>
              <a:rPr b="0" lang="ru-RU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issl.dnttm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роцесс поиска неизвестного, новых знаний, один из видов познавательной деятельност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деятельность, связанная с поиском ответа на творческую, исследовательскую задачу с заранее неизвестным решением и предполагающая наличие основных этапов, характерных для исследования в научной сф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научного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6012000" y="2276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971640" y="357336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971640" y="4292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рабочая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2268360" y="4941720"/>
            <a:ext cx="230364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колич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0" y="4941720"/>
            <a:ext cx="208764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кач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971640" y="558972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971640" y="6237360"/>
            <a:ext cx="2376360" cy="36180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971640" y="213372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объ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971640" y="285264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5724360" y="5157720"/>
            <a:ext cx="2988000" cy="36036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f"/>
                </a:solidFill>
                <a:latin typeface="Garamond"/>
              </a:rPr>
              <a:t>те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5724360" y="5805360"/>
            <a:ext cx="3059280" cy="863640"/>
          </a:xfrm>
          <a:prstGeom prst="roundRect">
            <a:avLst>
              <a:gd name="adj" fmla="val 1666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ef"/>
                </a:solidFill>
                <a:latin typeface="Garamond"/>
              </a:rPr>
              <a:t>ЗА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ef"/>
                </a:solidFill>
                <a:latin typeface="Garamond"/>
              </a:rPr>
              <a:t>(ЗАКОНОМЕРНОСТ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3924360" y="3860640"/>
            <a:ext cx="1511280" cy="28764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отверг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4427640" y="4437000"/>
            <a:ext cx="1871640" cy="28908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корректир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6"/>
          <p:cNvSpPr/>
          <p:nvPr/>
        </p:nvSpPr>
        <p:spPr>
          <a:xfrm>
            <a:off x="6443640" y="4508640"/>
            <a:ext cx="1655640" cy="360360"/>
          </a:xfrm>
          <a:prstGeom prst="flowChartTerminator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f"/>
                </a:solidFill>
                <a:latin typeface="Garamond"/>
              </a:rPr>
              <a:t>приним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2050920" y="5950080"/>
            <a:ext cx="216000" cy="287280"/>
          </a:xfrm>
          <a:prstGeom prst="upArrow">
            <a:avLst>
              <a:gd name="adj1" fmla="val 50000"/>
              <a:gd name="adj2" fmla="val 33250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8"/>
          <p:cNvSpPr/>
          <p:nvPr/>
        </p:nvSpPr>
        <p:spPr>
          <a:xfrm>
            <a:off x="2050920" y="393372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9"/>
          <p:cNvSpPr/>
          <p:nvPr/>
        </p:nvSpPr>
        <p:spPr>
          <a:xfrm>
            <a:off x="2050920" y="321300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2050920" y="2492280"/>
            <a:ext cx="217440" cy="360360"/>
          </a:xfrm>
          <a:prstGeom prst="upArrow">
            <a:avLst>
              <a:gd name="adj1" fmla="val 50000"/>
              <a:gd name="adj2" fmla="val 4143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1"/>
          <p:cNvSpPr/>
          <p:nvPr/>
        </p:nvSpPr>
        <p:spPr>
          <a:xfrm>
            <a:off x="2700360" y="5300640"/>
            <a:ext cx="216000" cy="289080"/>
          </a:xfrm>
          <a:prstGeom prst="upArrow">
            <a:avLst>
              <a:gd name="adj1" fmla="val 50000"/>
              <a:gd name="adj2" fmla="val 33458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2"/>
          <p:cNvSpPr/>
          <p:nvPr/>
        </p:nvSpPr>
        <p:spPr>
          <a:xfrm>
            <a:off x="1332000" y="5300640"/>
            <a:ext cx="215640" cy="289080"/>
          </a:xfrm>
          <a:prstGeom prst="upArrow">
            <a:avLst>
              <a:gd name="adj1" fmla="val 50000"/>
              <a:gd name="adj2" fmla="val 33514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3"/>
          <p:cNvSpPr/>
          <p:nvPr/>
        </p:nvSpPr>
        <p:spPr>
          <a:xfrm>
            <a:off x="2700360" y="4653000"/>
            <a:ext cx="216000" cy="288720"/>
          </a:xfrm>
          <a:prstGeom prst="upArrow">
            <a:avLst>
              <a:gd name="adj1" fmla="val 50000"/>
              <a:gd name="adj2" fmla="val 33417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4"/>
          <p:cNvSpPr/>
          <p:nvPr/>
        </p:nvSpPr>
        <p:spPr>
          <a:xfrm>
            <a:off x="1332000" y="4653000"/>
            <a:ext cx="215640" cy="288720"/>
          </a:xfrm>
          <a:prstGeom prst="upArrow">
            <a:avLst>
              <a:gd name="adj1" fmla="val 50000"/>
              <a:gd name="adj2" fmla="val 33472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3048120" y="1752480"/>
            <a:ext cx="5473440" cy="865440"/>
          </a:xfrm>
          <a:prstGeom prst="pie">
            <a:avLst/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6"/>
          <p:cNvSpPr/>
          <p:nvPr/>
        </p:nvSpPr>
        <p:spPr>
          <a:xfrm>
            <a:off x="7164360" y="4797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7"/>
          <p:cNvSpPr/>
          <p:nvPr/>
        </p:nvSpPr>
        <p:spPr>
          <a:xfrm>
            <a:off x="7164360" y="551664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7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7236000" y="2637000"/>
            <a:ext cx="0" cy="1871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9"/>
          <p:cNvSpPr/>
          <p:nvPr/>
        </p:nvSpPr>
        <p:spPr>
          <a:xfrm flipH="1">
            <a:off x="5364000" y="2637000"/>
            <a:ext cx="1872000" cy="1800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 flipH="1">
            <a:off x="4643280" y="2637000"/>
            <a:ext cx="2592720" cy="1223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 flipH="1">
            <a:off x="3347640" y="4005360"/>
            <a:ext cx="576360" cy="360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 flipH="1" flipV="1">
            <a:off x="3347640" y="4508640"/>
            <a:ext cx="1079640" cy="727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4"/>
          <p:cNvSpPr/>
          <p:nvPr/>
        </p:nvSpPr>
        <p:spPr>
          <a:xfrm>
            <a:off x="1143000" y="2209680"/>
            <a:ext cx="228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ебно-исследовательская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оцесс решения учащимися научных и личностных проблем, имеющий своей целью построение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убъективно нового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ы 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феры исследования: определение направления будущего исследования; формулировка вопросов, на которые необходимо получить отв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границ исследования: выбор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цели, задач и гипотезы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сследования: выявление и систематизация методов исследования; составление плана - определение последовательности проведения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обработка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 обобщение полученных материалов. Формулирование вы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от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чная презентация результатов. Рефлекс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и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ворческие работы, выполненные с помощью корректной с научной точки зрения методики, имеющие полученный с помощью этой методики собственный экспериментальный материал, на основании которого делается анализ и выводы о характере исследуемого явления. Особенностью таких работ является непредопределенность результата, который могут дать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етодист</cp:lastModifiedBy>
  <dcterms:modified xsi:type="dcterms:W3CDTF">2009-01-21T01:58:3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