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1CA2-2E30-4CDC-89AA-D879EBD238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D96E-89DB-48BD-AA88-5E1FC7AF22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298A-FB54-4A65-88F6-2F86CBFEE2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0960-12C9-4C41-B5E1-C470263BC9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2F2C-35D7-4F3A-AE73-AF05A03ED7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02F0-3820-4EBF-BCDD-E5A81284B9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DB24-E046-481D-AE05-01FE27983D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669C-E1D9-458B-A290-5BC67D1966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6429-41B0-4BE5-B64A-DEC036F578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A96C-618A-4160-B64E-F1A08D59F3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528C-57E4-443F-A863-AB56EC5D23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B240-D922-472F-8F55-F23D40F04C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71DF-5EF9-4155-9E88-9D39D8EBC5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3B45-27DC-4D73-9CCC-3C434339EF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9FC7-3D86-4E95-A007-55925FC159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54D4-AF8B-4C45-8FB5-FB741A3F8F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A436-268D-4FB4-B973-EFA7A6DDB3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7185-9954-443B-9B0A-C2CC67678E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15F7-0B3A-4A98-9B1A-BCF21C9471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795A-38B8-448F-B65A-D09FB25079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D62F-8C7F-42D8-B60D-EE50116993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51C1-63B2-4C65-83C6-8EEC3C0425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247D-5579-40F7-B2C7-49023B66DA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5319-4149-49BF-A28E-F3332E9B3F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F3B7-E7AC-40B6-B65D-2A9C39310C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F251-2148-45D1-B8C9-161F70DF54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B949-A656-4524-9AAF-4E4845D041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3631-BE01-4FF1-B8F7-EC5A9A6A89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6EE7-A3A3-48D8-99A8-334D0069D7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EC4A-03EB-4464-AF7F-4C2FDC088C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CB66-3C88-451F-9CDA-9AF993FCAA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71BA-358B-4B5D-AAC0-4D433D1988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478A-7611-44FC-AA52-845350F22D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D10F-CD69-4FBD-A817-898AD352CC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8F57-6BE4-47A5-BA9B-E54D52E647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1EFB-C1FB-4B74-9499-673381E075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14F9-3B2E-42D9-8A5A-9E12EAEF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DCB3-178D-4223-9957-8F88B016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6133-6326-477C-BB3A-0EB579E1A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4B99-F80B-419B-8038-66C24801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B330-C4A0-4342-A7A6-AA99E2C1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4CBC-965D-4A0D-809B-B768DD78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AFCB-E5F8-468C-9604-DB0E5636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C3AD-618D-42DA-A879-F955D70C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D1A1-2F3E-422B-997E-4FEA01D8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441B-F0D4-4B96-A76F-8E180BA3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FB6D-5B6B-48D2-9FB2-E2910281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C489-12BA-45BF-8306-DDF2B216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B4AB-8426-4D55-A7C4-29CFC6FD84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issl.dnttm.r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следовательская и проектная деятельности. Сходство и различ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.В. Хорева, к.п.н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оцент каф. Ди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роцессе учебно-исследовательской деятельности дети уча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еть и выделять пробле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имать и ставить пробле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ать пробл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ировать объект (предмет, явление, событие, их свойств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ять существенные признаки и связ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поставлять различные фак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вигать гипотезы, предполож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бирать средства и материалы для самостоятель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стоятельно генерировать идеи, т. е. изобретать способ действия, привлекая знания из различных обла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мысливать задачу, для решения которой недостаточно зн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чать на вопрос: чем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научиться для решения поставленной задач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стоятельно находить недостающую информацию в информационном пол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рашивать недостающую информацию у эксперта (учителя, консультанта, специалист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дить несколько вариантов решения пробл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авливать причинно-следственные связ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ять эксперимен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ать выв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ксировать этапы действий и результат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ектиров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ектиров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лат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jectus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ошенный вперёд) – тесно связанная с наукой и инженерией деятельность по разработке и созданию проекта (прототипа, прообраза предполагаемого или возможного объекта или состоян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ектная деятель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 практико-ориентированная деятельность, целью которой является разработка новых, не существующих в практике «объектов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ектное обучен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организация самостоятельной творческой деятельности учеников в рамках работы над определённой выбранной темой (проектом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смоловская Т.В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ая педагогическая цель любого проект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ормирование различных ключевых компетенций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д которыми в современной педагогике понимаются комплексные свойства личности, включающие взаимосвязанные знания, умения, ценности, а также готовность мобилизовать их в необходимой ситу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тапы проект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проектный этап (иначе называют предварительным или стартовы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п реализации про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флексивный эта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проектный эта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9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98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98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98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98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чебные проект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ый проект – это «организационная форма работы, ориентированная на изучение законченной учебной темы или учебного раздела и составляющая часть стандартного учебного курса или нескольких курсов»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Обучение для будущего при поддержк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crosoft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4-е изд. – М., 2004. С.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учебном проектировании сфера приложения преобразовательной активности учащих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екстно задана предметной областью (отдельным предметом) или учебной проблемой, носящей межпредметный характер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араметры формата проек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ст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школьный, внешко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сштабу субъек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индивидуальный, групповой, коллективный, корпоратив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реме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краткосрочный, среднесрочный, долгосроч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рритории распростран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нутришкольный, региональный, сетевой, международный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держан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редметный, межпредметный, междисциплинарный, интегратив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арактеру приоритетной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исследовательский, экспериментальный, поисковый, коммуникацион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 характеру участия Ребёнка в проекте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казчик, эксперт, исполнитель, участник от зарождения идеи до полученного резуль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9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98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98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898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898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98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98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898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держание работы над учебным проектом (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ля педагога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 учащихся в проектн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и утверждение тематики про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ение графика работы над проек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бор и анализ литературных источ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и контроль процесса выполнения проекта (консультац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ь за оформлением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и проведение предзащиты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ь за доработкой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та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ведение итогов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гда возникает запрос на исследование или запрос на проектирование в образован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держание работы над учебным проектом (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ля учащихся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ение информации о проек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ор темы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ление индивидуального графика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суждение хода выполнения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формление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защита в групп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работка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щита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логический проект «Моё животное»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ополнение к учебной программе по природоведени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туализ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е наносим ли мы вреда животному, когда берём его в свой д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изучение жизни домашних животных с человеком и возможностей её улуч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аучить самостоятельно собирать необходимую информацию, проводить наблюдения за жизнью и поведением домашних животных, выработать практические рекомендации по улучшению и оздоровлению их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ъект целенаправленного наблюд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кошка, собака, хомяк, рыбки и п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тогом проектной рабо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гут быть: газета, альбом, инсценировка, кодекс правил поведения с животными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суговые проекты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дагогическое проектирование, связанное со сферой досу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, каникулярный проект. Это может быть программа деятельности летнего школьного лагеря или концепция воспитательной работы школы во время каникул, сценарий какого-либо праздника, план работы на смену, положение о детском фестивале и др.  Каникулярные проекты имеют смысл, если носят событийный характер, органично вписываясь в жизнедеятельность детей и взрослых, вместе проводящих канику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роцессе проектной деятельности дети уча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ировать и осознавать изучаемую пробле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гументированно формулировать и отстаивать свои проектные замыс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абатывать реальные гипотезы, проверять их в соответствии с четким план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определению и позициирован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гости и четкости в рабо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ю планировать свои изыск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игаться к намеченной цели (важному для жизни стремлению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89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898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898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898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98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98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98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98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следовательская и проектная деятельности: сходство и различ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1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е основные «параметры» сравнения исследовательской и проектной деятельности и продумайте мотивацию выдвижения именно таких парамет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е и проектирование – изначально принципиально разные по направленности, смыслу и содержанию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е – бескорыстный поиск истины, а проектирование – решение определённой, ясно осознаваемой зада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сследован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бнаруживае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о, что уже е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ек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оздаё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о, чего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ткая схема организации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думал – спроектировал – осуществил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.е. получил продук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ткая схема организации исследования (естественнонаучного типа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явление – описание – модель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бъяснени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98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898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898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898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898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898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898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898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898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следовательская и проектная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сследован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лючевыми становятс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пособы верифик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бор данных) или проверки правильности (истинности) той или иной определяемой модели. В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ек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лючевыми являютс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пособы коммуник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нформационные, организационные и иные производственные ум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ое отличие рассматриваемых методов заключается в рефлексивной составляющей. Речь идёт об осознании того,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какую культурную роль я исполняю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ходе того или иного процесса: исследователя или проектировщ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89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898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898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личия исследования и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сследова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сит вневремен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укт – 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знания важен критерий исти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е направлено на идеальный объек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ускает бесконечное движение вглуб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рчество в чистом виде. В исследовании значительно больше места для импров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14300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ек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ределён временными рам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укт – 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роекта – критерий реализуе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ирование направлено на организационную фор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начально задает предел, глубину решения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рчество не в полной мере, творчество по плану, в определенных контролируемых рамк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учение исследованию и проектированию предполаг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ение учащихся в процесс переоткрытия знаний, что позволяет воспроизводить разные формы научного труда и теоретического мыш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уждение с детьми границ их знания и незнания, благодаря чему их можно учить такому типу исследовательской деятельности, который выводит на передний план порождение человеческого 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е операциям и процедурам исследования (обследование, наблюдение, эксперимент, анализ и т.п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соответствующих спосо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соответствующих образовательных фор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ение детей в процесс создания новых организационно-деятельностных форм при работе в образовательных проек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е запаса знаний, опыта и впечатлений, благодаря чему происходит обогащение (расширение и детализация) знаний и предста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е операциям и процедурам проектирования (проблематизация, самоопределение, позицирование, и т.п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соответствующих спосо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-организацию всех участников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сследование и проектирование могут задавать основу современного содержания образов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ние и проект осуществляются в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реде неопределён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именно это и активизирует познавательную деятельность субъ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ение через исследование и проект личностно ориентировано. Ученик становится субъектом, а не объектом образовательного проце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учение исследованию и проектированию формирует такие основные качества лич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ие поставить творческую (достойную) цель и подчинить свою деятельность её достижени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ие планировать и самоконтролировать свою деятель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ие находить и решать проблемы, составляющие основу це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ие защищать свои убе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следовательская и проектная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чем нужно учиться делать проекты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тобы потом осуществлять их в жизни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тобы понимать: хорошая идея сама по себе ещё не решает исход дела,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необходимо представлять себе, каков механизм её реализ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ак будет выглядеть конечный продук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чем нужно учиться проводить исследова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тобы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поддерживать врожденное любопытство Ребён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снабжать его инструментарием, показывающим, что мы можем успешно познавать мир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у же цель можно определить как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вращение поведенческой модели в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ультурную рол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«исследовател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898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898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898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898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898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необходимо для освоения деятельности исследования и деятельности проектирования в начальной школ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«Мир полон решений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ищущих свои проблемы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.Эван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"Исследовательская работа школьников"Ссылка: </a:t>
            </a:r>
            <a:r>
              <a:rPr b="0" lang="ru-RU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http://www.issl.dnttm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0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сследование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6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сследова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процесс поиска неизвестного, новых знаний, один из видов познавательной деятельности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сследовательская деятель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деятельность, связанная с поиском ответа на творческую, исследовательскую задачу с заранее неизвестным решением и предполагающая наличие основных этапов, характерных для исследования в научной сфе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98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98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а научного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6012000" y="2276640"/>
            <a:ext cx="2376360" cy="36036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гипот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971640" y="3573360"/>
            <a:ext cx="2376360" cy="36036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экспери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971640" y="4292640"/>
            <a:ext cx="2376360" cy="36036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рабочая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гипот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2268360" y="4941720"/>
            <a:ext cx="2303640" cy="36036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количе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0" y="4941720"/>
            <a:ext cx="2087640" cy="36036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каче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971640" y="5589720"/>
            <a:ext cx="2376360" cy="36036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наблю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9"/>
          <p:cNvSpPr/>
          <p:nvPr/>
        </p:nvSpPr>
        <p:spPr>
          <a:xfrm>
            <a:off x="971640" y="6237360"/>
            <a:ext cx="2376360" cy="36180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фа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0"/>
          <p:cNvSpPr/>
          <p:nvPr/>
        </p:nvSpPr>
        <p:spPr>
          <a:xfrm>
            <a:off x="971640" y="2133720"/>
            <a:ext cx="2376360" cy="36036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объяс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1"/>
          <p:cNvSpPr/>
          <p:nvPr/>
        </p:nvSpPr>
        <p:spPr>
          <a:xfrm>
            <a:off x="971640" y="2852640"/>
            <a:ext cx="2376360" cy="36036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2"/>
          <p:cNvSpPr/>
          <p:nvPr/>
        </p:nvSpPr>
        <p:spPr>
          <a:xfrm>
            <a:off x="5724360" y="5157720"/>
            <a:ext cx="2988000" cy="36036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те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3"/>
          <p:cNvSpPr/>
          <p:nvPr/>
        </p:nvSpPr>
        <p:spPr>
          <a:xfrm>
            <a:off x="5724360" y="5805360"/>
            <a:ext cx="3059280" cy="86364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ef"/>
                </a:solidFill>
                <a:latin typeface="Garamond"/>
              </a:rPr>
              <a:t>ЗА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ef"/>
                </a:solidFill>
                <a:latin typeface="Garamond"/>
              </a:rPr>
              <a:t>(ЗАКОНОМЕРНОСТЬ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4"/>
          <p:cNvSpPr/>
          <p:nvPr/>
        </p:nvSpPr>
        <p:spPr>
          <a:xfrm>
            <a:off x="3924360" y="3860640"/>
            <a:ext cx="1511280" cy="287640"/>
          </a:xfrm>
          <a:prstGeom prst="flowChartTerminator">
            <a:avLst/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ef"/>
                </a:solidFill>
                <a:latin typeface="Garamond"/>
              </a:rPr>
              <a:t>отверг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5"/>
          <p:cNvSpPr/>
          <p:nvPr/>
        </p:nvSpPr>
        <p:spPr>
          <a:xfrm>
            <a:off x="4427640" y="4437000"/>
            <a:ext cx="1871640" cy="289080"/>
          </a:xfrm>
          <a:prstGeom prst="flowChartTerminator">
            <a:avLst/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ef"/>
                </a:solidFill>
                <a:latin typeface="Garamond"/>
              </a:rPr>
              <a:t>корректиру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6"/>
          <p:cNvSpPr/>
          <p:nvPr/>
        </p:nvSpPr>
        <p:spPr>
          <a:xfrm>
            <a:off x="6443640" y="4508640"/>
            <a:ext cx="1655640" cy="360360"/>
          </a:xfrm>
          <a:prstGeom prst="flowChartTerminator">
            <a:avLst/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ef"/>
                </a:solidFill>
                <a:latin typeface="Garamond"/>
              </a:rPr>
              <a:t>приним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7"/>
          <p:cNvSpPr/>
          <p:nvPr/>
        </p:nvSpPr>
        <p:spPr>
          <a:xfrm>
            <a:off x="2050920" y="5950080"/>
            <a:ext cx="216000" cy="287280"/>
          </a:xfrm>
          <a:prstGeom prst="upArrow">
            <a:avLst>
              <a:gd name="adj1" fmla="val 50000"/>
              <a:gd name="adj2" fmla="val 33250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8"/>
          <p:cNvSpPr/>
          <p:nvPr/>
        </p:nvSpPr>
        <p:spPr>
          <a:xfrm>
            <a:off x="2050920" y="3933720"/>
            <a:ext cx="217440" cy="360360"/>
          </a:xfrm>
          <a:prstGeom prst="upArrow">
            <a:avLst>
              <a:gd name="adj1" fmla="val 50000"/>
              <a:gd name="adj2" fmla="val 41432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9"/>
          <p:cNvSpPr/>
          <p:nvPr/>
        </p:nvSpPr>
        <p:spPr>
          <a:xfrm>
            <a:off x="2050920" y="3213000"/>
            <a:ext cx="217440" cy="360360"/>
          </a:xfrm>
          <a:prstGeom prst="upArrow">
            <a:avLst>
              <a:gd name="adj1" fmla="val 50000"/>
              <a:gd name="adj2" fmla="val 41432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0"/>
          <p:cNvSpPr/>
          <p:nvPr/>
        </p:nvSpPr>
        <p:spPr>
          <a:xfrm>
            <a:off x="2050920" y="2492280"/>
            <a:ext cx="217440" cy="360360"/>
          </a:xfrm>
          <a:prstGeom prst="upArrow">
            <a:avLst>
              <a:gd name="adj1" fmla="val 50000"/>
              <a:gd name="adj2" fmla="val 41432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1"/>
          <p:cNvSpPr/>
          <p:nvPr/>
        </p:nvSpPr>
        <p:spPr>
          <a:xfrm>
            <a:off x="2700360" y="5300640"/>
            <a:ext cx="216000" cy="289080"/>
          </a:xfrm>
          <a:prstGeom prst="upArrow">
            <a:avLst>
              <a:gd name="adj1" fmla="val 50000"/>
              <a:gd name="adj2" fmla="val 33458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2"/>
          <p:cNvSpPr/>
          <p:nvPr/>
        </p:nvSpPr>
        <p:spPr>
          <a:xfrm>
            <a:off x="1332000" y="5300640"/>
            <a:ext cx="215640" cy="289080"/>
          </a:xfrm>
          <a:prstGeom prst="upArrow">
            <a:avLst>
              <a:gd name="adj1" fmla="val 50000"/>
              <a:gd name="adj2" fmla="val 33514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3"/>
          <p:cNvSpPr/>
          <p:nvPr/>
        </p:nvSpPr>
        <p:spPr>
          <a:xfrm>
            <a:off x="2700360" y="4653000"/>
            <a:ext cx="216000" cy="288720"/>
          </a:xfrm>
          <a:prstGeom prst="upArrow">
            <a:avLst>
              <a:gd name="adj1" fmla="val 50000"/>
              <a:gd name="adj2" fmla="val 3341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4"/>
          <p:cNvSpPr/>
          <p:nvPr/>
        </p:nvSpPr>
        <p:spPr>
          <a:xfrm>
            <a:off x="1332000" y="4653000"/>
            <a:ext cx="215640" cy="288720"/>
          </a:xfrm>
          <a:prstGeom prst="upArrow">
            <a:avLst>
              <a:gd name="adj1" fmla="val 50000"/>
              <a:gd name="adj2" fmla="val 33472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5"/>
          <p:cNvSpPr/>
          <p:nvPr/>
        </p:nvSpPr>
        <p:spPr>
          <a:xfrm>
            <a:off x="3048120" y="1752480"/>
            <a:ext cx="5473440" cy="865440"/>
          </a:xfrm>
          <a:prstGeom prst="pie">
            <a:avLst/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6"/>
          <p:cNvSpPr/>
          <p:nvPr/>
        </p:nvSpPr>
        <p:spPr>
          <a:xfrm>
            <a:off x="7164360" y="479736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7"/>
          <p:cNvSpPr/>
          <p:nvPr/>
        </p:nvSpPr>
        <p:spPr>
          <a:xfrm>
            <a:off x="7164360" y="5516640"/>
            <a:ext cx="216000" cy="28728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8"/>
          <p:cNvSpPr/>
          <p:nvPr/>
        </p:nvSpPr>
        <p:spPr>
          <a:xfrm>
            <a:off x="7236000" y="2637000"/>
            <a:ext cx="0" cy="187164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9"/>
          <p:cNvSpPr/>
          <p:nvPr/>
        </p:nvSpPr>
        <p:spPr>
          <a:xfrm flipH="1">
            <a:off x="5364000" y="2637000"/>
            <a:ext cx="1872000" cy="180000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0"/>
          <p:cNvSpPr/>
          <p:nvPr/>
        </p:nvSpPr>
        <p:spPr>
          <a:xfrm flipH="1">
            <a:off x="4643280" y="2637000"/>
            <a:ext cx="2592720" cy="122364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1"/>
          <p:cNvSpPr/>
          <p:nvPr/>
        </p:nvSpPr>
        <p:spPr>
          <a:xfrm flipH="1">
            <a:off x="3347640" y="4005360"/>
            <a:ext cx="576360" cy="36036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2"/>
          <p:cNvSpPr/>
          <p:nvPr/>
        </p:nvSpPr>
        <p:spPr>
          <a:xfrm flipH="1" flipV="1">
            <a:off x="3347640" y="4508640"/>
            <a:ext cx="1079640" cy="7272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4"/>
          <p:cNvSpPr/>
          <p:nvPr/>
        </p:nvSpPr>
        <p:spPr>
          <a:xfrm>
            <a:off x="1143000" y="2209680"/>
            <a:ext cx="228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чебно-исследовательская деятельнос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процесс решения учащимися научных и личностных проблем, имеющий своей целью построение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субъективно нового з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апы И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сферы исследования: определение направления будущего исследования; формулировка вопросов, на которые необходимо получить отве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значение границ исследования: выбор 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ботка цели, задач и гипотезы иссле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исследования: выявление и систематизация методов исследования; составление плана - определение последовательности проведения иссле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ор и обработка информ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и обобщение полученных материалов. Формулирование выв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отч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бличная презентация результатов. Рефлекс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8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следовательские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творческие работы, выполненные с помощью корректной с научной точки зрения методики, имеющие полученный с помощью этой методики собственный экспериментальный материал, на основании которого делается анализ и выводы о характере исследуемого явления. Особенностью таких работ является непредопределенность результата, который могут дать исслед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етодист</cp:lastModifiedBy>
  <dcterms:modified xsi:type="dcterms:W3CDTF">2009-01-21T01:58:31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