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001880" y="728640"/>
            <a:ext cx="48542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9223200"/>
            <a:ext cx="2971800" cy="486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9223200"/>
            <a:ext cx="2971800" cy="486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9FF0-085F-4422-9775-C0A0D57239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01880" y="728640"/>
            <a:ext cx="4854240" cy="3641760"/>
          </a:xfrm>
          <a:prstGeom prst="rect">
            <a:avLst/>
          </a:prstGeom>
          <a:ln w="0">
            <a:noFill/>
          </a:ln>
        </p:spPr>
      </p:sp>
      <p:sp>
        <p:nvSpPr>
          <p:cNvPr id="201"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Юрий Иосифович ВИЗБОР</a:t>
            </a:r>
            <a:r>
              <a:rPr b="0" lang="ru-RU" sz="800" spc="-1" strike="noStrike">
                <a:solidFill>
                  <a:srgbClr val="000000"/>
                </a:solidFill>
                <a:latin typeface="Arial"/>
              </a:rPr>
              <a:t> </a:t>
            </a:r>
            <a:r>
              <a:rPr b="1" lang="ru-RU" sz="800" spc="-1" strike="noStrike">
                <a:solidFill>
                  <a:srgbClr val="000000"/>
                </a:solidFill>
                <a:latin typeface="Arial"/>
              </a:rPr>
              <a:t>(1934 – 198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избор — это ироничная и добрая улыбка, свитер грубой вязки, гитара, внимание к собеседнику, костер, горные лыжи, таежные стойбища и заполярные нефтяные вышки, гул самолетов, гудки пароходов и поездов, стук колес по рельсам… Сложную, сотканную из множества противоречивых событий эпоху 50 — 80-х гг. в нашей стране выразили собой многие. И Юрий Визбор был среди этих фигур далеко не последни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Хотя отец его был литовец Юзеф (Иосиф) Визборас, подавшийся из Прибалтики в русскую революцию, а мать — украинка Мария Шевченко из Краснодара, сам Юрий оказался москвичом и по духу, и по рождению. Он появился на свет в родильном доме на Минусах (недалеко от Белорусского вокзала), произошло это событие 20 июня 1934 года. А детство и юность прошли на Сретенке, которой Визбор впоследствии посвятил немало своих самых лиричных и проникновенных произвед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1937 году его отец, красный командир, был арестован и убит. «Я помню, как арестовывали отца, помню и мамин крик», — писал позже Юрий Визбор в своей автобиографии. В 1958 году отец был посмертно реабилитирован. А тогда, оказавшись в чужом городе женой «врага народа» с маленьким сыном на руках, мать Юрия решила покинуть столицу — поехала на заработки в Хабаровск. Видимо, с той поры Юрия захватила страсть к дальним поездкам — Сибири, Заполярью, Дальнему Восто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сле школы Юрий окончил Московский педагогический институт по специальности «Русский язык и литература», пару месяцев поработал учителем в Архангельской области, а затем был призван в армию. Он закончил службу осенью 1957 года радистом первого класса, в звании старшего сержанта. Во время службы сочинял стихи и песни, печатался в армейских газетах. Вернувшись в Москву, стал радиожурналистом. Он был одним из основателей знаменитой и доныне радиостанции «Юность», вещающей специально для молодежи. Его первой женой стала журналистка Ада Якушева, которая тоже писала песни. Широко известна ее песенка, посвященная Юрию Визбору, — «Ты мое дыхание». У них родилась дочь Татьяна, ставшая впоследствии, как и родители, журналисткой — она ведущая популярных музыкальных программ на «Радио Росс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це 50-х и начале 60-х годов начинают ходить по стране в магнитофонных записях песни Визбора. Он часто выступает с неофициальными концертами на предприятиях, в НИИ, Домах культуры.… В 1964 году появляется журнал «Кругозор», внутри которого — несколько гибких пластинок с музыкой. Для журнала Визбор придумывает необычный журналистский жанр: песня-репортаж. Как корреспондент «Кругозора» он ездит по стране, а потом свои журналистские впечатления излагает в песнях под гита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приглашают в кино — сначала как автора песен, а затем как сценариста и даже актера. Он увлечен горнолыжным спортом и альпинизмом. В 1967 году, после картины «Июльский дождь», он женится на исполнительнице главной женской роли в фильме, у них рождается дочь Анна. А через пять лет — третья женитьб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н работает много и увлеченно: пишет песни, прозу, сценарии для документальных и художественных фильмов, снимается в кино, сочиняет пьесы для театра, выступает с концертами… Плюс спортивная деятельнос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августе 1982 года его настигает инфаркт миокарда. В марте 1984 года написана последняя песня. Через месяц у него обнаружен рак печени, и 17 сентября того же года Юрий Визбор скончал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Лирический герой Визбора - человек, безошибочно умеющий отделять главное от второстепенного, истинное от фальшивого, закономерное от случайного, свято оберегающий свою индивидуальность, но в то же время умеющий быть открытым для людей. Жизненное кредо лирического героя - движение вперед в бесконечной чреде встреч и расставаний. Его конечная цель - победа над собой.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01880" y="728640"/>
            <a:ext cx="4854240" cy="3641760"/>
          </a:xfrm>
          <a:prstGeom prst="rect">
            <a:avLst/>
          </a:prstGeom>
          <a:ln w="0">
            <a:noFill/>
          </a:ln>
        </p:spPr>
      </p:sp>
      <p:sp>
        <p:nvSpPr>
          <p:cNvPr id="203"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итяев Олег Григорьевич родился 19 февраля 1956 в Челябинске, живет в Москве.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кончил Челябинский монтажный техникум (1975) по специальности "монтаж электрооборудования промпредприятий", служил в армии, окончил Челябинский институт физкультуры (1981). Работал монтажником, тренером по плаванию, художником, зав. клубом, дворником. Несколько лет был артистом Челябинской филармонии. Окончил Российскую академию театрального искусства. Снялся в нескольких фильмах: д./ф. "Два часа с бардами"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с "Мосфильм"), х/ф. "Игра с неизвестным" (к/с им. Довженко), х/ф. "Сафари номер шесть" и "Убийца" (Свердловская к/с). Песни пишет с 1980 на свои стихи. Вышли пластинки и книги песен. В 1987 познакомился с Константином Тарасовым, с которым выступает вместе. С ним же как аранжировщиком и вторым гитаристом записаны три пластинки Митяева и три компакт-диска. В 1992 с группой актеров Театра им. Моссовета О. Митяев и К.Тарасов участвовали в спектакле "Большой Владимир" (Митяев в роли В.Маяковского, Тарасов - как актер и автор музыки к спектаклю). Премьера состоялась в Итали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се туристы и все хорошие компании, причем, не только в России, но и за рубежом, прекрасно знают: Олег Митяев — это «Как здорово, что все мы здесь сегодня собрались!»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а песня — один из гимнов бардовского движения, некоторые считают ее вообще единственным гимн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торая песня Митяева, «Волшебный дом», появилась только через год после первой, когда он шел из родильного дома, - у Олега родился сын. Всенародно известные песни Олега Митяева: «Соседка», «Француженка», «Как здорово, что все мы здесь сегодня собрались!», «Давай с тобой поговорим»,  «Сестра милосердия», </a:t>
            </a:r>
            <a:r>
              <a:rPr b="1" lang="ru-RU" sz="1000" spc="-1" strike="noStrike">
                <a:solidFill>
                  <a:srgbClr val="000000"/>
                </a:solidFill>
                <a:latin typeface="Arial"/>
              </a:rPr>
              <a:t>«В осеннем парке»</a:t>
            </a:r>
            <a:r>
              <a:rPr b="0" lang="ru-RU" sz="1000" spc="-1" strike="noStrike">
                <a:solidFill>
                  <a:srgbClr val="000000"/>
                </a:solidFill>
                <a:latin typeface="Arial"/>
              </a:rPr>
              <a:t>, «Авиатор», «С добрым утром, любимая», «Крепитесь, люди! Скоро лето!», «Лето — это маленькая жизнь» и множество други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4 октября 2002 Указом Президента России ОЛЕГУ МИТЯЕВУ присвоено звание ЗАСЛУЖЕННОГО АРТИСТА Российской Федерации!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01880" y="728640"/>
            <a:ext cx="4854240" cy="3641760"/>
          </a:xfrm>
          <a:prstGeom prst="rect">
            <a:avLst/>
          </a:prstGeom>
          <a:ln w="0">
            <a:noFill/>
          </a:ln>
        </p:spPr>
      </p:sp>
      <p:sp>
        <p:nvSpPr>
          <p:cNvPr id="205"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первых песен Вадима Егорова «Дожди» была написана в 1964 году, и сразу обрела популярность. После этого им было дано не менее тысячи концертов во многих больших и малых городах страны – в огромных залах и на погранзаставах, на БАМе и за рубежом.         А начиналось все в стенах МГПИ имени Ленина, этой колыбели авторской песни. Именно отсюда вышли Ада Якушева, Юрий Визбор, Юлий Ким и другие барды первого поколения – тогда еще птенцы, которым только предстояло собраться в «певчую стаю», ведомую «вожаком Булатом», как поется в одной из песен Егорова. В юности он менее всего видел свое поэтическое будущее в качестве автора песен. Очевидно, как и другим бардам, ему представлялся открытым путь в большую поэзию. Он верил в успех на собственно поэтическом поприще…         Членом Союза писателей он не стал. У него были две-три небольшие подборки стихотворений в журналах, в середине 80-х фирма «Мелодия» выпустила диск – гигант с песнями В. Егорова. Вот и все. Впрочем, разве стал членом Союза писателей бард номер один Высоцкий? В активе Вадима Егорова около двухсот песен. Среди них немало «народных», которые нередко поют, даже не ведая, кто их автор: «Дожди», «Следы», «Облака», «Монолог сына», «Прадеды» и особенно  «Друзья уходят» - этот своеобразный гимн дружбе и верности…Как и многие мастера бардовской песни (А.Городницкий, В.Берковский, Д.Сухарев, А.Дулов), Вадим Егоров – научный сотрудник, он – кандидат психологических наук. Как и большинство авторов – исполнителей Вадим Егоров не обошел стороной тему войны. И сегодня одна из самых известных его песен звучит, как реквием по всем погибшим на войне.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01880" y="728640"/>
            <a:ext cx="4854240" cy="3641760"/>
          </a:xfrm>
          <a:prstGeom prst="rect">
            <a:avLst/>
          </a:prstGeom>
          <a:ln w="0">
            <a:noFill/>
          </a:ln>
        </p:spPr>
      </p:sp>
      <p:sp>
        <p:nvSpPr>
          <p:cNvPr id="207"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И сама по себе не играет гита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дана человеку, как голос ду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Ю. Визб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a:t>
            </a:r>
            <a:r>
              <a:rPr b="1" lang="ru-RU" sz="1200" spc="-1" strike="noStrike">
                <a:solidFill>
                  <a:srgbClr val="000000"/>
                </a:solidFill>
                <a:latin typeface="Arial"/>
              </a:rPr>
              <a:t>Авторская песня</a:t>
            </a:r>
            <a:r>
              <a:rPr b="0" lang="ru-RU" sz="1200" spc="-1" strike="noStrike">
                <a:solidFill>
                  <a:srgbClr val="000000"/>
                </a:solidFill>
                <a:latin typeface="Arial"/>
              </a:rPr>
              <a:t> - это серьё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Для меня же это понятие имеет конкретный и узкий смысл: поэты, поющие свои стихи. Нас родило время – время памятных событий…  Поэзия под аккомпанемент стала противовесом развлекательной эстрадной песне, бездуховному искусству, имитации чувств. Она писалась думающими людьми для думающих людей», - такое определение авторской песне дал Булат Окуджава. И было бы правильно именно с рассказом  о нем и его творчестве продолжить наш разговор.</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01880" y="728640"/>
            <a:ext cx="4854240" cy="3641760"/>
          </a:xfrm>
          <a:prstGeom prst="rect">
            <a:avLst/>
          </a:prstGeom>
          <a:ln w="0">
            <a:noFill/>
          </a:ln>
        </p:spPr>
      </p:sp>
      <p:sp>
        <p:nvSpPr>
          <p:cNvPr id="185"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звучала песня В.Берковского на стихи Д.Сухарева «Вспомните, ребята». И, конечно, это не случайно.  Название именно этой песни и стало названием нашего урока-концерт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В </a:t>
            </a:r>
            <a:r>
              <a:rPr b="1" lang="en-US" sz="1000" spc="-1" strike="noStrike">
                <a:solidFill>
                  <a:srgbClr val="000000"/>
                </a:solidFill>
                <a:latin typeface="Arial"/>
              </a:rPr>
              <a:t>2010  году  исполняется </a:t>
            </a:r>
            <a:r>
              <a:rPr b="0" lang="en-US" sz="1000" spc="-1" strike="noStrike">
                <a:solidFill>
                  <a:srgbClr val="000000"/>
                </a:solidFill>
                <a:latin typeface="Arial"/>
              </a:rPr>
              <a:t>65 лет   со дня  великой Победы нашего народа в Великой Отечественной войне. Война осталась в прошлом веке и даже тысячелетии, однако любая дата Победы в этой войне значительна.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0 000 000 погибших, пропавших без вести. Еще больше тех, кто остался сиротами, потерял на той войне мужа, сына,  брата, сестру, любимого или любимую. Каждая семья бережно хранит память о тех, кто не вернулся с войны, бережет реликвии тех, кто вернулся, скорбит о тех, кто умер от ран и других последствий войны. И с каждым годом становится все меньше тех, кто еще может рассказать о тех жестоких и героических днях.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Каждый человек, считающий себя патриотом своей Родины, чтит память погибших и отдает дань уважения ветеранам. Безусловно, лучшие люди нации, творцы и гении,  не могли не затронуть тему войны в своем творчестве. Среди них и те, кто участвовал в войне или пережил  блокаду Ленинграда,  кто знает о голодном военном и послевоенном детстве не понаслышке, кто помнит рассказы своих отцов и дедов о войне и воплощает их в поэтические и музыкальные произведения.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Сегодня разговор пойдет о тех, кто, сочетая в своем творчестве поэзию и музыку,  так вдохновенно, бережно и трепетно передает нам свои чувства и мысли о той войне. Эти люди называют себя простым и емким словом «барды».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01880" y="728640"/>
            <a:ext cx="4854240" cy="3641760"/>
          </a:xfrm>
          <a:prstGeom prst="rect">
            <a:avLst/>
          </a:prstGeom>
          <a:ln w="0">
            <a:noFill/>
          </a:ln>
        </p:spPr>
      </p:sp>
      <p:sp>
        <p:nvSpPr>
          <p:cNvPr id="187"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a:t>
            </a:r>
            <a:r>
              <a:rPr b="1" i="1" lang="ru-RU" sz="1200" spc="-1" strike="noStrike">
                <a:solidFill>
                  <a:srgbClr val="993300"/>
                </a:solidFill>
                <a:latin typeface="Garamond"/>
              </a:rPr>
              <a:t>познакомиться с понятиями «барды», «авторская песня», получить представление о возникновении  бардовской  песни  и о творчестве некоторых, наиболее известных российских авторов-исполнител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01880" y="728640"/>
            <a:ext cx="4854240" cy="3641760"/>
          </a:xfrm>
          <a:prstGeom prst="rect">
            <a:avLst/>
          </a:prstGeom>
          <a:ln w="0">
            <a:noFill/>
          </a:ln>
        </p:spPr>
      </p:sp>
      <p:sp>
        <p:nvSpPr>
          <p:cNvPr id="189"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Барды </a:t>
            </a:r>
            <a:r>
              <a:rPr b="0" lang="en-US" sz="1200" spc="-1" strike="noStrike">
                <a:solidFill>
                  <a:srgbClr val="000000"/>
                </a:solidFill>
                <a:latin typeface="Arial"/>
              </a:rPr>
              <a:t>- 1) народные певцы древних кельтских племен. Впоследствии ста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рофессиональными   поэтами бродячими или живущими при княжеских двор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главным образом Ирландии,  Уэльса и Шотланд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Поэты и музыканты, исполнители собственных, т. е. авторских песе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01880" y="728640"/>
            <a:ext cx="4854240" cy="3641760"/>
          </a:xfrm>
          <a:prstGeom prst="rect">
            <a:avLst/>
          </a:prstGeom>
          <a:ln w="0">
            <a:noFill/>
          </a:ln>
        </p:spPr>
      </p:sp>
      <p:sp>
        <p:nvSpPr>
          <p:cNvPr id="191"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торическая справк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вторская песня традиционно считалась делом несерьезным. Термин "авторская песня" введен Высоцким, до этого говорили: "самодеятельная песня". </a:t>
            </a:r>
            <a:br>
              <a:rPr sz="1000"/>
            </a:br>
            <a:r>
              <a:rPr b="0" lang="ru-RU" sz="1000" spc="-1" strike="noStrike">
                <a:solidFill>
                  <a:srgbClr val="000000"/>
                </a:solidFill>
                <a:latin typeface="Arial"/>
              </a:rPr>
              <a:t>         Она развивалась, не пересекаясь и не смешиваясь с официальной песней, тем более - с поэзией.</a:t>
            </a:r>
            <a:br>
              <a:rPr sz="1000"/>
            </a:br>
            <a:r>
              <a:rPr b="0" lang="ru-RU" sz="1000" spc="-1" strike="noStrike">
                <a:solidFill>
                  <a:srgbClr val="000000"/>
                </a:solidFill>
                <a:latin typeface="Arial"/>
              </a:rPr>
              <a:t>         Авторская песня появилась в IX в. до н. э. Первым, известным истории, бардом был юноша из Делоса. Его ваяли впоследствии скульпторы - лучшие мастера Греции и Рима. Однако - это уже после смерти, когда он был канонизирован и стал патроном искусства, но, прежде всего - музыки и пения. Звали его Аполлоном, и при жизни он был победителем всех мистерий (что-то вроде нынешних фестивалей).</a:t>
            </a:r>
            <a:br>
              <a:rPr sz="1000"/>
            </a:br>
            <a:r>
              <a:rPr b="0" lang="ru-RU" sz="1000" spc="-1" strike="noStrike">
                <a:solidFill>
                  <a:srgbClr val="000000"/>
                </a:solidFill>
                <a:latin typeface="Arial"/>
              </a:rPr>
              <a:t>         Широко известен также его сын - фракийский бард Орфей. Он был непременным участником элевсинских, египетских мистерий, а также учредителем мистерий своего имени - орфических. Существовала даже орфическая философия, придуманная этим бардом. Смерть его была ужасной: он был растерзан экзальтированными поклонницами. Впрочем, некоторые считают, что о такой смерти настоящий мужчина может только мечтать. Интересная деталь: Аполлон играл на фроминге (примитивный музыкальный инструмент). Орфей же использовал для аккомпанемента семиструнную кифару - прообраз гитар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ифаред Гомер - первый из бардов, чьи песни дошли до нас в виде "Одиссеи" и "Илиады". Аполлона канонизировали, из Орфея сделали красивую легенду, а бюсты нищего Гомера украсили лучшие музеи мира - и на том спасибо. </a:t>
            </a:r>
            <a:br>
              <a:rPr sz="1000"/>
            </a:br>
            <a:r>
              <a:rPr b="0" lang="ru-RU" sz="1000" spc="-1" strike="noStrike">
                <a:solidFill>
                  <a:srgbClr val="000000"/>
                </a:solidFill>
                <a:latin typeface="Arial"/>
              </a:rPr>
              <a:t>         Следы древних авторов то появляются, то исчезают на пыльных тропинках Истории: нежнейшая Сафо, буян Архилох, скептически ядовитый Феогнид. Так что стихи Древней Эллады, зубримые филологами на первом курсе, - это ископаемые окаменелости первых бардовских песен.</a:t>
            </a:r>
            <a:br>
              <a:rPr sz="1000"/>
            </a:br>
            <a:r>
              <a:rPr b="0" lang="ru-RU" sz="1000" spc="-1" strike="noStrike">
                <a:solidFill>
                  <a:srgbClr val="000000"/>
                </a:solidFill>
                <a:latin typeface="Arial"/>
              </a:rPr>
              <a:t>         …Перелистаем несколько страниц. Менестрели, ваганты, миннезингеры, трубадуры - это Франция, Германия. Слово "барды" пришло из Англии, от кельтских племен.</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1880" y="728640"/>
            <a:ext cx="4854240" cy="3641760"/>
          </a:xfrm>
          <a:prstGeom prst="rect">
            <a:avLst/>
          </a:prstGeom>
          <a:ln w="0">
            <a:noFill/>
          </a:ln>
        </p:spPr>
      </p:sp>
      <p:sp>
        <p:nvSpPr>
          <p:cNvPr id="193"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И сама по себе не играет гита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дана человеку, как голос ду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Ю. Визб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a:t>
            </a:r>
            <a:r>
              <a:rPr b="1" lang="ru-RU" sz="1200" spc="-1" strike="noStrike">
                <a:solidFill>
                  <a:srgbClr val="000000"/>
                </a:solidFill>
                <a:latin typeface="Arial"/>
              </a:rPr>
              <a:t>Авторская песня</a:t>
            </a:r>
            <a:r>
              <a:rPr b="0" lang="ru-RU" sz="1200" spc="-1" strike="noStrike">
                <a:solidFill>
                  <a:srgbClr val="000000"/>
                </a:solidFill>
                <a:latin typeface="Arial"/>
              </a:rPr>
              <a:t> - это серьё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Для меня же это понятие имеет конкретный и узкий смысл: поэты, поющие свои стихи. Нас родило время – время памятных событий…  Поэзия под аккомпанемент стала противовесом развлекательной эстрадной песне, бездуховному искусству, имитации чувств. Она писалась думающими людьми для думающих людей», - такое определение авторской песне дал Булат Окуджава. И было бы правильно именно с рассказом  о нем и его творчестве продолжить наш разговор.</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1880" y="728640"/>
            <a:ext cx="4854240" cy="3641760"/>
          </a:xfrm>
          <a:prstGeom prst="rect">
            <a:avLst/>
          </a:prstGeom>
          <a:ln w="0">
            <a:noFill/>
          </a:ln>
        </p:spPr>
      </p:sp>
      <p:sp>
        <p:nvSpPr>
          <p:cNvPr id="195"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Булат Шалвович Окуджава (1924 – 199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го называют "отцом-основателем" авторской песни самые разные и самые авторитетные барды Он появился чуть раньше других и сразу стал Явлением с большой букв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егромкий, проникновенный голос, звучавший буквально из каждого второго окна, захватывал души, заставлял из некоей плоской системы, в которой тогда существовала страна, шагнуть в совершенно новый мир.</a:t>
            </a:r>
            <a:br>
              <a:rPr sz="1000"/>
            </a:br>
            <a:r>
              <a:rPr b="0" lang="ru-RU" sz="1000" spc="-1" strike="noStrike">
                <a:solidFill>
                  <a:srgbClr val="000000"/>
                </a:solidFill>
                <a:latin typeface="Arial"/>
              </a:rPr>
              <a:t>В числе своих учителей в поэзии "дворянин арбатского двора" называл Пастернака, Григорьева, Пушкина, Исаковского и русскую частушку, и - "чтобы не соврать - блатной фольклор, в лучших вещах". Неудивительно, что его песни довольно разнообразны: от шуточных -  до философских, но непременно - с легкой светлой грустинкой.</a:t>
            </a:r>
            <a:br>
              <a:rPr sz="1000"/>
            </a:br>
            <a:r>
              <a:rPr b="0" lang="ru-RU" sz="1000" spc="-1" strike="noStrike">
                <a:solidFill>
                  <a:srgbClr val="000000"/>
                </a:solidFill>
                <a:latin typeface="Arial"/>
              </a:rPr>
              <a:t>         Окуджава - один из немногих бардов, лично прошедших через горнило войны. Он ушел на фронт в 1942 году, из 9 класса. И день, когда его, еще совсем мальчишку, наконец-то взяли туда, вспоминал как самый счастливый за все годы войны. Его песни всегда преподносили эту жуткую и жестокую всенародную беду с непривычной, не сухой и официальной стороны, а именно такой, какой она виделась из окопа тревожной и неизвестной, с долей иронии (чтобы не сойти с ума), с любовью к жизни и верой в эту жизнь. Сам Булат Шалвович воевал минометчиком, был ранен и переведен в связисты. После победы демобилизовался, окончил филфак Тбилисского университета, работал учителем русского языка, затем - редактором в издательстве "Молодая гвардия", зав. отделом поэзии в "Литературной газете", киносценаристом. Однако главной его профессией навсегда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ала Песня.</a:t>
            </a:r>
            <a:br>
              <a:rPr sz="1000"/>
            </a:b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1880" y="728640"/>
            <a:ext cx="4854240" cy="3641760"/>
          </a:xfrm>
          <a:prstGeom prst="rect">
            <a:avLst/>
          </a:prstGeom>
          <a:ln w="0">
            <a:noFill/>
          </a:ln>
        </p:spPr>
      </p:sp>
      <p:sp>
        <p:nvSpPr>
          <p:cNvPr id="197"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 верю в бездарных людей. Все люди одарены жизнью. И перед этим невероятным фактом все остальное - мелочь и подр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чаров также, как и Булат Окуджава,  имеет веские основания считаться одним из родоначальников авторской песни. Еще до войны, в 1937 году, он начал сочинять песни на стихи А. Грина, Б. Корнилова, В. Инбер. В 1941 году, с первого курса Архитектурного института Анчаров пошел в армию, был десантником, затем, в 44-м, окончив ВИИЯКА (Военный институт иностранных языков Красной Армии), был направлен в качестве переводчика китайского языка на Дальневосточный фронт. Воевал в Манчжурии (где-то в это же время Михаил Леонидович начинает писать первые песни уже на стихи собственного сочинения). После демобилизации он поступает на отделение живописи Московского художественного государственного института имени Сурикова.</a:t>
            </a:r>
            <a:br>
              <a:rPr sz="1200"/>
            </a:br>
            <a:r>
              <a:rPr b="0" lang="ru-RU" sz="1200" spc="-1" strike="noStrike">
                <a:solidFill>
                  <a:srgbClr val="000000"/>
                </a:solidFill>
                <a:latin typeface="Arial"/>
              </a:rPr>
              <a:t>         Будучи человеком весьма незаурядным, Анчаров преуспел во многих начинаниях как драматург и живописец, как архитектор и писатель... Максимальная его активность как барда приходится на вторую половину пятидесятых - первую половину шестидесятых годов. Его песни были одними из популярнейших у тогдашней молодежи, а одна из них стала бесспорным шлягером начала семидесятых - "Стою на полу станочке в цветастом полушалочке..."</a:t>
            </a:r>
            <a:br>
              <a:rPr sz="1200"/>
            </a:br>
            <a:r>
              <a:rPr b="0" lang="ru-RU" sz="1200" spc="-1" strike="noStrike">
                <a:solidFill>
                  <a:srgbClr val="000000"/>
                </a:solidFill>
                <a:latin typeface="Arial"/>
              </a:rPr>
              <a:t>         Из песен военной тематики самой известной, безусловно, стала «Баллада о парашютах»</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01880" y="728640"/>
            <a:ext cx="4854240" cy="3641760"/>
          </a:xfrm>
          <a:prstGeom prst="rect">
            <a:avLst/>
          </a:prstGeom>
          <a:ln w="0">
            <a:noFill/>
          </a:ln>
        </p:spPr>
      </p:sp>
      <p:sp>
        <p:nvSpPr>
          <p:cNvPr id="199"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 Высоцком не расскажешь в двух абзацах - слишком многое связано с этим именем у огромного числа люде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н родился и жил в Москве. В 1956 году окончил театр-студию при МХАТе. Играл в Театре миниатюр, в Драматическом театре им А. С. Пушкина, а с 1964 года - в Театре драмы и комедии на Таганке. Там он сыграл более 20 ролей. Снялся в тридцати художественных фильмах и телефильмах. Стихи писал с детства. Всего Высоцким было написано более 600 песен, многие из которых - к фильмам и спектаклям. Также писал прозу, сценарии и сказки.</a:t>
            </a:r>
            <a:br>
              <a:rPr sz="1000"/>
            </a:br>
            <a:r>
              <a:rPr b="0" lang="ru-RU" sz="1000" spc="-1" strike="noStrike">
                <a:solidFill>
                  <a:srgbClr val="000000"/>
                </a:solidFill>
                <a:latin typeface="Arial"/>
              </a:rPr>
              <a:t>         Высоцкого вполне можно назвать самостоятельным явлением культурной жизни советского народа. Притом, что многие его песни были преданы "социалистической анафеме" действовавшим тогда режимом, а самому ему довольно долго запрещали выступать с концертами. Высоцкий был кумиром такого количества людей, что власти, при всем желании, не осмеливались открыто применить к нему жесткие меры - например, такие, как к Александру Галичу. Он бросал вызов не только своей ярчайшей лирикой - вызов был во всем и в игре на театральной сцене (на спектаклях с его участием в зале не бывало пустующих мест), и в женитьбе на известной французской актрисе Марине Влади - мало кто мог решиться на такое в то время. Сегодня практически каждый автор-исполнитель называет его своим учителем. В действительности же он был им не только для своих коллег по цеху - все, кто слушал Высоцкого и пропускал его пес ни через себя, могут по праву считать себя его ученикам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ысоцкий создал целый ряд песен, посвященных войне и воинам. Его герои – люди простые, часто без имен и званий. Многие поначалу считали, что он – участник боевых действий. Но он просто не мог им быть, так как был слишком мал в войну. Однако сила его таланта и проницательная душа сумели передать весь спектр эмоций, ощущений и чувств людей войны.</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BCA89C-9514-4036-BE36-E596FBC22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8B2FCC-B481-4CF8-B33B-BC85770E7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1D9994-3211-48D8-9C47-D72328847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A96D34-FD7C-4562-BEFE-81FC0D4E9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9C6A2-8B2B-404F-9687-D952A4025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80A93-AB4A-45C5-BDE4-814C4C520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E1734-DA42-4C09-9951-49C072B67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B3DCA-90CD-4CA7-8707-6E0AC9689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CA572-056F-4B89-A2A1-6294BF08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0A202-92C8-4775-92F9-6DBC65D5F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13271-3D36-416C-AD95-9A7BAFAF3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841A12-B48F-4BB9-839B-1FAD268A1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56A12-DCCF-4F9D-9515-351409390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E7202-3772-4120-B628-FBA632A2D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D8BC-D9E2-41DC-BA7E-F1E30BD93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29104-F04A-4A57-8DCB-2C005BBB9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A9830-9BE9-4708-A498-EABCFED35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81955D-A035-4BD5-BFD9-2B4F18EC9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6E7C87-CE67-4BBA-A5CD-A3D5D4CBF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C64806-9C30-43DA-830F-0AC8D77F2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150C81-F5DC-41F7-B8A8-10502D81B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8A3EB-30E6-476D-AF96-7B44FFD76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13E29-029E-4FF3-963D-EA85909C1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AB045C-7944-4CF2-86B7-DD2437D5A9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A87F-0F98-4BEC-A844-998F95CF60D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07F6-B82E-43CA-8A70-B3287E2B2F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logos.siit.ru/Arts/art00241.htm" TargetMode="External"/><Relationship Id="rId2" Type="http://schemas.openxmlformats.org/officeDocument/2006/relationships/hyperlink" Target="http://logos.siit.ru/Arts/art00241.htm" TargetMode="External"/><Relationship Id="rId3" Type="http://schemas.openxmlformats.org/officeDocument/2006/relationships/hyperlink" Target="http://logos.siit.ru/Arts/art00241.htm" TargetMode="External"/><Relationship Id="rId4" Type="http://schemas.openxmlformats.org/officeDocument/2006/relationships/hyperlink" Target="http://logos.siit.ru/Arts/art00241.htm" TargetMode="External"/><Relationship Id="rId5" Type="http://schemas.openxmlformats.org/officeDocument/2006/relationships/hyperlink" Target="http://logos.siit.ru/Arts/art00241.htm" TargetMode="External"/><Relationship Id="rId6" Type="http://schemas.openxmlformats.org/officeDocument/2006/relationships/hyperlink" Target="http://logos.siit.ru/Arts/art00241.htm" TargetMode="External"/><Relationship Id="rId7" Type="http://schemas.openxmlformats.org/officeDocument/2006/relationships/hyperlink" Target="http://gorodnit.bard.ru/bio/bio.htm" TargetMode="External"/><Relationship Id="rId8" Type="http://schemas.openxmlformats.org/officeDocument/2006/relationships/hyperlink" Target="http://gorodnit.bard.ru/bio/bio.htm" TargetMode="External"/><Relationship Id="rId9" Type="http://schemas.openxmlformats.org/officeDocument/2006/relationships/hyperlink" Target="http://gorodnit.bard.ru/bio/bio.htm" TargetMode="External"/><Relationship Id="rId10" Type="http://schemas.openxmlformats.org/officeDocument/2006/relationships/hyperlink" Target="http://gorodnit.bard.ru/bio/bio.htm" TargetMode="External"/><Relationship Id="rId11" Type="http://schemas.openxmlformats.org/officeDocument/2006/relationships/hyperlink" Target="http://gorodnit.bard.ru/bio/bio.htm" TargetMode="External"/><Relationship Id="rId12" Type="http://schemas.openxmlformats.org/officeDocument/2006/relationships/hyperlink" Target="http://gorodnit.bard.ru/bio/bio.htm" TargetMode="External"/><Relationship Id="rId13" Type="http://schemas.openxmlformats.org/officeDocument/2006/relationships/hyperlink" Target="http://gorodnit.bard.ru/bio/bio.htm"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1052640"/>
            <a:ext cx="8137440" cy="4106880"/>
          </a:xfrm>
          <a:prstGeom prst="rect">
            <a:avLst/>
          </a:prstGeom>
          <a:ln w="28440">
            <a:solidFill>
              <a:srgbClr val="006666"/>
            </a:solidFill>
            <a:miter/>
          </a:ln>
        </p:spPr>
      </p:pic>
      <p:sp>
        <p:nvSpPr>
          <p:cNvPr id="134" name="PlaceHolder 1"/>
          <p:cNvSpPr>
            <a:spLocks noGrp="1"/>
          </p:cNvSpPr>
          <p:nvPr>
            <p:ph type="title"/>
          </p:nvPr>
        </p:nvSpPr>
        <p:spPr>
          <a:xfrm>
            <a:off x="1476360" y="333360"/>
            <a:ext cx="723888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bf25a"/>
                </a:solidFill>
                <a:latin typeface="Tahoma"/>
              </a:rPr>
              <a:t>«Вспомните, ребята…»</a:t>
            </a:r>
            <a:endParaRPr b="0" lang="en-US" sz="4000" spc="-1" strike="noStrike">
              <a:solidFill>
                <a:srgbClr val="ffffcc"/>
              </a:solidFill>
              <a:latin typeface="Tahoma"/>
            </a:endParaRPr>
          </a:p>
        </p:txBody>
      </p:sp>
      <p:sp>
        <p:nvSpPr>
          <p:cNvPr id="135" name="PlaceHolder 2"/>
          <p:cNvSpPr>
            <a:spLocks noGrp="1"/>
          </p:cNvSpPr>
          <p:nvPr>
            <p:ph type="subTitle"/>
          </p:nvPr>
        </p:nvSpPr>
        <p:spPr>
          <a:xfrm>
            <a:off x="971640" y="5084640"/>
            <a:ext cx="7238880" cy="93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ема Великой Отечественной войны в творчестве российских бардов</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4" name="" descr=""/>
          <p:cNvPicPr/>
          <p:nvPr/>
        </p:nvPicPr>
        <p:blipFill>
          <a:blip r:embed="rId1">
            <a:lum bright="18000"/>
          </a:blip>
          <a:stretch/>
        </p:blipFill>
        <p:spPr>
          <a:xfrm>
            <a:off x="324000" y="1268280"/>
            <a:ext cx="4248000" cy="5400720"/>
          </a:xfrm>
          <a:prstGeom prst="rect">
            <a:avLst/>
          </a:prstGeom>
          <a:ln w="0">
            <a:noFill/>
          </a:ln>
        </p:spPr>
      </p:pic>
      <p:sp>
        <p:nvSpPr>
          <p:cNvPr id="165" name="PlaceHolder 1"/>
          <p:cNvSpPr>
            <a:spLocks noGrp="1"/>
          </p:cNvSpPr>
          <p:nvPr>
            <p:ph type="title"/>
          </p:nvPr>
        </p:nvSpPr>
        <p:spPr>
          <a:xfrm>
            <a:off x="32400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Юрий Иосифович ВИЗБОР </a:t>
            </a:r>
            <a:br>
              <a:rPr sz="3400"/>
            </a:br>
            <a:r>
              <a:rPr b="0" lang="en-US" sz="3400" spc="-1" strike="noStrike">
                <a:solidFill>
                  <a:srgbClr val="ebf25a"/>
                </a:solidFill>
                <a:latin typeface="Tahoma"/>
              </a:rPr>
              <a:t>(1934 – 1984)</a:t>
            </a:r>
            <a:endParaRPr b="0" lang="en-US" sz="3400" spc="-1" strike="noStrike">
              <a:solidFill>
                <a:srgbClr val="ffffcc"/>
              </a:solidFill>
              <a:latin typeface="Tahoma"/>
            </a:endParaRPr>
          </a:p>
        </p:txBody>
      </p:sp>
      <p:sp>
        <p:nvSpPr>
          <p:cNvPr id="166" name="PlaceHolder 2"/>
          <p:cNvSpPr>
            <a:spLocks noGrp="1"/>
          </p:cNvSpPr>
          <p:nvPr>
            <p:ph/>
          </p:nvPr>
        </p:nvSpPr>
        <p:spPr>
          <a:xfrm>
            <a:off x="324000" y="1341000"/>
            <a:ext cx="42480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cc"/>
                </a:solidFill>
                <a:latin typeface="Tahoma"/>
              </a:rPr>
              <a:t>В конце 50-х и начал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60-х годов начинают ходить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 стране в магнитофонных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записях песни Визбора. Он част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ыступает с неофициальными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онцертами .…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Для журнала «Кругозор»,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избор придумывает необычный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журналистский жанр: песня-</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репортаж.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Жизненное кредо лирическог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героя Ю. Визбора – движени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перед в бесконечной чред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стреч и расставаний. Ег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онечная  цель – победа  над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собой. </a:t>
            </a:r>
            <a:endParaRPr b="0" lang="en-US" sz="2000" spc="-1" strike="noStrike">
              <a:solidFill>
                <a:srgbClr val="ffffff"/>
              </a:solidFill>
              <a:latin typeface="Tahoma"/>
            </a:endParaRPr>
          </a:p>
        </p:txBody>
      </p:sp>
      <p:pic>
        <p:nvPicPr>
          <p:cNvPr id="167" name="" descr=""/>
          <p:cNvPicPr/>
          <p:nvPr/>
        </p:nvPicPr>
        <p:blipFill>
          <a:blip r:embed="rId2">
            <a:lum bright="6000"/>
          </a:blip>
          <a:stretch/>
        </p:blipFill>
        <p:spPr>
          <a:xfrm>
            <a:off x="4884840" y="1268280"/>
            <a:ext cx="3897360" cy="5329440"/>
          </a:xfrm>
          <a:prstGeom prst="rect">
            <a:avLst/>
          </a:prstGeom>
          <a:ln w="28440">
            <a:solidFill>
              <a:srgbClr val="ffffcc"/>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8" name="" descr=""/>
          <p:cNvPicPr/>
          <p:nvPr/>
        </p:nvPicPr>
        <p:blipFill>
          <a:blip r:embed="rId1">
            <a:lum bright="30000"/>
          </a:blip>
          <a:stretch/>
        </p:blipFill>
        <p:spPr>
          <a:xfrm>
            <a:off x="4284720" y="1052640"/>
            <a:ext cx="4506840" cy="5111640"/>
          </a:xfrm>
          <a:prstGeom prst="rect">
            <a:avLst/>
          </a:prstGeom>
          <a:ln w="0">
            <a:noFill/>
          </a:ln>
        </p:spPr>
      </p:pic>
      <p:sp>
        <p:nvSpPr>
          <p:cNvPr id="169"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Александр ГОРОДНИЦКИЙ(1933)</a:t>
            </a:r>
            <a:endParaRPr b="0" lang="en-US" sz="3400" spc="-1" strike="noStrike">
              <a:solidFill>
                <a:srgbClr val="ffffcc"/>
              </a:solidFill>
              <a:latin typeface="Tahoma"/>
            </a:endParaRPr>
          </a:p>
        </p:txBody>
      </p:sp>
      <p:sp>
        <p:nvSpPr>
          <p:cNvPr id="170" name=""/>
          <p:cNvSpPr txBox="1"/>
          <p:nvPr/>
        </p:nvSpPr>
        <p:spPr>
          <a:xfrm>
            <a:off x="-360" y="4220640"/>
            <a:ext cx="3995640" cy="2087640"/>
          </a:xfrm>
          <a:prstGeom prst="rect">
            <a:avLst/>
          </a:prstGeom>
          <a:noFill/>
          <a:ln w="0">
            <a:noFill/>
          </a:ln>
        </p:spPr>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Геофизик, поэт. Песни пишет с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1953 года на свои стихи.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Родился Александр Моисеевич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в Ленинграде. Во время войны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пережил блокаду в </a:t>
            </a:r>
            <a:endParaRPr b="0" lang="en-US" sz="18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осажденном городе. </a:t>
            </a:r>
            <a:endParaRPr b="0" lang="en-US" sz="1800" spc="-1" strike="noStrike">
              <a:solidFill>
                <a:srgbClr val="ffffff"/>
              </a:solidFill>
              <a:latin typeface="Tahoma"/>
            </a:endParaRPr>
          </a:p>
        </p:txBody>
      </p:sp>
      <p:sp>
        <p:nvSpPr>
          <p:cNvPr id="171" name="PlaceHolder 2"/>
          <p:cNvSpPr>
            <a:spLocks noGrp="1"/>
          </p:cNvSpPr>
          <p:nvPr>
            <p:ph/>
          </p:nvPr>
        </p:nvSpPr>
        <p:spPr>
          <a:xfrm>
            <a:off x="4211640" y="1125000"/>
            <a:ext cx="4464000" cy="5040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cc"/>
                </a:solidFill>
                <a:latin typeface="Tahoma"/>
              </a:rPr>
              <a:t>Геолог, океанолог,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доктор геолог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минералогических наук,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рофессор, академик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Российской Академии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естественных наук.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       </a:t>
            </a:r>
            <a:r>
              <a:rPr b="0" lang="ru-RU" sz="2400" spc="-1" strike="noStrike">
                <a:solidFill>
                  <a:srgbClr val="ffffcc"/>
                </a:solidFill>
                <a:latin typeface="Tahoma"/>
              </a:rPr>
              <a:t>Городницкий известен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как замечательный поэт и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бард. Его песни становились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народными в полном смысле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слова.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       </a:t>
            </a:r>
            <a:r>
              <a:rPr b="0" lang="ru-RU" sz="2400" spc="-1" strike="noStrike">
                <a:solidFill>
                  <a:srgbClr val="ffffcc"/>
                </a:solidFill>
                <a:latin typeface="Tahoma"/>
              </a:rPr>
              <a:t>В 1972 году  стал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членом Союза писателей.</a:t>
            </a:r>
            <a:endParaRPr b="0" lang="en-US" sz="2400" spc="-1" strike="noStrike">
              <a:solidFill>
                <a:srgbClr val="ffffff"/>
              </a:solidFill>
              <a:latin typeface="Tahoma"/>
            </a:endParaRPr>
          </a:p>
        </p:txBody>
      </p:sp>
      <p:pic>
        <p:nvPicPr>
          <p:cNvPr id="172" name="" descr=""/>
          <p:cNvPicPr/>
          <p:nvPr/>
        </p:nvPicPr>
        <p:blipFill>
          <a:blip r:embed="rId2"/>
          <a:stretch/>
        </p:blipFill>
        <p:spPr>
          <a:xfrm>
            <a:off x="539640" y="1052640"/>
            <a:ext cx="3117960" cy="3097080"/>
          </a:xfrm>
          <a:prstGeom prst="rect">
            <a:avLst/>
          </a:prstGeom>
          <a:ln w="28440">
            <a:solidFill>
              <a:srgbClr val="ffff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3" name="" descr=""/>
          <p:cNvPicPr/>
          <p:nvPr/>
        </p:nvPicPr>
        <p:blipFill>
          <a:blip r:embed="rId1">
            <a:lum bright="12000"/>
          </a:blip>
          <a:stretch/>
        </p:blipFill>
        <p:spPr>
          <a:xfrm>
            <a:off x="395280" y="1341360"/>
            <a:ext cx="4176720" cy="2849760"/>
          </a:xfrm>
          <a:prstGeom prst="rect">
            <a:avLst/>
          </a:prstGeom>
          <a:ln w="28440">
            <a:solidFill>
              <a:srgbClr val="ffffcc"/>
            </a:solidFill>
            <a:miter/>
          </a:ln>
        </p:spPr>
      </p:pic>
      <p:sp>
        <p:nvSpPr>
          <p:cNvPr id="174"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Олег МИТЯЕВ (1956)</a:t>
            </a:r>
            <a:endParaRPr b="0" lang="en-US" sz="3400" spc="-1" strike="noStrike">
              <a:solidFill>
                <a:srgbClr val="ffffcc"/>
              </a:solidFill>
              <a:latin typeface="Tahoma"/>
            </a:endParaRPr>
          </a:p>
        </p:txBody>
      </p:sp>
      <p:sp>
        <p:nvSpPr>
          <p:cNvPr id="175" name=""/>
          <p:cNvSpPr txBox="1"/>
          <p:nvPr/>
        </p:nvSpPr>
        <p:spPr>
          <a:xfrm>
            <a:off x="394920" y="5084640"/>
            <a:ext cx="8209080" cy="1368720"/>
          </a:xfrm>
          <a:prstGeom prst="rect">
            <a:avLst/>
          </a:prstGeom>
          <a:noFill/>
          <a:ln w="0">
            <a:noFill/>
          </a:ln>
        </p:spPr>
        <p:txBody>
          <a:bodyPr lIns="90000" rIns="90000" tIns="46800" bIns="46800" anchor="t">
            <a:normAutofit fontScale="93000"/>
          </a:bodyPr>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Все туристы знают: Олег Митяев — это «Как здорово, что все мы </a:t>
            </a:r>
            <a:endParaRPr b="0" lang="en-US" sz="2000" spc="-1" strike="noStrike">
              <a:solidFill>
                <a:srgbClr val="ffffff"/>
              </a:solidFill>
              <a:latin typeface="Tahoma"/>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здесь сегодня собрались!» 14 октября 2002 Указом Президента </a:t>
            </a:r>
            <a:endParaRPr b="0" lang="en-US" sz="2000" spc="-1" strike="noStrike">
              <a:solidFill>
                <a:srgbClr val="ffffff"/>
              </a:solidFill>
              <a:latin typeface="Tahoma"/>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России ОЛЕГУ МИТЯЕВУ присвоено Звание Заслуженного артиста  </a:t>
            </a:r>
            <a:endParaRPr b="0" lang="en-US" sz="2000" spc="-1" strike="noStrike">
              <a:solidFill>
                <a:srgbClr val="ffffff"/>
              </a:solidFill>
              <a:latin typeface="Tahoma"/>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Российской Федерации.</a:t>
            </a:r>
            <a:endParaRPr b="0" lang="en-US" sz="2000" spc="-1" strike="noStrike">
              <a:solidFill>
                <a:srgbClr val="ffffff"/>
              </a:solidFill>
              <a:latin typeface="Tahoma"/>
            </a:endParaRPr>
          </a:p>
        </p:txBody>
      </p:sp>
      <p:sp>
        <p:nvSpPr>
          <p:cNvPr id="176" name="PlaceHolder 2"/>
          <p:cNvSpPr>
            <a:spLocks noGrp="1"/>
          </p:cNvSpPr>
          <p:nvPr>
            <p:ph/>
          </p:nvPr>
        </p:nvSpPr>
        <p:spPr>
          <a:xfrm>
            <a:off x="4642920" y="1196640"/>
            <a:ext cx="4032360" cy="4032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cc"/>
                </a:solidFill>
                <a:latin typeface="Tahoma"/>
              </a:rPr>
              <a:t>Родился 19 февраля 1956 в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Челябинске, живет в Москв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Служил в армии, окончил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Челябинский институт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физкультуры (1981). Работал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монтажником, тренером п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лаванию, художником, зав.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лубом, дворником. Несколько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лет был артистом Челябинской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Филармонии. Окончил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Российскую академию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еатрального искусства. </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7" name="" descr=""/>
          <p:cNvPicPr/>
          <p:nvPr/>
        </p:nvPicPr>
        <p:blipFill>
          <a:blip r:embed="rId1">
            <a:lum bright="24000"/>
          </a:blip>
          <a:stretch/>
        </p:blipFill>
        <p:spPr>
          <a:xfrm>
            <a:off x="3995640" y="1125360"/>
            <a:ext cx="4321440" cy="5256360"/>
          </a:xfrm>
          <a:prstGeom prst="rect">
            <a:avLst/>
          </a:prstGeom>
          <a:ln w="0">
            <a:noFill/>
          </a:ln>
        </p:spPr>
      </p:pic>
      <p:sp>
        <p:nvSpPr>
          <p:cNvPr id="178"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ebf25a"/>
                </a:solidFill>
                <a:latin typeface="Tahoma"/>
              </a:rPr>
              <a:t>Вадим ЕГОРОВ (1947)</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179" name="PlaceHolder 2"/>
          <p:cNvSpPr>
            <a:spLocks noGrp="1"/>
          </p:cNvSpPr>
          <p:nvPr>
            <p:ph/>
          </p:nvPr>
        </p:nvSpPr>
        <p:spPr>
          <a:xfrm>
            <a:off x="4140000" y="1268280"/>
            <a:ext cx="4103640" cy="4824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0" lang="en-US" sz="2000" spc="-1" strike="noStrike">
                <a:solidFill>
                  <a:srgbClr val="ffffcc"/>
                </a:solidFill>
                <a:latin typeface="Tahoma"/>
              </a:rPr>
              <a:t>Одна из первых песен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адима Егорова «Дожд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была написана в 1964 году, 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сразу обрела популярность.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сле этого им было дано не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менее тысячи концертов во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многих больших и малых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городах страны – в огромных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залах и на погранзаставах, на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БАМе и за рубежом.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Вадим Егоров так же не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обошел стороной тему войны. И сегодня одна из самых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известных его песен звучит,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как реквием по всем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гибшим на войне. </a:t>
            </a:r>
            <a:endParaRPr b="0" lang="en-US" sz="2000" spc="-1" strike="noStrike">
              <a:solidFill>
                <a:srgbClr val="ffffff"/>
              </a:solidFill>
              <a:latin typeface="Tahoma"/>
            </a:endParaRPr>
          </a:p>
        </p:txBody>
      </p:sp>
      <p:pic>
        <p:nvPicPr>
          <p:cNvPr id="180" name="" descr=""/>
          <p:cNvPicPr/>
          <p:nvPr/>
        </p:nvPicPr>
        <p:blipFill>
          <a:blip r:embed="rId2">
            <a:lum bright="-18000"/>
          </a:blip>
          <a:stretch/>
        </p:blipFill>
        <p:spPr>
          <a:xfrm>
            <a:off x="395280" y="1268280"/>
            <a:ext cx="3419640" cy="5104080"/>
          </a:xfrm>
          <a:prstGeom prst="rect">
            <a:avLst/>
          </a:prstGeom>
          <a:ln w="28440">
            <a:solidFill>
              <a:srgbClr val="ffffcc"/>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835280" y="836640"/>
            <a:ext cx="6624360" cy="5251320"/>
          </a:xfrm>
          <a:prstGeom prst="rect">
            <a:avLst/>
          </a:prstGeom>
          <a:ln w="0">
            <a:noFill/>
          </a:ln>
        </p:spPr>
      </p:pic>
      <p:sp>
        <p:nvSpPr>
          <p:cNvPr id="182" name="PlaceHolder 1"/>
          <p:cNvSpPr>
            <a:spLocks noGrp="1"/>
          </p:cNvSpPr>
          <p:nvPr>
            <p:ph/>
          </p:nvPr>
        </p:nvSpPr>
        <p:spPr>
          <a:xfrm>
            <a:off x="2555640" y="836640"/>
            <a:ext cx="5832360" cy="4464000"/>
          </a:xfrm>
          <a:prstGeom prst="rect">
            <a:avLst/>
          </a:prstGeom>
          <a:noFill/>
          <a:ln w="0">
            <a:noFill/>
          </a:ln>
        </p:spPr>
        <p:txBody>
          <a:bodyPr lIns="90000" rIns="90000" tIns="46800" bIns="46800" anchor="t">
            <a:normAutofit fontScale="77000"/>
          </a:bodyPr>
          <a:p>
            <a:pPr marL="263880"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И сама по себе не играет гитара,                                                                                                             А дана человеку, как голос души».</a:t>
            </a: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Ю. Визбор</a:t>
            </a:r>
            <a:endParaRPr b="0" lang="en-US" sz="4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259920"/>
            <a:ext cx="7499520" cy="5870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сок использованной литературы</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юди идут по свету: Книга- концерт. - М.: Физкультура и спорт, 1990- 399 с.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полним музыкой сердца :Антология авторской песни. - М.: Советский композитор, 1989 -.252 с.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сок используемых Интернет - ресурсов</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1"/>
              </a:rPr>
              <a:t>http</a:t>
            </a:r>
            <a:r>
              <a:rPr b="0" lang="ru-RU" sz="2000" spc="-1" strike="noStrike" u="sng">
                <a:solidFill>
                  <a:srgbClr val="ebf25a"/>
                </a:solidFill>
                <a:uFillTx/>
                <a:latin typeface="Tahoma"/>
                <a:hlinkClick r:id="rId2"/>
              </a:rPr>
              <a:t>://</a:t>
            </a:r>
            <a:r>
              <a:rPr b="0" lang="ru-RU" sz="2000" spc="-1" strike="noStrike" u="sng">
                <a:solidFill>
                  <a:srgbClr val="ebf25a"/>
                </a:solidFill>
                <a:uFillTx/>
                <a:latin typeface="Tahoma"/>
                <a:hlinkClick r:id="rId3"/>
              </a:rPr>
              <a:t>logos.siit.ru</a:t>
            </a:r>
            <a:r>
              <a:rPr b="0" lang="ru-RU" sz="2000" spc="-1" strike="noStrike" u="sng">
                <a:solidFill>
                  <a:srgbClr val="ebf25a"/>
                </a:solidFill>
                <a:uFillTx/>
                <a:latin typeface="Tahoma"/>
                <a:hlinkClick r:id="rId4"/>
              </a:rPr>
              <a:t>/</a:t>
            </a:r>
            <a:r>
              <a:rPr b="0" lang="ru-RU" sz="2000" spc="-1" strike="noStrike" u="sng">
                <a:solidFill>
                  <a:srgbClr val="ebf25a"/>
                </a:solidFill>
                <a:uFillTx/>
                <a:latin typeface="Tahoma"/>
                <a:hlinkClick r:id="rId5"/>
              </a:rPr>
              <a:t>Arts</a:t>
            </a:r>
            <a:r>
              <a:rPr b="0" lang="ru-RU" sz="2000" spc="-1" strike="noStrike" u="sng">
                <a:solidFill>
                  <a:srgbClr val="ebf25a"/>
                </a:solidFill>
                <a:uFillTx/>
                <a:latin typeface="Tahoma"/>
                <a:hlinkClick r:id="rId6"/>
              </a:rPr>
              <a:t>/art00241.htm</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7"/>
              </a:rPr>
              <a:t>http</a:t>
            </a:r>
            <a:r>
              <a:rPr b="0" lang="ru-RU" sz="2000" spc="-1" strike="noStrike" u="sng">
                <a:solidFill>
                  <a:srgbClr val="ebf25a"/>
                </a:solidFill>
                <a:uFillTx/>
                <a:latin typeface="Tahoma"/>
                <a:hlinkClick r:id="rId8"/>
              </a:rPr>
              <a:t>://</a:t>
            </a:r>
            <a:r>
              <a:rPr b="0" lang="ru-RU" sz="2000" spc="-1" strike="noStrike" u="sng">
                <a:solidFill>
                  <a:srgbClr val="ebf25a"/>
                </a:solidFill>
                <a:uFillTx/>
                <a:latin typeface="Tahoma"/>
                <a:hlinkClick r:id="rId9"/>
              </a:rPr>
              <a:t>gorodnit.bard.ru</a:t>
            </a:r>
            <a:r>
              <a:rPr b="0" lang="ru-RU" sz="2000" spc="-1" strike="noStrike" u="sng">
                <a:solidFill>
                  <a:srgbClr val="ebf25a"/>
                </a:solidFill>
                <a:uFillTx/>
                <a:latin typeface="Tahoma"/>
                <a:hlinkClick r:id="rId10"/>
              </a:rPr>
              <a:t>/</a:t>
            </a:r>
            <a:r>
              <a:rPr b="0" lang="ru-RU" sz="2000" spc="-1" strike="noStrike" u="sng">
                <a:solidFill>
                  <a:srgbClr val="ebf25a"/>
                </a:solidFill>
                <a:uFillTx/>
                <a:latin typeface="Tahoma"/>
                <a:hlinkClick r:id="rId11"/>
              </a:rPr>
              <a:t>bio</a:t>
            </a:r>
            <a:r>
              <a:rPr b="0" lang="ru-RU" sz="2000" spc="-1" strike="noStrike" u="sng">
                <a:solidFill>
                  <a:srgbClr val="ebf25a"/>
                </a:solidFill>
                <a:uFillTx/>
                <a:latin typeface="Tahoma"/>
                <a:hlinkClick r:id="rId12"/>
              </a:rPr>
              <a:t>/</a:t>
            </a:r>
            <a:r>
              <a:rPr b="0" lang="ru-RU" sz="2000" spc="-1" strike="noStrike" u="sng">
                <a:solidFill>
                  <a:srgbClr val="ebf25a"/>
                </a:solidFill>
                <a:uFillTx/>
                <a:latin typeface="Tahoma"/>
                <a:hlinkClick r:id="rId13"/>
              </a:rPr>
              <a:t>bio.htm</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notka.botik.ru/authors.shtml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mityaev.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deol.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ktmz.boot.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akter.kulichki.net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bards.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lib.ru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vizbor.org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peoples.ru/bard/galich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www.ruthenia.ru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ebf25a"/>
                </a:solidFill>
                <a:latin typeface="Tahoma"/>
              </a:rPr>
              <a:t>2010  год – год 65-ой годовщины   со дня  великой Победы нашего народа в Великой Отечественной войне.</a:t>
            </a:r>
            <a:endParaRPr b="0" lang="en-US" sz="2700" spc="-1" strike="noStrike">
              <a:solidFill>
                <a:srgbClr val="ffffcc"/>
              </a:solidFill>
              <a:latin typeface="Tahoma"/>
            </a:endParaRPr>
          </a:p>
        </p:txBody>
      </p:sp>
      <p:sp>
        <p:nvSpPr>
          <p:cNvPr id="137" name="PlaceHolder 2"/>
          <p:cNvSpPr>
            <a:spLocks noGrp="1"/>
          </p:cNvSpPr>
          <p:nvPr>
            <p:ph/>
          </p:nvPr>
        </p:nvSpPr>
        <p:spPr>
          <a:xfrm>
            <a:off x="250560" y="2276640"/>
            <a:ext cx="5041800" cy="374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Лучшие  люди нации, творцы 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гении,  не могли не затронуть тем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йны в своем творчеств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Среди них и те, кто участвовал в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йне или пережил  блокад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енинграда,  кто знает о голодном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енном и послевоенном детстве н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наслышке, кто помнит рассказ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воих отцов и дедов о войне 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площает их в поэтические 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узыкальные произведени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38" name="" descr=""/>
          <p:cNvPicPr/>
          <p:nvPr/>
        </p:nvPicPr>
        <p:blipFill>
          <a:blip r:embed="rId1"/>
          <a:stretch/>
        </p:blipFill>
        <p:spPr>
          <a:xfrm>
            <a:off x="5508720" y="1700280"/>
            <a:ext cx="3133800" cy="4608360"/>
          </a:xfrm>
          <a:prstGeom prst="rect">
            <a:avLst/>
          </a:prstGeom>
          <a:ln w="28440">
            <a:solidFill>
              <a:srgbClr val="ffffff"/>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9" name="" descr=""/>
          <p:cNvPicPr/>
          <p:nvPr/>
        </p:nvPicPr>
        <p:blipFill>
          <a:blip r:embed="rId1">
            <a:lum bright="54000"/>
            <a:alphaModFix amt="91000"/>
          </a:blip>
          <a:stretch/>
        </p:blipFill>
        <p:spPr>
          <a:xfrm>
            <a:off x="6516720" y="4848120"/>
            <a:ext cx="2158920" cy="1605240"/>
          </a:xfrm>
          <a:prstGeom prst="rect">
            <a:avLst/>
          </a:prstGeom>
          <a:ln w="0">
            <a:noFill/>
          </a:ln>
        </p:spPr>
      </p:pic>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Цели:</a:t>
            </a:r>
            <a:endParaRPr b="0" lang="en-US" sz="4200" spc="-1" strike="noStrike">
              <a:solidFill>
                <a:srgbClr val="ffffcc"/>
              </a:solidFill>
              <a:latin typeface="Tahoma"/>
            </a:endParaRPr>
          </a:p>
        </p:txBody>
      </p:sp>
      <p:sp>
        <p:nvSpPr>
          <p:cNvPr id="14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alifornian FB"/>
              </a:rPr>
              <a:t>     </a:t>
            </a:r>
            <a:r>
              <a:rPr b="0" i="1" lang="ru-RU" sz="3200" spc="-1" strike="noStrike">
                <a:solidFill>
                  <a:srgbClr val="ffffff"/>
                </a:solidFill>
                <a:latin typeface="Tahoma"/>
              </a:rPr>
              <a:t>познакомиться с понятиями «барды», «авторская песня», получить представление о возникновении  бардовской  песни  и о творчестве некоторых, наиболее известных российских авторов-исполнителей.</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76360" y="1197000"/>
            <a:ext cx="6912000" cy="5294160"/>
          </a:xfrm>
          <a:prstGeom prst="rect">
            <a:avLst/>
          </a:prstGeom>
          <a:ln w="0">
            <a:noFill/>
          </a:ln>
        </p:spPr>
      </p:pic>
      <p:sp>
        <p:nvSpPr>
          <p:cNvPr id="143" name="PlaceHolder 1"/>
          <p:cNvSpPr>
            <a:spLocks noGrp="1"/>
          </p:cNvSpPr>
          <p:nvPr>
            <p:ph type="title"/>
          </p:nvPr>
        </p:nvSpPr>
        <p:spPr>
          <a:xfrm>
            <a:off x="323640" y="259920"/>
            <a:ext cx="2663640" cy="847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Барды -</a:t>
            </a:r>
            <a:endParaRPr b="0" lang="en-US" sz="4200" spc="-1" strike="noStrike">
              <a:solidFill>
                <a:srgbClr val="ffffcc"/>
              </a:solidFill>
              <a:latin typeface="Tahoma"/>
            </a:endParaRPr>
          </a:p>
        </p:txBody>
      </p:sp>
      <p:sp>
        <p:nvSpPr>
          <p:cNvPr id="144" name="PlaceHolder 2"/>
          <p:cNvSpPr>
            <a:spLocks noGrp="1"/>
          </p:cNvSpPr>
          <p:nvPr>
            <p:ph/>
          </p:nvPr>
        </p:nvSpPr>
        <p:spPr>
          <a:xfrm>
            <a:off x="1763280" y="1916280"/>
            <a:ext cx="6480360" cy="34560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Garamond"/>
              </a:rPr>
              <a:t>1</a:t>
            </a:r>
            <a:r>
              <a:rPr b="0" i="1" lang="en-US" sz="3200" spc="-1" strike="noStrike">
                <a:solidFill>
                  <a:srgbClr val="993300"/>
                </a:solidFill>
                <a:latin typeface="Tahoma"/>
              </a:rPr>
              <a:t>)</a:t>
            </a:r>
            <a:r>
              <a:rPr b="0" i="1" lang="en-US" sz="3200" spc="-1" strike="noStrike">
                <a:solidFill>
                  <a:srgbClr val="ffffff"/>
                </a:solidFill>
                <a:latin typeface="Tahoma"/>
              </a:rPr>
              <a:t> </a:t>
            </a:r>
            <a:r>
              <a:rPr b="0" i="1" lang="en-US" sz="2800" spc="-1" strike="noStrike">
                <a:solidFill>
                  <a:srgbClr val="993300"/>
                </a:solidFill>
                <a:latin typeface="Tahoma"/>
              </a:rPr>
              <a:t>народные певцы древних кельтских племен. Впоследствии стали               профессиональными   поэтами бродячими или живущими при княжеских дворах                (главным образом Ирландии,  Уэльса и Шотландии); </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00"/>
                </a:solidFill>
                <a:latin typeface="Tahoma"/>
              </a:rPr>
              <a:t>2) поэты и музыканты, исполнители собственных, т. е. авторских песен.</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5" name="" descr=""/>
          <p:cNvPicPr/>
          <p:nvPr/>
        </p:nvPicPr>
        <p:blipFill>
          <a:blip r:embed="rId1">
            <a:lum bright="72000"/>
          </a:blip>
          <a:stretch/>
        </p:blipFill>
        <p:spPr>
          <a:xfrm>
            <a:off x="6372360" y="4653000"/>
            <a:ext cx="2303280" cy="1789200"/>
          </a:xfrm>
          <a:prstGeom prst="rect">
            <a:avLst/>
          </a:prstGeom>
          <a:ln w="0">
            <a:noFill/>
          </a:ln>
        </p:spPr>
      </p:pic>
      <p:sp>
        <p:nvSpPr>
          <p:cNvPr id="146"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Историческая справка.</a:t>
            </a:r>
            <a:endParaRPr b="0" lang="en-US" sz="3800" spc="-1" strike="noStrike">
              <a:solidFill>
                <a:srgbClr val="ffffcc"/>
              </a:solidFill>
              <a:latin typeface="Tahoma"/>
            </a:endParaRPr>
          </a:p>
        </p:txBody>
      </p:sp>
      <p:sp>
        <p:nvSpPr>
          <p:cNvPr id="147" name="PlaceHolder 2"/>
          <p:cNvSpPr>
            <a:spLocks noGrp="1"/>
          </p:cNvSpPr>
          <p:nvPr>
            <p:ph/>
          </p:nvPr>
        </p:nvSpPr>
        <p:spPr>
          <a:xfrm>
            <a:off x="457200" y="836280"/>
            <a:ext cx="8229600" cy="583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авторская песня" введен Высоцким, до этого говорили: "самодеятельная песня". </a:t>
            </a:r>
            <a:endParaRPr b="0" lang="en-US" sz="2800" spc="-1" strike="noStrike">
              <a:solidFill>
                <a:srgbClr val="ffffff"/>
              </a:solidFill>
              <a:latin typeface="Tahoma"/>
            </a:endParaRPr>
          </a:p>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вторская песня появилась в IX в. до н. э. Первым, известным истории, бардом был юноша из Делоса. Звали его Аполлоном, и при жизни он был победителем всех мистерий (что-то вроде нынешних фестивалей). </a:t>
            </a:r>
            <a:endParaRPr b="0" lang="en-US" sz="2800" spc="-1" strike="noStrike">
              <a:solidFill>
                <a:srgbClr val="ffffff"/>
              </a:solidFill>
              <a:latin typeface="Tahoma"/>
            </a:endParaRPr>
          </a:p>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Широко известен также его сын - фракийский бард Орфей. </a:t>
            </a:r>
            <a:endParaRPr b="0" lang="en-US" sz="2800" spc="-1" strike="noStrike">
              <a:solidFill>
                <a:srgbClr val="ffffff"/>
              </a:solidFill>
              <a:latin typeface="Tahoma"/>
            </a:endParaRPr>
          </a:p>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рфей   использовал для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ккомпанемента семиструнную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ифару - прообраз гитары.</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835280" y="836640"/>
            <a:ext cx="6624360" cy="5251320"/>
          </a:xfrm>
          <a:prstGeom prst="rect">
            <a:avLst/>
          </a:prstGeom>
          <a:ln w="0">
            <a:noFill/>
          </a:ln>
        </p:spPr>
      </p:pic>
      <p:sp>
        <p:nvSpPr>
          <p:cNvPr id="149" name="PlaceHolder 1"/>
          <p:cNvSpPr>
            <a:spLocks noGrp="1"/>
          </p:cNvSpPr>
          <p:nvPr>
            <p:ph/>
          </p:nvPr>
        </p:nvSpPr>
        <p:spPr>
          <a:xfrm>
            <a:off x="2555640" y="836640"/>
            <a:ext cx="5832360" cy="4464000"/>
          </a:xfrm>
          <a:prstGeom prst="rect">
            <a:avLst/>
          </a:prstGeom>
          <a:noFill/>
          <a:ln w="0">
            <a:noFill/>
          </a:ln>
        </p:spPr>
        <p:txBody>
          <a:bodyPr lIns="90000" rIns="90000" tIns="46800" bIns="46800" anchor="t">
            <a:normAutofit fontScale="77000"/>
          </a:bodyPr>
          <a:p>
            <a:pPr marL="263880"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И сама по себе не играет гитара,                                                                                                             А дана человеку, как голос души».</a:t>
            </a:r>
            <a:endParaRPr b="0" lang="en-US" sz="4400" spc="-1" strike="noStrike">
              <a:solidFill>
                <a:srgbClr val="ffffff"/>
              </a:solidFill>
              <a:latin typeface="Tahoma"/>
            </a:endParaRPr>
          </a:p>
          <a:p>
            <a:pPr marL="2638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Tahoma"/>
              </a:rPr>
              <a:t>Ю. Визбор</a:t>
            </a:r>
            <a:endParaRPr b="0" lang="en-US" sz="4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lum bright="36000"/>
          </a:blip>
          <a:stretch/>
        </p:blipFill>
        <p:spPr>
          <a:xfrm>
            <a:off x="4211640" y="1413000"/>
            <a:ext cx="4753080" cy="5184720"/>
          </a:xfrm>
          <a:prstGeom prst="rect">
            <a:avLst/>
          </a:prstGeom>
          <a:ln w="0">
            <a:noFill/>
          </a:ln>
        </p:spPr>
      </p:pic>
      <p:sp>
        <p:nvSpPr>
          <p:cNvPr id="151"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Булат Шалвович ОКУДЖАВА </a:t>
            </a:r>
            <a:br>
              <a:rPr sz="3800"/>
            </a:br>
            <a:r>
              <a:rPr b="0" lang="en-US" sz="3800" spc="-1" strike="noStrike">
                <a:solidFill>
                  <a:srgbClr val="ebf25a"/>
                </a:solidFill>
                <a:latin typeface="Tahoma"/>
              </a:rPr>
              <a:t>(1924 – 1997)</a:t>
            </a:r>
            <a:endParaRPr b="0" lang="en-US" sz="3800" spc="-1" strike="noStrike">
              <a:solidFill>
                <a:srgbClr val="ffffcc"/>
              </a:solidFill>
              <a:latin typeface="Tahoma"/>
            </a:endParaRPr>
          </a:p>
        </p:txBody>
      </p:sp>
      <p:sp>
        <p:nvSpPr>
          <p:cNvPr id="152" name="PlaceHolder 2"/>
          <p:cNvSpPr>
            <a:spLocks noGrp="1"/>
          </p:cNvSpPr>
          <p:nvPr>
            <p:ph/>
          </p:nvPr>
        </p:nvSpPr>
        <p:spPr>
          <a:xfrm>
            <a:off x="4355640" y="1412640"/>
            <a:ext cx="4537080" cy="544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800" spc="-1" strike="noStrike">
                <a:solidFill>
                  <a:srgbClr val="ffffcc"/>
                </a:solidFill>
                <a:latin typeface="Tahoma"/>
              </a:rPr>
              <a:t>Его называют "отцом-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основателем" авторской песни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ушел на фронт в 1942 году, из 9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класса.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Булат Шалвович воевал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минометчиком, был ранен и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переведен в связисты.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После победы демобилизовался,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окончил филфак Тбилисского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университета, работал учителем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русского языка, затем - в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издательстве "Молодая гвардия", в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Литературной газете",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киносценаристом.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Однако главной его профессией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навсегда стала Песня. </a:t>
            </a:r>
            <a:endParaRPr b="0" lang="en-US" sz="1800" spc="-1" strike="noStrike">
              <a:solidFill>
                <a:srgbClr val="ffffff"/>
              </a:solidFill>
              <a:latin typeface="Tahoma"/>
            </a:endParaRPr>
          </a:p>
        </p:txBody>
      </p:sp>
      <p:pic>
        <p:nvPicPr>
          <p:cNvPr id="153" name="" descr=""/>
          <p:cNvPicPr/>
          <p:nvPr/>
        </p:nvPicPr>
        <p:blipFill>
          <a:blip r:embed="rId2"/>
          <a:stretch/>
        </p:blipFill>
        <p:spPr>
          <a:xfrm>
            <a:off x="563400" y="1484280"/>
            <a:ext cx="3360960" cy="5070600"/>
          </a:xfrm>
          <a:prstGeom prst="rect">
            <a:avLst/>
          </a:prstGeom>
          <a:ln w="28440">
            <a:solidFill>
              <a:srgbClr val="ffffcc"/>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4" name="" descr=""/>
          <p:cNvPicPr/>
          <p:nvPr/>
        </p:nvPicPr>
        <p:blipFill>
          <a:blip r:embed="rId1">
            <a:lum bright="18000"/>
          </a:blip>
          <a:stretch/>
        </p:blipFill>
        <p:spPr>
          <a:xfrm>
            <a:off x="258840" y="1197000"/>
            <a:ext cx="4241880" cy="4680000"/>
          </a:xfrm>
          <a:prstGeom prst="rect">
            <a:avLst/>
          </a:prstGeom>
          <a:ln w="0">
            <a:noFill/>
          </a:ln>
        </p:spPr>
      </p:pic>
      <p:sp>
        <p:nvSpPr>
          <p:cNvPr id="155" name="PlaceHolder 1"/>
          <p:cNvSpPr>
            <a:spLocks noGrp="1"/>
          </p:cNvSpPr>
          <p:nvPr>
            <p:ph type="title"/>
          </p:nvPr>
        </p:nvSpPr>
        <p:spPr>
          <a:xfrm>
            <a:off x="323640" y="188640"/>
            <a:ext cx="856908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Михаил Леонидович АНЧАРОВ (1923)</a:t>
            </a:r>
            <a:endParaRPr b="0" lang="en-US" sz="3800" spc="-1" strike="noStrike">
              <a:solidFill>
                <a:srgbClr val="ffffcc"/>
              </a:solidFill>
              <a:latin typeface="Tahoma"/>
            </a:endParaRPr>
          </a:p>
        </p:txBody>
      </p:sp>
      <p:sp>
        <p:nvSpPr>
          <p:cNvPr id="156" name="PlaceHolder 2"/>
          <p:cNvSpPr>
            <a:spLocks noGrp="1"/>
          </p:cNvSpPr>
          <p:nvPr>
            <p:ph/>
          </p:nvPr>
        </p:nvSpPr>
        <p:spPr>
          <a:xfrm>
            <a:off x="323640" y="980640"/>
            <a:ext cx="4103640" cy="5040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Garamond"/>
              </a:rPr>
              <a:t> </a:t>
            </a:r>
            <a:endParaRPr b="0" lang="en-US" sz="9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Garamond"/>
              </a:rPr>
              <a:t>         </a:t>
            </a:r>
            <a:r>
              <a:rPr b="0" lang="ru-RU" sz="2000" spc="-1" strike="noStrike">
                <a:solidFill>
                  <a:srgbClr val="ffffcc"/>
                </a:solidFill>
                <a:latin typeface="Tahoma"/>
              </a:rPr>
              <a:t>В  1937 году, он нача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сочинять песни на стихи 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Грина, Б. Корнилова, В. Инбер.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    </a:t>
            </a:r>
            <a:r>
              <a:rPr b="0" lang="ru-RU" sz="2000" spc="-1" strike="noStrike">
                <a:solidFill>
                  <a:srgbClr val="ffffcc"/>
                </a:solidFill>
                <a:latin typeface="Tahoma"/>
              </a:rPr>
              <a:t>В 1941 году, с первого курс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Архитектурного институт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Анчаров пошел в армию, бы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десантником, затем, в 44-м, был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направлен в качеств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переводчика китайског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языка на Дальневосточный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фронт.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     </a:t>
            </a:r>
            <a:r>
              <a:rPr b="0" lang="ru-RU" sz="2000" spc="-1" strike="noStrike">
                <a:solidFill>
                  <a:srgbClr val="ffffcc"/>
                </a:solidFill>
                <a:latin typeface="Tahoma"/>
              </a:rPr>
              <a:t>Из песен военной тематик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самой известной, безусловн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ahoma"/>
              </a:rPr>
              <a:t>стала «Баллада о парашютах».</a:t>
            </a:r>
            <a:endParaRPr b="0" lang="en-US" sz="2000" spc="-1" strike="noStrike">
              <a:solidFill>
                <a:srgbClr val="ffffff"/>
              </a:solidFill>
              <a:latin typeface="Tahoma"/>
            </a:endParaRPr>
          </a:p>
        </p:txBody>
      </p:sp>
      <p:sp>
        <p:nvSpPr>
          <p:cNvPr id="157" name=""/>
          <p:cNvSpPr txBox="1"/>
          <p:nvPr/>
        </p:nvSpPr>
        <p:spPr>
          <a:xfrm>
            <a:off x="4788000" y="4220640"/>
            <a:ext cx="4356000" cy="2232360"/>
          </a:xfrm>
          <a:prstGeom prst="rect">
            <a:avLst/>
          </a:prstGeom>
          <a:noFill/>
          <a:ln w="0">
            <a:noFill/>
          </a:ln>
        </p:spPr>
        <p:txBody>
          <a:bodyPr lIns="90000" rIns="90000" tIns="46800" bIns="46800" anchor="t">
            <a:normAutofit/>
          </a:bodyPr>
          <a:p>
            <a:pPr marL="343080" indent="-343080">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343080">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343080">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Californian FB"/>
              </a:rPr>
              <a:t>«</a:t>
            </a:r>
            <a:r>
              <a:rPr b="0" i="1" lang="en-US" sz="2000" spc="-1" strike="noStrike">
                <a:solidFill>
                  <a:srgbClr val="ffffff"/>
                </a:solidFill>
                <a:latin typeface="Tahoma"/>
              </a:rPr>
              <a:t>Я не верю в бездарных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людей. Все люди одарены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жизнью. И перед этим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невероятным фактом все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остальное –  мелочь </a:t>
            </a:r>
            <a:endParaRPr b="0" lang="en-US" sz="2000" spc="-1" strike="noStrike">
              <a:solidFill>
                <a:srgbClr val="ffffff"/>
              </a:solidFill>
              <a:latin typeface="Tahoma"/>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и подробности".</a:t>
            </a:r>
            <a:endParaRPr b="0" lang="en-US" sz="2000" spc="-1" strike="noStrike">
              <a:solidFill>
                <a:srgbClr val="ffffff"/>
              </a:solidFill>
              <a:latin typeface="Tahoma"/>
            </a:endParaRPr>
          </a:p>
        </p:txBody>
      </p:sp>
      <p:pic>
        <p:nvPicPr>
          <p:cNvPr id="158" name="" descr=""/>
          <p:cNvPicPr/>
          <p:nvPr/>
        </p:nvPicPr>
        <p:blipFill>
          <a:blip r:embed="rId2"/>
          <a:stretch/>
        </p:blipFill>
        <p:spPr>
          <a:xfrm>
            <a:off x="5219640" y="1268280"/>
            <a:ext cx="3227400" cy="2952720"/>
          </a:xfrm>
          <a:prstGeom prst="rect">
            <a:avLst/>
          </a:prstGeom>
          <a:ln w="28440">
            <a:solidFill>
              <a:srgbClr val="ffffcc"/>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9" name="" descr=""/>
          <p:cNvPicPr/>
          <p:nvPr/>
        </p:nvPicPr>
        <p:blipFill>
          <a:blip r:embed="rId1"/>
          <a:srcRect l="0" t="-2089" r="82391" b="-1442"/>
          <a:stretch/>
        </p:blipFill>
        <p:spPr>
          <a:xfrm rot="1410000">
            <a:off x="1763280" y="1962000"/>
            <a:ext cx="2376720" cy="4896000"/>
          </a:xfrm>
          <a:prstGeom prst="rect">
            <a:avLst/>
          </a:prstGeom>
          <a:ln w="0">
            <a:noFill/>
          </a:ln>
        </p:spPr>
      </p:pic>
      <p:pic>
        <p:nvPicPr>
          <p:cNvPr id="160" name="" descr=""/>
          <p:cNvPicPr/>
          <p:nvPr/>
        </p:nvPicPr>
        <p:blipFill>
          <a:blip r:embed="rId2">
            <a:lum bright="28000"/>
          </a:blip>
          <a:stretch/>
        </p:blipFill>
        <p:spPr>
          <a:xfrm>
            <a:off x="3780000" y="1197000"/>
            <a:ext cx="5003640" cy="4896000"/>
          </a:xfrm>
          <a:prstGeom prst="rect">
            <a:avLst/>
          </a:prstGeom>
          <a:ln w="0">
            <a:noFill/>
          </a:ln>
        </p:spPr>
      </p:pic>
      <p:sp>
        <p:nvSpPr>
          <p:cNvPr id="161" name="PlaceHolder 1"/>
          <p:cNvSpPr>
            <a:spLocks noGrp="1"/>
          </p:cNvSpPr>
          <p:nvPr>
            <p:ph type="title"/>
          </p:nvPr>
        </p:nvSpPr>
        <p:spPr>
          <a:xfrm>
            <a:off x="468360" y="18864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Tahoma"/>
              </a:rPr>
              <a:t>Владимир Семенович ВЫСОЦКИЙ </a:t>
            </a:r>
            <a:br>
              <a:rPr sz="3400"/>
            </a:br>
            <a:r>
              <a:rPr b="0" lang="en-US" sz="3400" spc="-1" strike="noStrike">
                <a:solidFill>
                  <a:srgbClr val="ebf25a"/>
                </a:solidFill>
                <a:latin typeface="Tahoma"/>
              </a:rPr>
              <a:t>(1938 – 1980)</a:t>
            </a:r>
            <a:endParaRPr b="0" lang="en-US" sz="3400" spc="-1" strike="noStrike">
              <a:solidFill>
                <a:srgbClr val="ffffcc"/>
              </a:solidFill>
              <a:latin typeface="Tahoma"/>
            </a:endParaRPr>
          </a:p>
        </p:txBody>
      </p:sp>
      <p:sp>
        <p:nvSpPr>
          <p:cNvPr id="162" name="PlaceHolder 2"/>
          <p:cNvSpPr>
            <a:spLocks noGrp="1"/>
          </p:cNvSpPr>
          <p:nvPr>
            <p:ph/>
          </p:nvPr>
        </p:nvSpPr>
        <p:spPr>
          <a:xfrm>
            <a:off x="3779640" y="1484280"/>
            <a:ext cx="5113080" cy="439272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2000" spc="-1" strike="noStrike">
                <a:solidFill>
                  <a:srgbClr val="ffffcc"/>
                </a:solidFill>
                <a:latin typeface="Tahoma"/>
              </a:rPr>
              <a:t>Родился  и жил в Москве. В 1956 году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окончил театр-студию при МХАТе. Играл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 Театре миниатюр, в Драматическом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еатре им А. С. Пушкина, а с 1964 года –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 Театре драмы и комедии на Таганке.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ам он сыграл более 20 ролей. Снялся в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ридцати художественных фильмах и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телефильмах.   Стихи писал с детства.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Высоцкий создал целый ряд песен,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посвященных войне и воинам.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r>
              <a:rPr b="0" lang="en-US" sz="2000" spc="-1" strike="noStrike">
                <a:solidFill>
                  <a:srgbClr val="ffffcc"/>
                </a:solidFill>
                <a:latin typeface="Tahoma"/>
              </a:rPr>
              <a:t>Сила  его таланта и проницательная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душа сумели передать весь спектр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эмоций, ощущений и чувств людей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войны.</a:t>
            </a:r>
            <a:endParaRPr b="0" lang="en-US" sz="20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      </a:t>
            </a:r>
            <a:endParaRPr b="0" lang="en-US" sz="1400" spc="-1" strike="noStrike">
              <a:solidFill>
                <a:srgbClr val="ffffff"/>
              </a:solidFill>
              <a:latin typeface="Tahoma"/>
            </a:endParaRPr>
          </a:p>
        </p:txBody>
      </p:sp>
      <p:pic>
        <p:nvPicPr>
          <p:cNvPr id="163" name="" descr=""/>
          <p:cNvPicPr/>
          <p:nvPr/>
        </p:nvPicPr>
        <p:blipFill>
          <a:blip r:embed="rId3"/>
          <a:stretch/>
        </p:blipFill>
        <p:spPr>
          <a:xfrm>
            <a:off x="324000" y="1197000"/>
            <a:ext cx="3168360" cy="2960640"/>
          </a:xfrm>
          <a:prstGeom prst="rect">
            <a:avLst/>
          </a:prstGeom>
          <a:ln w="28440">
            <a:solidFill>
              <a:srgbClr val="ffffcc"/>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07:03:35Z</dcterms:created>
  <dc:creator>User</dc:creator>
  <dc:description/>
  <dc:language>en-US</dc:language>
  <cp:lastModifiedBy>надежда</cp:lastModifiedBy>
  <dcterms:modified xsi:type="dcterms:W3CDTF">2011-03-13T15:14:31Z</dcterms:modified>
  <cp:revision>11</cp:revision>
  <dc:subject/>
  <dc:title>«Вспомните, ребята…»</dc:title>
</cp:coreProperties>
</file>