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gif" ContentType="image/gi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0.png" ContentType="image/png"/>
  <Override PartName="/ppt/media/image5.wmf" ContentType="image/x-wmf"/>
  <Override PartName="/ppt/media/image6.jpeg" ContentType="image/jpeg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00A-146D-4840-BD9B-EB37B21FA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0096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4360" y="155700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Comic Sans MS"/>
              </a:rPr>
              <a:t>Табличные информационные модели</a:t>
            </a:r>
            <a:br>
              <a:rPr sz="4400"/>
            </a:br>
            <a:endParaRPr b="0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2495520" cy="2519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Структура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2133720"/>
          <a:ext cx="6910200" cy="3458880"/>
        </p:xfrm>
        <a:graphic>
          <a:graphicData uri="http://schemas.openxmlformats.org/drawingml/2006/table">
            <a:tbl>
              <a:tblPr/>
              <a:tblGrid>
                <a:gridCol w="1380960"/>
                <a:gridCol w="1382760"/>
                <a:gridCol w="1382760"/>
                <a:gridCol w="1382760"/>
                <a:gridCol w="1380960"/>
              </a:tblGrid>
              <a:tr h="691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ГОЛОВКА ТАБЛИ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2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Б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К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ЯЧЕЙ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059280" y="292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ПРОГРАФ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2560" y="21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7378560" y="3160800"/>
            <a:ext cx="6480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380000" y="386064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380000" y="450684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0000" y="5157720"/>
            <a:ext cx="6476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05640" y="39625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ТР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65964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924360" y="558936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6000" y="5568480"/>
            <a:ext cx="0" cy="6476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3440" y="621180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ГРАФЫ (СТОЛБЦ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6920" y="138276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ГОЛОВ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560" y="620280"/>
            <a:ext cx="8569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Правила заполнения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головок таблицы должен давать представление о содержащейся в не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головки граф и строк должны быть крат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таблице должны быть указаны единицы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се ячейки таблицы должны быть заполнены. При необходимости в них заносят следующие 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– данные неизвест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нные невозмож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нные должны быть взяты из вышележащей ячейки.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51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50920" y="1268280"/>
            <a:ext cx="8568720" cy="4103280"/>
            <a:chOff x="250920" y="1268280"/>
            <a:chExt cx="8568720" cy="4103280"/>
          </a:xfrm>
        </p:grpSpPr>
        <p:cxnSp>
          <p:nvCxnSpPr>
            <p:cNvPr id="154" name="_s62485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7056360" y="3531960"/>
              <a:ext cx="513360" cy="11138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57" name="_s62483"/>
            <p:cNvCxnSpPr>
              <a:stCxn id="158" idx="0"/>
              <a:endCxn id="156" idx="2"/>
            </p:cNvCxnSpPr>
            <p:nvPr/>
          </p:nvCxnSpPr>
          <p:spPr>
            <a:xfrm flipH="1" flipV="1" rot="5400000">
              <a:off x="5945400" y="3534480"/>
              <a:ext cx="513360" cy="1109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59" name="_s62481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2612880" y="3533040"/>
              <a:ext cx="513360" cy="11120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2" name="_s62479"/>
            <p:cNvCxnSpPr>
              <a:stCxn id="163" idx="0"/>
              <a:endCxn id="161" idx="2"/>
            </p:cNvCxnSpPr>
            <p:nvPr/>
          </p:nvCxnSpPr>
          <p:spPr>
            <a:xfrm flipH="1" flipV="1" rot="5400000">
              <a:off x="1503000" y="3534480"/>
              <a:ext cx="513360" cy="1109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4" name="_s62477"/>
            <p:cNvCxnSpPr>
              <a:stCxn id="156" idx="0"/>
              <a:endCxn id="165" idx="2"/>
            </p:cNvCxnSpPr>
            <p:nvPr/>
          </p:nvCxnSpPr>
          <p:spPr>
            <a:xfrm flipV="1" rot="16200000">
              <a:off x="5388480" y="1438560"/>
              <a:ext cx="513360" cy="22226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166" name="_s62475"/>
            <p:cNvCxnSpPr>
              <a:stCxn id="161" idx="0"/>
              <a:endCxn id="165" idx="2"/>
            </p:cNvCxnSpPr>
            <p:nvPr/>
          </p:nvCxnSpPr>
          <p:spPr>
            <a:xfrm flipH="1" flipV="1" rot="5400000">
              <a:off x="3167280" y="1439640"/>
              <a:ext cx="513360" cy="22208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165" name="_s62471"/>
            <p:cNvSpPr/>
            <p:nvPr/>
          </p:nvSpPr>
          <p:spPr>
            <a:xfrm>
              <a:off x="3582000" y="126828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Типы таблиц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62472"/>
            <p:cNvSpPr/>
            <p:nvPr/>
          </p:nvSpPr>
          <p:spPr>
            <a:xfrm>
              <a:off x="1361520" y="2806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bc7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Простые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таблиц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2474"/>
            <p:cNvSpPr/>
            <p:nvPr/>
          </p:nvSpPr>
          <p:spPr>
            <a:xfrm>
              <a:off x="5803920" y="2806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bc79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Сложные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таблиц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62478"/>
            <p:cNvSpPr/>
            <p:nvPr/>
          </p:nvSpPr>
          <p:spPr>
            <a:xfrm>
              <a:off x="25092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62480"/>
            <p:cNvSpPr/>
            <p:nvPr/>
          </p:nvSpPr>
          <p:spPr>
            <a:xfrm>
              <a:off x="247284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О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62482"/>
            <p:cNvSpPr/>
            <p:nvPr/>
          </p:nvSpPr>
          <p:spPr>
            <a:xfrm>
              <a:off x="4695120" y="4345920"/>
              <a:ext cx="190476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О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2484"/>
            <p:cNvSpPr/>
            <p:nvPr/>
          </p:nvSpPr>
          <p:spPr>
            <a:xfrm>
              <a:off x="6917400" y="4345920"/>
              <a:ext cx="1902240" cy="1025640"/>
            </a:xfrm>
            <a:prstGeom prst="roundRect">
              <a:avLst>
                <a:gd name="adj" fmla="val 16667"/>
              </a:avLst>
            </a:prstGeom>
            <a:solidFill>
              <a:srgbClr val="ffa347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ОС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68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2035080"/>
          <a:ext cx="8424720" cy="2762280"/>
        </p:xfrm>
        <a:graphic>
          <a:graphicData uri="http://schemas.openxmlformats.org/drawingml/2006/table">
            <a:tbl>
              <a:tblPr/>
              <a:tblGrid>
                <a:gridCol w="2108160"/>
                <a:gridCol w="2406600"/>
                <a:gridCol w="2031840"/>
                <a:gridCol w="1878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д изде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 изгото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лина (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жемп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ортуг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а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0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ндал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акист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.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квоя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220680" y="6234120"/>
            <a:ext cx="8677080" cy="385920"/>
            <a:chOff x="220680" y="6234120"/>
            <a:chExt cx="8677080" cy="385920"/>
          </a:xfrm>
        </p:grpSpPr>
        <p:pic>
          <p:nvPicPr>
            <p:cNvPr id="172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34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34480" y="6242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«объекты-свойства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134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еобычные ве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135320" y="626760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4941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С содержат информацию о свойствах отдельных объектов, принадлежащих одному клас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объекты-один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46160" y="2519280"/>
          <a:ext cx="7054920" cy="2278080"/>
        </p:xfrm>
        <a:graphic>
          <a:graphicData uri="http://schemas.openxmlformats.org/drawingml/2006/table">
            <a:tbl>
              <a:tblPr/>
              <a:tblGrid>
                <a:gridCol w="2174760"/>
                <a:gridCol w="1578240"/>
                <a:gridCol w="1649160"/>
                <a:gridCol w="16527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иод об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-е полу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и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колина 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л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690560" y="19130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ценки по инфор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41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ОО содержат информацию о некотором одном свойстве пар объектов, чаще всего принадлежащих разным клас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31840" y="6237360"/>
            <a:ext cx="8677080" cy="385200"/>
            <a:chOff x="231840" y="6237360"/>
            <a:chExt cx="8677080" cy="385200"/>
          </a:xfrm>
        </p:grpSpPr>
        <p:pic>
          <p:nvPicPr>
            <p:cNvPr id="183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31840" y="6237360"/>
              <a:ext cx="86508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45640" y="624492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46480" y="627048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объекты-несколько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2421000"/>
          <a:ext cx="8382240" cy="2612880"/>
        </p:xfrm>
        <a:graphic>
          <a:graphicData uri="http://schemas.openxmlformats.org/drawingml/2006/table">
            <a:tbl>
              <a:tblPr/>
              <a:tblGrid>
                <a:gridCol w="2094120"/>
                <a:gridCol w="1716120"/>
                <a:gridCol w="1447560"/>
                <a:gridCol w="1600200"/>
                <a:gridCol w="1524240"/>
              </a:tblGrid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иод об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колина И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л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95280" y="1844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ценки по информатике и матема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ОН содержат информацию о нескольких свойствах нескольких пар объектов, принадлежащих разным клас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0960" y="6237360"/>
            <a:ext cx="8677080" cy="385200"/>
            <a:chOff x="210960" y="6237360"/>
            <a:chExt cx="8677080" cy="385200"/>
          </a:xfrm>
        </p:grpSpPr>
        <p:pic>
          <p:nvPicPr>
            <p:cNvPr id="191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10960" y="6237360"/>
              <a:ext cx="86508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4760" y="624492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125960" y="625464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а типа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«объекты-свойства-объекты»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924280"/>
          <a:ext cx="7772400" cy="1960560"/>
        </p:xfrm>
        <a:graphic>
          <a:graphicData uri="http://schemas.openxmlformats.org/drawingml/2006/table">
            <a:tbl>
              <a:tblPr/>
              <a:tblGrid>
                <a:gridCol w="1365120"/>
                <a:gridCol w="758880"/>
                <a:gridCol w="609840"/>
                <a:gridCol w="1512720"/>
                <a:gridCol w="1008000"/>
                <a:gridCol w="1368360"/>
                <a:gridCol w="114948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ост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с, к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праж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ыжок в длину с ме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г на 1000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аутин 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цев 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db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bc79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95280" y="1844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нтропометрические данные и спортивные результ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аблицы типа ОСО содержат информацию о свойствах пар объектов, принадлежащих разным классам, и об одиночных свойствах объектов одного из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0960" y="6261120"/>
            <a:ext cx="8677080" cy="385920"/>
            <a:chOff x="210960" y="6261120"/>
            <a:chExt cx="8677080" cy="385920"/>
          </a:xfrm>
        </p:grpSpPr>
        <p:pic>
          <p:nvPicPr>
            <p:cNvPr id="199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10960" y="626112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4760" y="6269040"/>
              <a:ext cx="863280" cy="37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125960" y="627840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2060640"/>
            <a:ext cx="7920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блица состоит из столбцов и ст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блицы используют для описания ряда объектов, обладающих одинаковыми наборами свой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Информация, представленная в таблице, наглядна, компактна, легко обозр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47640" y="177336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Какие преимущества обеспечивают табличные модели по сравнению со словесным описани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Любое ли словесное описание можно заменить таблиц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ведите примеры таблиц, с которыми вы сталкивались в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сегда ли удобно табличное представление информации?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Давайте обсуди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ata de co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пышное платье с воланами и обор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Мантиль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ружевная накидка на гол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офья-де-папо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ружевная накидка на голову с высоко поднятым основ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Сар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материал длиной 5-7 метров, который  специальным образом оборачивается вокруг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Чол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короткая футболка, одеваемая под са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Дупат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- лёгкий шёлковый пла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Для любознательных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35320" y="62676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Таблицы вокруг нас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657600" cy="2609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097080" cy="24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16360" y="2708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ычисл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5445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Медицин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23736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03040" y="6257880"/>
            <a:ext cx="8654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Хронологические таблиц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Основные даты в истории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989000"/>
          <a:ext cx="8137440" cy="4098960"/>
        </p:xfrm>
        <a:graphic>
          <a:graphicData uri="http://schemas.openxmlformats.org/drawingml/2006/table">
            <a:tbl>
              <a:tblPr/>
              <a:tblGrid>
                <a:gridCol w="649080"/>
                <a:gridCol w="244800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бы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0 г. до н.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ы в Кита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4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ирующая машина Паск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9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ная машина Лейб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01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фокарты Жакк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30-е 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граммируемая машина Бэбб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90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четная машина Холлери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46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ервая ЭВ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48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зобретение транзис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явление интегральных сх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81280" y="2565360"/>
            <a:ext cx="3780000" cy="344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Расписание уроков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430200"/>
                <a:gridCol w="1871640"/>
                <a:gridCol w="1584360"/>
                <a:gridCol w="1295280"/>
                <a:gridCol w="1225800"/>
                <a:gridCol w="13651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1052640"/>
            <a:ext cx="792000" cy="69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Программа телепередач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03360" y="1413000"/>
            <a:ext cx="4295880" cy="5048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03040" y="6273720"/>
            <a:ext cx="865440" cy="37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5968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4000" y="4365720"/>
            <a:ext cx="1927080" cy="163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659640" y="1268280"/>
            <a:ext cx="2179440" cy="43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Таблица Д.И. Менделеева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473440" cy="4100400"/>
          </a:xfrm>
          <a:prstGeom prst="rect">
            <a:avLst/>
          </a:prstGeom>
          <a:ln w="381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Таблицы составляют для описания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631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яда объектов, обладающих одинаковыми наборами свой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52464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3600" y="2637000"/>
            <a:ext cx="1770120" cy="273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76720" y="2421000"/>
            <a:ext cx="272088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5492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кажите объекты и одинаковые свойства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659640" y="2637000"/>
            <a:ext cx="1668240" cy="2760480"/>
            <a:chOff x="6659640" y="2637000"/>
            <a:chExt cx="1668240" cy="27604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rcRect l="11333" t="-2326" r="52886" b="35251"/>
            <a:stretch/>
          </p:blipFill>
          <p:spPr>
            <a:xfrm>
              <a:off x="6659640" y="2637000"/>
              <a:ext cx="166824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659640" y="2733840"/>
              <a:ext cx="1657440" cy="266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Испании национальной одеждой женщины является пышное платье с воланам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ta de col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головным убором - мантилья или кофья-де-папос,  инструментом - гитара и кастань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оссии национальная одежда женщины – сарафан, кокошник или платок. Инструменты - балалайка и гарм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Индии женщины носят сари, чоли, дупатту, а национальным инструментом является сит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Национальный костю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587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Для любозн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854360"/>
          <a:ext cx="8280360" cy="2869920"/>
        </p:xfrm>
        <a:graphic>
          <a:graphicData uri="http://schemas.openxmlformats.org/drawingml/2006/table">
            <a:tbl>
              <a:tblPr/>
              <a:tblGrid>
                <a:gridCol w="1593720"/>
                <a:gridCol w="2005200"/>
                <a:gridCol w="2665440"/>
                <a:gridCol w="201600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ип пла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ловной у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стру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п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ть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a de co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тиль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ья-де-пап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тар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анье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аф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кошник, пла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лайк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рмош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и, чо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пат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т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Национальный костюм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3412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34480" y="6242040"/>
            <a:ext cx="863280" cy="37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88800" y="4983120"/>
            <a:ext cx="71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нформация в таблице наглядна, компактна,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легко обоз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2:29:02Z</dcterms:created>
  <dc:creator>IDm@n</dc:creator>
  <dc:description/>
  <dc:language>en-US</dc:language>
  <cp:lastModifiedBy>editors</cp:lastModifiedBy>
  <dcterms:modified xsi:type="dcterms:W3CDTF">2007-06-21T14:42:08Z</dcterms:modified>
  <cp:revision>40</cp:revision>
  <dc:subject/>
  <dc:title>Структура и правила оформления таблицы </dc:title>
</cp:coreProperties>
</file>