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3573-7830-4460-AF17-04F603E32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FBF-AE8A-4EA4-88EE-394F43CDF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D6B-BB6D-4509-BAD5-BC683F2C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424-DA8B-41AA-B2A3-D3B414A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ACE-DE09-4E16-8E48-11607FA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EFF-69A1-4CE6-BE75-A360CB4B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AC4-9339-4DBC-9724-7E8D023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774-D47A-4382-94C0-71C8C122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08A-B767-416C-893D-CDF3AAF8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9C22-A723-4277-92FD-6C6475B0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303-77A6-4AA8-B386-2E294EBA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B78-B4CB-4709-839A-5D01543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9E45-A1AE-47D4-B7F9-BA865EA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464-CF60-4A41-9ABF-63A4A70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7CFF-F3C2-43EC-AEE3-1A2F4D3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7BDE-D2F6-4F73-873C-CA26334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26C-4BAF-41E9-B5A7-5A92DD5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79FB-4588-4BFC-8562-67DD9047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88C-B7F1-435C-92DE-97A71F91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DF47-6936-4949-85B3-DBF6EDC1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7D3A-33C0-4D12-A413-BBA6BBCD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241C-6F45-47CE-B6A6-96C960E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8106-8DFC-4180-8E07-7159F97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A352-03D5-4C75-8DE2-9888667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2AC-73C0-42E7-BE3F-3E7117B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CE33-4C5F-4F46-A388-45DC3DC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83CC-8EE4-4BAA-83CB-71B9CE8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00D0-D1D4-4E0F-9468-2A270903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85FA-D4C5-4A91-BDAE-708F48D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6980-E4B5-4F2E-9C0F-0127B0F0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44EA-0E26-4C8B-929C-D57D6D78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F7DF-6C64-4F47-B17C-ED04F704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BA4F-46EE-45DC-804A-93A678BC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97FC-DC23-442B-AFEB-893981D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71AE-03FD-4D77-9CD4-53594CA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9E1-121A-4914-91FF-A6AFD90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5F26-0BE4-40D3-B25C-1BBFAF1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3AD4-937C-4664-A545-4DA88D5B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4D9B-3B5E-4548-A544-4E67239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2731-34DB-4BF4-841B-1C67C95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AE5A-EFCC-494A-A3D0-699AA10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E1C8-14F7-427E-90F0-A6042842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D6A6-180B-46CA-A891-96FDD8DA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3358-BC97-46C8-A375-FF98AF56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DAA7-6C4E-4F11-BC47-5DDEE97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CE5C-67C0-4D35-BF27-95CA2246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32C-5B49-4981-874D-AF6FC16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A9BF-2F8A-48AB-B4AB-3E4F8E5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7BC96-F31D-469B-AEFB-E7848A61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3049-00FD-4DD8-8DA4-751E634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E0F6-9BA6-4311-956A-9DB6411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3108-50F6-4645-AEC5-01DE0A75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9BA4-5E29-4885-9CAC-E5E46E66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77F8-52C4-4149-9D48-F602A86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0CF8-655F-4B6F-A9BC-91C2DACC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D66E-D93E-4CA6-998E-36CE63C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F097-328E-46F2-8CC4-A7611F1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D0F-6334-46F4-A14E-4E9F454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30A2-AB0C-44D7-9AB5-68FB2460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C4C-FA68-40E3-82E2-2629575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22-3CB0-4CB4-85DC-D469449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CFB-7B45-450F-AC81-8F6D458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B5DF-3CE2-48E1-9E90-87C66C1533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AD01-261E-4A19-825E-CF27637E0F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40DE-E0A9-4C0E-875A-DCA6E271C6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6D7-595A-4522-B2C4-69F1F9E455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6619-919E-439A-81AF-E8D2D7ED86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рисовать деревь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071800" y="3143160"/>
            <a:ext cx="51958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Смешайте зеленый, используя желтую охру и ультрамарин. Используя боковую сторону кисти, проведите ею по шероховатой бумаге, производя небрежный, "испорченный" эффект, и оставляйте просветы неба в листве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4000320" cy="3741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786200" y="2357280"/>
            <a:ext cx="4111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Добавьте немного больше ультрамарина в смесь красок, которыми вы только что рисовали, чтобы сделать оттенок более темным. Пока как первый рисунок все еще влажный, нанесите теневые области, позволяя слоям сливаться, и смягчите края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4143600" cy="378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951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Дождитесь высыхания. Затем, используя жженую умбру, нарисуйте ствол и добавьте ветви, которые просматриваются в просветах листвы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973680" cy="3500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579920" y="2714760"/>
            <a:ext cx="418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С помощью смеси натуральной сиенны и жженой умбры, нарисуйте передний план в технике сухой кисти. Это оставит свободные пространства и даст нужную текстуру. Добавьте немного жженой умбры, чтобы лучше передать текстуру рыхлой земли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36520" y="2928960"/>
            <a:ext cx="4129200" cy="335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4597560" y="2928960"/>
            <a:ext cx="44323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Используя первоначальную смесь красок (которой рисовалась листва) добавьте несколько кустов с обоих сторон от нашего дерева. Затем, с помощью жженой умбры добавьте на рисунок старый сломанный забор. Это простая, но эффектная сцена. 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4219560" cy="3376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4197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Интернет- ресурс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роки рисования и живописи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prostoykarandash.ru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сточник: How to draw a tre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втор: Rod Webb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9:14:25Z</dcterms:created>
  <dc:creator>Admin</dc:creator>
  <dc:description/>
  <dc:language>en-US</dc:language>
  <cp:lastModifiedBy>Admin</cp:lastModifiedBy>
  <dcterms:modified xsi:type="dcterms:W3CDTF">2012-02-18T09:38:23Z</dcterms:modified>
  <cp:revision>2</cp:revision>
  <dc:subject/>
  <dc:title>Слайд 1</dc:title>
</cp:coreProperties>
</file>