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5BF2-8D5D-49E1-B252-FA7D0E0CC6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099C-0B12-436F-9ECA-DF66645544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75CA-C4DF-4711-B050-D4CA84128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607E-D00D-4DF7-AFF3-3420E219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3B0D-5AA8-4B0A-B806-6626EACE9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A8D4-BFB7-4C1C-8422-8020B3C1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9C7A-8E87-495A-B1CC-36AF0189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F3E9-BE03-41F4-B760-200E11EB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9187-6A7D-4C0D-B404-F039C993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26F4-46FF-4FF9-ABC9-3E9E1924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13A7-4F78-40A9-AEB0-203A1C8B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4C64-D6D3-42AD-BDF9-C4D16852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7111-EA4B-4BD6-AB2D-04706D76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84ED-EFEA-441C-A570-34F6FCDD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BBC7-CCFB-4479-9C47-47280A54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7F27-4961-4F04-8511-3F4FA375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6998-1E9D-49E1-BE1C-470145DD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32E3-650A-434A-932B-74F5CDAE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D67D-458D-45F7-8B40-76B23499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42966-8C6D-4A3F-8541-95945485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7EF0C-C595-4BAD-A0C2-0D5125BB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BBAA9-FBEC-4174-B0E7-00BA15BD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10475-8001-4DA0-8EFD-BB508806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278BF-DFB6-4F88-B3D9-94D47E64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1663-9659-4E34-BBE7-75F76105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C4A72-0B0D-4298-A182-CCE56919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26620-AA8B-4A31-B608-F9867BDA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0C1BB-FF73-4B14-BCDE-96D21035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89735-CAB3-49C8-BB08-54967456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0DC40-68E5-4590-91F2-D0D15F4E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372C0-7012-47FD-BF8A-EEEF646A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79B21-6102-40DD-9DB5-F966E6839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353A6-492D-4F43-B80B-CD53359DC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EB154-AC61-4D63-85B6-1F89959D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E7DFD-2A06-454B-8A1C-2950CA91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811A-AFF8-4132-93BA-091B7778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83825-BE5B-44E2-BF49-661AB128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D734D-987C-4424-AA3E-37E69A48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F85A9-BA91-4BC8-ACDA-D694ACEC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5BB44-9ED8-40BD-8A54-24DDC2E2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6EE86-78C7-4259-B7BF-A50447F8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DB71F-7BD6-4472-98D5-8D34EB68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ABCD0-750A-4B36-9DD6-E5D039C5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497FE-C92A-4C8C-B5EB-F0A946E58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FF9F9-533C-4F7E-871C-177D6467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CACE6-F681-4C39-A5EA-E363112D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6DD7-5187-4D02-87A5-DCB29A52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C7286-5612-40CE-A19C-6E46C9A0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39458-A5C0-447B-BBB9-1C032E4C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5FD30-8E2E-41AC-AE60-0E5E7B2B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851F5-60FD-4F27-9095-5C62DBA2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78656-7528-4F75-8A58-A3B66F5C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17FD1-A3C1-4BA3-8A00-DCA24F84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970A4-B795-4F35-ABFA-10BD2C79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23591-02CD-4528-97BD-1B89706E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358D8-34E2-465C-A339-74541A9D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D68EA-A7F5-4D42-8B32-A428B331E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D17F-788E-4318-8C36-BB549378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51CA5-F45D-4EA6-A4D6-E989FB758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D0FB-F279-4AA4-BD86-E69160FA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52BF-5FF1-4741-9E9D-E0AC7926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DFEF-480E-4435-B7CC-08AB1B7A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F162-6931-4E3C-B606-026303D3597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B643-5815-4616-9A4B-5411027F753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A4FB-B8C9-4D4E-848C-927CBD0640B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4BCF-8151-47F4-8417-80085E1B500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2AC4-7A79-45D6-AB00-7EEB1D2691C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Как рисовать деревья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2071800" y="3143160"/>
            <a:ext cx="519588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Calibri"/>
              </a:rPr>
              <a:t>Смешайте зеленый, используя желтую охру и ультрамарин. Используя боковую сторону кисти, проведите ею по шероховатой бумаге, производя небрежный, "испорченный" эффект, и оставляйте просветы неба в листве. </a:t>
            </a: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571680" y="2357280"/>
            <a:ext cx="4000320" cy="37418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2"/>
          <a:stretch/>
        </p:blipFill>
        <p:spPr>
          <a:xfrm>
            <a:off x="4786200" y="2357280"/>
            <a:ext cx="411156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Calibri"/>
              </a:rPr>
              <a:t>Добавьте немного больше ультрамарина в смесь красок, которыми вы только что рисовали, чтобы сделать оттенок более темным. Пока как первый рисунок все еще влажный, нанесите теневые области, позволяя слоям сливаться, и смягчите края. </a:t>
            </a: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357120" y="2286000"/>
            <a:ext cx="4143600" cy="3786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4857840" y="2286000"/>
            <a:ext cx="39513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Calibri"/>
              </a:rPr>
              <a:t>Дождитесь высыхания. Затем, используя жженую умбру, нарисуйте ствол и добавьте ветви, которые просматриваются в просветах листвы</a:t>
            </a:r>
            <a:r>
              <a:rPr b="0" lang="ru-RU" sz="2800" spc="-1" strike="noStrike">
                <a:solidFill>
                  <a:srgbClr val="696464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357120" y="2714760"/>
            <a:ext cx="3973680" cy="3500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2"/>
          <a:stretch/>
        </p:blipFill>
        <p:spPr>
          <a:xfrm>
            <a:off x="4579920" y="2714760"/>
            <a:ext cx="4184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Calibri"/>
              </a:rPr>
              <a:t>С помощью смеси натуральной сиенны и жженой умбры, нарисуйте передний план в технике сухой кисти. Это оставит свободные пространства и даст нужную текстуру. Добавьте немного жженой умбры, чтобы лучше передать текстуру рыхлой земли. </a:t>
            </a: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236520" y="2928960"/>
            <a:ext cx="4129200" cy="3357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2"/>
          <a:stretch/>
        </p:blipFill>
        <p:spPr>
          <a:xfrm>
            <a:off x="4597560" y="2928960"/>
            <a:ext cx="44323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Calibri"/>
              </a:rPr>
              <a:t>Используя первоначальную смесь красок (которой рисовалась листва) добавьте несколько кустов с обоих сторон от нашего дерева. Затем, с помощью жженой умбры добавьте на рисунок старый сломанный забор. Это простая, но эффектная сцена. </a:t>
            </a: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428760" y="2571840"/>
            <a:ext cx="4219560" cy="33764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4786200" y="2571840"/>
            <a:ext cx="41976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Интернет- ресурсы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роки рисования и живописи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ttp://prostoykarandash.ru/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Источник: How to draw a trees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Автор: Rod Webb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09:14:25Z</dcterms:created>
  <dc:creator>Admin</dc:creator>
  <dc:description/>
  <dc:language>en-US</dc:language>
  <cp:lastModifiedBy>Admin</cp:lastModifiedBy>
  <dcterms:modified xsi:type="dcterms:W3CDTF">2012-02-18T09:38:23Z</dcterms:modified>
  <cp:revision>2</cp:revision>
  <dc:subject/>
  <dc:title>Слайд 1</dc:title>
</cp:coreProperties>
</file>