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510-18F6-4B8D-BC91-07A80B4D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B4A-ED4E-4C74-A4D3-E4B35031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C09-B602-4109-908C-33C148CD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58A-E1D0-4FB0-A242-F31B7BD8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7D3F-088B-4528-BE8D-3AEB3FA5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D4E3-B66F-41B9-8381-B0B1260A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B2A8-A20E-4FD6-B4C0-183676E7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146B-DA25-4E8B-B4EC-F36AA032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4C46-E24A-4C08-8003-378F23D0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B409-68F1-4D66-A8B8-1F85E579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233F-CC2D-41B8-A3AB-6EC23774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A0C-1317-4497-B919-139BFC81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1DD5-2671-4AFE-A790-AA78B76E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2062-4136-4C2D-B44C-BDADBE9B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6626-1B25-40FF-A187-6BE202AB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4DF4-754F-45F0-81FE-0B5E8D41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F9C0-B600-4CC7-8157-EF7A063E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BE7-31A6-45D8-9CC9-FDBCA609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B95-39CA-4FDF-90E2-1B0619FE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0A3F-6BA2-459D-A49D-5F03DC16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203-8430-4663-A99C-B10695AC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9E1-DAB5-4892-96E6-1B49CD31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9AC-94F8-41D8-92E1-8456E538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DBC-6F14-4FE4-A301-B4B83FF9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737E-4588-4B73-9E6B-BC5CD5BF7D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6395-27C1-4068-8541-EBFBF2D555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2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/index.php?title=&#1060;&#1072;&#1081;&#1083;:Atomic_cloud_over_Hiroshima.jpg&amp;filetimestamp=20080607023448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ru.wikipedia.org/w/index.php?title=&#1060;&#1072;&#1081;&#1083;:Nagasakibomb.jpg&amp;filetimestamp=20081221213247" TargetMode="External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5280" y="189000"/>
            <a:ext cx="8353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Narrow"/>
              </a:rPr>
              <a:t> </a:t>
            </a:r>
            <a:r>
              <a:rPr b="1" lang="en-US" sz="2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Narrow"/>
              </a:rPr>
              <a:t>Энергия атома: за и против.</a:t>
            </a:r>
            <a:endParaRPr b="1" lang="en-US" sz="2000" spc="1" strike="noStrike">
              <a:ln w="12600">
                <a:solidFill>
                  <a:srgbClr val="b2b2b2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659640" y="1989000"/>
            <a:ext cx="2233440" cy="2303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84720" y="4653000"/>
            <a:ext cx="2667240" cy="2205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2374920" cy="2087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971640" y="4835520"/>
            <a:ext cx="2039760" cy="2022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492360" y="1989000"/>
            <a:ext cx="23749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следствия взры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2808000" cy="3527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755640" y="162864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гаса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03640" y="2708280"/>
            <a:ext cx="14954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 атом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зры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76720" y="4581360"/>
            <a:ext cx="19526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после атомн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взры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651640" y="1557360"/>
            <a:ext cx="3322440" cy="223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5435640" y="4005360"/>
            <a:ext cx="3708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Японский мальчик, верхняя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часть тела не была закрыта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во время взрыва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46818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684072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Comic Sans MS"/>
              </a:rPr>
              <a:t>Угля        на 350 л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Comic Sans MS"/>
              </a:rPr>
              <a:t>Нефти       на 40 л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Comic Sans MS"/>
              </a:rPr>
              <a:t>Газа          на 60 л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348000" y="476280"/>
            <a:ext cx="511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Blackadder ITC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Blackadder ITC"/>
              </a:rPr>
              <a:t>Запсы топли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Blackadder ITC"/>
              <a:ea typeface="Blackadder ITC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98720" cy="223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804000" y="3500280"/>
            <a:ext cx="205740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87280" y="189000"/>
          <a:ext cx="6985080" cy="666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89000"/>
                    <a:ext cx="698508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267360" cy="2156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324000" y="3500280"/>
            <a:ext cx="2376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Blackadder ITC"/>
              </a:rPr>
              <a:t>Балаковская АЭС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Blackadder ITC"/>
              <a:ea typeface="Blackadder ITC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42920" y="0"/>
            <a:ext cx="6913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Sydnie"/>
              </a:rPr>
              <a:t>АЭС Росси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Sydnie"/>
              <a:ea typeface="Sydnie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084720" y="1700280"/>
            <a:ext cx="2519640" cy="1944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6156360" y="3429000"/>
            <a:ext cx="230328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лоярская АЭС</a:t>
            </a:r>
            <a:endParaRPr b="0" i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635280" y="1484280"/>
            <a:ext cx="2376720" cy="172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564000" y="3284640"/>
            <a:ext cx="23540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Билибинская АЭ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0920" y="4005360"/>
            <a:ext cx="2808360" cy="1871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0" y="6021360"/>
            <a:ext cx="305928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огодская АЭ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3348000" y="4149720"/>
            <a:ext cx="3529080" cy="2303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6732720" y="5589720"/>
            <a:ext cx="241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Смоленская АЭ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2556000" cy="2158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0" y="0"/>
            <a:ext cx="2419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Калининская АЭ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3097080" cy="2781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003640" y="549360"/>
            <a:ext cx="208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Кольская АЭ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516720" y="1557360"/>
            <a:ext cx="2627280" cy="223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7164360" y="3573360"/>
            <a:ext cx="18176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урская АЭ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0" y="3429000"/>
            <a:ext cx="2771640" cy="2232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0" y="5805360"/>
            <a:ext cx="270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Ленинградская АЭ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3132000" y="3645000"/>
            <a:ext cx="3600720" cy="2160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5724360" y="5516640"/>
            <a:ext cx="29512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ововоронежская АЭ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1363680"/>
          <a:ext cx="9182160" cy="5160960"/>
        </p:xfrm>
        <a:graphic>
          <a:graphicData uri="http://schemas.openxmlformats.org/drawingml/2006/table">
            <a:tbl>
              <a:tblPr/>
              <a:tblGrid>
                <a:gridCol w="4626360"/>
                <a:gridCol w="4340160"/>
                <a:gridCol w="216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 Экономия органического топли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 Малые массы горючег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 Получение большой мощности с одного реакто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 Невысокая себестоимость энерги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 Отсутствие потребности в атмосферном воздух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 Экологическая чистота (при правильной их эксплуатации</a:t>
                      </a: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- Опасность заражения окружающих  АЭС территори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- Особенности ремонт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- Сложность ликвидации ядерного энергетического объект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- Высокая квалификация и ответственность кадро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- Доступность для терроризма и шантажа с катастрофическими последствиям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- Необходимость захоронения радиоактивных отходо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 txBox="1"/>
          <p:nvPr/>
        </p:nvSpPr>
        <p:spPr>
          <a:xfrm>
            <a:off x="395280" y="0"/>
            <a:ext cx="82803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Преимущества и недостатки АЭС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по сравнению с другими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5640" y="1341360"/>
            <a:ext cx="223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ЛЮ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651640" y="1341360"/>
            <a:ext cx="20160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b5481"/>
                </a:solidFill>
                <a:latin typeface="Arial"/>
              </a:rPr>
              <a:t>МИНУ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b548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546440" cy="41148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Катастрофа на 4-м блоке ЧАЭС произош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не во время работы станции. Она произош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во время тестирования, проводившегося с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целью оценки  безопасного преде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функционирования реактора в определённы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условиях. Тестирование, которое долж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было проводиться почти на полном уровн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мощности реактора должно было быт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совмещено с почти рутинной останов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реактора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8820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entury Schoolbook"/>
              </a:rPr>
              <a:t>Чернобыль - наша память и боль...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816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835280" y="333360"/>
            <a:ext cx="5661000" cy="6337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835280" y="0"/>
            <a:ext cx="5473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oudy Old Style"/>
              </a:rPr>
              <a:t>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oudy Old Style"/>
              </a:rPr>
              <a:t>Памятник ликвидаторам авари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6920" y="189000"/>
            <a:ext cx="6769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rebuchet MS"/>
              </a:rPr>
              <a:t>Итоги</a:t>
            </a:r>
            <a:endParaRPr b="1" i="1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1628640"/>
            <a:ext cx="79200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ill Sans Ultra Bold Condensed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ill Sans Ultra Bold Condensed"/>
              </a:rPr>
              <a:t>НУЖНА ЛИ НАМ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ill Sans Ultra Bold Condensed"/>
              <a:ea typeface="Gill Sans Ultra Bold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ill Sans Ultra Bold Condensed"/>
              </a:rPr>
              <a:t>ЭНЕРГ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ill Sans Ultra Bold Condensed"/>
              <a:ea typeface="Gill Sans Ultra Bold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ill Sans Ultra Bold Condensed"/>
              </a:rPr>
              <a:t>АТОМА?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ill Sans Ultra Bold Condensed"/>
              <a:ea typeface="Gill Sans Ultra Bold Condense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4869000"/>
            <a:ext cx="2340000" cy="1989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948360" y="4221000"/>
            <a:ext cx="1954440" cy="2057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7885080" y="404640"/>
            <a:ext cx="982800" cy="1108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179280" y="2924280"/>
            <a:ext cx="1543320" cy="1006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3780000" y="5229360"/>
            <a:ext cx="15127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4835520" cy="5835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Так не бывает, чтобы экспериментато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вели свои поиски ради открытия нового источника энергии или ради получ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редких или дорогих элементов. Истинная побудительная причина лежит глубже и связа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с захватывающей увлекательность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проникновения в одну из величайш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тайн прир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Э. Резерфор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02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3097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 Black"/>
              </a:rPr>
              <a:t>Подсчитано, что в России до 40% вырабатываемой энергии теряется на пути к потребител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 Black"/>
              </a:rPr>
              <a:t>Значит мы добываем нефти, угля, газа примерно в 2 раза больше, чем необходимо в действи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8900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льтернатива-экономи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39640" y="4835520"/>
            <a:ext cx="2040120" cy="2022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300720" y="4581360"/>
            <a:ext cx="2374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468360" y="404640"/>
            <a:ext cx="8928000" cy="62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      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БОТУ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9520"/>
            <a:ext cx="92901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484360" y="260280"/>
            <a:ext cx="388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 урока: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1280" y="1989000"/>
            <a:ext cx="7273800" cy="236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utami"/>
              </a:rPr>
              <a:t> </a:t>
            </a:r>
            <a:r>
              <a: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utami"/>
              </a:rPr>
              <a:t>выявить недостатки</a:t>
            </a:r>
            <a:endParaRPr b="1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utami"/>
              <a:ea typeface="Gauta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utami"/>
              </a:rPr>
              <a:t>и преимущества</a:t>
            </a:r>
            <a:endParaRPr b="1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utami"/>
              <a:ea typeface="Gauta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utami"/>
              </a:rPr>
              <a:t>энергии атома</a:t>
            </a:r>
            <a:endParaRPr b="1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utami"/>
              <a:ea typeface="Gautam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19640" y="4292640"/>
            <a:ext cx="2233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1.Информация о развитии физики атомного ядра. (Левченко С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2.Использование атомной энергии не в мирных цел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3.Информация о состоянии ресурсов топливно-энергетического комплек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4.Схема работы ядерного реактора (Горбунов А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5.Атомная энергетика России (Семионова А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6.Преимущества и недостатки АЭС (таблиц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7.Биологическое действие радиации (Склярова А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8.Информация о саммите по ядерной безопасности (Кириллова В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9. Итог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00000" y="115920"/>
            <a:ext cx="705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Book Antiqua"/>
              </a:rPr>
              <a:t>ПЛАН УРО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664000" cy="345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419640" y="2492280"/>
            <a:ext cx="252072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156360" y="260280"/>
            <a:ext cx="2651040" cy="352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492360" y="5950080"/>
            <a:ext cx="2374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рнест Резерфорд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04000" y="4076640"/>
            <a:ext cx="180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ьер Кю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71640" y="4005360"/>
            <a:ext cx="1936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Мария Кю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384360" cy="4680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564000" y="3284640"/>
            <a:ext cx="5176800" cy="280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724360" y="765000"/>
            <a:ext cx="302436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0" y="5805360"/>
            <a:ext cx="2616120" cy="7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Цепная реакци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5280" y="5229360"/>
            <a:ext cx="309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Book Antiqua"/>
              </a:rPr>
              <a:t>Отто Г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Book Antiqua"/>
              </a:rPr>
              <a:t>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Book Antiqua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Book Antiqua"/>
              </a:rPr>
              <a:t>Фриц Штрасма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364500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1 г U-23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51280" y="4076640"/>
            <a:ext cx="12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219640" y="3213000"/>
            <a:ext cx="34592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30 т каменного уг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64000" y="4653000"/>
            <a:ext cx="30956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,5 т неф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76360" y="1052640"/>
            <a:ext cx="446400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Narrow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Narrow"/>
              </a:rPr>
              <a:t>Е=57,6х10   Дж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807160" y="981000"/>
            <a:ext cx="3336840" cy="3672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64000" y="5157720"/>
            <a:ext cx="37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горь Владимирович</a:t>
            </a:r>
            <a:endParaRPr b="1" lang="en-US" sz="2400" spc="1" strike="noStrike">
              <a:ln w="9360">
                <a:solidFill>
                  <a:srgbClr val="003366"/>
                </a:solidFill>
                <a:miter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урчатов</a:t>
            </a:r>
            <a:endParaRPr b="1" lang="en-US" sz="2400" spc="1" strike="noStrike">
              <a:ln w="9360">
                <a:solidFill>
                  <a:srgbClr val="003366"/>
                </a:solidFill>
                <a:miter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46520" cy="2806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492360" y="189000"/>
            <a:ext cx="255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800080"/>
                </a:solidFill>
                <a:latin typeface="Copperplate Gothic Bold"/>
              </a:rPr>
              <a:t>Атомный ледокол </a:t>
            </a:r>
            <a:endParaRPr b="1" i="1" lang="en-US" sz="1800" spc="1" strike="noStrike">
              <a:ln w="9360">
                <a:solidFill>
                  <a:srgbClr val="ff33cc"/>
                </a:solidFill>
                <a:miter/>
              </a:ln>
              <a:solidFill>
                <a:srgbClr val="800080"/>
              </a:solid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800080"/>
                </a:solidFill>
                <a:latin typeface="Copperplate Gothic Bold"/>
              </a:rPr>
              <a:t>"Ленин"</a:t>
            </a:r>
            <a:endParaRPr b="1" i="1" lang="en-US" sz="1800" spc="1" strike="noStrike">
              <a:ln w="9360">
                <a:solidFill>
                  <a:srgbClr val="ff33cc"/>
                </a:solidFill>
                <a:miter/>
              </a:ln>
              <a:solidFill>
                <a:srgbClr val="800080"/>
              </a:solidFill>
              <a:latin typeface="Copperplate Gothic Bold"/>
              <a:ea typeface="Copperplate Gothic Bol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3382920"/>
            <a:ext cx="4716360" cy="347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0" y="2997360"/>
            <a:ext cx="45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Rounded MT Bold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Rounded MT Bold"/>
              </a:rPr>
              <a:t>АЭС в г. Обнинск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Rounded MT Bold"/>
              </a:rPr>
              <a:t>Калужской облас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71640" y="189000"/>
            <a:ext cx="6769080" cy="11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Schoolbook"/>
              </a:rPr>
              <a:t>Бомбардировки Хиросимы 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Schoolbook"/>
              </a:rPr>
              <a:t>Нагаса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Schoolbook"/>
              <a:ea typeface="Century Schoolbook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916280"/>
            <a:ext cx="2447640" cy="3457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684360" y="5734080"/>
            <a:ext cx="17906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дерный гри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д Хиросим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 августа 1945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3141720"/>
            <a:ext cx="2697480" cy="3384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6516720" y="1557360"/>
            <a:ext cx="18190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дерный гри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д Нагаса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 августа 1945 г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132000" y="1916280"/>
            <a:ext cx="2387880" cy="1562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2916360" y="3573360"/>
            <a:ext cx="309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кет бомбы "Малыш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англ. Little boy), сброшенн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Хиросим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7:51:37Z</dcterms:created>
  <dc:creator>Валентина</dc:creator>
  <dc:description/>
  <dc:language>en-US</dc:language>
  <cp:lastModifiedBy>Валентина</cp:lastModifiedBy>
  <dcterms:modified xsi:type="dcterms:W3CDTF">2010-05-17T05:15:38Z</dcterms:modified>
  <cp:revision>10</cp:revision>
  <dc:subject/>
  <dc:title>Слайд 1</dc:title>
</cp:coreProperties>
</file>