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06C-109F-47B4-937B-5FE748F2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E53-5FDE-468C-87F3-EF31BF43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A3A-B6AA-47B7-82CF-849004C8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B75-24A8-457C-AC61-9ABF6A58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4E66-8ABD-4534-82EF-F9774DDB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E1C1-8A5E-4B6B-93A9-ECE189D2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DD40-07E1-4FB3-AFF3-964F0A0D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0084-4C58-4DA5-A36A-811B10D7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4126-5767-4631-B35D-701D7131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C9A6-6988-4C95-A641-C246FAD7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E5D3-6255-41B4-977A-929C1933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C18-7BAF-4F0D-93D1-47E40480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66FC-3D13-4908-A218-4262796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F736-1188-404A-BE2B-4C2A92C1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731D-7661-4968-A454-2B7D701D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9ECE-A30A-4F4F-8D8B-6A5EEE82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996-926B-46A9-ABA3-4BCA0594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BAD-C1D7-4074-A852-0952136E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5E1-C093-47F3-9B3A-F3E19CC4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303-B3D8-4B44-A1EA-3E5E2093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44C-438C-4AA6-BD33-A50B04AD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762-98A1-475D-85FF-B061DB5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1A9-9B0E-44AC-9E08-653C4403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D8F-8C5C-4DE4-9C30-925C950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B557-C076-42BF-8E36-691B98B39F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D25E-3274-4ADC-91F5-D29D93AB2B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2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/index.php?title=&#1060;&#1072;&#1081;&#1083;:Atomic_cloud_over_Hiroshima.jpg&amp;filetimestamp=20080607023448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ru.wikipedia.org/w/index.php?title=&#1060;&#1072;&#1081;&#1083;:Nagasakibomb.jpg&amp;filetimestamp=20081221213247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189000"/>
            <a:ext cx="8353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Narrow"/>
              </a:rPr>
              <a:t> </a:t>
            </a:r>
            <a:r>
              <a:rPr b="1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Narrow"/>
              </a:rPr>
              <a:t>Энергия атома: за и против.</a:t>
            </a:r>
            <a:endParaRPr b="1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59640" y="1989000"/>
            <a:ext cx="2233440" cy="2303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84720" y="4653000"/>
            <a:ext cx="2667240" cy="220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237492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971640" y="4835520"/>
            <a:ext cx="2039760" cy="2022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492360" y="1989000"/>
            <a:ext cx="2374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следствия взры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2808000" cy="3527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755640" y="1628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гас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03640" y="2708280"/>
            <a:ext cx="14954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атом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зры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76720" y="4581360"/>
            <a:ext cx="1952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после атомн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зры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651640" y="1557360"/>
            <a:ext cx="3322440" cy="223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5435640" y="4005360"/>
            <a:ext cx="3708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Японский мальчик, верхняя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часть тела не была закрыта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во время взрыва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6818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68407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Угля        на 350 л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Нефти       на 40 л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Газа          на 60 л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48000" y="476280"/>
            <a:ext cx="511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Blackadder ITC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Blackadder ITC"/>
              </a:rPr>
              <a:t>Запсы топли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Blackadder ITC"/>
              <a:ea typeface="Blackadder ITC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98720" cy="223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04000" y="3500280"/>
            <a:ext cx="205740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89000"/>
          <a:ext cx="698508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89000"/>
                    <a:ext cx="698508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267360" cy="2156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24000" y="3500280"/>
            <a:ext cx="237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Blackadder ITC"/>
              </a:rPr>
              <a:t>Балаковская АЭ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Blackadder ITC"/>
              <a:ea typeface="Blackadder ITC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920" y="0"/>
            <a:ext cx="6913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Sydnie"/>
              </a:rPr>
              <a:t>АЭС Росси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Sydnie"/>
              <a:ea typeface="Sydnie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084720" y="1700280"/>
            <a:ext cx="251964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6156360" y="3429000"/>
            <a:ext cx="230328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оярская АЭС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635280" y="1484280"/>
            <a:ext cx="2376720" cy="172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564000" y="3284640"/>
            <a:ext cx="2354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Билибин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0920" y="4005360"/>
            <a:ext cx="2808360" cy="1871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0" y="6021360"/>
            <a:ext cx="30592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огодская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3348000" y="4149720"/>
            <a:ext cx="3529080" cy="2303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6732720" y="5589720"/>
            <a:ext cx="241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Смолен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2556000" cy="2158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0" y="0"/>
            <a:ext cx="2419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алинин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3097080" cy="2781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003640" y="549360"/>
            <a:ext cx="208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Коль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516720" y="1557360"/>
            <a:ext cx="2627280" cy="223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164360" y="3573360"/>
            <a:ext cx="181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ур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2771640" cy="223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0" y="5805360"/>
            <a:ext cx="27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Ленинград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132000" y="3645000"/>
            <a:ext cx="360072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5724360" y="5516640"/>
            <a:ext cx="2951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ововоронежская АЭ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1363680"/>
          <a:ext cx="9182160" cy="5160960"/>
        </p:xfrm>
        <a:graphic>
          <a:graphicData uri="http://schemas.openxmlformats.org/drawingml/2006/table">
            <a:tbl>
              <a:tblPr/>
              <a:tblGrid>
                <a:gridCol w="4626360"/>
                <a:gridCol w="4340160"/>
                <a:gridCol w="21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Экономия органического топли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Малые массы горючег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Получение большой мощности с одного реакто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Невысокая себестоимость энерги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Отсутствие потребности в атмосферном воздух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 Экологическая чистота (при правильной их эксплуатации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Опасность заражения окружающих  АЭС территор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Особенности ремон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Сложность ликвидации ядерного энергетического объект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Высокая квалификация и ответственность кадр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Доступность для терроризма и шантажа с катастрофическими последствия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 Необходимость захоронения радиоактивных отход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 txBox="1"/>
          <p:nvPr/>
        </p:nvSpPr>
        <p:spPr>
          <a:xfrm>
            <a:off x="395280" y="0"/>
            <a:ext cx="8280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Преимущества и недостатки АЭС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по сравнению с другими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1341360"/>
            <a:ext cx="22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Ю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651640" y="1341360"/>
            <a:ext cx="20160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b5481"/>
                </a:solidFill>
                <a:latin typeface="Arial"/>
              </a:rPr>
              <a:t>МИНУ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b548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1148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Катастрофа на 4-м блоке ЧАЭС произош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не во время работы станции. Она произош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во время тестирования, проводившегося 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целью оценки  безопасного преде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функционирования реактора в определённ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условиях. Тестирование, которое долж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было проводиться почти на полном уровн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ощности реактора должно было бы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совмещено с почти рутинной останов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реактора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8820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entury Schoolbook"/>
              </a:rPr>
              <a:t>Чернобыль - наша память и боль..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81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5661000" cy="6337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835280" y="0"/>
            <a:ext cx="547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oudy Old Style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oudy Old Style"/>
              </a:rPr>
              <a:t>Памятник ликвидаторам авари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189000"/>
            <a:ext cx="6769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rebuchet MS"/>
              </a:rPr>
              <a:t>Итоги</a:t>
            </a:r>
            <a:endParaRPr b="1" i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628640"/>
            <a:ext cx="7920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ill Sans Ultra Bold Condensed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ill Sans Ultra Bold Condensed"/>
              </a:rPr>
              <a:t>НУЖНА ЛИ НА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ill Sans Ultra Bold Condensed"/>
              </a:rPr>
              <a:t>ЭНЕРГ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ill Sans Ultra Bold Condensed"/>
              </a:rPr>
              <a:t>АТОМА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ill Sans Ultra Bold Condensed"/>
              <a:ea typeface="Gill Sans Ultra Bold Condense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2340000" cy="1989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948360" y="42210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7885080" y="404640"/>
            <a:ext cx="982800" cy="110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179280" y="2924280"/>
            <a:ext cx="1543320" cy="1006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3780000" y="5229360"/>
            <a:ext cx="15127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835520" cy="5835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Так не бывает, чтобы экспериментато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вели свои поиски ради открытия нового источника энергии или ради пол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редких или дорогих элементов. Истинная побудительная причина лежит глубже и связа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с захватывающей увлекательность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проникновения в одну из величайш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тайн прир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gency FB"/>
              </a:rPr>
              <a:t>Э. Резерфор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02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09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Подсчитано, что в России до 40% вырабатываемой энергии теряется на пути к потребит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Значит мы добываем нефти, угля, газа примерно в 2 раза больше, чем необходимо в действи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89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льтернатива-эконом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39640" y="4835520"/>
            <a:ext cx="2040120" cy="2022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468360" y="404640"/>
            <a:ext cx="892800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    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БОТУ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9520"/>
            <a:ext cx="92901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84360" y="260280"/>
            <a:ext cx="388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 урока: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1989000"/>
            <a:ext cx="7273800" cy="236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utami"/>
              </a:rPr>
              <a:t> </a:t>
            </a: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utami"/>
              </a:rPr>
              <a:t>выявить недостатки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utami"/>
              <a:ea typeface="Gauta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utami"/>
              </a:rPr>
              <a:t>и преимущества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utami"/>
              <a:ea typeface="Gauta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utami"/>
              </a:rPr>
              <a:t>энергии атома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utami"/>
              <a:ea typeface="Gautam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19640" y="4292640"/>
            <a:ext cx="2233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1.Информация о развитии физики атомного ядра. (Левченко С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2.Использование атомной энергии не в мирных цел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3.Информация о состоянии ресурсов топливно-энергетического комплек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4.Схема работы ядерного реактора (Горбунов А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5.Атомная энергетика России (Семионова А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6.Преимущества и недостатки АЭС (таблиц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7.Биологическое действие радиации (Склярова А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8.Информация о саммите по ядерной безопасности (Кириллова В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9. Ито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15920"/>
            <a:ext cx="705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ПЛАН УРО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664000" cy="345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419640" y="2492280"/>
            <a:ext cx="252072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156360" y="260280"/>
            <a:ext cx="265104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492360" y="5950080"/>
            <a:ext cx="237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рнест Резерфорд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04000" y="4076640"/>
            <a:ext cx="18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ьер Кю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71640" y="4005360"/>
            <a:ext cx="1936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ария Кю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384360" cy="468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5176800" cy="280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724360" y="765000"/>
            <a:ext cx="30243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0" y="5805360"/>
            <a:ext cx="2616120" cy="7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пная реакц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5229360"/>
            <a:ext cx="309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Book Antiqua"/>
              </a:rPr>
              <a:t>Отто Г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Book Antiqua"/>
              </a:rPr>
              <a:t>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Book Antiqu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Book Antiqua"/>
              </a:rPr>
              <a:t>Фриц Штрасм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3645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1 г U-23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51280" y="407664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219640" y="3213000"/>
            <a:ext cx="34592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30 т каменного уг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64000" y="4653000"/>
            <a:ext cx="30956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,5 т неф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76360" y="1052640"/>
            <a:ext cx="446400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Narrow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Narrow"/>
              </a:rPr>
              <a:t>Е=57,6х10   Дж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07160" y="981000"/>
            <a:ext cx="3336840" cy="367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64000" y="5157720"/>
            <a:ext cx="37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горь Владимирович</a:t>
            </a:r>
            <a:endParaRPr b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урчатов</a:t>
            </a:r>
            <a:endParaRPr b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46520" cy="280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492360" y="189000"/>
            <a:ext cx="25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800080"/>
                </a:solidFill>
                <a:latin typeface="Copperplate Gothic Bold"/>
              </a:rPr>
              <a:t>Атомный ледокол </a:t>
            </a:r>
            <a:endParaRPr b="1" i="1" lang="en-US" sz="1800" spc="1" strike="noStrike">
              <a:ln w="9360">
                <a:solidFill>
                  <a:srgbClr val="ff33cc"/>
                </a:solidFill>
                <a:miter/>
              </a:ln>
              <a:solidFill>
                <a:srgbClr val="800080"/>
              </a:solid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800080"/>
                </a:solidFill>
                <a:latin typeface="Copperplate Gothic Bold"/>
              </a:rPr>
              <a:t>"Ленин"</a:t>
            </a:r>
            <a:endParaRPr b="1" i="1" lang="en-US" sz="1800" spc="1" strike="noStrike">
              <a:ln w="9360">
                <a:solidFill>
                  <a:srgbClr val="ff33cc"/>
                </a:solidFill>
                <a:miter/>
              </a:ln>
              <a:solidFill>
                <a:srgbClr val="800080"/>
              </a:solidFill>
              <a:latin typeface="Copperplate Gothic Bold"/>
              <a:ea typeface="Copperplate Gothic Bol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382920"/>
            <a:ext cx="4716360" cy="347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0" y="2997360"/>
            <a:ext cx="45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Rounded MT Bold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Rounded MT Bold"/>
              </a:rPr>
              <a:t>АЭС в г. Обнинск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Rounded MT Bold"/>
              </a:rPr>
              <a:t>Калужской облас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71640" y="189000"/>
            <a:ext cx="6769080" cy="11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Бомбардировки Хиросимы 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Нагаса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916280"/>
            <a:ext cx="2447640" cy="3457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684360" y="5734080"/>
            <a:ext cx="1790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дерный гри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 Хиросим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 августа 1945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3141720"/>
            <a:ext cx="2697480" cy="3384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516720" y="1557360"/>
            <a:ext cx="18190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дерный гри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 Нагас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 августа 1945 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132000" y="1916280"/>
            <a:ext cx="2387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916360" y="357336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кет бомбы "Малыш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англ. Little boy), сброшен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Хироси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7:51:37Z</dcterms:created>
  <dc:creator>Валентина</dc:creator>
  <dc:description/>
  <dc:language>en-US</dc:language>
  <cp:lastModifiedBy>Валентина</cp:lastModifiedBy>
  <dcterms:modified xsi:type="dcterms:W3CDTF">2010-05-17T05:15:38Z</dcterms:modified>
  <cp:revision>10</cp:revision>
  <dc:subject/>
  <dc:title>Слайд 1</dc:title>
</cp:coreProperties>
</file>