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059-94CF-4145-BCA2-F64DB57F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BE2-1695-420D-8D2A-8D9E9887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8BE-8C83-49AC-9523-EB46DA23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514-B7BC-4561-AB72-1ADFED37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40D4-563E-4986-ADB6-F9AA1879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FCB9-11DA-48C2-B9A7-1ADC1FE3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07B0-6B5E-4C8F-BD27-E3A09EB7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79D2-2A2F-4492-AC51-EBFEC668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A1AC-989C-4EC6-B044-23FCA8FE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8306-9001-4104-9784-3273C2EB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E19A-930C-4AB8-A744-7566CE52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424-F970-49F0-B2E7-E84ECD4F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DE19-ACF3-43E8-9DAB-FFA2D72B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5B1E-E940-4A77-8890-75B5F6F2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EBF3-5793-4997-B587-4CCDDC64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F492-D9CE-40CB-B8AA-F5454E28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DAEA-239A-4D73-A291-74B3F9D7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193-3CE7-4E9D-9157-EAFA6D57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AC1-55D1-42C2-9E30-5CFD10F2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4A2-04A8-45FA-9424-858CBBFF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CED-04B3-40BC-B9C4-3C3A6E76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171-4E8A-4B4F-BC36-99E49C0D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36A-E090-4374-A05A-6A9C6EB0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D4A-1460-45BA-A4D6-B18E2EAC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A0B5-B894-4626-9923-36AE24E338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BB2C-4D9C-4D0B-BA57-D5C4E37092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duh.ppt" TargetMode="External"/><Relationship Id="rId2" Type="http://schemas.openxmlformats.org/officeDocument/2006/relationships/hyperlink" Target="file:///&#1080;&#1089;&#1089;&#1083;&#1077;&#1076;&#1086;&#1074;&#1072;&#1090;&#1077;&#1083;&#1100;&#1089;&#1082;&#1072;&#1103;%20&#1088;&#1072;&#1073;&#1086;&#1090;&#1072;%20&#1074;&#1099;&#1087;&#1091;&#1089;&#1082;&#1085;&#1080;&#1094;&#1099;%20&#1083;&#1080;&#1094;&#1077;&#1103;/&#1062;&#1077;&#1088;&#1082;&#1074;&#1080;%20&#1080;%20&#1084;&#1086;&#1085;&#1072;&#1089;&#1090;&#1099;&#1088;&#1080;%20&#1063;&#1077;&#1088;&#1085;&#1086;&#1088;&#1077;&#1095;&#1100;&#1103;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101;&#1083;&#1077;&#1082;&#1090;&#1080;&#1074;&#1085;&#1099;&#1081;%20&#1082;&#1091;&#1088;&#1089;.doc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76;&#1083;&#1103;%20&#1059;-&#1043;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Методическая разработка раздела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«Человек и духовная жизнь» программы по обществознанию для 11 класса А. И. Кравченко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587840"/>
            <a:ext cx="68580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зентация методической раз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чителя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У лицей №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енинского района г. Н. Нов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еленновой Д.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419112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Основные цели и задачи раздела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3520" y="1219320"/>
          <a:ext cx="8229600" cy="4511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 знаний, умений и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и в период ранней ю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монически развитой лич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культуре и э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е на практике полученных знаний и умений  для ориентации в области межличностных отнош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ально-нравственного образа мыш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ально-нарвственных цен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ально-нравственных чувствах и категор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и к самоконтролю, самоопределению и самореал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жданской ответственности, самосознания, толеран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ать и критически осмысливать информ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и к творческому решению учебных и познавательных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ерженности гуманистическим и демократическим цен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пособов познавательной, коммуникативной, практическ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Психолого-педагогическое объяснение специфики восприятия и освоения учебного материала учащимися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В 11 классе на первый план – вновь и на новом уровне – выступают, с одной стороны, проблемы профессионального самоопределения: выбор будущей профессии и построение дальнейших образовательных планов, а с другой стороны – проблемы, связанные с подготовкой к школьным выпускным и вузовским вступительным экзаменам. Последняя проблема оказывается настолько аффективно значимой, что подчас, особенно в последние месяцы школьного обучения, затмевает все остальные. Поскольку в настоящее время процедура аттестации предполагается в форме ЕГЭ, который не только оценивает знания учащегося-выпускника, но является еще и своеобразной проверкой социальной и психологической готовности к постоянно меняющимся условиям современной реальности, имеет смысл при подготовке выпускников к ЕГЭ, обратить внимание на формирование их психологической устой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2735280"/>
            <a:ext cx="3814920" cy="290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1752480"/>
            <a:ext cx="3810240" cy="83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инамика развития познавательной мотивации учащихся 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8-2009 учебном году ( 10 «а», 11 «а»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и 2009-2010 учебном году (10 «а», 11 «а»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Ожидаемые результаты освоения раздела</a:t>
            </a: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454040"/>
          <a:ext cx="8305920" cy="4475160"/>
        </p:xfrm>
        <a:graphic>
          <a:graphicData uri="http://schemas.openxmlformats.org/drawingml/2006/table">
            <a:tbl>
              <a:tblPr/>
              <a:tblGrid>
                <a:gridCol w="3992400"/>
                <a:gridCol w="431352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этапы и факторы социализации лич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этапы формирования морально-нравственных качеств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 и роль человека в системе общественных отношений и влияние на эти отношения уровня общечеловеческой культу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денции развития общества в целом как сложной динамичной системы, а также важнейших социальных институтов и влияние на это развитие таких категорий как «добро» и «зло», «мораль» и «этик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зовать основные социокультурные  объекты, выделяя их существенные признаки, закономерности разви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лизировать актуальную информацию о социокультурных объектах, выявляя их общие черты и различия; устанавливать соответствия между существенными чертами и признаками изученных  явлений и обществоведческими терминами и понят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ического восприятия информации, получаемой в межличностном общении и в массовой коммуникации; осуществления самостоятельного поиска, анализа и использования собранной социальной информ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i="1" lang="en-US" sz="2500" spc="-1" strike="noStrike">
                <a:solidFill>
                  <a:srgbClr val="ff0000"/>
                </a:solidFill>
                <a:latin typeface="Times New Roman"/>
              </a:rPr>
              <a:t>Обоснование  используемых в образовательном процессе по разделу программы образовательных технологий, методов и форм познавательной деятельности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287440"/>
            <a:ext cx="374184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438280"/>
            <a:ext cx="3809880" cy="41911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спользование проблемно-проектного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сследователь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етодов в рамк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чностно - ориентирова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исте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едет к повышению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разовате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тивации учащихся и к более легк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своению учебного матери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800600" y="2211480"/>
          <a:ext cx="2143080" cy="149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11480"/>
                    <a:ext cx="21430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84600" y="4040280"/>
          <a:ext cx="2735280" cy="2090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4600" y="4040280"/>
                    <a:ext cx="273528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010280" y="2362320"/>
            <a:ext cx="19814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Анализ итогов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ромежуточной аттест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о обществознани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в 2008-2009 и 2009-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учебных годах (10-11 «б» класс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4343400"/>
            <a:ext cx="1524240" cy="1447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Динамика развит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методо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стимулирова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на уроках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обществозна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в период с 2007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о 2009 го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Система знаний и система деятельност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066680"/>
          <a:ext cx="8229600" cy="4972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2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научные знания и зак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ирование общими философскими понятиями и категор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ехники мышления и интеллектуальных мыслительных оп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ния из определенной научн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знаний из области социальных на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ющ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е решению задач по преобразованию ре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даментальные знания из конкретной предметн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представлений о духовной жизни человека и общества в це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учеб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общеучебные навы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ния профильного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я о видах, признаках, категориях отдельных по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рганизующ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ценностно-смысловых компетенций через решение проблемных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Учебно-тематическое планирование раздела  «Человек и духовная жизнь»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8229600" cy="4335480"/>
        </p:xfrm>
        <a:graphic>
          <a:graphicData uri="http://schemas.openxmlformats.org/drawingml/2006/table">
            <a:tbl>
              <a:tblPr/>
              <a:tblGrid>
                <a:gridCol w="609480"/>
                <a:gridCol w="4953240"/>
                <a:gridCol w="685800"/>
                <a:gridCol w="838080"/>
                <a:gridCol w="11430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е ч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бщ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ическая основа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равственные чувства и моральное п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равственные категории и доброде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едливость и равен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торительно-обобщающий у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торительно –обобщающий урок(подготовка к ЕГЭ по материалам разде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Разработка урока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ип уро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онтроль и самопроверка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повторение изученного материала по разделу «Человек и духовная жизнь»; подготовка к ЕГЭ на основе материалов разд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торить основные обществоведческие и философские понятия раз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торить основной общий теоретический матери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ормировать навыки практического применения данных пон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ормировать навыки решения заданий-задач, альтернативных заданий и заданий на основе оригинально тек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ние у обучающихся активной жизненной позиции, коммуникативной и социальной компетент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Ход урока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ргмомент. Проверка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Работа на компьютерах с презентацией по разделу «Человек и духовная жиз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абота на компьютере по оформлению кластера по разделу «Человек и духовная жиз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абота на компьютере по решению практической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Проверка группового альтернативно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дведение итогов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Планирование времен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14400" y="1676520"/>
          <a:ext cx="7772400" cy="5122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ланированно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ически израсходованно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мин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мин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уро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ка домашнего зн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на компьютерах с презентацией  по раздел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на компьютере по оформлению класте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на компьютере по решению практической зада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овая презентация альтернативного зад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едение итог заня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990033"/>
                </a:solidFill>
                <a:latin typeface="Times New Roman"/>
              </a:rPr>
              <a:t>Подготовка класте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читать текст (по темам раздела «Человек и духовная жизнь») и выделить в нем большие и малые смысловые еди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обсуждения и уточнения формулировок смысловых блоков в прямоугольных рамках записать принятые наз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круг каждой рамки в кружках (в «веточках») кратко вписать сведения, соответствующие смысловым бло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пытаться установить связи между отдельными блоками и «веточками» кластера и соединить их стрел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обсуждения дополнить кластеры новыми «веточк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Поселеннова Дарья Васильевн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 2006 году закончила Арзамасский Государственный Педагогический Институт с красным диплом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 2006 пришла работать в лицей №180 Ленинского района, в 2007 защитилась на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атегор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ктивно участвую в методической работе лицея, выступаю на педсоветах и межшкольных конферен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ботаю в 5.6,7,8,11 клас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Разработала элективный курс «Использование Интернета на уроках истории и обществозна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ботаю над научной темой «Складывание поместной системы и служилой организации в Арзамасском уезде в 15-17 века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0" y="3124080"/>
            <a:ext cx="3809880" cy="1844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029200" y="4648320"/>
            <a:ext cx="3086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990033"/>
                </a:solidFill>
                <a:latin typeface="Times New Roman"/>
              </a:rPr>
              <a:t>Пример класте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1197000"/>
            <a:ext cx="1800000" cy="72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1484280"/>
            <a:ext cx="158436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1484280"/>
            <a:ext cx="172908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916280"/>
            <a:ext cx="147636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924280"/>
            <a:ext cx="1944720" cy="79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2492280"/>
            <a:ext cx="2735280" cy="1081080"/>
          </a:xfrm>
          <a:prstGeom prst="rect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32720" y="2708280"/>
            <a:ext cx="1871640" cy="86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88000" y="3933720"/>
            <a:ext cx="201636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933720"/>
            <a:ext cx="2735280" cy="1008000"/>
          </a:xfrm>
          <a:prstGeom prst="rect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РАВ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4000" y="5013360"/>
            <a:ext cx="1944720" cy="72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4005360"/>
            <a:ext cx="1512720" cy="57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5084640"/>
            <a:ext cx="2521080" cy="1152720"/>
          </a:xfrm>
          <a:prstGeom prst="rect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5300640"/>
            <a:ext cx="1800360" cy="504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6237360"/>
            <a:ext cx="1800360" cy="620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8000" y="5950080"/>
            <a:ext cx="2016360" cy="907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435640" y="17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72000" y="19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627280" y="1844280"/>
            <a:ext cx="19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340000" y="321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endCxn id="166" idx="3"/>
          </p:cNvCxnSpPr>
          <p:nvPr/>
        </p:nvCxnSpPr>
        <p:spPr>
          <a:xfrm flipH="1" flipV="1" rot="5400000">
            <a:off x="4320360" y="1464480"/>
            <a:ext cx="705240" cy="4668120"/>
          </a:xfrm>
          <a:prstGeom prst="curvedConnector5">
            <a:avLst>
              <a:gd name="adj1" fmla="val 51123"/>
              <a:gd name="adj2" fmla="val 50000"/>
              <a:gd name="adj3" fmla="val 51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V="1">
            <a:off x="2050920" y="3573360"/>
            <a:ext cx="12258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0072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429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479736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500720" y="580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08720" y="551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219280" y="5734080"/>
            <a:ext cx="1368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340000" y="4581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16360" y="5516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380880"/>
            <a:ext cx="4648320" cy="3048120"/>
            <a:chOff x="0" y="380880"/>
            <a:chExt cx="4648320" cy="304812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0" y="380880"/>
              <a:ext cx="46483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 txBox="1"/>
            <p:nvPr/>
          </p:nvSpPr>
          <p:spPr>
            <a:xfrm>
              <a:off x="0" y="380880"/>
              <a:ext cx="464832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lvl="4" marL="2057400" indent="-228600">
                <a:spcBef>
                  <a:spcPts val="700"/>
                </a:spcBef>
                <a:buClr>
                  <a:srgbClr val="cccc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038480" y="2895480"/>
            <a:ext cx="4762800" cy="3562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04920" y="4038480"/>
            <a:ext cx="3429000" cy="2438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НА УРО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В ГРУПП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И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33520"/>
            <a:ext cx="3962520" cy="1828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ЕТС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Я КРИ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ШЛ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ИЧНО-ПОИСКО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СЛЕДОВАТЕЛЬСКИЙ МЕТ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НО-ПРЕК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УРОК ОБЩЕСТВОЗНАНИЯ В КОМПЬЮТЕРНОМ КЛАССЕ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105520" y="762120"/>
            <a:ext cx="2971800" cy="1828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главн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на таком уро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ята работ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о и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оптимизиро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омощ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4495680"/>
            <a:ext cx="3352680" cy="19051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СЕ МАТЕРИАЛЫ СОХРАНЯ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 КОМПЬЮТ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 ПАПКЕ «АДМИНИСТРАТ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ОД НОМЕРА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ЧТО ОБЛЕГЧАЕТ ПРОВЕРКУ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СКЛЮЧАЕТ СУБЪЕКТИВИЗ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 ОЦЕНИВ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3800" spc="-1" strike="noStrike">
                <a:solidFill>
                  <a:srgbClr val="ff0000"/>
                </a:solidFill>
                <a:latin typeface="Arial"/>
              </a:rPr>
              <a:t>Компьютер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2421000"/>
            <a:ext cx="8207280" cy="1337760"/>
          </a:xfrm>
          <a:prstGeom prst="upArrowCallout">
            <a:avLst>
              <a:gd name="adj1" fmla="val -126296"/>
              <a:gd name="adj2" fmla="val 208280"/>
              <a:gd name="adj3" fmla="val 20560"/>
              <a:gd name="adj4" fmla="val 62984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чное, корректное и только целесообразное включение компьютеров в педагогические технологии на уроках по всем предм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700280"/>
            <a:ext cx="82072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Игнорирование возможностей компьютерного обучения по всем предметам, кроме инфор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4599000"/>
            <a:ext cx="6912000" cy="856080"/>
          </a:xfrm>
          <a:prstGeom prst="wedgeRoundRectCallout">
            <a:avLst>
              <a:gd name="adj1" fmla="val -9791"/>
              <a:gd name="adj2" fmla="val -155925"/>
              <a:gd name="adj3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мпьютер – это не только ТСО на уроке, но и интеллектуальный помощник учителя при подготовке к уро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7162920" y="6095880"/>
            <a:ext cx="1066680" cy="381240"/>
          </a:xfrm>
          <a:prstGeom prst="leftArrow">
            <a:avLst>
              <a:gd name="adj1" fmla="val 50000"/>
              <a:gd name="adj2" fmla="val 699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Эффективность методики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казатели критер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влека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дметов гуманитарного цик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ащихся 10х классов (2008-2009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казатели критериев привлекательности учебных предметов гуманитарного цикла у учащихся 11х классов (2009-2010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656240" y="1600200"/>
          <a:ext cx="3789360" cy="218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6240" y="1600200"/>
                    <a:ext cx="37893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656240" y="3940200"/>
          <a:ext cx="3755880" cy="2190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6240" y="3940200"/>
                    <a:ext cx="37558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Результат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1600200"/>
          <a:ext cx="7772400" cy="48880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милия, 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й пери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-200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-200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нова По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место(го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место (го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цина Тать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есто (го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ненкова Александ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есто (И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есто (И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стерина Ан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место (Общ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штан Пав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есто (И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мес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Участие в конкурсе «Учитель года 2010» (лауреат конкурса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382920" cy="3355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9720" y="3276720"/>
            <a:ext cx="4419360" cy="3047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в конкурсе учитель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Мастер-клас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Развитие ключевых компетен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уроке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«Блокада Ленинграда»)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ованием ИКТ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но-проект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а обуч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Выбор предмета для методической разработки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рок обществознания в 11 классе один из наиболее важных. По статистике, более 80%  выпускникам он необходим для поступление в ВУ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тоже время, на уроке обществознания у учащихся  формируются ключевые компетенции, которые  необходимы абитури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15000" y="114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76920" y="2819520"/>
            <a:ext cx="3581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грамма А. И. Кравч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ставляется наи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руктурированной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чебниках содержится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лубокое и всесторон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зложение основ эконом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оциологии,  прав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ультурологи, они напис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егко и доступно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овременных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j0410787[1]"/>
          <p:cNvPicPr/>
          <p:nvPr/>
        </p:nvPicPr>
        <p:blipFill>
          <a:blip r:embed="rId1"/>
          <a:stretch/>
        </p:blipFill>
        <p:spPr>
          <a:xfrm>
            <a:off x="6248520" y="4952880"/>
            <a:ext cx="289548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066680" cy="1752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858000" y="1981080"/>
            <a:ext cx="104760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400800" y="685800"/>
            <a:ext cx="1047600" cy="1523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791320" y="2209680"/>
            <a:ext cx="110484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391520" y="2895480"/>
            <a:ext cx="112392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95680" y="3352680"/>
            <a:ext cx="1828800" cy="2962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яснительная зап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0000"/>
                </a:solidFill>
                <a:latin typeface="Times New Roman"/>
              </a:rPr>
              <a:t>УМК по обществознанию А. И. Кравченко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аз от моноиде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нтре внимания лю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ятийная система сменилась образ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цель автора – пробудить чувства и эмо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иление доли фактологическ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 избыточность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ые выразительные способы из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уровневая система обра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ый способ формулирования названий параграф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ительный текст – самостоятельный источник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нутые пояснительные тексты (комментарии, справки, словар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ая иллюстративная мета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возная сеть вопросов и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Выбор раздел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11 классе на уроках  обществознания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учении раздела  «Культура и духовная жиз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ормируются более полные  представления о та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нятиях как «этика», «нравственность», «мораль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добро», «зло», «добродетель», «счастье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удовольствие», «гедонизм», «справедливость»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равенство». Это важные философские понятия,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торых возможно сформировать внутренний мир ребенка. В процессе изучения раздела у учащихся формир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дставления о моральном поведении, нравств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увствах и категор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просы по материалом раздела вошли в спецификацию ЕГЭ 201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66720" y="456840"/>
            <a:ext cx="44197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атериалы раздела являются достаточно сложными, поэтому изучать их возможно через организацию проблемно-проектной деятельности с использованием ИКТ и ресурсов сети Интернет, в рамках личностно-ориентированной системы обучен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1911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0-03-01T21:25:2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