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2B7B-C25B-4711-8DE9-6529AA926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FCBE-231D-49A9-ADFA-F143AAFE1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6B5599-41A5-41C8-8357-62632A2E2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AEB624-BD2E-4E97-9322-8594D5755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E4BF68-4A0A-4BC8-A644-B051EF72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D8452C-1BBD-4065-AC8C-EC80910DE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C39E35-29AB-4CF4-A44F-476C8381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92D37C-A78A-4D33-85C6-E93B5020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B019D4-4620-486C-867A-3B76D8015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F65A60-6921-4C1F-832B-D41C850C8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22B969-BA41-46B2-AB07-D6C53225D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9F7334-DA69-47B7-82A9-B4B28E531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91C5-98BA-4DCD-AA1E-03BC7391F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587187-B5E2-406B-98E7-D72CA60CF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910285-AD49-4791-A335-6552761A2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C4BA68-1FAF-4769-8321-5615983E7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2FE414-13A7-4000-B028-F0D9CB78A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CCBED0-1AED-4DFB-98C5-CC03765C5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04BCE8-8768-4EB9-9C6D-1611C5F0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C1BEA3-08C1-4E8A-A0E0-46D298A4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72849C-15F5-4C29-961E-A012C86A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7F5A3A-C9E5-4D35-BD9B-F4E2A82FA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B0BF9A-0A7F-4EB8-B79B-DFAB2AB3B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0B83-87F2-4B51-93CC-88BCBEF4C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ACEAF0-1D04-4081-8757-16643A41A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174E8A-4E66-4C5C-8CC5-2665DB505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20E018-9D44-4728-A40D-A59E047C0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43CF37-1062-4468-8ABB-38B0FD17E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EE211B-B42D-45B4-8C69-DE0F2FD43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B1F6EC-941B-46B8-AEAC-B42076099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3A836A-09DA-49AD-9867-8CFB78928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68F42E-D14C-4BCA-BBAC-5DD81600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EE0776-416A-4289-9E88-76C07B80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EF88E4-66C5-4712-9378-1B1D7811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4E40A-61B4-4BD2-817B-450031F78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6549A8-4A59-429F-A728-08FD41EE1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FAC39E-9C49-430C-94DE-ABF7506FF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99A325-FF49-46D7-A20C-D47FEE8AC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DDD387-B4AC-4D8B-AF2F-4C664317C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280888-E07A-47AA-942B-55BBAFB2E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1CAE0C-BCE0-410C-B5DE-CBBAAC860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FA42AF-B10B-47D6-BFD5-2F675C0CE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15F207-E2BF-4139-8327-C5AE864FA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ABF534-DB78-4D4C-A1F1-226D19D04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B753A3-0CB8-4395-9069-417F2BFD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41405-E168-45FF-AC11-2613868BF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1A9B30-3E96-4A06-AE75-BF2153AB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75D722-0EA7-494C-96D6-5A640924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4CA7F3-2664-47EC-920C-A09F1B986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2CE559-2CA6-4F24-B16C-E996A6331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D262E3-D7A7-46E9-B519-0DF805998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E5F50-6ABF-4859-960B-2BAB92CF1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C9452-E907-4EDE-A171-AB99D3E05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6C518-E871-497D-AF76-E3C6376F5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B2380-33C2-4D8B-B0EB-A6978C8CF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C2242-984F-4B73-BB66-87078A77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3859-9AB2-4A52-BC1F-F2255A9AF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37235-38D1-4541-BC35-461A6263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0F976-857B-4A61-919F-8925CE27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6B68E-866F-443D-A1F7-C4A4CAA4E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49F76-F0A3-4774-A48E-204C33A73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DE84C-3713-470D-A3E5-B1DFC1C3C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34407-7FA4-4B26-A9D9-C407A7DFA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AB1F7-50C0-464E-9871-220FD701C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0EB9A-EE0B-4F43-981B-D556CA342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60A18-84E4-4D14-8067-0F00A8C4D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D8AEE-E6B1-4134-835E-D6A96E40B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441D-2DCA-4F05-8C7F-A2DF8FED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43E4D-BB8B-4D38-B802-26CF6473C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FDFAE-E3CA-49E7-B4DB-B338ECBA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F72B6-7EFE-4314-A0DE-80051D4B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FD14B-66C2-496D-9E43-FA27D99B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30F80-3D29-4A55-A2C3-D530CA841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B37DC-380A-499F-AE43-DB9DFDB84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B0FE5-7FA0-4D97-AB17-A52A8A250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51609-C030-48C7-A7AD-7EB39FCF0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FB4C8-98DB-41D9-8871-807F9D119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9BF31-9836-4F70-87D6-308CD7BAA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6E6C-4145-4F85-A0AD-455A9C508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CC54F-208C-45BD-981C-DD3121B30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341C0-8EFA-4CD9-8B59-B390D3C8F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4D2DD-1F89-4DFB-B9EC-8AFB85166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DE176-435A-4F20-A39C-736E4E82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9F591-2FE2-42E6-98EC-0B2B980E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68C66-6B2F-4073-945E-1B3396B3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5A7EB-475B-4E73-A525-8DD13F475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A2255-BAB0-41D3-96F3-A84491EF4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5B5D2-6961-45D0-81F5-4C80D3061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49391-D882-4B62-9BF5-5F86D6BF8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8C8F-E01B-4D7C-A2F3-312F11163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F5436-B4D7-46AD-BEFB-3BF2DD425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D2178-7A31-4A09-8902-597C3A0E9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566FC-BEB5-4973-90FE-8A7511F61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B85C5-10E1-458F-8199-761D1917A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68863-D5B7-4ACC-ABCB-B8ED77861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27DE2-7C95-478A-B8A9-E78B8EF5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9DD41-0A18-48AD-8510-8960B11D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B6FA6-B44C-4367-B095-8FD3A3A0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56CED-7C03-4808-B65D-5CF308828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F2AFE-AFE4-4380-BF28-5ED371495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850A-1BFB-4B9F-B9DE-C987C59EF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1713C-C8F7-4621-BA8B-A90FC1EB1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D7675-CDCA-47CA-B7D0-AAF7AC6E3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C4C6F-3242-4D9B-9A58-440C026FB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8F82F-F185-474C-9C4B-0768AF1B1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B7B4B-52BC-4750-86C6-5A31FE8F7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009C6-4215-4C14-8D6D-26BEB494A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1A8BA-30EB-4426-93E1-1B8F6EFC0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ED8AE-D83F-49C0-8CA3-F8235E4F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395EA-1C38-452A-8D28-2ED6A47E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B80FF-8010-4B02-A989-F203B81F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81A5-1276-487F-BB77-F15C68EF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2366E7-7AED-4694-8367-38DA9E34D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6BDE42-974B-4B2E-A5E2-D90DE5B10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3C779-2E2F-470F-A028-C63E46721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4DD93-37BE-47A3-8150-706DB6A2B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5EBDE-47C2-42F8-B8F0-F017F879B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5F1C6-DAE5-4A55-98E7-4C3C9AD19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5755B-4FDB-4D8F-A304-5083181C5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1D5FD3-B0C8-480A-8657-1C8C4DD4B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017F33-8ED0-49EF-A392-1603F0EB6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B0EEF-0C0B-46B8-88FF-617F8931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1EF1-F56F-4FBA-9E2F-532876C2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F5781-2C00-4DFE-96D9-A4B54326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9E16B-E8BF-42C9-A072-0BCE6261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B3A0A-BCAC-4E03-B30F-6527CB618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B46E8-5288-4086-ABFA-B93894740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97C48-64F7-4D3B-9B8E-31E4B0C19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B60A71-4ACD-4E62-82C2-B16A565E2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8B45CE-DF9E-46B1-8269-11FD6A3BC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03C1B0-DD61-41E7-A906-DCF4F0F3B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C94C29-C2C7-4F8D-8627-FD60A6638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B0A833-E2BB-4FC3-A0EF-71D1F30B6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DC7C-F97C-4765-8435-C340CA60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FA47A8-6E7A-46EE-ABFC-CCF0AA93F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C18CF9-52E0-4016-A214-1AB2E884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0FE836-4F4E-427D-A3A9-27FECC13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215E41-C73A-4DA5-80F0-9D667BE7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DC4A78-3F60-4608-A916-0B5127443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6B68EE-DC79-4BDF-ACA4-631DF616C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42D96B-B304-4FCA-98F5-A033F4F76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C26317-2E8E-4FCC-853B-8BCCEB854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E63F98-B889-45EF-9D21-A7D228CBE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072324-0FA3-42C0-A1C1-812559C87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0" y="0"/>
            <a:ext cx="9153360" cy="1862280"/>
          </a:xfrm>
          <a:custGeom>
            <a:avLst/>
            <a:gdLst/>
            <a:ahLst/>
            <a:rect l="l" t="t" r="r" b="b"/>
            <a:pathLst>
              <a:path w="9153196" h="1862136">
                <a:moveTo>
                  <a:pt x="52" y="1284"/>
                </a:moveTo>
                <a:cubicBezTo>
                  <a:pt x="35" y="491948"/>
                  <a:pt x="17" y="1371472"/>
                  <a:pt x="0" y="1862136"/>
                </a:cubicBezTo>
                <a:cubicBezTo>
                  <a:pt x="304800" y="1706688"/>
                  <a:pt x="1952287" y="1117060"/>
                  <a:pt x="2999284" y="1051560"/>
                </a:cubicBezTo>
                <a:cubicBezTo>
                  <a:pt x="4046281" y="986060"/>
                  <a:pt x="5541316" y="1353820"/>
                  <a:pt x="6281980" y="1469136"/>
                </a:cubicBezTo>
                <a:cubicBezTo>
                  <a:pt x="7022644" y="1584452"/>
                  <a:pt x="8247940" y="1834896"/>
                  <a:pt x="9144052" y="1487424"/>
                </a:cubicBezTo>
                <a:lnTo>
                  <a:pt x="9153196" y="0"/>
                </a:lnTo>
                <a:lnTo>
                  <a:pt x="52" y="1284"/>
                </a:lnTo>
                <a:close/>
              </a:path>
            </a:pathLst>
          </a:custGeom>
          <a:solidFill>
            <a:srgbClr val="4f81b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0" y="0"/>
            <a:ext cx="9153360" cy="1481040"/>
          </a:xfrm>
          <a:custGeom>
            <a:avLst/>
            <a:gdLst/>
            <a:ahLst/>
            <a:rect l="l" t="t" r="r" b="b"/>
            <a:pathLst>
              <a:path w="9153196" h="1481136">
                <a:moveTo>
                  <a:pt x="52" y="1284"/>
                </a:moveTo>
                <a:cubicBezTo>
                  <a:pt x="35" y="491948"/>
                  <a:pt x="17" y="990472"/>
                  <a:pt x="0" y="1481136"/>
                </a:cubicBezTo>
                <a:cubicBezTo>
                  <a:pt x="414528" y="1319592"/>
                  <a:pt x="1857799" y="987520"/>
                  <a:pt x="2980996" y="960120"/>
                </a:cubicBezTo>
                <a:cubicBezTo>
                  <a:pt x="4104193" y="932720"/>
                  <a:pt x="6019852" y="1271016"/>
                  <a:pt x="6739180" y="1316736"/>
                </a:cubicBezTo>
                <a:cubicBezTo>
                  <a:pt x="7458508" y="1362456"/>
                  <a:pt x="8247940" y="1453896"/>
                  <a:pt x="9144052" y="1106424"/>
                </a:cubicBezTo>
                <a:lnTo>
                  <a:pt x="9153196" y="0"/>
                </a:lnTo>
                <a:lnTo>
                  <a:pt x="52" y="1284"/>
                </a:lnTo>
                <a:close/>
              </a:path>
            </a:pathLst>
          </a:custGeom>
          <a:gradFill rotWithShape="0">
            <a:gsLst>
              <a:gs pos="0">
                <a:srgbClr val="376092">
                  <a:alpha val="69019"/>
                </a:srgbClr>
              </a:gs>
              <a:gs pos="100000">
                <a:srgbClr val="4f81bd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27932-D917-4813-8A71-7EF93AF04C0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bacc6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64a2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bbb59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0504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Group 7"/>
          <p:cNvGrpSpPr/>
          <p:nvPr/>
        </p:nvGrpSpPr>
        <p:grpSpPr>
          <a:xfrm>
            <a:off x="0" y="-6840"/>
            <a:ext cx="1104840" cy="6891480"/>
            <a:chOff x="0" y="-6840"/>
            <a:chExt cx="1104840" cy="6891480"/>
          </a:xfrm>
        </p:grpSpPr>
        <p:sp>
          <p:nvSpPr>
            <p:cNvPr id="453" name="Freeform 8"/>
            <p:cNvSpPr/>
            <p:nvPr/>
          </p:nvSpPr>
          <p:spPr>
            <a:xfrm rot="16200000">
              <a:off x="-2892240" y="2887200"/>
              <a:ext cx="6891480" cy="1103400"/>
            </a:xfrm>
            <a:custGeom>
              <a:avLst/>
              <a:gdLst/>
              <a:ahLst/>
              <a:rect l="l" t="t" r="r" b="b"/>
              <a:pathLst>
                <a:path w="9176990" h="1489619">
                  <a:moveTo>
                    <a:pt x="18502" y="1284"/>
                  </a:moveTo>
                  <a:cubicBezTo>
                    <a:pt x="18485" y="491948"/>
                    <a:pt x="17" y="998955"/>
                    <a:pt x="0" y="1489619"/>
                  </a:cubicBezTo>
                  <a:cubicBezTo>
                    <a:pt x="304800" y="1334171"/>
                    <a:pt x="2076793" y="572593"/>
                    <a:pt x="3209344" y="515274"/>
                  </a:cubicBezTo>
                  <a:cubicBezTo>
                    <a:pt x="4341895" y="457955"/>
                    <a:pt x="5743827" y="772070"/>
                    <a:pt x="6307596" y="941158"/>
                  </a:cubicBezTo>
                  <a:cubicBezTo>
                    <a:pt x="6871365" y="1110246"/>
                    <a:pt x="8191884" y="1377605"/>
                    <a:pt x="9174801" y="1061875"/>
                  </a:cubicBezTo>
                  <a:cubicBezTo>
                    <a:pt x="9176990" y="769267"/>
                    <a:pt x="9166881" y="292608"/>
                    <a:pt x="9169070" y="0"/>
                  </a:cubicBezTo>
                  <a:lnTo>
                    <a:pt x="18502" y="1284"/>
                  </a:lnTo>
                  <a:close/>
                </a:path>
              </a:pathLst>
            </a:custGeom>
            <a:solidFill>
              <a:srgbClr val="4f81bd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Freeform 9"/>
            <p:cNvSpPr/>
            <p:nvPr/>
          </p:nvSpPr>
          <p:spPr>
            <a:xfrm rot="16200000">
              <a:off x="-2893320" y="2892600"/>
              <a:ext cx="6870600" cy="1083240"/>
            </a:xfrm>
            <a:custGeom>
              <a:avLst/>
              <a:gdLst/>
              <a:ahLst/>
              <a:rect l="l" t="t" r="r" b="b"/>
              <a:pathLst>
                <a:path w="9142471" h="1874582">
                  <a:moveTo>
                    <a:pt x="790" y="1971"/>
                  </a:moveTo>
                  <a:cubicBezTo>
                    <a:pt x="0" y="305263"/>
                    <a:pt x="5358" y="838040"/>
                    <a:pt x="4568" y="1141332"/>
                  </a:cubicBezTo>
                  <a:cubicBezTo>
                    <a:pt x="419096" y="979788"/>
                    <a:pt x="1492070" y="639683"/>
                    <a:pt x="3162539" y="482994"/>
                  </a:cubicBezTo>
                  <a:cubicBezTo>
                    <a:pt x="4833008" y="326305"/>
                    <a:pt x="7747892" y="1874582"/>
                    <a:pt x="9142471" y="825067"/>
                  </a:cubicBezTo>
                  <a:cubicBezTo>
                    <a:pt x="9142170" y="646022"/>
                    <a:pt x="9141870" y="179045"/>
                    <a:pt x="9141569" y="0"/>
                  </a:cubicBezTo>
                  <a:lnTo>
                    <a:pt x="790" y="1971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Oval 10"/>
          <p:cNvGrpSpPr/>
          <p:nvPr/>
        </p:nvGrpSpPr>
        <p:grpSpPr>
          <a:xfrm>
            <a:off x="6851520" y="3882960"/>
            <a:ext cx="774720" cy="768240"/>
            <a:chOff x="6851520" y="3882960"/>
            <a:chExt cx="774720" cy="768240"/>
          </a:xfrm>
        </p:grpSpPr>
        <p:pic>
          <p:nvPicPr>
            <p:cNvPr id="456" name="Oval 10" descr=""/>
            <p:cNvPicPr/>
            <p:nvPr/>
          </p:nvPicPr>
          <p:blipFill>
            <a:blip r:embed="rId2"/>
            <a:stretch/>
          </p:blipFill>
          <p:spPr>
            <a:xfrm>
              <a:off x="6851520" y="3882960"/>
              <a:ext cx="7747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6969240" y="3997440"/>
              <a:ext cx="5364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8" name="Oval 11"/>
          <p:cNvGrpSpPr/>
          <p:nvPr/>
        </p:nvGrpSpPr>
        <p:grpSpPr>
          <a:xfrm>
            <a:off x="5784840" y="4565520"/>
            <a:ext cx="396720" cy="397080"/>
            <a:chOff x="5784840" y="4565520"/>
            <a:chExt cx="396720" cy="397080"/>
          </a:xfrm>
        </p:grpSpPr>
        <p:pic>
          <p:nvPicPr>
            <p:cNvPr id="459" name="Oval 11" descr=""/>
            <p:cNvPicPr/>
            <p:nvPr/>
          </p:nvPicPr>
          <p:blipFill>
            <a:blip r:embed="rId3"/>
            <a:stretch/>
          </p:blipFill>
          <p:spPr>
            <a:xfrm>
              <a:off x="5784840" y="4565520"/>
              <a:ext cx="396720" cy="3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5845320" y="462744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1" name="Oval 12"/>
          <p:cNvGrpSpPr/>
          <p:nvPr/>
        </p:nvGrpSpPr>
        <p:grpSpPr>
          <a:xfrm>
            <a:off x="1212840" y="378000"/>
            <a:ext cx="744480" cy="744480"/>
            <a:chOff x="1212840" y="378000"/>
            <a:chExt cx="744480" cy="744480"/>
          </a:xfrm>
        </p:grpSpPr>
        <p:pic>
          <p:nvPicPr>
            <p:cNvPr id="462" name="Oval 12" descr=""/>
            <p:cNvPicPr/>
            <p:nvPr/>
          </p:nvPicPr>
          <p:blipFill>
            <a:blip r:embed="rId4"/>
            <a:stretch/>
          </p:blipFill>
          <p:spPr>
            <a:xfrm>
              <a:off x="1212840" y="378000"/>
              <a:ext cx="744480" cy="7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1324080" y="490680"/>
              <a:ext cx="5158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bacc6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64a2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bbb59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0504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28"/>
          </p:nvPr>
        </p:nvSpPr>
        <p:spPr>
          <a:xfrm>
            <a:off x="9140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29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0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52111-7702-4E66-B0BF-4357D27FA44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Freeform 7"/>
          <p:cNvSpPr/>
          <p:nvPr/>
        </p:nvSpPr>
        <p:spPr>
          <a:xfrm>
            <a:off x="0" y="0"/>
            <a:ext cx="9150480" cy="1281240"/>
          </a:xfrm>
          <a:custGeom>
            <a:avLst/>
            <a:gdLst/>
            <a:ahLst/>
            <a:rect l="l" t="t" r="r" b="b"/>
            <a:pathLst>
              <a:path w="9150620" h="1470041">
                <a:moveTo>
                  <a:pt x="52" y="1284"/>
                </a:moveTo>
                <a:cubicBezTo>
                  <a:pt x="35" y="491948"/>
                  <a:pt x="17" y="761872"/>
                  <a:pt x="0" y="1252536"/>
                </a:cubicBezTo>
                <a:cubicBezTo>
                  <a:pt x="304800" y="1097088"/>
                  <a:pt x="1803165" y="328826"/>
                  <a:pt x="3622738" y="425264"/>
                </a:cubicBezTo>
                <a:cubicBezTo>
                  <a:pt x="5442311" y="521702"/>
                  <a:pt x="6970396" y="1470041"/>
                  <a:pt x="9144052" y="877824"/>
                </a:cubicBezTo>
                <a:cubicBezTo>
                  <a:pt x="9146241" y="585216"/>
                  <a:pt x="9148431" y="292608"/>
                  <a:pt x="9150620" y="0"/>
                </a:cubicBezTo>
                <a:lnTo>
                  <a:pt x="52" y="1284"/>
                </a:lnTo>
                <a:close/>
              </a:path>
            </a:pathLst>
          </a:custGeom>
          <a:solidFill>
            <a:srgbClr val="4f81b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Freeform 8"/>
          <p:cNvSpPr/>
          <p:nvPr/>
        </p:nvSpPr>
        <p:spPr>
          <a:xfrm>
            <a:off x="0" y="-1440"/>
            <a:ext cx="9144000" cy="1093680"/>
          </a:xfrm>
          <a:custGeom>
            <a:avLst/>
            <a:gdLst/>
            <a:ahLst/>
            <a:rect l="l" t="t" r="r" b="b"/>
            <a:pathLst>
              <a:path w="9144052" h="1282732">
                <a:moveTo>
                  <a:pt x="2371" y="1971"/>
                </a:moveTo>
                <a:cubicBezTo>
                  <a:pt x="1581" y="305263"/>
                  <a:pt x="790" y="446133"/>
                  <a:pt x="0" y="749425"/>
                </a:cubicBezTo>
                <a:cubicBezTo>
                  <a:pt x="414528" y="587881"/>
                  <a:pt x="1394642" y="355830"/>
                  <a:pt x="3114923" y="315034"/>
                </a:cubicBezTo>
                <a:cubicBezTo>
                  <a:pt x="4835204" y="274238"/>
                  <a:pt x="7500499" y="1282732"/>
                  <a:pt x="9144052" y="537135"/>
                </a:cubicBezTo>
                <a:cubicBezTo>
                  <a:pt x="9143751" y="358090"/>
                  <a:pt x="9143451" y="179045"/>
                  <a:pt x="9143150" y="0"/>
                </a:cubicBezTo>
                <a:lnTo>
                  <a:pt x="2371" y="1971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7" name="Oval 9"/>
          <p:cNvGrpSpPr/>
          <p:nvPr/>
        </p:nvGrpSpPr>
        <p:grpSpPr>
          <a:xfrm>
            <a:off x="8070840" y="378000"/>
            <a:ext cx="768240" cy="774360"/>
            <a:chOff x="8070840" y="378000"/>
            <a:chExt cx="768240" cy="774360"/>
          </a:xfrm>
        </p:grpSpPr>
        <p:pic>
          <p:nvPicPr>
            <p:cNvPr id="508" name="Oval 9" descr=""/>
            <p:cNvPicPr/>
            <p:nvPr/>
          </p:nvPicPr>
          <p:blipFill>
            <a:blip r:embed="rId2"/>
            <a:stretch/>
          </p:blipFill>
          <p:spPr>
            <a:xfrm>
              <a:off x="8070840" y="378000"/>
              <a:ext cx="76824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8185320" y="495360"/>
              <a:ext cx="5364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Oval 10"/>
          <p:cNvGrpSpPr/>
          <p:nvPr/>
        </p:nvGrpSpPr>
        <p:grpSpPr>
          <a:xfrm>
            <a:off x="7491240" y="426960"/>
            <a:ext cx="397080" cy="395280"/>
            <a:chOff x="7491240" y="426960"/>
            <a:chExt cx="397080" cy="395280"/>
          </a:xfrm>
        </p:grpSpPr>
        <p:pic>
          <p:nvPicPr>
            <p:cNvPr id="511" name="Oval 10" descr=""/>
            <p:cNvPicPr/>
            <p:nvPr/>
          </p:nvPicPr>
          <p:blipFill>
            <a:blip r:embed="rId3"/>
            <a:stretch/>
          </p:blipFill>
          <p:spPr>
            <a:xfrm>
              <a:off x="7491240" y="426960"/>
              <a:ext cx="39708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"/>
            <p:cNvSpPr/>
            <p:nvPr/>
          </p:nvSpPr>
          <p:spPr>
            <a:xfrm>
              <a:off x="7554960" y="48564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" name="Oval 11"/>
          <p:cNvGrpSpPr/>
          <p:nvPr/>
        </p:nvGrpSpPr>
        <p:grpSpPr>
          <a:xfrm>
            <a:off x="208080" y="208080"/>
            <a:ext cx="839520" cy="839520"/>
            <a:chOff x="208080" y="208080"/>
            <a:chExt cx="839520" cy="839520"/>
          </a:xfrm>
        </p:grpSpPr>
        <p:pic>
          <p:nvPicPr>
            <p:cNvPr id="514" name="Oval 11" descr=""/>
            <p:cNvPicPr/>
            <p:nvPr/>
          </p:nvPicPr>
          <p:blipFill>
            <a:blip r:embed="rId4"/>
            <a:stretch/>
          </p:blipFill>
          <p:spPr>
            <a:xfrm>
              <a:off x="208080" y="208080"/>
              <a:ext cx="839520" cy="83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331920" y="331920"/>
              <a:ext cx="58896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bacc6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64a2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bbb59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0504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31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32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33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401E6-C748-4EB0-8E82-89A13E8695C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Freeform 7"/>
          <p:cNvSpPr/>
          <p:nvPr/>
        </p:nvSpPr>
        <p:spPr>
          <a:xfrm flipV="1">
            <a:off x="0" y="5590080"/>
            <a:ext cx="9150480" cy="1281240"/>
          </a:xfrm>
          <a:custGeom>
            <a:avLst/>
            <a:gdLst/>
            <a:ahLst/>
            <a:rect l="l" t="t" r="r" b="b"/>
            <a:pathLst>
              <a:path w="9150620" h="1470041">
                <a:moveTo>
                  <a:pt x="52" y="1284"/>
                </a:moveTo>
                <a:cubicBezTo>
                  <a:pt x="35" y="491948"/>
                  <a:pt x="17" y="761872"/>
                  <a:pt x="0" y="1252536"/>
                </a:cubicBezTo>
                <a:cubicBezTo>
                  <a:pt x="304800" y="1097088"/>
                  <a:pt x="1803165" y="328826"/>
                  <a:pt x="3622738" y="425264"/>
                </a:cubicBezTo>
                <a:cubicBezTo>
                  <a:pt x="5442311" y="521702"/>
                  <a:pt x="6970396" y="1470041"/>
                  <a:pt x="9144052" y="877824"/>
                </a:cubicBezTo>
                <a:cubicBezTo>
                  <a:pt x="9146241" y="585216"/>
                  <a:pt x="9148431" y="292608"/>
                  <a:pt x="9150620" y="0"/>
                </a:cubicBezTo>
                <a:lnTo>
                  <a:pt x="52" y="1284"/>
                </a:lnTo>
                <a:close/>
              </a:path>
            </a:pathLst>
          </a:custGeom>
          <a:solidFill>
            <a:srgbClr val="4f81b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Freeform 8"/>
          <p:cNvSpPr/>
          <p:nvPr/>
        </p:nvSpPr>
        <p:spPr>
          <a:xfrm flipV="1">
            <a:off x="0" y="5779800"/>
            <a:ext cx="9144000" cy="1093680"/>
          </a:xfrm>
          <a:custGeom>
            <a:avLst/>
            <a:gdLst/>
            <a:ahLst/>
            <a:rect l="l" t="t" r="r" b="b"/>
            <a:pathLst>
              <a:path w="9144052" h="1282732">
                <a:moveTo>
                  <a:pt x="2371" y="1971"/>
                </a:moveTo>
                <a:cubicBezTo>
                  <a:pt x="1581" y="305263"/>
                  <a:pt x="790" y="446133"/>
                  <a:pt x="0" y="749425"/>
                </a:cubicBezTo>
                <a:cubicBezTo>
                  <a:pt x="414528" y="587881"/>
                  <a:pt x="1394642" y="355830"/>
                  <a:pt x="3114923" y="315034"/>
                </a:cubicBezTo>
                <a:cubicBezTo>
                  <a:pt x="4835204" y="274238"/>
                  <a:pt x="7500499" y="1282732"/>
                  <a:pt x="9144052" y="537135"/>
                </a:cubicBezTo>
                <a:cubicBezTo>
                  <a:pt x="9143751" y="358090"/>
                  <a:pt x="9143451" y="179045"/>
                  <a:pt x="9143150" y="0"/>
                </a:cubicBezTo>
                <a:lnTo>
                  <a:pt x="2371" y="1971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Oval 9"/>
          <p:cNvGrpSpPr/>
          <p:nvPr/>
        </p:nvGrpSpPr>
        <p:grpSpPr>
          <a:xfrm>
            <a:off x="8143920" y="5638680"/>
            <a:ext cx="768240" cy="768600"/>
            <a:chOff x="8143920" y="5638680"/>
            <a:chExt cx="768240" cy="768600"/>
          </a:xfrm>
        </p:grpSpPr>
        <p:pic>
          <p:nvPicPr>
            <p:cNvPr id="560" name="Oval 9" descr=""/>
            <p:cNvPicPr/>
            <p:nvPr/>
          </p:nvPicPr>
          <p:blipFill>
            <a:blip r:embed="rId2"/>
            <a:stretch/>
          </p:blipFill>
          <p:spPr>
            <a:xfrm>
              <a:off x="8143920" y="5638680"/>
              <a:ext cx="768240" cy="7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1" name=""/>
            <p:cNvSpPr/>
            <p:nvPr/>
          </p:nvSpPr>
          <p:spPr>
            <a:xfrm>
              <a:off x="8258040" y="5753160"/>
              <a:ext cx="53676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Oval 10"/>
          <p:cNvGrpSpPr/>
          <p:nvPr/>
        </p:nvGrpSpPr>
        <p:grpSpPr>
          <a:xfrm>
            <a:off x="8637480" y="5205240"/>
            <a:ext cx="397080" cy="397080"/>
            <a:chOff x="8637480" y="5205240"/>
            <a:chExt cx="397080" cy="397080"/>
          </a:xfrm>
        </p:grpSpPr>
        <p:pic>
          <p:nvPicPr>
            <p:cNvPr id="563" name="Oval 10" descr=""/>
            <p:cNvPicPr/>
            <p:nvPr/>
          </p:nvPicPr>
          <p:blipFill>
            <a:blip r:embed="rId3"/>
            <a:stretch/>
          </p:blipFill>
          <p:spPr>
            <a:xfrm>
              <a:off x="8637480" y="5205240"/>
              <a:ext cx="397080" cy="3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"/>
            <p:cNvSpPr/>
            <p:nvPr/>
          </p:nvSpPr>
          <p:spPr>
            <a:xfrm>
              <a:off x="8697960" y="526896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Oval 11"/>
          <p:cNvGrpSpPr/>
          <p:nvPr/>
        </p:nvGrpSpPr>
        <p:grpSpPr>
          <a:xfrm>
            <a:off x="281160" y="5638680"/>
            <a:ext cx="841320" cy="841320"/>
            <a:chOff x="281160" y="5638680"/>
            <a:chExt cx="841320" cy="841320"/>
          </a:xfrm>
        </p:grpSpPr>
        <p:pic>
          <p:nvPicPr>
            <p:cNvPr id="566" name="Oval 11" descr=""/>
            <p:cNvPicPr/>
            <p:nvPr/>
          </p:nvPicPr>
          <p:blipFill>
            <a:blip r:embed="rId4"/>
            <a:stretch/>
          </p:blipFill>
          <p:spPr>
            <a:xfrm>
              <a:off x="281160" y="5638680"/>
              <a:ext cx="8413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404640" y="5764320"/>
              <a:ext cx="5889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bacc6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64a2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bbb59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0504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4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5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6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2E4F9-8A9E-47A1-9982-5BB14A05EA8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6"/>
          <p:cNvSpPr/>
          <p:nvPr/>
        </p:nvSpPr>
        <p:spPr>
          <a:xfrm>
            <a:off x="0" y="1335240"/>
            <a:ext cx="9147240" cy="4084560"/>
          </a:xfrm>
          <a:custGeom>
            <a:avLst/>
            <a:gdLst/>
            <a:ahLst/>
            <a:rect l="l" t="t" r="r" b="b"/>
            <a:pathLst>
              <a:path w="9147403" h="3043297">
                <a:moveTo>
                  <a:pt x="0" y="140794"/>
                </a:moveTo>
                <a:cubicBezTo>
                  <a:pt x="784860" y="19414"/>
                  <a:pt x="1778000" y="0"/>
                  <a:pt x="2828544" y="80024"/>
                </a:cubicBezTo>
                <a:cubicBezTo>
                  <a:pt x="3879088" y="160048"/>
                  <a:pt x="5543207" y="732168"/>
                  <a:pt x="6595872" y="757213"/>
                </a:cubicBezTo>
                <a:cubicBezTo>
                  <a:pt x="7648537" y="782258"/>
                  <a:pt x="8376437" y="535486"/>
                  <a:pt x="9144533" y="230295"/>
                </a:cubicBezTo>
                <a:cubicBezTo>
                  <a:pt x="9147403" y="1073565"/>
                  <a:pt x="9138437" y="1917938"/>
                  <a:pt x="9141307" y="2761208"/>
                </a:cubicBezTo>
                <a:cubicBezTo>
                  <a:pt x="8237575" y="2914438"/>
                  <a:pt x="7736391" y="2822363"/>
                  <a:pt x="6690360" y="2746696"/>
                </a:cubicBezTo>
                <a:cubicBezTo>
                  <a:pt x="5644329" y="2671029"/>
                  <a:pt x="3979910" y="2257771"/>
                  <a:pt x="2865120" y="2307204"/>
                </a:cubicBezTo>
                <a:cubicBezTo>
                  <a:pt x="1750330" y="2356637"/>
                  <a:pt x="734663" y="2709091"/>
                  <a:pt x="1619" y="3043297"/>
                </a:cubicBezTo>
                <a:cubicBezTo>
                  <a:pt x="1079" y="2075796"/>
                  <a:pt x="540" y="1108295"/>
                  <a:pt x="0" y="140794"/>
                </a:cubicBezTo>
                <a:close/>
              </a:path>
            </a:pathLst>
          </a:custGeom>
          <a:solidFill>
            <a:srgbClr val="40c6d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0" y="1728720"/>
            <a:ext cx="9144000" cy="3308400"/>
          </a:xfrm>
          <a:custGeom>
            <a:avLst/>
            <a:gdLst/>
            <a:ahLst/>
            <a:rect l="l" t="t" r="r" b="b"/>
            <a:pathLst>
              <a:path w="9144647" h="3309112">
                <a:moveTo>
                  <a:pt x="381" y="310896"/>
                </a:moveTo>
                <a:cubicBezTo>
                  <a:pt x="779145" y="155448"/>
                  <a:pt x="1484757" y="0"/>
                  <a:pt x="2652141" y="45720"/>
                </a:cubicBezTo>
                <a:cubicBezTo>
                  <a:pt x="3819525" y="91440"/>
                  <a:pt x="5904313" y="763815"/>
                  <a:pt x="6986397" y="804672"/>
                </a:cubicBezTo>
                <a:cubicBezTo>
                  <a:pt x="8068481" y="845529"/>
                  <a:pt x="8437511" y="566706"/>
                  <a:pt x="9144647" y="290862"/>
                </a:cubicBezTo>
                <a:cubicBezTo>
                  <a:pt x="9144558" y="1147932"/>
                  <a:pt x="9144470" y="2005002"/>
                  <a:pt x="9144381" y="2862072"/>
                </a:cubicBezTo>
                <a:cubicBezTo>
                  <a:pt x="8450961" y="3142488"/>
                  <a:pt x="7965313" y="3309112"/>
                  <a:pt x="6986397" y="3246120"/>
                </a:cubicBezTo>
                <a:cubicBezTo>
                  <a:pt x="6007481" y="3183128"/>
                  <a:pt x="4435284" y="2501217"/>
                  <a:pt x="3270885" y="2484120"/>
                </a:cubicBezTo>
                <a:cubicBezTo>
                  <a:pt x="2106486" y="2467023"/>
                  <a:pt x="830580" y="2857024"/>
                  <a:pt x="0" y="3143536"/>
                </a:cubicBezTo>
                <a:lnTo>
                  <a:pt x="381" y="31089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Oval 8"/>
          <p:cNvGrpSpPr/>
          <p:nvPr/>
        </p:nvGrpSpPr>
        <p:grpSpPr>
          <a:xfrm>
            <a:off x="7693200" y="1292400"/>
            <a:ext cx="1000080" cy="1000080"/>
            <a:chOff x="7693200" y="1292400"/>
            <a:chExt cx="1000080" cy="1000080"/>
          </a:xfrm>
        </p:grpSpPr>
        <p:pic>
          <p:nvPicPr>
            <p:cNvPr id="46" name="Oval 8" descr=""/>
            <p:cNvPicPr/>
            <p:nvPr/>
          </p:nvPicPr>
          <p:blipFill>
            <a:blip r:embed="rId2"/>
            <a:stretch/>
          </p:blipFill>
          <p:spPr>
            <a:xfrm>
              <a:off x="7693200" y="1292400"/>
              <a:ext cx="10000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7843680" y="1442880"/>
              <a:ext cx="698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" name="Oval 9"/>
          <p:cNvGrpSpPr/>
          <p:nvPr/>
        </p:nvGrpSpPr>
        <p:grpSpPr>
          <a:xfrm>
            <a:off x="7010280" y="1925640"/>
            <a:ext cx="524160" cy="525600"/>
            <a:chOff x="7010280" y="1925640"/>
            <a:chExt cx="524160" cy="525600"/>
          </a:xfrm>
        </p:grpSpPr>
        <p:pic>
          <p:nvPicPr>
            <p:cNvPr id="49" name="Oval 9" descr=""/>
            <p:cNvPicPr/>
            <p:nvPr/>
          </p:nvPicPr>
          <p:blipFill>
            <a:blip r:embed="rId3"/>
            <a:stretch/>
          </p:blipFill>
          <p:spPr>
            <a:xfrm>
              <a:off x="7010280" y="1925640"/>
              <a:ext cx="52416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7088040" y="2004840"/>
              <a:ext cx="36216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Oval 10"/>
          <p:cNvGrpSpPr/>
          <p:nvPr/>
        </p:nvGrpSpPr>
        <p:grpSpPr>
          <a:xfrm>
            <a:off x="682560" y="4108320"/>
            <a:ext cx="1225440" cy="1231920"/>
            <a:chOff x="682560" y="4108320"/>
            <a:chExt cx="1225440" cy="1231920"/>
          </a:xfrm>
        </p:grpSpPr>
        <p:pic>
          <p:nvPicPr>
            <p:cNvPr id="52" name="Oval 10" descr=""/>
            <p:cNvPicPr/>
            <p:nvPr/>
          </p:nvPicPr>
          <p:blipFill>
            <a:blip r:embed="rId4"/>
            <a:stretch/>
          </p:blipFill>
          <p:spPr>
            <a:xfrm>
              <a:off x="682560" y="4108320"/>
              <a:ext cx="122544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863640" y="4292640"/>
              <a:ext cx="860400" cy="86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bacc6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64a2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bbb59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0504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57331-323A-4E66-A4BB-481414596DD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reeform 6"/>
          <p:cNvSpPr/>
          <p:nvPr/>
        </p:nvSpPr>
        <p:spPr>
          <a:xfrm>
            <a:off x="0" y="0"/>
            <a:ext cx="9153360" cy="1862280"/>
          </a:xfrm>
          <a:custGeom>
            <a:avLst/>
            <a:gdLst/>
            <a:ahLst/>
            <a:rect l="l" t="t" r="r" b="b"/>
            <a:pathLst>
              <a:path w="9153196" h="1862136">
                <a:moveTo>
                  <a:pt x="52" y="1284"/>
                </a:moveTo>
                <a:cubicBezTo>
                  <a:pt x="35" y="491948"/>
                  <a:pt x="17" y="1371472"/>
                  <a:pt x="0" y="1862136"/>
                </a:cubicBezTo>
                <a:cubicBezTo>
                  <a:pt x="304800" y="1706688"/>
                  <a:pt x="1952287" y="1117060"/>
                  <a:pt x="2999284" y="1051560"/>
                </a:cubicBezTo>
                <a:cubicBezTo>
                  <a:pt x="4046281" y="986060"/>
                  <a:pt x="5541316" y="1353820"/>
                  <a:pt x="6281980" y="1469136"/>
                </a:cubicBezTo>
                <a:cubicBezTo>
                  <a:pt x="7022644" y="1584452"/>
                  <a:pt x="8247940" y="1834896"/>
                  <a:pt x="9144052" y="1487424"/>
                </a:cubicBezTo>
                <a:lnTo>
                  <a:pt x="9153196" y="0"/>
                </a:lnTo>
                <a:lnTo>
                  <a:pt x="52" y="1284"/>
                </a:lnTo>
                <a:close/>
              </a:path>
            </a:pathLst>
          </a:custGeom>
          <a:solidFill>
            <a:srgbClr val="4f81b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Freeform 7"/>
          <p:cNvSpPr/>
          <p:nvPr/>
        </p:nvSpPr>
        <p:spPr>
          <a:xfrm>
            <a:off x="0" y="0"/>
            <a:ext cx="9153360" cy="1481040"/>
          </a:xfrm>
          <a:custGeom>
            <a:avLst/>
            <a:gdLst/>
            <a:ahLst/>
            <a:rect l="l" t="t" r="r" b="b"/>
            <a:pathLst>
              <a:path w="9153196" h="1481136">
                <a:moveTo>
                  <a:pt x="52" y="1284"/>
                </a:moveTo>
                <a:cubicBezTo>
                  <a:pt x="35" y="491948"/>
                  <a:pt x="17" y="990472"/>
                  <a:pt x="0" y="1481136"/>
                </a:cubicBezTo>
                <a:cubicBezTo>
                  <a:pt x="414528" y="1319592"/>
                  <a:pt x="1857799" y="987520"/>
                  <a:pt x="2980996" y="960120"/>
                </a:cubicBezTo>
                <a:cubicBezTo>
                  <a:pt x="4104193" y="932720"/>
                  <a:pt x="6019852" y="1271016"/>
                  <a:pt x="6739180" y="1316736"/>
                </a:cubicBezTo>
                <a:cubicBezTo>
                  <a:pt x="7458508" y="1362456"/>
                  <a:pt x="8247940" y="1453896"/>
                  <a:pt x="9144052" y="1106424"/>
                </a:cubicBezTo>
                <a:lnTo>
                  <a:pt x="9153196" y="0"/>
                </a:lnTo>
                <a:lnTo>
                  <a:pt x="52" y="1284"/>
                </a:lnTo>
                <a:close/>
              </a:path>
            </a:pathLst>
          </a:custGeom>
          <a:gradFill rotWithShape="0">
            <a:gsLst>
              <a:gs pos="0">
                <a:srgbClr val="376092">
                  <a:alpha val="69019"/>
                </a:srgbClr>
              </a:gs>
              <a:gs pos="100000">
                <a:srgbClr val="4f81bd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Oval 6"/>
          <p:cNvGrpSpPr/>
          <p:nvPr/>
        </p:nvGrpSpPr>
        <p:grpSpPr>
          <a:xfrm>
            <a:off x="8163000" y="665280"/>
            <a:ext cx="768240" cy="766800"/>
            <a:chOff x="8163000" y="665280"/>
            <a:chExt cx="768240" cy="766800"/>
          </a:xfrm>
        </p:grpSpPr>
        <p:pic>
          <p:nvPicPr>
            <p:cNvPr id="98" name="Oval 6" descr=""/>
            <p:cNvPicPr/>
            <p:nvPr/>
          </p:nvPicPr>
          <p:blipFill>
            <a:blip r:embed="rId2"/>
            <a:stretch/>
          </p:blipFill>
          <p:spPr>
            <a:xfrm>
              <a:off x="8163000" y="665280"/>
              <a:ext cx="76824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8277120" y="777960"/>
              <a:ext cx="53676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Oval 7"/>
          <p:cNvGrpSpPr/>
          <p:nvPr/>
        </p:nvGrpSpPr>
        <p:grpSpPr>
          <a:xfrm>
            <a:off x="7875720" y="1347840"/>
            <a:ext cx="396720" cy="395280"/>
            <a:chOff x="7875720" y="1347840"/>
            <a:chExt cx="396720" cy="395280"/>
          </a:xfrm>
        </p:grpSpPr>
        <p:pic>
          <p:nvPicPr>
            <p:cNvPr id="101" name="Oval 7" descr=""/>
            <p:cNvPicPr/>
            <p:nvPr/>
          </p:nvPicPr>
          <p:blipFill>
            <a:blip r:embed="rId3"/>
            <a:stretch/>
          </p:blipFill>
          <p:spPr>
            <a:xfrm>
              <a:off x="7875720" y="1347840"/>
              <a:ext cx="39672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7939080" y="140976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Oval 8"/>
          <p:cNvGrpSpPr/>
          <p:nvPr/>
        </p:nvGrpSpPr>
        <p:grpSpPr>
          <a:xfrm>
            <a:off x="281160" y="781200"/>
            <a:ext cx="1004760" cy="1011240"/>
            <a:chOff x="281160" y="781200"/>
            <a:chExt cx="1004760" cy="1011240"/>
          </a:xfrm>
        </p:grpSpPr>
        <p:pic>
          <p:nvPicPr>
            <p:cNvPr id="104" name="Oval 8" descr=""/>
            <p:cNvPicPr/>
            <p:nvPr/>
          </p:nvPicPr>
          <p:blipFill>
            <a:blip r:embed="rId4"/>
            <a:stretch/>
          </p:blipFill>
          <p:spPr>
            <a:xfrm>
              <a:off x="281160" y="781200"/>
              <a:ext cx="100476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430200" y="932040"/>
              <a:ext cx="703440" cy="7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bacc6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64a2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bbb59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0504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9F95A-9189-4AE0-AF00-89185470764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reeform 10"/>
          <p:cNvSpPr/>
          <p:nvPr/>
        </p:nvSpPr>
        <p:spPr>
          <a:xfrm>
            <a:off x="0" y="426960"/>
            <a:ext cx="9144000" cy="4525920"/>
          </a:xfrm>
          <a:custGeom>
            <a:avLst/>
            <a:gdLst/>
            <a:ahLst/>
            <a:rect l="l" t="t" r="r" b="b"/>
            <a:pathLst>
              <a:path w="9153196" h="4757736">
                <a:moveTo>
                  <a:pt x="52" y="1284"/>
                </a:moveTo>
                <a:cubicBezTo>
                  <a:pt x="35" y="491948"/>
                  <a:pt x="17" y="4267072"/>
                  <a:pt x="0" y="4757736"/>
                </a:cubicBezTo>
                <a:cubicBezTo>
                  <a:pt x="402972" y="4559785"/>
                  <a:pt x="1992246" y="3966388"/>
                  <a:pt x="3115058" y="3911480"/>
                </a:cubicBezTo>
                <a:cubicBezTo>
                  <a:pt x="4237870" y="3856572"/>
                  <a:pt x="5939190" y="4331788"/>
                  <a:pt x="6736870" y="4428289"/>
                </a:cubicBezTo>
                <a:cubicBezTo>
                  <a:pt x="7534550" y="4524790"/>
                  <a:pt x="8253185" y="4658343"/>
                  <a:pt x="9149297" y="4461355"/>
                </a:cubicBezTo>
                <a:cubicBezTo>
                  <a:pt x="9150597" y="3000127"/>
                  <a:pt x="9151896" y="1461228"/>
                  <a:pt x="9153196" y="0"/>
                </a:cubicBezTo>
                <a:lnTo>
                  <a:pt x="52" y="1284"/>
                </a:lnTo>
                <a:close/>
              </a:path>
            </a:pathLst>
          </a:custGeom>
          <a:solidFill>
            <a:srgbClr val="4f81b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Freeform 6"/>
          <p:cNvSpPr/>
          <p:nvPr/>
        </p:nvSpPr>
        <p:spPr>
          <a:xfrm>
            <a:off x="0" y="0"/>
            <a:ext cx="9144000" cy="4525920"/>
          </a:xfrm>
          <a:custGeom>
            <a:avLst/>
            <a:gdLst/>
            <a:ahLst/>
            <a:rect l="l" t="t" r="r" b="b"/>
            <a:pathLst>
              <a:path w="9153196" h="4757736">
                <a:moveTo>
                  <a:pt x="52" y="1284"/>
                </a:moveTo>
                <a:cubicBezTo>
                  <a:pt x="35" y="491948"/>
                  <a:pt x="17" y="4267072"/>
                  <a:pt x="0" y="4757736"/>
                </a:cubicBezTo>
                <a:cubicBezTo>
                  <a:pt x="414528" y="4596192"/>
                  <a:pt x="1857799" y="4264120"/>
                  <a:pt x="2980996" y="4236720"/>
                </a:cubicBezTo>
                <a:cubicBezTo>
                  <a:pt x="4104193" y="4209320"/>
                  <a:pt x="5900665" y="4503309"/>
                  <a:pt x="6739180" y="4593336"/>
                </a:cubicBezTo>
                <a:cubicBezTo>
                  <a:pt x="7577695" y="4683363"/>
                  <a:pt x="8253185" y="4731157"/>
                  <a:pt x="9149297" y="4383685"/>
                </a:cubicBezTo>
                <a:cubicBezTo>
                  <a:pt x="9150597" y="2922457"/>
                  <a:pt x="9151896" y="1461228"/>
                  <a:pt x="9153196" y="0"/>
                </a:cubicBezTo>
                <a:lnTo>
                  <a:pt x="52" y="1284"/>
                </a:lnTo>
                <a:close/>
              </a:path>
            </a:pathLst>
          </a:custGeom>
          <a:gradFill rotWithShape="0">
            <a:gsLst>
              <a:gs pos="0">
                <a:srgbClr val="376092">
                  <a:alpha val="69019"/>
                </a:srgbClr>
              </a:gs>
              <a:gs pos="100000">
                <a:srgbClr val="4f81bd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Oval 7"/>
          <p:cNvGrpSpPr/>
          <p:nvPr/>
        </p:nvGrpSpPr>
        <p:grpSpPr>
          <a:xfrm>
            <a:off x="8058240" y="3846600"/>
            <a:ext cx="774720" cy="768240"/>
            <a:chOff x="8058240" y="3846600"/>
            <a:chExt cx="774720" cy="768240"/>
          </a:xfrm>
        </p:grpSpPr>
        <p:pic>
          <p:nvPicPr>
            <p:cNvPr id="150" name="Oval 7" descr=""/>
            <p:cNvPicPr/>
            <p:nvPr/>
          </p:nvPicPr>
          <p:blipFill>
            <a:blip r:embed="rId2"/>
            <a:stretch/>
          </p:blipFill>
          <p:spPr>
            <a:xfrm>
              <a:off x="8058240" y="3846600"/>
              <a:ext cx="7747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8175600" y="3960720"/>
              <a:ext cx="536760" cy="53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Oval 8"/>
          <p:cNvGrpSpPr/>
          <p:nvPr/>
        </p:nvGrpSpPr>
        <p:grpSpPr>
          <a:xfrm>
            <a:off x="7785000" y="4529160"/>
            <a:ext cx="395280" cy="396720"/>
            <a:chOff x="7785000" y="4529160"/>
            <a:chExt cx="395280" cy="396720"/>
          </a:xfrm>
        </p:grpSpPr>
        <p:pic>
          <p:nvPicPr>
            <p:cNvPr id="153" name="Oval 8" descr=""/>
            <p:cNvPicPr/>
            <p:nvPr/>
          </p:nvPicPr>
          <p:blipFill>
            <a:blip r:embed="rId3"/>
            <a:stretch/>
          </p:blipFill>
          <p:spPr>
            <a:xfrm>
              <a:off x="7785000" y="4529160"/>
              <a:ext cx="39528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7846920" y="459108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Oval 9"/>
          <p:cNvGrpSpPr/>
          <p:nvPr/>
        </p:nvGrpSpPr>
        <p:grpSpPr>
          <a:xfrm>
            <a:off x="298440" y="3833640"/>
            <a:ext cx="1006560" cy="1013040"/>
            <a:chOff x="298440" y="3833640"/>
            <a:chExt cx="1006560" cy="1013040"/>
          </a:xfrm>
        </p:grpSpPr>
        <p:pic>
          <p:nvPicPr>
            <p:cNvPr id="156" name="Oval 9" descr=""/>
            <p:cNvPicPr/>
            <p:nvPr/>
          </p:nvPicPr>
          <p:blipFill>
            <a:blip r:embed="rId4"/>
            <a:stretch/>
          </p:blipFill>
          <p:spPr>
            <a:xfrm>
              <a:off x="298440" y="3833640"/>
              <a:ext cx="100656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447840" y="3986280"/>
              <a:ext cx="70452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bacc6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64a2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bbb59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0504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10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11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12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1C4DB-2C82-4730-A17D-FD2C239E631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reeform 7"/>
          <p:cNvSpPr/>
          <p:nvPr/>
        </p:nvSpPr>
        <p:spPr>
          <a:xfrm>
            <a:off x="0" y="0"/>
            <a:ext cx="9144000" cy="1928880"/>
          </a:xfrm>
          <a:custGeom>
            <a:avLst/>
            <a:gdLst/>
            <a:ahLst/>
            <a:rect l="l" t="t" r="r" b="b"/>
            <a:pathLst>
              <a:path w="9144000" h="1929384">
                <a:moveTo>
                  <a:pt x="0" y="256032"/>
                </a:moveTo>
                <a:lnTo>
                  <a:pt x="0" y="1929384"/>
                </a:lnTo>
                <a:cubicBezTo>
                  <a:pt x="574548" y="1726692"/>
                  <a:pt x="1449324" y="1360932"/>
                  <a:pt x="2971800" y="1307592"/>
                </a:cubicBezTo>
                <a:cubicBezTo>
                  <a:pt x="4494276" y="1254252"/>
                  <a:pt x="7606284" y="1872996"/>
                  <a:pt x="9134856" y="1609344"/>
                </a:cubicBezTo>
                <a:lnTo>
                  <a:pt x="9144000" y="0"/>
                </a:lnTo>
                <a:lnTo>
                  <a:pt x="8503920" y="0"/>
                </a:lnTo>
                <a:cubicBezTo>
                  <a:pt x="7543800" y="844296"/>
                  <a:pt x="5111496" y="420624"/>
                  <a:pt x="3858768" y="320040"/>
                </a:cubicBezTo>
                <a:cubicBezTo>
                  <a:pt x="2606040" y="219456"/>
                  <a:pt x="1435608" y="76200"/>
                  <a:pt x="0" y="256032"/>
                </a:cubicBezTo>
                <a:close/>
              </a:path>
            </a:pathLst>
          </a:custGeom>
          <a:solidFill>
            <a:srgbClr val="40c6d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Freeform 8"/>
          <p:cNvSpPr/>
          <p:nvPr/>
        </p:nvSpPr>
        <p:spPr>
          <a:xfrm>
            <a:off x="0" y="228600"/>
            <a:ext cx="9144000" cy="1409760"/>
          </a:xfrm>
          <a:custGeom>
            <a:avLst/>
            <a:gdLst/>
            <a:ahLst/>
            <a:rect l="l" t="t" r="r" b="b"/>
            <a:pathLst>
              <a:path w="9144381" h="1409700">
                <a:moveTo>
                  <a:pt x="381" y="426720"/>
                </a:moveTo>
                <a:cubicBezTo>
                  <a:pt x="1664589" y="0"/>
                  <a:pt x="3036189" y="134112"/>
                  <a:pt x="4544949" y="234696"/>
                </a:cubicBezTo>
                <a:cubicBezTo>
                  <a:pt x="6053709" y="335280"/>
                  <a:pt x="8239125" y="509016"/>
                  <a:pt x="9144381" y="33528"/>
                </a:cubicBezTo>
                <a:lnTo>
                  <a:pt x="9144381" y="1075944"/>
                </a:lnTo>
                <a:cubicBezTo>
                  <a:pt x="8004429" y="1409700"/>
                  <a:pt x="5931852" y="960582"/>
                  <a:pt x="4407789" y="1011936"/>
                </a:cubicBezTo>
                <a:cubicBezTo>
                  <a:pt x="2883726" y="1063290"/>
                  <a:pt x="1237488" y="1109751"/>
                  <a:pt x="0" y="1384071"/>
                </a:cubicBezTo>
                <a:lnTo>
                  <a:pt x="381" y="42672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Oval 9"/>
          <p:cNvGrpSpPr/>
          <p:nvPr/>
        </p:nvGrpSpPr>
        <p:grpSpPr>
          <a:xfrm>
            <a:off x="8308800" y="96840"/>
            <a:ext cx="622440" cy="622440"/>
            <a:chOff x="8308800" y="96840"/>
            <a:chExt cx="622440" cy="622440"/>
          </a:xfrm>
        </p:grpSpPr>
        <p:pic>
          <p:nvPicPr>
            <p:cNvPr id="202" name="Oval 9" descr=""/>
            <p:cNvPicPr/>
            <p:nvPr/>
          </p:nvPicPr>
          <p:blipFill>
            <a:blip r:embed="rId2"/>
            <a:stretch/>
          </p:blipFill>
          <p:spPr>
            <a:xfrm>
              <a:off x="8308800" y="96840"/>
              <a:ext cx="62244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8400960" y="190440"/>
              <a:ext cx="43344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Oval 10"/>
          <p:cNvGrpSpPr/>
          <p:nvPr/>
        </p:nvGrpSpPr>
        <p:grpSpPr>
          <a:xfrm>
            <a:off x="7559640" y="171360"/>
            <a:ext cx="378000" cy="378000"/>
            <a:chOff x="7559640" y="171360"/>
            <a:chExt cx="378000" cy="378000"/>
          </a:xfrm>
        </p:grpSpPr>
        <p:pic>
          <p:nvPicPr>
            <p:cNvPr id="205" name="Oval 10" descr=""/>
            <p:cNvPicPr/>
            <p:nvPr/>
          </p:nvPicPr>
          <p:blipFill>
            <a:blip r:embed="rId3"/>
            <a:stretch/>
          </p:blipFill>
          <p:spPr>
            <a:xfrm>
              <a:off x="7559640" y="171360"/>
              <a:ext cx="37800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7615080" y="227160"/>
              <a:ext cx="25884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Oval 11"/>
          <p:cNvGrpSpPr/>
          <p:nvPr/>
        </p:nvGrpSpPr>
        <p:grpSpPr>
          <a:xfrm>
            <a:off x="208080" y="927000"/>
            <a:ext cx="1004760" cy="1011240"/>
            <a:chOff x="208080" y="927000"/>
            <a:chExt cx="1004760" cy="1011240"/>
          </a:xfrm>
        </p:grpSpPr>
        <p:pic>
          <p:nvPicPr>
            <p:cNvPr id="208" name="Oval 11" descr=""/>
            <p:cNvPicPr/>
            <p:nvPr/>
          </p:nvPicPr>
          <p:blipFill>
            <a:blip r:embed="rId4"/>
            <a:stretch/>
          </p:blipFill>
          <p:spPr>
            <a:xfrm>
              <a:off x="208080" y="927000"/>
              <a:ext cx="100476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355680" y="1077840"/>
              <a:ext cx="70488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bacc6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64a2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bbb59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0504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3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4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5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6BA18-66E0-462D-A409-3CCC83D429D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reeform 6"/>
          <p:cNvSpPr/>
          <p:nvPr/>
        </p:nvSpPr>
        <p:spPr>
          <a:xfrm>
            <a:off x="0" y="0"/>
            <a:ext cx="9153360" cy="1862280"/>
          </a:xfrm>
          <a:custGeom>
            <a:avLst/>
            <a:gdLst/>
            <a:ahLst/>
            <a:rect l="l" t="t" r="r" b="b"/>
            <a:pathLst>
              <a:path w="9153196" h="1862136">
                <a:moveTo>
                  <a:pt x="52" y="1284"/>
                </a:moveTo>
                <a:cubicBezTo>
                  <a:pt x="35" y="491948"/>
                  <a:pt x="17" y="1371472"/>
                  <a:pt x="0" y="1862136"/>
                </a:cubicBezTo>
                <a:cubicBezTo>
                  <a:pt x="304800" y="1706688"/>
                  <a:pt x="1952287" y="1117060"/>
                  <a:pt x="2999284" y="1051560"/>
                </a:cubicBezTo>
                <a:cubicBezTo>
                  <a:pt x="4046281" y="986060"/>
                  <a:pt x="5541316" y="1353820"/>
                  <a:pt x="6281980" y="1469136"/>
                </a:cubicBezTo>
                <a:cubicBezTo>
                  <a:pt x="7022644" y="1584452"/>
                  <a:pt x="8247940" y="1834896"/>
                  <a:pt x="9144052" y="1487424"/>
                </a:cubicBezTo>
                <a:lnTo>
                  <a:pt x="9153196" y="0"/>
                </a:lnTo>
                <a:lnTo>
                  <a:pt x="52" y="1284"/>
                </a:lnTo>
                <a:close/>
              </a:path>
            </a:pathLst>
          </a:custGeom>
          <a:solidFill>
            <a:srgbClr val="4f81b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Freeform 7"/>
          <p:cNvSpPr/>
          <p:nvPr/>
        </p:nvSpPr>
        <p:spPr>
          <a:xfrm>
            <a:off x="0" y="0"/>
            <a:ext cx="9153360" cy="1481040"/>
          </a:xfrm>
          <a:custGeom>
            <a:avLst/>
            <a:gdLst/>
            <a:ahLst/>
            <a:rect l="l" t="t" r="r" b="b"/>
            <a:pathLst>
              <a:path w="9153196" h="1481136">
                <a:moveTo>
                  <a:pt x="52" y="1284"/>
                </a:moveTo>
                <a:cubicBezTo>
                  <a:pt x="35" y="491948"/>
                  <a:pt x="17" y="990472"/>
                  <a:pt x="0" y="1481136"/>
                </a:cubicBezTo>
                <a:cubicBezTo>
                  <a:pt x="414528" y="1319592"/>
                  <a:pt x="1857799" y="987520"/>
                  <a:pt x="2980996" y="960120"/>
                </a:cubicBezTo>
                <a:cubicBezTo>
                  <a:pt x="4104193" y="932720"/>
                  <a:pt x="6019852" y="1271016"/>
                  <a:pt x="6739180" y="1316736"/>
                </a:cubicBezTo>
                <a:cubicBezTo>
                  <a:pt x="7458508" y="1362456"/>
                  <a:pt x="8247940" y="1453896"/>
                  <a:pt x="9144052" y="1106424"/>
                </a:cubicBezTo>
                <a:lnTo>
                  <a:pt x="9153196" y="0"/>
                </a:lnTo>
                <a:lnTo>
                  <a:pt x="52" y="1284"/>
                </a:lnTo>
                <a:close/>
              </a:path>
            </a:pathLst>
          </a:custGeom>
          <a:gradFill rotWithShape="0">
            <a:gsLst>
              <a:gs pos="0">
                <a:srgbClr val="376092">
                  <a:alpha val="69019"/>
                </a:srgbClr>
              </a:gs>
              <a:gs pos="100000">
                <a:srgbClr val="4f81bd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Oval 9"/>
          <p:cNvGrpSpPr/>
          <p:nvPr/>
        </p:nvGrpSpPr>
        <p:grpSpPr>
          <a:xfrm>
            <a:off x="8223120" y="1000080"/>
            <a:ext cx="628920" cy="627120"/>
            <a:chOff x="8223120" y="1000080"/>
            <a:chExt cx="628920" cy="627120"/>
          </a:xfrm>
        </p:grpSpPr>
        <p:pic>
          <p:nvPicPr>
            <p:cNvPr id="254" name="Oval 9" descr=""/>
            <p:cNvPicPr/>
            <p:nvPr/>
          </p:nvPicPr>
          <p:blipFill>
            <a:blip r:embed="rId2"/>
            <a:stretch/>
          </p:blipFill>
          <p:spPr>
            <a:xfrm>
              <a:off x="8223120" y="1000080"/>
              <a:ext cx="62892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8319960" y="1095480"/>
              <a:ext cx="43200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Oval 10"/>
          <p:cNvGrpSpPr/>
          <p:nvPr/>
        </p:nvGrpSpPr>
        <p:grpSpPr>
          <a:xfrm>
            <a:off x="7693200" y="963720"/>
            <a:ext cx="396720" cy="395280"/>
            <a:chOff x="7693200" y="963720"/>
            <a:chExt cx="396720" cy="395280"/>
          </a:xfrm>
        </p:grpSpPr>
        <p:pic>
          <p:nvPicPr>
            <p:cNvPr id="257" name="Oval 10" descr=""/>
            <p:cNvPicPr/>
            <p:nvPr/>
          </p:nvPicPr>
          <p:blipFill>
            <a:blip r:embed="rId3"/>
            <a:stretch/>
          </p:blipFill>
          <p:spPr>
            <a:xfrm>
              <a:off x="7693200" y="963720"/>
              <a:ext cx="39672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7754760" y="1025640"/>
              <a:ext cx="2718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Oval 11"/>
          <p:cNvGrpSpPr/>
          <p:nvPr/>
        </p:nvGrpSpPr>
        <p:grpSpPr>
          <a:xfrm>
            <a:off x="281160" y="781200"/>
            <a:ext cx="1004760" cy="1011240"/>
            <a:chOff x="281160" y="781200"/>
            <a:chExt cx="1004760" cy="1011240"/>
          </a:xfrm>
        </p:grpSpPr>
        <p:pic>
          <p:nvPicPr>
            <p:cNvPr id="260" name="Oval 11" descr=""/>
            <p:cNvPicPr/>
            <p:nvPr/>
          </p:nvPicPr>
          <p:blipFill>
            <a:blip r:embed="rId4"/>
            <a:stretch/>
          </p:blipFill>
          <p:spPr>
            <a:xfrm>
              <a:off x="281160" y="781200"/>
              <a:ext cx="100476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430200" y="932040"/>
              <a:ext cx="703440" cy="7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bacc6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64a2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bbb59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0504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7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18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3946C-4EAA-4B4E-99E1-B32DAE96D2D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reeform 9"/>
          <p:cNvSpPr/>
          <p:nvPr/>
        </p:nvSpPr>
        <p:spPr>
          <a:xfrm>
            <a:off x="0" y="0"/>
            <a:ext cx="9150480" cy="1281240"/>
          </a:xfrm>
          <a:custGeom>
            <a:avLst/>
            <a:gdLst/>
            <a:ahLst/>
            <a:rect l="l" t="t" r="r" b="b"/>
            <a:pathLst>
              <a:path w="9150620" h="1470041">
                <a:moveTo>
                  <a:pt x="52" y="1284"/>
                </a:moveTo>
                <a:cubicBezTo>
                  <a:pt x="35" y="491948"/>
                  <a:pt x="17" y="761872"/>
                  <a:pt x="0" y="1252536"/>
                </a:cubicBezTo>
                <a:cubicBezTo>
                  <a:pt x="304800" y="1097088"/>
                  <a:pt x="1803165" y="328826"/>
                  <a:pt x="3622738" y="425264"/>
                </a:cubicBezTo>
                <a:cubicBezTo>
                  <a:pt x="5442311" y="521702"/>
                  <a:pt x="6970396" y="1470041"/>
                  <a:pt x="9144052" y="877824"/>
                </a:cubicBezTo>
                <a:cubicBezTo>
                  <a:pt x="9146241" y="585216"/>
                  <a:pt x="9148431" y="292608"/>
                  <a:pt x="9150620" y="0"/>
                </a:cubicBezTo>
                <a:lnTo>
                  <a:pt x="52" y="1284"/>
                </a:lnTo>
                <a:close/>
              </a:path>
            </a:pathLst>
          </a:custGeom>
          <a:solidFill>
            <a:srgbClr val="4f81b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Freeform 5"/>
          <p:cNvSpPr/>
          <p:nvPr/>
        </p:nvSpPr>
        <p:spPr>
          <a:xfrm>
            <a:off x="0" y="-1440"/>
            <a:ext cx="9144000" cy="1093680"/>
          </a:xfrm>
          <a:custGeom>
            <a:avLst/>
            <a:gdLst/>
            <a:ahLst/>
            <a:rect l="l" t="t" r="r" b="b"/>
            <a:pathLst>
              <a:path w="9144052" h="1282732">
                <a:moveTo>
                  <a:pt x="2371" y="1971"/>
                </a:moveTo>
                <a:cubicBezTo>
                  <a:pt x="1581" y="305263"/>
                  <a:pt x="790" y="446133"/>
                  <a:pt x="0" y="749425"/>
                </a:cubicBezTo>
                <a:cubicBezTo>
                  <a:pt x="414528" y="587881"/>
                  <a:pt x="1394642" y="355830"/>
                  <a:pt x="3114923" y="315034"/>
                </a:cubicBezTo>
                <a:cubicBezTo>
                  <a:pt x="4835204" y="274238"/>
                  <a:pt x="7500499" y="1282732"/>
                  <a:pt x="9144052" y="537135"/>
                </a:cubicBezTo>
                <a:cubicBezTo>
                  <a:pt x="9143751" y="358090"/>
                  <a:pt x="9143451" y="179045"/>
                  <a:pt x="9143150" y="0"/>
                </a:cubicBezTo>
                <a:lnTo>
                  <a:pt x="2371" y="1971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Oval 6"/>
          <p:cNvGrpSpPr/>
          <p:nvPr/>
        </p:nvGrpSpPr>
        <p:grpSpPr>
          <a:xfrm>
            <a:off x="8070840" y="378000"/>
            <a:ext cx="768240" cy="774360"/>
            <a:chOff x="8070840" y="378000"/>
            <a:chExt cx="768240" cy="774360"/>
          </a:xfrm>
        </p:grpSpPr>
        <p:pic>
          <p:nvPicPr>
            <p:cNvPr id="306" name="Oval 6" descr=""/>
            <p:cNvPicPr/>
            <p:nvPr/>
          </p:nvPicPr>
          <p:blipFill>
            <a:blip r:embed="rId2"/>
            <a:stretch/>
          </p:blipFill>
          <p:spPr>
            <a:xfrm>
              <a:off x="8070840" y="378000"/>
              <a:ext cx="76824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8185320" y="495360"/>
              <a:ext cx="5364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Oval 7"/>
          <p:cNvGrpSpPr/>
          <p:nvPr/>
        </p:nvGrpSpPr>
        <p:grpSpPr>
          <a:xfrm>
            <a:off x="7491240" y="426960"/>
            <a:ext cx="397080" cy="395280"/>
            <a:chOff x="7491240" y="426960"/>
            <a:chExt cx="397080" cy="395280"/>
          </a:xfrm>
        </p:grpSpPr>
        <p:pic>
          <p:nvPicPr>
            <p:cNvPr id="309" name="Oval 7" descr=""/>
            <p:cNvPicPr/>
            <p:nvPr/>
          </p:nvPicPr>
          <p:blipFill>
            <a:blip r:embed="rId3"/>
            <a:stretch/>
          </p:blipFill>
          <p:spPr>
            <a:xfrm>
              <a:off x="7491240" y="426960"/>
              <a:ext cx="39708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7554960" y="48564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Oval 8"/>
          <p:cNvGrpSpPr/>
          <p:nvPr/>
        </p:nvGrpSpPr>
        <p:grpSpPr>
          <a:xfrm>
            <a:off x="208080" y="208080"/>
            <a:ext cx="839520" cy="839520"/>
            <a:chOff x="208080" y="208080"/>
            <a:chExt cx="839520" cy="839520"/>
          </a:xfrm>
        </p:grpSpPr>
        <p:pic>
          <p:nvPicPr>
            <p:cNvPr id="312" name="Oval 8" descr=""/>
            <p:cNvPicPr/>
            <p:nvPr/>
          </p:nvPicPr>
          <p:blipFill>
            <a:blip r:embed="rId4"/>
            <a:stretch/>
          </p:blipFill>
          <p:spPr>
            <a:xfrm>
              <a:off x="208080" y="208080"/>
              <a:ext cx="839520" cy="83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331920" y="331920"/>
              <a:ext cx="58896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bacc6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64a2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bbb59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0504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8EAA8-2922-4FB5-92E3-82406AF5398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Group 4"/>
          <p:cNvGrpSpPr/>
          <p:nvPr/>
        </p:nvGrpSpPr>
        <p:grpSpPr>
          <a:xfrm>
            <a:off x="0" y="-1440"/>
            <a:ext cx="9150480" cy="1282680"/>
            <a:chOff x="0" y="-1440"/>
            <a:chExt cx="9150480" cy="1282680"/>
          </a:xfrm>
        </p:grpSpPr>
        <p:sp>
          <p:nvSpPr>
            <p:cNvPr id="356" name="Freeform 5"/>
            <p:cNvSpPr/>
            <p:nvPr/>
          </p:nvSpPr>
          <p:spPr>
            <a:xfrm>
              <a:off x="0" y="360"/>
              <a:ext cx="9150480" cy="1280880"/>
            </a:xfrm>
            <a:custGeom>
              <a:avLst/>
              <a:gdLst/>
              <a:ahLst/>
              <a:rect l="l" t="t" r="r" b="b"/>
              <a:pathLst>
                <a:path w="9150620" h="1470041">
                  <a:moveTo>
                    <a:pt x="52" y="1284"/>
                  </a:moveTo>
                  <a:cubicBezTo>
                    <a:pt x="35" y="491948"/>
                    <a:pt x="17" y="761872"/>
                    <a:pt x="0" y="1252536"/>
                  </a:cubicBezTo>
                  <a:cubicBezTo>
                    <a:pt x="304800" y="1097088"/>
                    <a:pt x="1803165" y="328826"/>
                    <a:pt x="3622738" y="425264"/>
                  </a:cubicBezTo>
                  <a:cubicBezTo>
                    <a:pt x="5442311" y="521702"/>
                    <a:pt x="6970396" y="1470041"/>
                    <a:pt x="9144052" y="877824"/>
                  </a:cubicBezTo>
                  <a:cubicBezTo>
                    <a:pt x="9146241" y="585216"/>
                    <a:pt x="9148431" y="292608"/>
                    <a:pt x="9150620" y="0"/>
                  </a:cubicBezTo>
                  <a:lnTo>
                    <a:pt x="52" y="1284"/>
                  </a:lnTo>
                  <a:close/>
                </a:path>
              </a:pathLst>
            </a:custGeom>
            <a:solidFill>
              <a:srgbClr val="4f81bd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Freeform 6"/>
            <p:cNvSpPr/>
            <p:nvPr/>
          </p:nvSpPr>
          <p:spPr>
            <a:xfrm>
              <a:off x="0" y="-1440"/>
              <a:ext cx="9144000" cy="1093320"/>
            </a:xfrm>
            <a:custGeom>
              <a:avLst/>
              <a:gdLst/>
              <a:ahLst/>
              <a:rect l="l" t="t" r="r" b="b"/>
              <a:pathLst>
                <a:path w="9144052" h="1282732">
                  <a:moveTo>
                    <a:pt x="2371" y="1971"/>
                  </a:moveTo>
                  <a:cubicBezTo>
                    <a:pt x="1581" y="305263"/>
                    <a:pt x="790" y="446133"/>
                    <a:pt x="0" y="749425"/>
                  </a:cubicBezTo>
                  <a:cubicBezTo>
                    <a:pt x="414528" y="587881"/>
                    <a:pt x="1394642" y="355830"/>
                    <a:pt x="3114923" y="315034"/>
                  </a:cubicBezTo>
                  <a:cubicBezTo>
                    <a:pt x="4835204" y="274238"/>
                    <a:pt x="7500499" y="1282732"/>
                    <a:pt x="9144052" y="537135"/>
                  </a:cubicBezTo>
                  <a:cubicBezTo>
                    <a:pt x="9143751" y="358090"/>
                    <a:pt x="9143451" y="179045"/>
                    <a:pt x="9143150" y="0"/>
                  </a:cubicBezTo>
                  <a:lnTo>
                    <a:pt x="2371" y="1971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Oval 7"/>
          <p:cNvGrpSpPr/>
          <p:nvPr/>
        </p:nvGrpSpPr>
        <p:grpSpPr>
          <a:xfrm>
            <a:off x="8070840" y="378000"/>
            <a:ext cx="768240" cy="774360"/>
            <a:chOff x="8070840" y="378000"/>
            <a:chExt cx="768240" cy="774360"/>
          </a:xfrm>
        </p:grpSpPr>
        <p:pic>
          <p:nvPicPr>
            <p:cNvPr id="359" name="Oval 7" descr=""/>
            <p:cNvPicPr/>
            <p:nvPr/>
          </p:nvPicPr>
          <p:blipFill>
            <a:blip r:embed="rId2"/>
            <a:stretch/>
          </p:blipFill>
          <p:spPr>
            <a:xfrm>
              <a:off x="8070840" y="378000"/>
              <a:ext cx="76824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8185320" y="495360"/>
              <a:ext cx="5364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Oval 8"/>
          <p:cNvGrpSpPr/>
          <p:nvPr/>
        </p:nvGrpSpPr>
        <p:grpSpPr>
          <a:xfrm>
            <a:off x="7491240" y="426960"/>
            <a:ext cx="397080" cy="395280"/>
            <a:chOff x="7491240" y="426960"/>
            <a:chExt cx="397080" cy="395280"/>
          </a:xfrm>
        </p:grpSpPr>
        <p:pic>
          <p:nvPicPr>
            <p:cNvPr id="362" name="Oval 8" descr=""/>
            <p:cNvPicPr/>
            <p:nvPr/>
          </p:nvPicPr>
          <p:blipFill>
            <a:blip r:embed="rId3"/>
            <a:stretch/>
          </p:blipFill>
          <p:spPr>
            <a:xfrm>
              <a:off x="7491240" y="426960"/>
              <a:ext cx="39708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7554960" y="48564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Oval 9"/>
          <p:cNvGrpSpPr/>
          <p:nvPr/>
        </p:nvGrpSpPr>
        <p:grpSpPr>
          <a:xfrm>
            <a:off x="208080" y="208080"/>
            <a:ext cx="839520" cy="839520"/>
            <a:chOff x="208080" y="208080"/>
            <a:chExt cx="839520" cy="839520"/>
          </a:xfrm>
        </p:grpSpPr>
        <p:pic>
          <p:nvPicPr>
            <p:cNvPr id="365" name="Oval 9" descr=""/>
            <p:cNvPicPr/>
            <p:nvPr/>
          </p:nvPicPr>
          <p:blipFill>
            <a:blip r:embed="rId4"/>
            <a:stretch/>
          </p:blipFill>
          <p:spPr>
            <a:xfrm>
              <a:off x="208080" y="208080"/>
              <a:ext cx="839520" cy="83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331920" y="331920"/>
              <a:ext cx="58896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bacc6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64a2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bbb59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0504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2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3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4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BFAE1-A156-4CB5-AD0E-DBA4E4579DE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Group 7"/>
          <p:cNvGrpSpPr/>
          <p:nvPr/>
        </p:nvGrpSpPr>
        <p:grpSpPr>
          <a:xfrm>
            <a:off x="0" y="-6840"/>
            <a:ext cx="1104840" cy="6891480"/>
            <a:chOff x="0" y="-6840"/>
            <a:chExt cx="1104840" cy="6891480"/>
          </a:xfrm>
        </p:grpSpPr>
        <p:sp>
          <p:nvSpPr>
            <p:cNvPr id="409" name="Freeform 8"/>
            <p:cNvSpPr/>
            <p:nvPr/>
          </p:nvSpPr>
          <p:spPr>
            <a:xfrm rot="16200000">
              <a:off x="-2892240" y="2887200"/>
              <a:ext cx="6891480" cy="1103400"/>
            </a:xfrm>
            <a:custGeom>
              <a:avLst/>
              <a:gdLst/>
              <a:ahLst/>
              <a:rect l="l" t="t" r="r" b="b"/>
              <a:pathLst>
                <a:path w="9176990" h="1489619">
                  <a:moveTo>
                    <a:pt x="18502" y="1284"/>
                  </a:moveTo>
                  <a:cubicBezTo>
                    <a:pt x="18485" y="491948"/>
                    <a:pt x="17" y="998955"/>
                    <a:pt x="0" y="1489619"/>
                  </a:cubicBezTo>
                  <a:cubicBezTo>
                    <a:pt x="304800" y="1334171"/>
                    <a:pt x="2076793" y="572593"/>
                    <a:pt x="3209344" y="515274"/>
                  </a:cubicBezTo>
                  <a:cubicBezTo>
                    <a:pt x="4341895" y="457955"/>
                    <a:pt x="5743827" y="772070"/>
                    <a:pt x="6307596" y="941158"/>
                  </a:cubicBezTo>
                  <a:cubicBezTo>
                    <a:pt x="6871365" y="1110246"/>
                    <a:pt x="8191884" y="1377605"/>
                    <a:pt x="9174801" y="1061875"/>
                  </a:cubicBezTo>
                  <a:cubicBezTo>
                    <a:pt x="9176990" y="769267"/>
                    <a:pt x="9166881" y="292608"/>
                    <a:pt x="9169070" y="0"/>
                  </a:cubicBezTo>
                  <a:lnTo>
                    <a:pt x="18502" y="1284"/>
                  </a:lnTo>
                  <a:close/>
                </a:path>
              </a:pathLst>
            </a:custGeom>
            <a:solidFill>
              <a:srgbClr val="4f81bd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Freeform 9"/>
            <p:cNvSpPr/>
            <p:nvPr/>
          </p:nvSpPr>
          <p:spPr>
            <a:xfrm rot="16200000">
              <a:off x="-2893320" y="2892600"/>
              <a:ext cx="6870600" cy="1083240"/>
            </a:xfrm>
            <a:custGeom>
              <a:avLst/>
              <a:gdLst/>
              <a:ahLst/>
              <a:rect l="l" t="t" r="r" b="b"/>
              <a:pathLst>
                <a:path w="9142471" h="1874582">
                  <a:moveTo>
                    <a:pt x="790" y="1971"/>
                  </a:moveTo>
                  <a:cubicBezTo>
                    <a:pt x="0" y="305263"/>
                    <a:pt x="5358" y="838040"/>
                    <a:pt x="4568" y="1141332"/>
                  </a:cubicBezTo>
                  <a:cubicBezTo>
                    <a:pt x="419096" y="979788"/>
                    <a:pt x="1492070" y="639683"/>
                    <a:pt x="3162539" y="482994"/>
                  </a:cubicBezTo>
                  <a:cubicBezTo>
                    <a:pt x="4833008" y="326305"/>
                    <a:pt x="7747892" y="1874582"/>
                    <a:pt x="9142471" y="825067"/>
                  </a:cubicBezTo>
                  <a:cubicBezTo>
                    <a:pt x="9142170" y="646022"/>
                    <a:pt x="9141870" y="179045"/>
                    <a:pt x="9141569" y="0"/>
                  </a:cubicBezTo>
                  <a:lnTo>
                    <a:pt x="790" y="1971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bacc6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64a2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bbb59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0504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25"/>
          </p:nvPr>
        </p:nvSpPr>
        <p:spPr>
          <a:xfrm>
            <a:off x="9140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26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27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A215A-A20D-4401-835C-9D9699778F6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Rectangle 2" descr=""/>
          <p:cNvPicPr/>
          <p:nvPr/>
        </p:nvPicPr>
        <p:blipFill>
          <a:blip r:embed="rId1"/>
          <a:stretch/>
        </p:blipFill>
        <p:spPr>
          <a:xfrm>
            <a:off x="676440" y="669960"/>
            <a:ext cx="7785000" cy="3603600"/>
          </a:xfrm>
          <a:prstGeom prst="rect">
            <a:avLst/>
          </a:prstGeom>
          <a:ln w="0">
            <a:noFill/>
          </a:ln>
        </p:spPr>
      </p:pic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2484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ahoma"/>
              </a:rPr>
              <a:t>  </a:t>
            </a:r>
            <a:r>
              <a:rPr b="0" lang="ru-RU" sz="1600" spc="-1" strike="noStrike">
                <a:solidFill>
                  <a:srgbClr val="262626"/>
                </a:solidFill>
                <a:latin typeface="Tahoma"/>
              </a:rPr>
              <a:t>Виноградова Людмила Сергеевн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ahoma"/>
              </a:rPr>
              <a:t>Учитель информатик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ahoma"/>
              </a:rPr>
              <a:t>Вторая квалификационная категори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ahoma"/>
              </a:rPr>
              <a:t>ГОУ Средняя общеобразовательная школа № 35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ahoma"/>
              </a:rPr>
              <a:t>г. Москв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" dur="500"/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" dur="500"/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500"/>
                                        <p:tgtEl>
                                          <p:spTgt spid="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Tahoma"/>
                <a:ea typeface="Times New Roman"/>
              </a:rPr>
              <a:t>Домашняя работа</a:t>
            </a:r>
            <a:r>
              <a:rPr b="0" lang="ru-RU" sz="3000" spc="-1" strike="noStrike">
                <a:solidFill>
                  <a:srgbClr val="ffff00"/>
                </a:solidFill>
                <a:latin typeface="Tahoma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1)Как изменяются при копировании в ячейку , расположенную в соседнем столбце и строке , формула, содержащая относительные ссылки? Абсолютные ссылки? Смешанные ссылки? Приведите примеры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2)Повторить </a:t>
            </a:r>
            <a:r>
              <a:rPr b="1" lang="ru-RU" sz="3000" spc="-1" strike="noStrike">
                <a:solidFill>
                  <a:srgbClr val="000000"/>
                </a:solidFill>
                <a:latin typeface="Tahoma"/>
                <a:ea typeface="TimesNewRomanPSMT"/>
              </a:rPr>
              <a:t>единицы измерения количества информации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 txBox="1"/>
          <p:nvPr/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итература: Н. Угринович : «Информатика и ИКТ»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 txBox="1"/>
          <p:nvPr/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В формулах могут использоваться  ссылки на адреса ячеек. Существуют два основных типа ссылок :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относительные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и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абсолютные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. Различия между относительными и абсолютными ссылками  проявляются при копировании формулы из активной ячейки в другие ячейк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 txBox="1"/>
          <p:nvPr/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ahoma"/>
                <a:ea typeface="Times New Roman"/>
              </a:rPr>
              <a:t>Относительные ссылки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При перемещении или копировании формулы из активной  ячейки относительные ссылки автоматически изменяются  в зависимости от положения  ячейки, в которую скопирована формула. При смещении положения ячейки на одну строку в формуле изменяются на единицу номера строк , а при смещении на один столбец на одну букву смещаются имена столбцов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 txBox="1"/>
          <p:nvPr/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Так при копировании формулы из активной ячейки  С1, содержащей относительные ссылки на ячейки А1 и В1 , в ячейку 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D</a:t>
            </a:r>
            <a:r>
              <a:rPr b="1" lang="ru-RU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2 значения столбцов и строк в формуле  изменятся на один шаг  вправо и вниз. При копировании формулы из ячейки С1 в ячейку Е3 значения столбцов и строк в формуле изменятся на два шага вправо и вниз и т.д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3" descr=""/>
          <p:cNvPicPr/>
          <p:nvPr/>
        </p:nvPicPr>
        <p:blipFill>
          <a:blip r:embed="rId1"/>
          <a:srcRect l="3920" t="29168" r="1960" b="44446"/>
          <a:stretch/>
        </p:blipFill>
        <p:spPr>
          <a:xfrm>
            <a:off x="539640" y="1628640"/>
            <a:ext cx="815364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ffff00"/>
                </a:solidFill>
                <a:uFillTx/>
                <a:latin typeface="Tahoma"/>
                <a:ea typeface="Times New Roman"/>
              </a:rPr>
              <a:t>Абсолютные ссылки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Абсолютные ссылки в формулах используются для указания фиксированных адресов ячеек. При перемещении или копировании формулы абсолютные ссылки не изменяются. В абсолютных ссылках перед  неизменяемыми обозначениями столбца или строки , составляющими адрес ячейки , ставится знак доллара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Так при копировании формулы из активной  ячейки С1 , содержащей абсолютные ссылки на ячейки  $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A</a:t>
            </a:r>
            <a:r>
              <a:rPr b="1" lang="ru-RU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$1, $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B</a:t>
            </a:r>
            <a:r>
              <a:rPr b="1" lang="ru-RU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$1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Picture 3" descr=""/>
          <p:cNvPicPr/>
          <p:nvPr/>
        </p:nvPicPr>
        <p:blipFill>
          <a:blip r:embed="rId1"/>
          <a:srcRect l="2942" t="32879" r="1960" b="36989"/>
          <a:stretch/>
        </p:blipFill>
        <p:spPr>
          <a:xfrm>
            <a:off x="533520" y="1143000"/>
            <a:ext cx="82296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ahoma"/>
                <a:ea typeface="Times New Roman"/>
              </a:rPr>
              <a:t>Смешанные ссылк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В формуле можно использовать смешанные ссылки, в которых координата столбца относительная, а строки – абсолютная ( пример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$1), или, наоборот координат столбца абсолютная, а строки – относительная (пример $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1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3" descr=""/>
          <p:cNvPicPr/>
          <p:nvPr/>
        </p:nvPicPr>
        <p:blipFill>
          <a:blip r:embed="rId1"/>
          <a:srcRect l="3920" t="47945" r="1960" b="27401"/>
          <a:stretch/>
        </p:blipFill>
        <p:spPr>
          <a:xfrm>
            <a:off x="685800" y="838080"/>
            <a:ext cx="7848720" cy="40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Ёля</cp:lastModifiedBy>
  <dcterms:modified xsi:type="dcterms:W3CDTF">2011-08-27T09:56:12Z</dcterms:modified>
  <cp:revision>7</cp:revision>
  <dc:subject/>
  <dc:title>PowerPoint Presentation</dc:title>
</cp:coreProperties>
</file>