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4E73-D955-468D-A5A5-AC5147D9A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D761-4B3B-4D7B-9C09-AC38EB41C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BA587C-AF57-487A-95C5-2397CB052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1349E6-A0CE-4D95-8E62-D2CD1618B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B60652-1824-495B-9521-5B107651E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F67A2D-57B3-44B0-8494-EFFD544A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F5AB4F-BDF9-48A9-AE32-7A71D808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38D9F5-23E8-49F0-B12A-B62D94CD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36C8C3-1558-413C-9ED8-C2A67CAB5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36BB9E-53F1-4589-B2F9-CEE930C57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DE32C7-BCDD-40B3-821D-4D5DED33E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A377BE-F8A2-4506-BE98-7A9FA9157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EF47-27EB-4F82-99F0-E8658A627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C6FEF4-2E6C-45B1-B606-DA5266F87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D49353-8639-40E4-80E0-EE4A52B2F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DEC1EE-5D63-4830-A9D5-1686B62F5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BB9EB9-D82E-43CF-8C66-B68B63967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ACAEC5-64D8-454A-975E-860098194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EAF46E-D08F-462C-9BDD-D32056539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08417C-A1DC-4C90-9D67-A79F319F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7A8F6A-F4D0-45A5-9403-381D9A9D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830614-734E-4AEE-BD6C-E69B73B2B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9FA3BA-4752-41B6-9AF5-ED31A614D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B016-249F-44DE-889C-951B10598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A54DBE-1F87-4D9C-937E-FC1C1B679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F958A7-0BED-45A1-9BBF-552DDB912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F228BD-3D49-4715-8304-905F721E6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C30CF6-86AE-43FC-9B00-788C17F4A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C79F39-09BE-4534-9F85-CD0E8257F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4DF6CC-3E2F-4388-B678-22D7528FC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A5343B-ED86-4832-9B9E-175116795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85DD77-9131-4A25-AC48-AEE7179C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FDDC8C-B89D-4053-90C5-C7349109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25C1BE-DC4A-4BA1-B8E8-D6E77D64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227B3-62AE-4684-8F3E-FA52B24BF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321D68-39B9-499C-ACFB-BB579E003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44C846-0223-457E-A94F-23A097BEE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C734AE-FADF-4193-BF0D-AA9EBECD8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9E4085-FE42-4626-939B-72A8C58D1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7263F8-A413-47F1-A6B4-F05F2FEAF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53AAD5-E20E-4876-8A82-3F6E7CB0E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E95BB8-8801-44C1-9CFF-D2D4C7016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A82D2C-7924-4CCB-8123-A99701EBC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CA7409-C2DA-4231-AD71-5B9427AF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C6731E-0030-4788-8103-55B46490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5C41A-BC5F-4132-A0C0-C59332BE7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F48A97-5545-4E5B-9AA2-FF9BFC91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46E71D-004A-45E5-8409-44E18690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DF3038-01B9-407F-ADBD-3D7AD15A1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47B2BA-253B-498D-898A-C56EE011B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209C57-0533-4ED0-BB85-172A8AD40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5806A-38F5-4282-B264-627812596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5BFA0-C2F8-4615-AF93-22880A2E3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E43BA-2A7E-4DCB-91F6-855134758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C9246-D7F5-4445-89EF-FAC8642D9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6312B-ABF3-45BB-9BE1-A59DD303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14F3-1603-486D-8CD1-4493F5255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CFD8B-6EB8-4C2C-A4BF-54CF0F70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C4E97-9CFC-4B84-85E6-520992CA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B2BC3-534E-4D64-AAA2-D6B068600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AA7C8-B928-4652-9ADA-640134EC2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61602-E523-4C72-AB17-F3F98A4D8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56569-C856-4C9D-B8BF-B808738EE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B9534-39CB-44FD-8855-6CC20380C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2DCEE-DB7D-419A-89EF-C26E3E2F3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1D212-0EB6-404E-903D-828337534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3886D-4DDF-4EE4-9A07-89DE8695C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1543-46F9-426F-A4EF-8B2E7867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DABEC-9090-4C89-AB57-24B9F5D12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0476A-F925-4E1D-B757-721DE83F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92B90-231D-4281-9E5C-571D2A59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8956C-C959-40C6-8650-D7FF7C42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76869-22EA-4370-B513-7F618FD4B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C5249-07AE-4BB5-BA22-11FAC4BB8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D4747-E430-4A19-A2A3-E3028F14D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517E0-E197-4899-A8AF-56AF6D87F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64E1D-A69A-400E-A618-422CDAD20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8EFB8-3ACC-457C-B79F-0459A1973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ED7F-F28B-42D6-A34D-A3BDF1373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CAC33-06A7-42F1-8C4D-6C6B499F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37FB9-5905-4CA9-B1C8-875E81009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FB175-C0E8-4546-8DC6-BD2A5F11B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E187B-D7E8-420E-9108-567D7E21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E4F53-E275-4B85-A0C6-861444B3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86D5D-6A78-4FD7-9E75-3FE2BC19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BF64F-A8C6-4BD1-A8DC-8D5A64D8B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BDD25-E0E1-49E2-9B44-D014FB060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88D4C-E217-4103-917C-AE03CDE10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F29BA-64A6-4C9B-8324-FB5F401ED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906B-1FDD-42A6-A2C8-4BBA4FEF4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6DA3D-E0D2-4525-AFCF-AAFF8777B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E60F6-2449-4B57-9138-E1A4F77C5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B6EF5-D027-4476-A72A-68CB69363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165B7-72E6-4582-B39A-E474B07F0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59664-8E7D-4923-BC1A-80C771F55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426F7-E9F3-4567-A3A4-A2D5761A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66111-3402-4A86-AF0C-3CB67F29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4E73C-973D-4151-8E00-78B60A19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82679-BDC5-4785-BFD5-C6302CEBC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AB6C6-22D1-4B30-9745-42F665F45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A79B-5F1C-437E-9994-7346FAD7C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A5DF7-1FED-4A9D-A15A-4567ECB83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F8A13-D4B1-4B75-914B-A7DEE5551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2A58A-3FF9-4979-81B1-E71B4D518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379A8-B863-4ED8-98AC-EDB514685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2EA86-6ADE-4934-B693-33F9AF9A8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3D312-373C-45E9-BD1F-7D5459C3C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964485-4F56-4F23-A191-7D4CAC690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7B789-CCEE-4066-85A6-A223F353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41C24-4F3A-42DA-B5C2-42837ADE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9A6CD-FEE4-4A34-84AB-65F45BE8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2600-8F80-4EA6-8577-10664C4F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8FA3C-1F9F-4162-8D0A-5BAE8C881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5EF5A-E65F-499E-BC02-EA9B1B5EC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D1015-23E1-4BBB-97F5-3161CE244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0356F-CA71-434C-BD1E-046E1D308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DFA6A2-C106-4DB3-A66F-466C45B13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B6B32C-E00F-4DCB-9447-4179F5597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5CF801-F891-4691-8DA1-3E71F423B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6D5318-2316-4FD8-B0A7-971EB7FFB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4047A-6083-4677-9BDB-FA389F7B1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7A010F-1F63-4616-AFEF-C21C8075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342D-C284-47A6-ABBB-31499EFF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625BF-3445-4146-BADB-1E69AA96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145798-660F-4220-9CCE-DDF4F50D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D8286-7244-4BAD-B6E7-8A3947D7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51D535-7E35-4024-886B-8DCD05017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7E531-214E-4102-8EC3-8AAD9D0F1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F984E3-9CD8-47C2-9378-2F62F8EE8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A89D59-1D83-4B33-91A5-8DCDE78C2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38C973-6B1B-400A-8ECD-8BACAA76A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A16940-8FC6-4861-A84D-90DD7210E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8F0F90-848D-44C8-B7A1-BE65DB4F6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1BA3-8649-4FDA-9A17-5BE5A6D3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47054F-AE4F-45EC-BEB4-5F4AC1C70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7B796-5940-4F38-9759-B306120D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D41CEC-0BD5-4148-92A4-0862A8D0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64EB35-519E-4159-A485-AE032A3B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40A992-F6E4-4FC0-B946-0381EDE78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58A4A-B461-4256-9E9F-36DF03948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EAFD60-C884-40C3-986C-CB3A41B52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D9F7EE-4297-4552-B48A-2F7EE97B3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3940CD-3668-46C8-9268-0ECA0261E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5D70BC-C052-4E28-B33A-0319F8894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0" y="0"/>
            <a:ext cx="9153360" cy="1862280"/>
          </a:xfrm>
          <a:custGeom>
            <a:avLst/>
            <a:gdLst/>
            <a:ahLst/>
            <a:rect l="l" t="t" r="r" b="b"/>
            <a:pathLst>
              <a:path w="9153196" h="1862136">
                <a:moveTo>
                  <a:pt x="52" y="1284"/>
                </a:moveTo>
                <a:cubicBezTo>
                  <a:pt x="35" y="491948"/>
                  <a:pt x="17" y="1371472"/>
                  <a:pt x="0" y="1862136"/>
                </a:cubicBezTo>
                <a:cubicBezTo>
                  <a:pt x="304800" y="1706688"/>
                  <a:pt x="1952287" y="1117060"/>
                  <a:pt x="2999284" y="1051560"/>
                </a:cubicBezTo>
                <a:cubicBezTo>
                  <a:pt x="4046281" y="986060"/>
                  <a:pt x="5541316" y="1353820"/>
                  <a:pt x="6281980" y="1469136"/>
                </a:cubicBezTo>
                <a:cubicBezTo>
                  <a:pt x="7022644" y="1584452"/>
                  <a:pt x="8247940" y="1834896"/>
                  <a:pt x="9144052" y="1487424"/>
                </a:cubicBezTo>
                <a:lnTo>
                  <a:pt x="9153196" y="0"/>
                </a:lnTo>
                <a:lnTo>
                  <a:pt x="52" y="1284"/>
                </a:lnTo>
                <a:close/>
              </a:path>
            </a:pathLst>
          </a:custGeom>
          <a:solidFill>
            <a:srgbClr val="4f81b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0" y="0"/>
            <a:ext cx="9153360" cy="1481040"/>
          </a:xfrm>
          <a:custGeom>
            <a:avLst/>
            <a:gdLst/>
            <a:ahLst/>
            <a:rect l="l" t="t" r="r" b="b"/>
            <a:pathLst>
              <a:path w="9153196" h="1481136">
                <a:moveTo>
                  <a:pt x="52" y="1284"/>
                </a:moveTo>
                <a:cubicBezTo>
                  <a:pt x="35" y="491948"/>
                  <a:pt x="17" y="990472"/>
                  <a:pt x="0" y="1481136"/>
                </a:cubicBezTo>
                <a:cubicBezTo>
                  <a:pt x="414528" y="1319592"/>
                  <a:pt x="1857799" y="987520"/>
                  <a:pt x="2980996" y="960120"/>
                </a:cubicBezTo>
                <a:cubicBezTo>
                  <a:pt x="4104193" y="932720"/>
                  <a:pt x="6019852" y="1271016"/>
                  <a:pt x="6739180" y="1316736"/>
                </a:cubicBezTo>
                <a:cubicBezTo>
                  <a:pt x="7458508" y="1362456"/>
                  <a:pt x="8247940" y="1453896"/>
                  <a:pt x="9144052" y="1106424"/>
                </a:cubicBezTo>
                <a:lnTo>
                  <a:pt x="9153196" y="0"/>
                </a:lnTo>
                <a:lnTo>
                  <a:pt x="52" y="1284"/>
                </a:lnTo>
                <a:close/>
              </a:path>
            </a:pathLst>
          </a:custGeom>
          <a:gradFill rotWithShape="0">
            <a:gsLst>
              <a:gs pos="0">
                <a:srgbClr val="376092">
                  <a:alpha val="69019"/>
                </a:srgbClr>
              </a:gs>
              <a:gs pos="100000">
                <a:srgbClr val="4f81bd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795C6-AEAC-45EE-9A6A-FC982C95A6F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bacc6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64a2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bbb59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0504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Group 7"/>
          <p:cNvGrpSpPr/>
          <p:nvPr/>
        </p:nvGrpSpPr>
        <p:grpSpPr>
          <a:xfrm>
            <a:off x="0" y="-6840"/>
            <a:ext cx="1104840" cy="6891480"/>
            <a:chOff x="0" y="-6840"/>
            <a:chExt cx="1104840" cy="6891480"/>
          </a:xfrm>
        </p:grpSpPr>
        <p:sp>
          <p:nvSpPr>
            <p:cNvPr id="453" name="Freeform 8"/>
            <p:cNvSpPr/>
            <p:nvPr/>
          </p:nvSpPr>
          <p:spPr>
            <a:xfrm rot="16200000">
              <a:off x="-2892240" y="2887200"/>
              <a:ext cx="6891480" cy="1103400"/>
            </a:xfrm>
            <a:custGeom>
              <a:avLst/>
              <a:gdLst/>
              <a:ahLst/>
              <a:rect l="l" t="t" r="r" b="b"/>
              <a:pathLst>
                <a:path w="9176990" h="1489619">
                  <a:moveTo>
                    <a:pt x="18502" y="1284"/>
                  </a:moveTo>
                  <a:cubicBezTo>
                    <a:pt x="18485" y="491948"/>
                    <a:pt x="17" y="998955"/>
                    <a:pt x="0" y="1489619"/>
                  </a:cubicBezTo>
                  <a:cubicBezTo>
                    <a:pt x="304800" y="1334171"/>
                    <a:pt x="2076793" y="572593"/>
                    <a:pt x="3209344" y="515274"/>
                  </a:cubicBezTo>
                  <a:cubicBezTo>
                    <a:pt x="4341895" y="457955"/>
                    <a:pt x="5743827" y="772070"/>
                    <a:pt x="6307596" y="941158"/>
                  </a:cubicBezTo>
                  <a:cubicBezTo>
                    <a:pt x="6871365" y="1110246"/>
                    <a:pt x="8191884" y="1377605"/>
                    <a:pt x="9174801" y="1061875"/>
                  </a:cubicBezTo>
                  <a:cubicBezTo>
                    <a:pt x="9176990" y="769267"/>
                    <a:pt x="9166881" y="292608"/>
                    <a:pt x="9169070" y="0"/>
                  </a:cubicBezTo>
                  <a:lnTo>
                    <a:pt x="18502" y="1284"/>
                  </a:lnTo>
                  <a:close/>
                </a:path>
              </a:pathLst>
            </a:custGeom>
            <a:solidFill>
              <a:srgbClr val="4f81bd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Freeform 9"/>
            <p:cNvSpPr/>
            <p:nvPr/>
          </p:nvSpPr>
          <p:spPr>
            <a:xfrm rot="16200000">
              <a:off x="-2893320" y="2892600"/>
              <a:ext cx="6870600" cy="1083240"/>
            </a:xfrm>
            <a:custGeom>
              <a:avLst/>
              <a:gdLst/>
              <a:ahLst/>
              <a:rect l="l" t="t" r="r" b="b"/>
              <a:pathLst>
                <a:path w="9142471" h="1874582">
                  <a:moveTo>
                    <a:pt x="790" y="1971"/>
                  </a:moveTo>
                  <a:cubicBezTo>
                    <a:pt x="0" y="305263"/>
                    <a:pt x="5358" y="838040"/>
                    <a:pt x="4568" y="1141332"/>
                  </a:cubicBezTo>
                  <a:cubicBezTo>
                    <a:pt x="419096" y="979788"/>
                    <a:pt x="1492070" y="639683"/>
                    <a:pt x="3162539" y="482994"/>
                  </a:cubicBezTo>
                  <a:cubicBezTo>
                    <a:pt x="4833008" y="326305"/>
                    <a:pt x="7747892" y="1874582"/>
                    <a:pt x="9142471" y="825067"/>
                  </a:cubicBezTo>
                  <a:cubicBezTo>
                    <a:pt x="9142170" y="646022"/>
                    <a:pt x="9141870" y="179045"/>
                    <a:pt x="9141569" y="0"/>
                  </a:cubicBezTo>
                  <a:lnTo>
                    <a:pt x="790" y="1971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Oval 10"/>
          <p:cNvGrpSpPr/>
          <p:nvPr/>
        </p:nvGrpSpPr>
        <p:grpSpPr>
          <a:xfrm>
            <a:off x="6851520" y="3882960"/>
            <a:ext cx="774720" cy="768240"/>
            <a:chOff x="6851520" y="3882960"/>
            <a:chExt cx="774720" cy="768240"/>
          </a:xfrm>
        </p:grpSpPr>
        <p:pic>
          <p:nvPicPr>
            <p:cNvPr id="456" name="Oval 10" descr=""/>
            <p:cNvPicPr/>
            <p:nvPr/>
          </p:nvPicPr>
          <p:blipFill>
            <a:blip r:embed="rId2"/>
            <a:stretch/>
          </p:blipFill>
          <p:spPr>
            <a:xfrm>
              <a:off x="6851520" y="3882960"/>
              <a:ext cx="7747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6969240" y="3997440"/>
              <a:ext cx="5364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8" name="Oval 11"/>
          <p:cNvGrpSpPr/>
          <p:nvPr/>
        </p:nvGrpSpPr>
        <p:grpSpPr>
          <a:xfrm>
            <a:off x="5784840" y="4565520"/>
            <a:ext cx="396720" cy="397080"/>
            <a:chOff x="5784840" y="4565520"/>
            <a:chExt cx="396720" cy="397080"/>
          </a:xfrm>
        </p:grpSpPr>
        <p:pic>
          <p:nvPicPr>
            <p:cNvPr id="459" name="Oval 11" descr=""/>
            <p:cNvPicPr/>
            <p:nvPr/>
          </p:nvPicPr>
          <p:blipFill>
            <a:blip r:embed="rId3"/>
            <a:stretch/>
          </p:blipFill>
          <p:spPr>
            <a:xfrm>
              <a:off x="5784840" y="4565520"/>
              <a:ext cx="396720" cy="3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5845320" y="462744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1" name="Oval 12"/>
          <p:cNvGrpSpPr/>
          <p:nvPr/>
        </p:nvGrpSpPr>
        <p:grpSpPr>
          <a:xfrm>
            <a:off x="1212840" y="378000"/>
            <a:ext cx="744480" cy="744480"/>
            <a:chOff x="1212840" y="378000"/>
            <a:chExt cx="744480" cy="744480"/>
          </a:xfrm>
        </p:grpSpPr>
        <p:pic>
          <p:nvPicPr>
            <p:cNvPr id="462" name="Oval 12" descr=""/>
            <p:cNvPicPr/>
            <p:nvPr/>
          </p:nvPicPr>
          <p:blipFill>
            <a:blip r:embed="rId4"/>
            <a:stretch/>
          </p:blipFill>
          <p:spPr>
            <a:xfrm>
              <a:off x="1212840" y="378000"/>
              <a:ext cx="744480" cy="7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1324080" y="490680"/>
              <a:ext cx="5158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bacc6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64a2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bbb59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0504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28"/>
          </p:nvPr>
        </p:nvSpPr>
        <p:spPr>
          <a:xfrm>
            <a:off x="9140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29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0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820AB-46CA-4BEA-94B5-CA284AC49E1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Freeform 7"/>
          <p:cNvSpPr/>
          <p:nvPr/>
        </p:nvSpPr>
        <p:spPr>
          <a:xfrm>
            <a:off x="0" y="0"/>
            <a:ext cx="9150480" cy="1281240"/>
          </a:xfrm>
          <a:custGeom>
            <a:avLst/>
            <a:gdLst/>
            <a:ahLst/>
            <a:rect l="l" t="t" r="r" b="b"/>
            <a:pathLst>
              <a:path w="9150620" h="1470041">
                <a:moveTo>
                  <a:pt x="52" y="1284"/>
                </a:moveTo>
                <a:cubicBezTo>
                  <a:pt x="35" y="491948"/>
                  <a:pt x="17" y="761872"/>
                  <a:pt x="0" y="1252536"/>
                </a:cubicBezTo>
                <a:cubicBezTo>
                  <a:pt x="304800" y="1097088"/>
                  <a:pt x="1803165" y="328826"/>
                  <a:pt x="3622738" y="425264"/>
                </a:cubicBezTo>
                <a:cubicBezTo>
                  <a:pt x="5442311" y="521702"/>
                  <a:pt x="6970396" y="1470041"/>
                  <a:pt x="9144052" y="877824"/>
                </a:cubicBezTo>
                <a:cubicBezTo>
                  <a:pt x="9146241" y="585216"/>
                  <a:pt x="9148431" y="292608"/>
                  <a:pt x="9150620" y="0"/>
                </a:cubicBezTo>
                <a:lnTo>
                  <a:pt x="52" y="1284"/>
                </a:lnTo>
                <a:close/>
              </a:path>
            </a:pathLst>
          </a:custGeom>
          <a:solidFill>
            <a:srgbClr val="4f81b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Freeform 8"/>
          <p:cNvSpPr/>
          <p:nvPr/>
        </p:nvSpPr>
        <p:spPr>
          <a:xfrm>
            <a:off x="0" y="-1440"/>
            <a:ext cx="9144000" cy="1093680"/>
          </a:xfrm>
          <a:custGeom>
            <a:avLst/>
            <a:gdLst/>
            <a:ahLst/>
            <a:rect l="l" t="t" r="r" b="b"/>
            <a:pathLst>
              <a:path w="9144052" h="1282732">
                <a:moveTo>
                  <a:pt x="2371" y="1971"/>
                </a:moveTo>
                <a:cubicBezTo>
                  <a:pt x="1581" y="305263"/>
                  <a:pt x="790" y="446133"/>
                  <a:pt x="0" y="749425"/>
                </a:cubicBezTo>
                <a:cubicBezTo>
                  <a:pt x="414528" y="587881"/>
                  <a:pt x="1394642" y="355830"/>
                  <a:pt x="3114923" y="315034"/>
                </a:cubicBezTo>
                <a:cubicBezTo>
                  <a:pt x="4835204" y="274238"/>
                  <a:pt x="7500499" y="1282732"/>
                  <a:pt x="9144052" y="537135"/>
                </a:cubicBezTo>
                <a:cubicBezTo>
                  <a:pt x="9143751" y="358090"/>
                  <a:pt x="9143451" y="179045"/>
                  <a:pt x="9143150" y="0"/>
                </a:cubicBezTo>
                <a:lnTo>
                  <a:pt x="2371" y="1971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7" name="Oval 9"/>
          <p:cNvGrpSpPr/>
          <p:nvPr/>
        </p:nvGrpSpPr>
        <p:grpSpPr>
          <a:xfrm>
            <a:off x="8070840" y="378000"/>
            <a:ext cx="768240" cy="774360"/>
            <a:chOff x="8070840" y="378000"/>
            <a:chExt cx="768240" cy="774360"/>
          </a:xfrm>
        </p:grpSpPr>
        <p:pic>
          <p:nvPicPr>
            <p:cNvPr id="508" name="Oval 9" descr=""/>
            <p:cNvPicPr/>
            <p:nvPr/>
          </p:nvPicPr>
          <p:blipFill>
            <a:blip r:embed="rId2"/>
            <a:stretch/>
          </p:blipFill>
          <p:spPr>
            <a:xfrm>
              <a:off x="8070840" y="378000"/>
              <a:ext cx="76824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8185320" y="495360"/>
              <a:ext cx="5364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Oval 10"/>
          <p:cNvGrpSpPr/>
          <p:nvPr/>
        </p:nvGrpSpPr>
        <p:grpSpPr>
          <a:xfrm>
            <a:off x="7491240" y="426960"/>
            <a:ext cx="397080" cy="395280"/>
            <a:chOff x="7491240" y="426960"/>
            <a:chExt cx="397080" cy="395280"/>
          </a:xfrm>
        </p:grpSpPr>
        <p:pic>
          <p:nvPicPr>
            <p:cNvPr id="511" name="Oval 10" descr=""/>
            <p:cNvPicPr/>
            <p:nvPr/>
          </p:nvPicPr>
          <p:blipFill>
            <a:blip r:embed="rId3"/>
            <a:stretch/>
          </p:blipFill>
          <p:spPr>
            <a:xfrm>
              <a:off x="7491240" y="426960"/>
              <a:ext cx="39708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"/>
            <p:cNvSpPr/>
            <p:nvPr/>
          </p:nvSpPr>
          <p:spPr>
            <a:xfrm>
              <a:off x="7554960" y="48564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" name="Oval 11"/>
          <p:cNvGrpSpPr/>
          <p:nvPr/>
        </p:nvGrpSpPr>
        <p:grpSpPr>
          <a:xfrm>
            <a:off x="208080" y="208080"/>
            <a:ext cx="839520" cy="839520"/>
            <a:chOff x="208080" y="208080"/>
            <a:chExt cx="839520" cy="839520"/>
          </a:xfrm>
        </p:grpSpPr>
        <p:pic>
          <p:nvPicPr>
            <p:cNvPr id="514" name="Oval 11" descr=""/>
            <p:cNvPicPr/>
            <p:nvPr/>
          </p:nvPicPr>
          <p:blipFill>
            <a:blip r:embed="rId4"/>
            <a:stretch/>
          </p:blipFill>
          <p:spPr>
            <a:xfrm>
              <a:off x="208080" y="208080"/>
              <a:ext cx="839520" cy="83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331920" y="331920"/>
              <a:ext cx="58896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bacc6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64a2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bbb59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0504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31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32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33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86050-80DA-4B4C-B721-A59BDBB818A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Freeform 7"/>
          <p:cNvSpPr/>
          <p:nvPr/>
        </p:nvSpPr>
        <p:spPr>
          <a:xfrm flipV="1">
            <a:off x="0" y="5590080"/>
            <a:ext cx="9150480" cy="1281240"/>
          </a:xfrm>
          <a:custGeom>
            <a:avLst/>
            <a:gdLst/>
            <a:ahLst/>
            <a:rect l="l" t="t" r="r" b="b"/>
            <a:pathLst>
              <a:path w="9150620" h="1470041">
                <a:moveTo>
                  <a:pt x="52" y="1284"/>
                </a:moveTo>
                <a:cubicBezTo>
                  <a:pt x="35" y="491948"/>
                  <a:pt x="17" y="761872"/>
                  <a:pt x="0" y="1252536"/>
                </a:cubicBezTo>
                <a:cubicBezTo>
                  <a:pt x="304800" y="1097088"/>
                  <a:pt x="1803165" y="328826"/>
                  <a:pt x="3622738" y="425264"/>
                </a:cubicBezTo>
                <a:cubicBezTo>
                  <a:pt x="5442311" y="521702"/>
                  <a:pt x="6970396" y="1470041"/>
                  <a:pt x="9144052" y="877824"/>
                </a:cubicBezTo>
                <a:cubicBezTo>
                  <a:pt x="9146241" y="585216"/>
                  <a:pt x="9148431" y="292608"/>
                  <a:pt x="9150620" y="0"/>
                </a:cubicBezTo>
                <a:lnTo>
                  <a:pt x="52" y="1284"/>
                </a:lnTo>
                <a:close/>
              </a:path>
            </a:pathLst>
          </a:custGeom>
          <a:solidFill>
            <a:srgbClr val="4f81b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Freeform 8"/>
          <p:cNvSpPr/>
          <p:nvPr/>
        </p:nvSpPr>
        <p:spPr>
          <a:xfrm flipV="1">
            <a:off x="0" y="5779800"/>
            <a:ext cx="9144000" cy="1093680"/>
          </a:xfrm>
          <a:custGeom>
            <a:avLst/>
            <a:gdLst/>
            <a:ahLst/>
            <a:rect l="l" t="t" r="r" b="b"/>
            <a:pathLst>
              <a:path w="9144052" h="1282732">
                <a:moveTo>
                  <a:pt x="2371" y="1971"/>
                </a:moveTo>
                <a:cubicBezTo>
                  <a:pt x="1581" y="305263"/>
                  <a:pt x="790" y="446133"/>
                  <a:pt x="0" y="749425"/>
                </a:cubicBezTo>
                <a:cubicBezTo>
                  <a:pt x="414528" y="587881"/>
                  <a:pt x="1394642" y="355830"/>
                  <a:pt x="3114923" y="315034"/>
                </a:cubicBezTo>
                <a:cubicBezTo>
                  <a:pt x="4835204" y="274238"/>
                  <a:pt x="7500499" y="1282732"/>
                  <a:pt x="9144052" y="537135"/>
                </a:cubicBezTo>
                <a:cubicBezTo>
                  <a:pt x="9143751" y="358090"/>
                  <a:pt x="9143451" y="179045"/>
                  <a:pt x="9143150" y="0"/>
                </a:cubicBezTo>
                <a:lnTo>
                  <a:pt x="2371" y="1971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Oval 9"/>
          <p:cNvGrpSpPr/>
          <p:nvPr/>
        </p:nvGrpSpPr>
        <p:grpSpPr>
          <a:xfrm>
            <a:off x="8143920" y="5638680"/>
            <a:ext cx="768240" cy="768600"/>
            <a:chOff x="8143920" y="5638680"/>
            <a:chExt cx="768240" cy="768600"/>
          </a:xfrm>
        </p:grpSpPr>
        <p:pic>
          <p:nvPicPr>
            <p:cNvPr id="560" name="Oval 9" descr=""/>
            <p:cNvPicPr/>
            <p:nvPr/>
          </p:nvPicPr>
          <p:blipFill>
            <a:blip r:embed="rId2"/>
            <a:stretch/>
          </p:blipFill>
          <p:spPr>
            <a:xfrm>
              <a:off x="8143920" y="5638680"/>
              <a:ext cx="768240" cy="7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1" name=""/>
            <p:cNvSpPr/>
            <p:nvPr/>
          </p:nvSpPr>
          <p:spPr>
            <a:xfrm>
              <a:off x="8258040" y="5753160"/>
              <a:ext cx="53676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Oval 10"/>
          <p:cNvGrpSpPr/>
          <p:nvPr/>
        </p:nvGrpSpPr>
        <p:grpSpPr>
          <a:xfrm>
            <a:off x="8637480" y="5205240"/>
            <a:ext cx="397080" cy="397080"/>
            <a:chOff x="8637480" y="5205240"/>
            <a:chExt cx="397080" cy="397080"/>
          </a:xfrm>
        </p:grpSpPr>
        <p:pic>
          <p:nvPicPr>
            <p:cNvPr id="563" name="Oval 10" descr=""/>
            <p:cNvPicPr/>
            <p:nvPr/>
          </p:nvPicPr>
          <p:blipFill>
            <a:blip r:embed="rId3"/>
            <a:stretch/>
          </p:blipFill>
          <p:spPr>
            <a:xfrm>
              <a:off x="8637480" y="5205240"/>
              <a:ext cx="397080" cy="3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"/>
            <p:cNvSpPr/>
            <p:nvPr/>
          </p:nvSpPr>
          <p:spPr>
            <a:xfrm>
              <a:off x="8697960" y="526896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Oval 11"/>
          <p:cNvGrpSpPr/>
          <p:nvPr/>
        </p:nvGrpSpPr>
        <p:grpSpPr>
          <a:xfrm>
            <a:off x="281160" y="5638680"/>
            <a:ext cx="841320" cy="841320"/>
            <a:chOff x="281160" y="5638680"/>
            <a:chExt cx="841320" cy="841320"/>
          </a:xfrm>
        </p:grpSpPr>
        <p:pic>
          <p:nvPicPr>
            <p:cNvPr id="566" name="Oval 11" descr=""/>
            <p:cNvPicPr/>
            <p:nvPr/>
          </p:nvPicPr>
          <p:blipFill>
            <a:blip r:embed="rId4"/>
            <a:stretch/>
          </p:blipFill>
          <p:spPr>
            <a:xfrm>
              <a:off x="281160" y="5638680"/>
              <a:ext cx="8413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404640" y="5764320"/>
              <a:ext cx="5889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bacc6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64a2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bbb59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0504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4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5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6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6EFE4-E050-4639-A665-F6006DE8D8A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6"/>
          <p:cNvSpPr/>
          <p:nvPr/>
        </p:nvSpPr>
        <p:spPr>
          <a:xfrm>
            <a:off x="0" y="1335240"/>
            <a:ext cx="9147240" cy="4084560"/>
          </a:xfrm>
          <a:custGeom>
            <a:avLst/>
            <a:gdLst/>
            <a:ahLst/>
            <a:rect l="l" t="t" r="r" b="b"/>
            <a:pathLst>
              <a:path w="9147403" h="3043297">
                <a:moveTo>
                  <a:pt x="0" y="140794"/>
                </a:moveTo>
                <a:cubicBezTo>
                  <a:pt x="784860" y="19414"/>
                  <a:pt x="1778000" y="0"/>
                  <a:pt x="2828544" y="80024"/>
                </a:cubicBezTo>
                <a:cubicBezTo>
                  <a:pt x="3879088" y="160048"/>
                  <a:pt x="5543207" y="732168"/>
                  <a:pt x="6595872" y="757213"/>
                </a:cubicBezTo>
                <a:cubicBezTo>
                  <a:pt x="7648537" y="782258"/>
                  <a:pt x="8376437" y="535486"/>
                  <a:pt x="9144533" y="230295"/>
                </a:cubicBezTo>
                <a:cubicBezTo>
                  <a:pt x="9147403" y="1073565"/>
                  <a:pt x="9138437" y="1917938"/>
                  <a:pt x="9141307" y="2761208"/>
                </a:cubicBezTo>
                <a:cubicBezTo>
                  <a:pt x="8237575" y="2914438"/>
                  <a:pt x="7736391" y="2822363"/>
                  <a:pt x="6690360" y="2746696"/>
                </a:cubicBezTo>
                <a:cubicBezTo>
                  <a:pt x="5644329" y="2671029"/>
                  <a:pt x="3979910" y="2257771"/>
                  <a:pt x="2865120" y="2307204"/>
                </a:cubicBezTo>
                <a:cubicBezTo>
                  <a:pt x="1750330" y="2356637"/>
                  <a:pt x="734663" y="2709091"/>
                  <a:pt x="1619" y="3043297"/>
                </a:cubicBezTo>
                <a:cubicBezTo>
                  <a:pt x="1079" y="2075796"/>
                  <a:pt x="540" y="1108295"/>
                  <a:pt x="0" y="140794"/>
                </a:cubicBezTo>
                <a:close/>
              </a:path>
            </a:pathLst>
          </a:custGeom>
          <a:solidFill>
            <a:srgbClr val="40c6d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0" y="1728720"/>
            <a:ext cx="9144000" cy="3308400"/>
          </a:xfrm>
          <a:custGeom>
            <a:avLst/>
            <a:gdLst/>
            <a:ahLst/>
            <a:rect l="l" t="t" r="r" b="b"/>
            <a:pathLst>
              <a:path w="9144647" h="3309112">
                <a:moveTo>
                  <a:pt x="381" y="310896"/>
                </a:moveTo>
                <a:cubicBezTo>
                  <a:pt x="779145" y="155448"/>
                  <a:pt x="1484757" y="0"/>
                  <a:pt x="2652141" y="45720"/>
                </a:cubicBezTo>
                <a:cubicBezTo>
                  <a:pt x="3819525" y="91440"/>
                  <a:pt x="5904313" y="763815"/>
                  <a:pt x="6986397" y="804672"/>
                </a:cubicBezTo>
                <a:cubicBezTo>
                  <a:pt x="8068481" y="845529"/>
                  <a:pt x="8437511" y="566706"/>
                  <a:pt x="9144647" y="290862"/>
                </a:cubicBezTo>
                <a:cubicBezTo>
                  <a:pt x="9144558" y="1147932"/>
                  <a:pt x="9144470" y="2005002"/>
                  <a:pt x="9144381" y="2862072"/>
                </a:cubicBezTo>
                <a:cubicBezTo>
                  <a:pt x="8450961" y="3142488"/>
                  <a:pt x="7965313" y="3309112"/>
                  <a:pt x="6986397" y="3246120"/>
                </a:cubicBezTo>
                <a:cubicBezTo>
                  <a:pt x="6007481" y="3183128"/>
                  <a:pt x="4435284" y="2501217"/>
                  <a:pt x="3270885" y="2484120"/>
                </a:cubicBezTo>
                <a:cubicBezTo>
                  <a:pt x="2106486" y="2467023"/>
                  <a:pt x="830580" y="2857024"/>
                  <a:pt x="0" y="3143536"/>
                </a:cubicBezTo>
                <a:lnTo>
                  <a:pt x="381" y="31089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Oval 8"/>
          <p:cNvGrpSpPr/>
          <p:nvPr/>
        </p:nvGrpSpPr>
        <p:grpSpPr>
          <a:xfrm>
            <a:off x="7693200" y="1292400"/>
            <a:ext cx="1000080" cy="1000080"/>
            <a:chOff x="7693200" y="1292400"/>
            <a:chExt cx="1000080" cy="1000080"/>
          </a:xfrm>
        </p:grpSpPr>
        <p:pic>
          <p:nvPicPr>
            <p:cNvPr id="46" name="Oval 8" descr=""/>
            <p:cNvPicPr/>
            <p:nvPr/>
          </p:nvPicPr>
          <p:blipFill>
            <a:blip r:embed="rId2"/>
            <a:stretch/>
          </p:blipFill>
          <p:spPr>
            <a:xfrm>
              <a:off x="7693200" y="1292400"/>
              <a:ext cx="10000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7843680" y="1442880"/>
              <a:ext cx="698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" name="Oval 9"/>
          <p:cNvGrpSpPr/>
          <p:nvPr/>
        </p:nvGrpSpPr>
        <p:grpSpPr>
          <a:xfrm>
            <a:off x="7010280" y="1925640"/>
            <a:ext cx="524160" cy="525600"/>
            <a:chOff x="7010280" y="1925640"/>
            <a:chExt cx="524160" cy="525600"/>
          </a:xfrm>
        </p:grpSpPr>
        <p:pic>
          <p:nvPicPr>
            <p:cNvPr id="49" name="Oval 9" descr=""/>
            <p:cNvPicPr/>
            <p:nvPr/>
          </p:nvPicPr>
          <p:blipFill>
            <a:blip r:embed="rId3"/>
            <a:stretch/>
          </p:blipFill>
          <p:spPr>
            <a:xfrm>
              <a:off x="7010280" y="1925640"/>
              <a:ext cx="52416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7088040" y="2004840"/>
              <a:ext cx="36216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Oval 10"/>
          <p:cNvGrpSpPr/>
          <p:nvPr/>
        </p:nvGrpSpPr>
        <p:grpSpPr>
          <a:xfrm>
            <a:off x="682560" y="4108320"/>
            <a:ext cx="1225440" cy="1231920"/>
            <a:chOff x="682560" y="4108320"/>
            <a:chExt cx="1225440" cy="1231920"/>
          </a:xfrm>
        </p:grpSpPr>
        <p:pic>
          <p:nvPicPr>
            <p:cNvPr id="52" name="Oval 10" descr=""/>
            <p:cNvPicPr/>
            <p:nvPr/>
          </p:nvPicPr>
          <p:blipFill>
            <a:blip r:embed="rId4"/>
            <a:stretch/>
          </p:blipFill>
          <p:spPr>
            <a:xfrm>
              <a:off x="682560" y="4108320"/>
              <a:ext cx="122544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863640" y="4292640"/>
              <a:ext cx="860400" cy="86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bacc6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64a2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bbb59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0504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9AB6F-B88C-467A-83CF-045E1FE9F34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reeform 6"/>
          <p:cNvSpPr/>
          <p:nvPr/>
        </p:nvSpPr>
        <p:spPr>
          <a:xfrm>
            <a:off x="0" y="0"/>
            <a:ext cx="9153360" cy="1862280"/>
          </a:xfrm>
          <a:custGeom>
            <a:avLst/>
            <a:gdLst/>
            <a:ahLst/>
            <a:rect l="l" t="t" r="r" b="b"/>
            <a:pathLst>
              <a:path w="9153196" h="1862136">
                <a:moveTo>
                  <a:pt x="52" y="1284"/>
                </a:moveTo>
                <a:cubicBezTo>
                  <a:pt x="35" y="491948"/>
                  <a:pt x="17" y="1371472"/>
                  <a:pt x="0" y="1862136"/>
                </a:cubicBezTo>
                <a:cubicBezTo>
                  <a:pt x="304800" y="1706688"/>
                  <a:pt x="1952287" y="1117060"/>
                  <a:pt x="2999284" y="1051560"/>
                </a:cubicBezTo>
                <a:cubicBezTo>
                  <a:pt x="4046281" y="986060"/>
                  <a:pt x="5541316" y="1353820"/>
                  <a:pt x="6281980" y="1469136"/>
                </a:cubicBezTo>
                <a:cubicBezTo>
                  <a:pt x="7022644" y="1584452"/>
                  <a:pt x="8247940" y="1834896"/>
                  <a:pt x="9144052" y="1487424"/>
                </a:cubicBezTo>
                <a:lnTo>
                  <a:pt x="9153196" y="0"/>
                </a:lnTo>
                <a:lnTo>
                  <a:pt x="52" y="1284"/>
                </a:lnTo>
                <a:close/>
              </a:path>
            </a:pathLst>
          </a:custGeom>
          <a:solidFill>
            <a:srgbClr val="4f81b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Freeform 7"/>
          <p:cNvSpPr/>
          <p:nvPr/>
        </p:nvSpPr>
        <p:spPr>
          <a:xfrm>
            <a:off x="0" y="0"/>
            <a:ext cx="9153360" cy="1481040"/>
          </a:xfrm>
          <a:custGeom>
            <a:avLst/>
            <a:gdLst/>
            <a:ahLst/>
            <a:rect l="l" t="t" r="r" b="b"/>
            <a:pathLst>
              <a:path w="9153196" h="1481136">
                <a:moveTo>
                  <a:pt x="52" y="1284"/>
                </a:moveTo>
                <a:cubicBezTo>
                  <a:pt x="35" y="491948"/>
                  <a:pt x="17" y="990472"/>
                  <a:pt x="0" y="1481136"/>
                </a:cubicBezTo>
                <a:cubicBezTo>
                  <a:pt x="414528" y="1319592"/>
                  <a:pt x="1857799" y="987520"/>
                  <a:pt x="2980996" y="960120"/>
                </a:cubicBezTo>
                <a:cubicBezTo>
                  <a:pt x="4104193" y="932720"/>
                  <a:pt x="6019852" y="1271016"/>
                  <a:pt x="6739180" y="1316736"/>
                </a:cubicBezTo>
                <a:cubicBezTo>
                  <a:pt x="7458508" y="1362456"/>
                  <a:pt x="8247940" y="1453896"/>
                  <a:pt x="9144052" y="1106424"/>
                </a:cubicBezTo>
                <a:lnTo>
                  <a:pt x="9153196" y="0"/>
                </a:lnTo>
                <a:lnTo>
                  <a:pt x="52" y="1284"/>
                </a:lnTo>
                <a:close/>
              </a:path>
            </a:pathLst>
          </a:custGeom>
          <a:gradFill rotWithShape="0">
            <a:gsLst>
              <a:gs pos="0">
                <a:srgbClr val="376092">
                  <a:alpha val="69019"/>
                </a:srgbClr>
              </a:gs>
              <a:gs pos="100000">
                <a:srgbClr val="4f81bd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Oval 6"/>
          <p:cNvGrpSpPr/>
          <p:nvPr/>
        </p:nvGrpSpPr>
        <p:grpSpPr>
          <a:xfrm>
            <a:off x="8163000" y="665280"/>
            <a:ext cx="768240" cy="766800"/>
            <a:chOff x="8163000" y="665280"/>
            <a:chExt cx="768240" cy="766800"/>
          </a:xfrm>
        </p:grpSpPr>
        <p:pic>
          <p:nvPicPr>
            <p:cNvPr id="98" name="Oval 6" descr=""/>
            <p:cNvPicPr/>
            <p:nvPr/>
          </p:nvPicPr>
          <p:blipFill>
            <a:blip r:embed="rId2"/>
            <a:stretch/>
          </p:blipFill>
          <p:spPr>
            <a:xfrm>
              <a:off x="8163000" y="665280"/>
              <a:ext cx="76824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8277120" y="777960"/>
              <a:ext cx="53676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Oval 7"/>
          <p:cNvGrpSpPr/>
          <p:nvPr/>
        </p:nvGrpSpPr>
        <p:grpSpPr>
          <a:xfrm>
            <a:off x="7875720" y="1347840"/>
            <a:ext cx="396720" cy="395280"/>
            <a:chOff x="7875720" y="1347840"/>
            <a:chExt cx="396720" cy="395280"/>
          </a:xfrm>
        </p:grpSpPr>
        <p:pic>
          <p:nvPicPr>
            <p:cNvPr id="101" name="Oval 7" descr=""/>
            <p:cNvPicPr/>
            <p:nvPr/>
          </p:nvPicPr>
          <p:blipFill>
            <a:blip r:embed="rId3"/>
            <a:stretch/>
          </p:blipFill>
          <p:spPr>
            <a:xfrm>
              <a:off x="7875720" y="1347840"/>
              <a:ext cx="39672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7939080" y="140976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Oval 8"/>
          <p:cNvGrpSpPr/>
          <p:nvPr/>
        </p:nvGrpSpPr>
        <p:grpSpPr>
          <a:xfrm>
            <a:off x="281160" y="781200"/>
            <a:ext cx="1004760" cy="1011240"/>
            <a:chOff x="281160" y="781200"/>
            <a:chExt cx="1004760" cy="1011240"/>
          </a:xfrm>
        </p:grpSpPr>
        <p:pic>
          <p:nvPicPr>
            <p:cNvPr id="104" name="Oval 8" descr=""/>
            <p:cNvPicPr/>
            <p:nvPr/>
          </p:nvPicPr>
          <p:blipFill>
            <a:blip r:embed="rId4"/>
            <a:stretch/>
          </p:blipFill>
          <p:spPr>
            <a:xfrm>
              <a:off x="281160" y="781200"/>
              <a:ext cx="100476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430200" y="932040"/>
              <a:ext cx="703440" cy="7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bacc6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64a2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bbb59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0504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04ED-C9C0-4D7B-9AF9-56E03BA112C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reeform 10"/>
          <p:cNvSpPr/>
          <p:nvPr/>
        </p:nvSpPr>
        <p:spPr>
          <a:xfrm>
            <a:off x="0" y="426960"/>
            <a:ext cx="9144000" cy="4525920"/>
          </a:xfrm>
          <a:custGeom>
            <a:avLst/>
            <a:gdLst/>
            <a:ahLst/>
            <a:rect l="l" t="t" r="r" b="b"/>
            <a:pathLst>
              <a:path w="9153196" h="4757736">
                <a:moveTo>
                  <a:pt x="52" y="1284"/>
                </a:moveTo>
                <a:cubicBezTo>
                  <a:pt x="35" y="491948"/>
                  <a:pt x="17" y="4267072"/>
                  <a:pt x="0" y="4757736"/>
                </a:cubicBezTo>
                <a:cubicBezTo>
                  <a:pt x="402972" y="4559785"/>
                  <a:pt x="1992246" y="3966388"/>
                  <a:pt x="3115058" y="3911480"/>
                </a:cubicBezTo>
                <a:cubicBezTo>
                  <a:pt x="4237870" y="3856572"/>
                  <a:pt x="5939190" y="4331788"/>
                  <a:pt x="6736870" y="4428289"/>
                </a:cubicBezTo>
                <a:cubicBezTo>
                  <a:pt x="7534550" y="4524790"/>
                  <a:pt x="8253185" y="4658343"/>
                  <a:pt x="9149297" y="4461355"/>
                </a:cubicBezTo>
                <a:cubicBezTo>
                  <a:pt x="9150597" y="3000127"/>
                  <a:pt x="9151896" y="1461228"/>
                  <a:pt x="9153196" y="0"/>
                </a:cubicBezTo>
                <a:lnTo>
                  <a:pt x="52" y="1284"/>
                </a:lnTo>
                <a:close/>
              </a:path>
            </a:pathLst>
          </a:custGeom>
          <a:solidFill>
            <a:srgbClr val="4f81b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Freeform 6"/>
          <p:cNvSpPr/>
          <p:nvPr/>
        </p:nvSpPr>
        <p:spPr>
          <a:xfrm>
            <a:off x="0" y="0"/>
            <a:ext cx="9144000" cy="4525920"/>
          </a:xfrm>
          <a:custGeom>
            <a:avLst/>
            <a:gdLst/>
            <a:ahLst/>
            <a:rect l="l" t="t" r="r" b="b"/>
            <a:pathLst>
              <a:path w="9153196" h="4757736">
                <a:moveTo>
                  <a:pt x="52" y="1284"/>
                </a:moveTo>
                <a:cubicBezTo>
                  <a:pt x="35" y="491948"/>
                  <a:pt x="17" y="4267072"/>
                  <a:pt x="0" y="4757736"/>
                </a:cubicBezTo>
                <a:cubicBezTo>
                  <a:pt x="414528" y="4596192"/>
                  <a:pt x="1857799" y="4264120"/>
                  <a:pt x="2980996" y="4236720"/>
                </a:cubicBezTo>
                <a:cubicBezTo>
                  <a:pt x="4104193" y="4209320"/>
                  <a:pt x="5900665" y="4503309"/>
                  <a:pt x="6739180" y="4593336"/>
                </a:cubicBezTo>
                <a:cubicBezTo>
                  <a:pt x="7577695" y="4683363"/>
                  <a:pt x="8253185" y="4731157"/>
                  <a:pt x="9149297" y="4383685"/>
                </a:cubicBezTo>
                <a:cubicBezTo>
                  <a:pt x="9150597" y="2922457"/>
                  <a:pt x="9151896" y="1461228"/>
                  <a:pt x="9153196" y="0"/>
                </a:cubicBezTo>
                <a:lnTo>
                  <a:pt x="52" y="1284"/>
                </a:lnTo>
                <a:close/>
              </a:path>
            </a:pathLst>
          </a:custGeom>
          <a:gradFill rotWithShape="0">
            <a:gsLst>
              <a:gs pos="0">
                <a:srgbClr val="376092">
                  <a:alpha val="69019"/>
                </a:srgbClr>
              </a:gs>
              <a:gs pos="100000">
                <a:srgbClr val="4f81bd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Oval 7"/>
          <p:cNvGrpSpPr/>
          <p:nvPr/>
        </p:nvGrpSpPr>
        <p:grpSpPr>
          <a:xfrm>
            <a:off x="8058240" y="3846600"/>
            <a:ext cx="774720" cy="768240"/>
            <a:chOff x="8058240" y="3846600"/>
            <a:chExt cx="774720" cy="768240"/>
          </a:xfrm>
        </p:grpSpPr>
        <p:pic>
          <p:nvPicPr>
            <p:cNvPr id="150" name="Oval 7" descr=""/>
            <p:cNvPicPr/>
            <p:nvPr/>
          </p:nvPicPr>
          <p:blipFill>
            <a:blip r:embed="rId2"/>
            <a:stretch/>
          </p:blipFill>
          <p:spPr>
            <a:xfrm>
              <a:off x="8058240" y="3846600"/>
              <a:ext cx="7747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8175600" y="3960720"/>
              <a:ext cx="536760" cy="53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Oval 8"/>
          <p:cNvGrpSpPr/>
          <p:nvPr/>
        </p:nvGrpSpPr>
        <p:grpSpPr>
          <a:xfrm>
            <a:off x="7785000" y="4529160"/>
            <a:ext cx="395280" cy="396720"/>
            <a:chOff x="7785000" y="4529160"/>
            <a:chExt cx="395280" cy="396720"/>
          </a:xfrm>
        </p:grpSpPr>
        <p:pic>
          <p:nvPicPr>
            <p:cNvPr id="153" name="Oval 8" descr=""/>
            <p:cNvPicPr/>
            <p:nvPr/>
          </p:nvPicPr>
          <p:blipFill>
            <a:blip r:embed="rId3"/>
            <a:stretch/>
          </p:blipFill>
          <p:spPr>
            <a:xfrm>
              <a:off x="7785000" y="4529160"/>
              <a:ext cx="39528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7846920" y="459108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Oval 9"/>
          <p:cNvGrpSpPr/>
          <p:nvPr/>
        </p:nvGrpSpPr>
        <p:grpSpPr>
          <a:xfrm>
            <a:off x="298440" y="3833640"/>
            <a:ext cx="1006560" cy="1013040"/>
            <a:chOff x="298440" y="3833640"/>
            <a:chExt cx="1006560" cy="1013040"/>
          </a:xfrm>
        </p:grpSpPr>
        <p:pic>
          <p:nvPicPr>
            <p:cNvPr id="156" name="Oval 9" descr=""/>
            <p:cNvPicPr/>
            <p:nvPr/>
          </p:nvPicPr>
          <p:blipFill>
            <a:blip r:embed="rId4"/>
            <a:stretch/>
          </p:blipFill>
          <p:spPr>
            <a:xfrm>
              <a:off x="298440" y="3833640"/>
              <a:ext cx="100656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447840" y="3986280"/>
              <a:ext cx="70452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bacc6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64a2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bbb59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0504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10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11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12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1C18A-CAB3-4132-8A5B-733C6C5C5DC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reeform 7"/>
          <p:cNvSpPr/>
          <p:nvPr/>
        </p:nvSpPr>
        <p:spPr>
          <a:xfrm>
            <a:off x="0" y="0"/>
            <a:ext cx="9144000" cy="1928880"/>
          </a:xfrm>
          <a:custGeom>
            <a:avLst/>
            <a:gdLst/>
            <a:ahLst/>
            <a:rect l="l" t="t" r="r" b="b"/>
            <a:pathLst>
              <a:path w="9144000" h="1929384">
                <a:moveTo>
                  <a:pt x="0" y="256032"/>
                </a:moveTo>
                <a:lnTo>
                  <a:pt x="0" y="1929384"/>
                </a:lnTo>
                <a:cubicBezTo>
                  <a:pt x="574548" y="1726692"/>
                  <a:pt x="1449324" y="1360932"/>
                  <a:pt x="2971800" y="1307592"/>
                </a:cubicBezTo>
                <a:cubicBezTo>
                  <a:pt x="4494276" y="1254252"/>
                  <a:pt x="7606284" y="1872996"/>
                  <a:pt x="9134856" y="1609344"/>
                </a:cubicBezTo>
                <a:lnTo>
                  <a:pt x="9144000" y="0"/>
                </a:lnTo>
                <a:lnTo>
                  <a:pt x="8503920" y="0"/>
                </a:lnTo>
                <a:cubicBezTo>
                  <a:pt x="7543800" y="844296"/>
                  <a:pt x="5111496" y="420624"/>
                  <a:pt x="3858768" y="320040"/>
                </a:cubicBezTo>
                <a:cubicBezTo>
                  <a:pt x="2606040" y="219456"/>
                  <a:pt x="1435608" y="76200"/>
                  <a:pt x="0" y="256032"/>
                </a:cubicBezTo>
                <a:close/>
              </a:path>
            </a:pathLst>
          </a:custGeom>
          <a:solidFill>
            <a:srgbClr val="40c6d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Freeform 8"/>
          <p:cNvSpPr/>
          <p:nvPr/>
        </p:nvSpPr>
        <p:spPr>
          <a:xfrm>
            <a:off x="0" y="228600"/>
            <a:ext cx="9144000" cy="1409760"/>
          </a:xfrm>
          <a:custGeom>
            <a:avLst/>
            <a:gdLst/>
            <a:ahLst/>
            <a:rect l="l" t="t" r="r" b="b"/>
            <a:pathLst>
              <a:path w="9144381" h="1409700">
                <a:moveTo>
                  <a:pt x="381" y="426720"/>
                </a:moveTo>
                <a:cubicBezTo>
                  <a:pt x="1664589" y="0"/>
                  <a:pt x="3036189" y="134112"/>
                  <a:pt x="4544949" y="234696"/>
                </a:cubicBezTo>
                <a:cubicBezTo>
                  <a:pt x="6053709" y="335280"/>
                  <a:pt x="8239125" y="509016"/>
                  <a:pt x="9144381" y="33528"/>
                </a:cubicBezTo>
                <a:lnTo>
                  <a:pt x="9144381" y="1075944"/>
                </a:lnTo>
                <a:cubicBezTo>
                  <a:pt x="8004429" y="1409700"/>
                  <a:pt x="5931852" y="960582"/>
                  <a:pt x="4407789" y="1011936"/>
                </a:cubicBezTo>
                <a:cubicBezTo>
                  <a:pt x="2883726" y="1063290"/>
                  <a:pt x="1237488" y="1109751"/>
                  <a:pt x="0" y="1384071"/>
                </a:cubicBezTo>
                <a:lnTo>
                  <a:pt x="381" y="42672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Oval 9"/>
          <p:cNvGrpSpPr/>
          <p:nvPr/>
        </p:nvGrpSpPr>
        <p:grpSpPr>
          <a:xfrm>
            <a:off x="8308800" y="96840"/>
            <a:ext cx="622440" cy="622440"/>
            <a:chOff x="8308800" y="96840"/>
            <a:chExt cx="622440" cy="622440"/>
          </a:xfrm>
        </p:grpSpPr>
        <p:pic>
          <p:nvPicPr>
            <p:cNvPr id="202" name="Oval 9" descr=""/>
            <p:cNvPicPr/>
            <p:nvPr/>
          </p:nvPicPr>
          <p:blipFill>
            <a:blip r:embed="rId2"/>
            <a:stretch/>
          </p:blipFill>
          <p:spPr>
            <a:xfrm>
              <a:off x="8308800" y="96840"/>
              <a:ext cx="62244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8400960" y="190440"/>
              <a:ext cx="43344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Oval 10"/>
          <p:cNvGrpSpPr/>
          <p:nvPr/>
        </p:nvGrpSpPr>
        <p:grpSpPr>
          <a:xfrm>
            <a:off x="7559640" y="171360"/>
            <a:ext cx="378000" cy="378000"/>
            <a:chOff x="7559640" y="171360"/>
            <a:chExt cx="378000" cy="378000"/>
          </a:xfrm>
        </p:grpSpPr>
        <p:pic>
          <p:nvPicPr>
            <p:cNvPr id="205" name="Oval 10" descr=""/>
            <p:cNvPicPr/>
            <p:nvPr/>
          </p:nvPicPr>
          <p:blipFill>
            <a:blip r:embed="rId3"/>
            <a:stretch/>
          </p:blipFill>
          <p:spPr>
            <a:xfrm>
              <a:off x="7559640" y="171360"/>
              <a:ext cx="37800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7615080" y="227160"/>
              <a:ext cx="25884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Oval 11"/>
          <p:cNvGrpSpPr/>
          <p:nvPr/>
        </p:nvGrpSpPr>
        <p:grpSpPr>
          <a:xfrm>
            <a:off x="208080" y="927000"/>
            <a:ext cx="1004760" cy="1011240"/>
            <a:chOff x="208080" y="927000"/>
            <a:chExt cx="1004760" cy="1011240"/>
          </a:xfrm>
        </p:grpSpPr>
        <p:pic>
          <p:nvPicPr>
            <p:cNvPr id="208" name="Oval 11" descr=""/>
            <p:cNvPicPr/>
            <p:nvPr/>
          </p:nvPicPr>
          <p:blipFill>
            <a:blip r:embed="rId4"/>
            <a:stretch/>
          </p:blipFill>
          <p:spPr>
            <a:xfrm>
              <a:off x="208080" y="927000"/>
              <a:ext cx="100476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355680" y="1077840"/>
              <a:ext cx="70488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bacc6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64a2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bbb59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0504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3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4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5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8A73E-71F9-421F-B75A-E3AF97DC5DA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reeform 6"/>
          <p:cNvSpPr/>
          <p:nvPr/>
        </p:nvSpPr>
        <p:spPr>
          <a:xfrm>
            <a:off x="0" y="0"/>
            <a:ext cx="9153360" cy="1862280"/>
          </a:xfrm>
          <a:custGeom>
            <a:avLst/>
            <a:gdLst/>
            <a:ahLst/>
            <a:rect l="l" t="t" r="r" b="b"/>
            <a:pathLst>
              <a:path w="9153196" h="1862136">
                <a:moveTo>
                  <a:pt x="52" y="1284"/>
                </a:moveTo>
                <a:cubicBezTo>
                  <a:pt x="35" y="491948"/>
                  <a:pt x="17" y="1371472"/>
                  <a:pt x="0" y="1862136"/>
                </a:cubicBezTo>
                <a:cubicBezTo>
                  <a:pt x="304800" y="1706688"/>
                  <a:pt x="1952287" y="1117060"/>
                  <a:pt x="2999284" y="1051560"/>
                </a:cubicBezTo>
                <a:cubicBezTo>
                  <a:pt x="4046281" y="986060"/>
                  <a:pt x="5541316" y="1353820"/>
                  <a:pt x="6281980" y="1469136"/>
                </a:cubicBezTo>
                <a:cubicBezTo>
                  <a:pt x="7022644" y="1584452"/>
                  <a:pt x="8247940" y="1834896"/>
                  <a:pt x="9144052" y="1487424"/>
                </a:cubicBezTo>
                <a:lnTo>
                  <a:pt x="9153196" y="0"/>
                </a:lnTo>
                <a:lnTo>
                  <a:pt x="52" y="1284"/>
                </a:lnTo>
                <a:close/>
              </a:path>
            </a:pathLst>
          </a:custGeom>
          <a:solidFill>
            <a:srgbClr val="4f81b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Freeform 7"/>
          <p:cNvSpPr/>
          <p:nvPr/>
        </p:nvSpPr>
        <p:spPr>
          <a:xfrm>
            <a:off x="0" y="0"/>
            <a:ext cx="9153360" cy="1481040"/>
          </a:xfrm>
          <a:custGeom>
            <a:avLst/>
            <a:gdLst/>
            <a:ahLst/>
            <a:rect l="l" t="t" r="r" b="b"/>
            <a:pathLst>
              <a:path w="9153196" h="1481136">
                <a:moveTo>
                  <a:pt x="52" y="1284"/>
                </a:moveTo>
                <a:cubicBezTo>
                  <a:pt x="35" y="491948"/>
                  <a:pt x="17" y="990472"/>
                  <a:pt x="0" y="1481136"/>
                </a:cubicBezTo>
                <a:cubicBezTo>
                  <a:pt x="414528" y="1319592"/>
                  <a:pt x="1857799" y="987520"/>
                  <a:pt x="2980996" y="960120"/>
                </a:cubicBezTo>
                <a:cubicBezTo>
                  <a:pt x="4104193" y="932720"/>
                  <a:pt x="6019852" y="1271016"/>
                  <a:pt x="6739180" y="1316736"/>
                </a:cubicBezTo>
                <a:cubicBezTo>
                  <a:pt x="7458508" y="1362456"/>
                  <a:pt x="8247940" y="1453896"/>
                  <a:pt x="9144052" y="1106424"/>
                </a:cubicBezTo>
                <a:lnTo>
                  <a:pt x="9153196" y="0"/>
                </a:lnTo>
                <a:lnTo>
                  <a:pt x="52" y="1284"/>
                </a:lnTo>
                <a:close/>
              </a:path>
            </a:pathLst>
          </a:custGeom>
          <a:gradFill rotWithShape="0">
            <a:gsLst>
              <a:gs pos="0">
                <a:srgbClr val="376092">
                  <a:alpha val="69019"/>
                </a:srgbClr>
              </a:gs>
              <a:gs pos="100000">
                <a:srgbClr val="4f81bd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Oval 9"/>
          <p:cNvGrpSpPr/>
          <p:nvPr/>
        </p:nvGrpSpPr>
        <p:grpSpPr>
          <a:xfrm>
            <a:off x="8223120" y="1000080"/>
            <a:ext cx="628920" cy="627120"/>
            <a:chOff x="8223120" y="1000080"/>
            <a:chExt cx="628920" cy="627120"/>
          </a:xfrm>
        </p:grpSpPr>
        <p:pic>
          <p:nvPicPr>
            <p:cNvPr id="254" name="Oval 9" descr=""/>
            <p:cNvPicPr/>
            <p:nvPr/>
          </p:nvPicPr>
          <p:blipFill>
            <a:blip r:embed="rId2"/>
            <a:stretch/>
          </p:blipFill>
          <p:spPr>
            <a:xfrm>
              <a:off x="8223120" y="1000080"/>
              <a:ext cx="62892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8319960" y="1095480"/>
              <a:ext cx="43200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Oval 10"/>
          <p:cNvGrpSpPr/>
          <p:nvPr/>
        </p:nvGrpSpPr>
        <p:grpSpPr>
          <a:xfrm>
            <a:off x="7693200" y="963720"/>
            <a:ext cx="396720" cy="395280"/>
            <a:chOff x="7693200" y="963720"/>
            <a:chExt cx="396720" cy="395280"/>
          </a:xfrm>
        </p:grpSpPr>
        <p:pic>
          <p:nvPicPr>
            <p:cNvPr id="257" name="Oval 10" descr=""/>
            <p:cNvPicPr/>
            <p:nvPr/>
          </p:nvPicPr>
          <p:blipFill>
            <a:blip r:embed="rId3"/>
            <a:stretch/>
          </p:blipFill>
          <p:spPr>
            <a:xfrm>
              <a:off x="7693200" y="963720"/>
              <a:ext cx="39672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7754760" y="1025640"/>
              <a:ext cx="2718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Oval 11"/>
          <p:cNvGrpSpPr/>
          <p:nvPr/>
        </p:nvGrpSpPr>
        <p:grpSpPr>
          <a:xfrm>
            <a:off x="281160" y="781200"/>
            <a:ext cx="1004760" cy="1011240"/>
            <a:chOff x="281160" y="781200"/>
            <a:chExt cx="1004760" cy="1011240"/>
          </a:xfrm>
        </p:grpSpPr>
        <p:pic>
          <p:nvPicPr>
            <p:cNvPr id="260" name="Oval 11" descr=""/>
            <p:cNvPicPr/>
            <p:nvPr/>
          </p:nvPicPr>
          <p:blipFill>
            <a:blip r:embed="rId4"/>
            <a:stretch/>
          </p:blipFill>
          <p:spPr>
            <a:xfrm>
              <a:off x="281160" y="781200"/>
              <a:ext cx="100476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430200" y="932040"/>
              <a:ext cx="703440" cy="7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bacc6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64a2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bbb59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0504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7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18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F36FE-3A97-4FCC-B507-C80B6A1BB19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reeform 9"/>
          <p:cNvSpPr/>
          <p:nvPr/>
        </p:nvSpPr>
        <p:spPr>
          <a:xfrm>
            <a:off x="0" y="0"/>
            <a:ext cx="9150480" cy="1281240"/>
          </a:xfrm>
          <a:custGeom>
            <a:avLst/>
            <a:gdLst/>
            <a:ahLst/>
            <a:rect l="l" t="t" r="r" b="b"/>
            <a:pathLst>
              <a:path w="9150620" h="1470041">
                <a:moveTo>
                  <a:pt x="52" y="1284"/>
                </a:moveTo>
                <a:cubicBezTo>
                  <a:pt x="35" y="491948"/>
                  <a:pt x="17" y="761872"/>
                  <a:pt x="0" y="1252536"/>
                </a:cubicBezTo>
                <a:cubicBezTo>
                  <a:pt x="304800" y="1097088"/>
                  <a:pt x="1803165" y="328826"/>
                  <a:pt x="3622738" y="425264"/>
                </a:cubicBezTo>
                <a:cubicBezTo>
                  <a:pt x="5442311" y="521702"/>
                  <a:pt x="6970396" y="1470041"/>
                  <a:pt x="9144052" y="877824"/>
                </a:cubicBezTo>
                <a:cubicBezTo>
                  <a:pt x="9146241" y="585216"/>
                  <a:pt x="9148431" y="292608"/>
                  <a:pt x="9150620" y="0"/>
                </a:cubicBezTo>
                <a:lnTo>
                  <a:pt x="52" y="1284"/>
                </a:lnTo>
                <a:close/>
              </a:path>
            </a:pathLst>
          </a:custGeom>
          <a:solidFill>
            <a:srgbClr val="4f81b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Freeform 5"/>
          <p:cNvSpPr/>
          <p:nvPr/>
        </p:nvSpPr>
        <p:spPr>
          <a:xfrm>
            <a:off x="0" y="-1440"/>
            <a:ext cx="9144000" cy="1093680"/>
          </a:xfrm>
          <a:custGeom>
            <a:avLst/>
            <a:gdLst/>
            <a:ahLst/>
            <a:rect l="l" t="t" r="r" b="b"/>
            <a:pathLst>
              <a:path w="9144052" h="1282732">
                <a:moveTo>
                  <a:pt x="2371" y="1971"/>
                </a:moveTo>
                <a:cubicBezTo>
                  <a:pt x="1581" y="305263"/>
                  <a:pt x="790" y="446133"/>
                  <a:pt x="0" y="749425"/>
                </a:cubicBezTo>
                <a:cubicBezTo>
                  <a:pt x="414528" y="587881"/>
                  <a:pt x="1394642" y="355830"/>
                  <a:pt x="3114923" y="315034"/>
                </a:cubicBezTo>
                <a:cubicBezTo>
                  <a:pt x="4835204" y="274238"/>
                  <a:pt x="7500499" y="1282732"/>
                  <a:pt x="9144052" y="537135"/>
                </a:cubicBezTo>
                <a:cubicBezTo>
                  <a:pt x="9143751" y="358090"/>
                  <a:pt x="9143451" y="179045"/>
                  <a:pt x="9143150" y="0"/>
                </a:cubicBezTo>
                <a:lnTo>
                  <a:pt x="2371" y="1971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Oval 6"/>
          <p:cNvGrpSpPr/>
          <p:nvPr/>
        </p:nvGrpSpPr>
        <p:grpSpPr>
          <a:xfrm>
            <a:off x="8070840" y="378000"/>
            <a:ext cx="768240" cy="774360"/>
            <a:chOff x="8070840" y="378000"/>
            <a:chExt cx="768240" cy="774360"/>
          </a:xfrm>
        </p:grpSpPr>
        <p:pic>
          <p:nvPicPr>
            <p:cNvPr id="306" name="Oval 6" descr=""/>
            <p:cNvPicPr/>
            <p:nvPr/>
          </p:nvPicPr>
          <p:blipFill>
            <a:blip r:embed="rId2"/>
            <a:stretch/>
          </p:blipFill>
          <p:spPr>
            <a:xfrm>
              <a:off x="8070840" y="378000"/>
              <a:ext cx="76824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8185320" y="495360"/>
              <a:ext cx="5364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Oval 7"/>
          <p:cNvGrpSpPr/>
          <p:nvPr/>
        </p:nvGrpSpPr>
        <p:grpSpPr>
          <a:xfrm>
            <a:off x="7491240" y="426960"/>
            <a:ext cx="397080" cy="395280"/>
            <a:chOff x="7491240" y="426960"/>
            <a:chExt cx="397080" cy="395280"/>
          </a:xfrm>
        </p:grpSpPr>
        <p:pic>
          <p:nvPicPr>
            <p:cNvPr id="309" name="Oval 7" descr=""/>
            <p:cNvPicPr/>
            <p:nvPr/>
          </p:nvPicPr>
          <p:blipFill>
            <a:blip r:embed="rId3"/>
            <a:stretch/>
          </p:blipFill>
          <p:spPr>
            <a:xfrm>
              <a:off x="7491240" y="426960"/>
              <a:ext cx="39708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7554960" y="48564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Oval 8"/>
          <p:cNvGrpSpPr/>
          <p:nvPr/>
        </p:nvGrpSpPr>
        <p:grpSpPr>
          <a:xfrm>
            <a:off x="208080" y="208080"/>
            <a:ext cx="839520" cy="839520"/>
            <a:chOff x="208080" y="208080"/>
            <a:chExt cx="839520" cy="839520"/>
          </a:xfrm>
        </p:grpSpPr>
        <p:pic>
          <p:nvPicPr>
            <p:cNvPr id="312" name="Oval 8" descr=""/>
            <p:cNvPicPr/>
            <p:nvPr/>
          </p:nvPicPr>
          <p:blipFill>
            <a:blip r:embed="rId4"/>
            <a:stretch/>
          </p:blipFill>
          <p:spPr>
            <a:xfrm>
              <a:off x="208080" y="208080"/>
              <a:ext cx="839520" cy="83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331920" y="331920"/>
              <a:ext cx="58896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bacc6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64a2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bbb59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0504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10509-5962-425E-98B0-B80F670B0CB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Group 4"/>
          <p:cNvGrpSpPr/>
          <p:nvPr/>
        </p:nvGrpSpPr>
        <p:grpSpPr>
          <a:xfrm>
            <a:off x="0" y="-1440"/>
            <a:ext cx="9150480" cy="1282680"/>
            <a:chOff x="0" y="-1440"/>
            <a:chExt cx="9150480" cy="1282680"/>
          </a:xfrm>
        </p:grpSpPr>
        <p:sp>
          <p:nvSpPr>
            <p:cNvPr id="356" name="Freeform 5"/>
            <p:cNvSpPr/>
            <p:nvPr/>
          </p:nvSpPr>
          <p:spPr>
            <a:xfrm>
              <a:off x="0" y="360"/>
              <a:ext cx="9150480" cy="1280880"/>
            </a:xfrm>
            <a:custGeom>
              <a:avLst/>
              <a:gdLst/>
              <a:ahLst/>
              <a:rect l="l" t="t" r="r" b="b"/>
              <a:pathLst>
                <a:path w="9150620" h="1470041">
                  <a:moveTo>
                    <a:pt x="52" y="1284"/>
                  </a:moveTo>
                  <a:cubicBezTo>
                    <a:pt x="35" y="491948"/>
                    <a:pt x="17" y="761872"/>
                    <a:pt x="0" y="1252536"/>
                  </a:cubicBezTo>
                  <a:cubicBezTo>
                    <a:pt x="304800" y="1097088"/>
                    <a:pt x="1803165" y="328826"/>
                    <a:pt x="3622738" y="425264"/>
                  </a:cubicBezTo>
                  <a:cubicBezTo>
                    <a:pt x="5442311" y="521702"/>
                    <a:pt x="6970396" y="1470041"/>
                    <a:pt x="9144052" y="877824"/>
                  </a:cubicBezTo>
                  <a:cubicBezTo>
                    <a:pt x="9146241" y="585216"/>
                    <a:pt x="9148431" y="292608"/>
                    <a:pt x="9150620" y="0"/>
                  </a:cubicBezTo>
                  <a:lnTo>
                    <a:pt x="52" y="1284"/>
                  </a:lnTo>
                  <a:close/>
                </a:path>
              </a:pathLst>
            </a:custGeom>
            <a:solidFill>
              <a:srgbClr val="4f81bd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Freeform 6"/>
            <p:cNvSpPr/>
            <p:nvPr/>
          </p:nvSpPr>
          <p:spPr>
            <a:xfrm>
              <a:off x="0" y="-1440"/>
              <a:ext cx="9144000" cy="1093320"/>
            </a:xfrm>
            <a:custGeom>
              <a:avLst/>
              <a:gdLst/>
              <a:ahLst/>
              <a:rect l="l" t="t" r="r" b="b"/>
              <a:pathLst>
                <a:path w="9144052" h="1282732">
                  <a:moveTo>
                    <a:pt x="2371" y="1971"/>
                  </a:moveTo>
                  <a:cubicBezTo>
                    <a:pt x="1581" y="305263"/>
                    <a:pt x="790" y="446133"/>
                    <a:pt x="0" y="749425"/>
                  </a:cubicBezTo>
                  <a:cubicBezTo>
                    <a:pt x="414528" y="587881"/>
                    <a:pt x="1394642" y="355830"/>
                    <a:pt x="3114923" y="315034"/>
                  </a:cubicBezTo>
                  <a:cubicBezTo>
                    <a:pt x="4835204" y="274238"/>
                    <a:pt x="7500499" y="1282732"/>
                    <a:pt x="9144052" y="537135"/>
                  </a:cubicBezTo>
                  <a:cubicBezTo>
                    <a:pt x="9143751" y="358090"/>
                    <a:pt x="9143451" y="179045"/>
                    <a:pt x="9143150" y="0"/>
                  </a:cubicBezTo>
                  <a:lnTo>
                    <a:pt x="2371" y="1971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Oval 7"/>
          <p:cNvGrpSpPr/>
          <p:nvPr/>
        </p:nvGrpSpPr>
        <p:grpSpPr>
          <a:xfrm>
            <a:off x="8070840" y="378000"/>
            <a:ext cx="768240" cy="774360"/>
            <a:chOff x="8070840" y="378000"/>
            <a:chExt cx="768240" cy="774360"/>
          </a:xfrm>
        </p:grpSpPr>
        <p:pic>
          <p:nvPicPr>
            <p:cNvPr id="359" name="Oval 7" descr=""/>
            <p:cNvPicPr/>
            <p:nvPr/>
          </p:nvPicPr>
          <p:blipFill>
            <a:blip r:embed="rId2"/>
            <a:stretch/>
          </p:blipFill>
          <p:spPr>
            <a:xfrm>
              <a:off x="8070840" y="378000"/>
              <a:ext cx="76824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8185320" y="495360"/>
              <a:ext cx="5364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Oval 8"/>
          <p:cNvGrpSpPr/>
          <p:nvPr/>
        </p:nvGrpSpPr>
        <p:grpSpPr>
          <a:xfrm>
            <a:off x="7491240" y="426960"/>
            <a:ext cx="397080" cy="395280"/>
            <a:chOff x="7491240" y="426960"/>
            <a:chExt cx="397080" cy="395280"/>
          </a:xfrm>
        </p:grpSpPr>
        <p:pic>
          <p:nvPicPr>
            <p:cNvPr id="362" name="Oval 8" descr=""/>
            <p:cNvPicPr/>
            <p:nvPr/>
          </p:nvPicPr>
          <p:blipFill>
            <a:blip r:embed="rId3"/>
            <a:stretch/>
          </p:blipFill>
          <p:spPr>
            <a:xfrm>
              <a:off x="7491240" y="426960"/>
              <a:ext cx="39708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7554960" y="48564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Oval 9"/>
          <p:cNvGrpSpPr/>
          <p:nvPr/>
        </p:nvGrpSpPr>
        <p:grpSpPr>
          <a:xfrm>
            <a:off x="208080" y="208080"/>
            <a:ext cx="839520" cy="839520"/>
            <a:chOff x="208080" y="208080"/>
            <a:chExt cx="839520" cy="839520"/>
          </a:xfrm>
        </p:grpSpPr>
        <p:pic>
          <p:nvPicPr>
            <p:cNvPr id="365" name="Oval 9" descr=""/>
            <p:cNvPicPr/>
            <p:nvPr/>
          </p:nvPicPr>
          <p:blipFill>
            <a:blip r:embed="rId4"/>
            <a:stretch/>
          </p:blipFill>
          <p:spPr>
            <a:xfrm>
              <a:off x="208080" y="208080"/>
              <a:ext cx="839520" cy="83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331920" y="331920"/>
              <a:ext cx="58896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bacc6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64a2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bbb59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0504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2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3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4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7CB9A-A431-4445-828F-A1B2F0B7725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Group 7"/>
          <p:cNvGrpSpPr/>
          <p:nvPr/>
        </p:nvGrpSpPr>
        <p:grpSpPr>
          <a:xfrm>
            <a:off x="0" y="-6840"/>
            <a:ext cx="1104840" cy="6891480"/>
            <a:chOff x="0" y="-6840"/>
            <a:chExt cx="1104840" cy="6891480"/>
          </a:xfrm>
        </p:grpSpPr>
        <p:sp>
          <p:nvSpPr>
            <p:cNvPr id="409" name="Freeform 8"/>
            <p:cNvSpPr/>
            <p:nvPr/>
          </p:nvSpPr>
          <p:spPr>
            <a:xfrm rot="16200000">
              <a:off x="-2892240" y="2887200"/>
              <a:ext cx="6891480" cy="1103400"/>
            </a:xfrm>
            <a:custGeom>
              <a:avLst/>
              <a:gdLst/>
              <a:ahLst/>
              <a:rect l="l" t="t" r="r" b="b"/>
              <a:pathLst>
                <a:path w="9176990" h="1489619">
                  <a:moveTo>
                    <a:pt x="18502" y="1284"/>
                  </a:moveTo>
                  <a:cubicBezTo>
                    <a:pt x="18485" y="491948"/>
                    <a:pt x="17" y="998955"/>
                    <a:pt x="0" y="1489619"/>
                  </a:cubicBezTo>
                  <a:cubicBezTo>
                    <a:pt x="304800" y="1334171"/>
                    <a:pt x="2076793" y="572593"/>
                    <a:pt x="3209344" y="515274"/>
                  </a:cubicBezTo>
                  <a:cubicBezTo>
                    <a:pt x="4341895" y="457955"/>
                    <a:pt x="5743827" y="772070"/>
                    <a:pt x="6307596" y="941158"/>
                  </a:cubicBezTo>
                  <a:cubicBezTo>
                    <a:pt x="6871365" y="1110246"/>
                    <a:pt x="8191884" y="1377605"/>
                    <a:pt x="9174801" y="1061875"/>
                  </a:cubicBezTo>
                  <a:cubicBezTo>
                    <a:pt x="9176990" y="769267"/>
                    <a:pt x="9166881" y="292608"/>
                    <a:pt x="9169070" y="0"/>
                  </a:cubicBezTo>
                  <a:lnTo>
                    <a:pt x="18502" y="1284"/>
                  </a:lnTo>
                  <a:close/>
                </a:path>
              </a:pathLst>
            </a:custGeom>
            <a:solidFill>
              <a:srgbClr val="4f81bd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Freeform 9"/>
            <p:cNvSpPr/>
            <p:nvPr/>
          </p:nvSpPr>
          <p:spPr>
            <a:xfrm rot="16200000">
              <a:off x="-2893320" y="2892600"/>
              <a:ext cx="6870600" cy="1083240"/>
            </a:xfrm>
            <a:custGeom>
              <a:avLst/>
              <a:gdLst/>
              <a:ahLst/>
              <a:rect l="l" t="t" r="r" b="b"/>
              <a:pathLst>
                <a:path w="9142471" h="1874582">
                  <a:moveTo>
                    <a:pt x="790" y="1971"/>
                  </a:moveTo>
                  <a:cubicBezTo>
                    <a:pt x="0" y="305263"/>
                    <a:pt x="5358" y="838040"/>
                    <a:pt x="4568" y="1141332"/>
                  </a:cubicBezTo>
                  <a:cubicBezTo>
                    <a:pt x="419096" y="979788"/>
                    <a:pt x="1492070" y="639683"/>
                    <a:pt x="3162539" y="482994"/>
                  </a:cubicBezTo>
                  <a:cubicBezTo>
                    <a:pt x="4833008" y="326305"/>
                    <a:pt x="7747892" y="1874582"/>
                    <a:pt x="9142471" y="825067"/>
                  </a:cubicBezTo>
                  <a:cubicBezTo>
                    <a:pt x="9142170" y="646022"/>
                    <a:pt x="9141870" y="179045"/>
                    <a:pt x="9141569" y="0"/>
                  </a:cubicBezTo>
                  <a:lnTo>
                    <a:pt x="790" y="1971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bacc6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64a2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bbb59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0504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25"/>
          </p:nvPr>
        </p:nvSpPr>
        <p:spPr>
          <a:xfrm>
            <a:off x="9140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26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27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96C16-418A-4C48-9B74-69AF480A416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Rectangle 2" descr=""/>
          <p:cNvPicPr/>
          <p:nvPr/>
        </p:nvPicPr>
        <p:blipFill>
          <a:blip r:embed="rId1"/>
          <a:stretch/>
        </p:blipFill>
        <p:spPr>
          <a:xfrm>
            <a:off x="676440" y="669960"/>
            <a:ext cx="7785000" cy="3603600"/>
          </a:xfrm>
          <a:prstGeom prst="rect">
            <a:avLst/>
          </a:prstGeom>
          <a:ln w="0">
            <a:noFill/>
          </a:ln>
        </p:spPr>
      </p:pic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2484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ahoma"/>
              </a:rPr>
              <a:t>  </a:t>
            </a:r>
            <a:r>
              <a:rPr b="0" lang="ru-RU" sz="1600" spc="-1" strike="noStrike">
                <a:solidFill>
                  <a:srgbClr val="262626"/>
                </a:solidFill>
                <a:latin typeface="Tahoma"/>
              </a:rPr>
              <a:t>Виноградова Людмила Сергеевн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ahoma"/>
              </a:rPr>
              <a:t>Учитель информатик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ahoma"/>
              </a:rPr>
              <a:t>Вторая квалификационная категори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ahoma"/>
              </a:rPr>
              <a:t>ГОУ Средняя общеобразовательная школа № 35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ahoma"/>
              </a:rPr>
              <a:t>г. Москв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" dur="500"/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" dur="500"/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500"/>
                                        <p:tgtEl>
                                          <p:spTgt spid="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Tahoma"/>
                <a:ea typeface="Times New Roman"/>
              </a:rPr>
              <a:t>Домашняя работа</a:t>
            </a:r>
            <a:r>
              <a:rPr b="0" lang="ru-RU" sz="3000" spc="-1" strike="noStrike">
                <a:solidFill>
                  <a:srgbClr val="ffff00"/>
                </a:solidFill>
                <a:latin typeface="Tahoma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1)Как изменяются при копировании в ячейку , расположенную в соседнем столбце и строке , формула, содержащая относительные ссылки? Абсолютные ссылки? Смешанные ссылки? Приведите примеры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2)Повторить </a:t>
            </a:r>
            <a:r>
              <a:rPr b="1" lang="ru-RU" sz="3000" spc="-1" strike="noStrike">
                <a:solidFill>
                  <a:srgbClr val="000000"/>
                </a:solidFill>
                <a:latin typeface="Tahoma"/>
                <a:ea typeface="TimesNewRomanPSMT"/>
              </a:rPr>
              <a:t>единицы измерения количества информации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 txBox="1"/>
          <p:nvPr/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итература: Н. Угринович : «Информатика и ИКТ»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 txBox="1"/>
          <p:nvPr/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В формулах могут использоваться  ссылки на адреса ячеек. Существуют два основных типа ссылок :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относительные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и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абсолютные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. Различия между относительными и абсолютными ссылками  проявляются при копировании формулы из активной ячейки в другие ячейк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 txBox="1"/>
          <p:nvPr/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ahoma"/>
                <a:ea typeface="Times New Roman"/>
              </a:rPr>
              <a:t>Относительные ссылки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При перемещении или копировании формулы из активной  ячейки относительные ссылки автоматически изменяются  в зависимости от положения  ячейки, в которую скопирована формула. При смещении положения ячейки на одну строку в формуле изменяются на единицу номера строк , а при смещении на один столбец на одну букву смещаются имена столбцов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 txBox="1"/>
          <p:nvPr/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Так при копировании формулы из активной ячейки  С1, содержащей относительные ссылки на ячейки А1 и В1 , в ячейку 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D</a:t>
            </a:r>
            <a:r>
              <a:rPr b="1" lang="ru-RU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2 значения столбцов и строк в формуле  изменятся на один шаг  вправо и вниз. При копировании формулы из ячейки С1 в ячейку Е3 значения столбцов и строк в формуле изменятся на два шага вправо и вниз и т.д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3" descr=""/>
          <p:cNvPicPr/>
          <p:nvPr/>
        </p:nvPicPr>
        <p:blipFill>
          <a:blip r:embed="rId1"/>
          <a:srcRect l="3920" t="29168" r="1960" b="44446"/>
          <a:stretch/>
        </p:blipFill>
        <p:spPr>
          <a:xfrm>
            <a:off x="539640" y="1628640"/>
            <a:ext cx="815364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ffff00"/>
                </a:solidFill>
                <a:uFillTx/>
                <a:latin typeface="Tahoma"/>
                <a:ea typeface="Times New Roman"/>
              </a:rPr>
              <a:t>Абсолютные ссылки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Абсолютные ссылки в формулах используются для указания фиксированных адресов ячеек. При перемещении или копировании формулы абсолютные ссылки не изменяются. В абсолютных ссылках перед  неизменяемыми обозначениями столбца или строки , составляющими адрес ячейки , ставится знак доллара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Так при копировании формулы из активной  ячейки С1 , содержащей абсолютные ссылки на ячейки  $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A</a:t>
            </a:r>
            <a:r>
              <a:rPr b="1" lang="ru-RU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$1, $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B</a:t>
            </a:r>
            <a:r>
              <a:rPr b="1" lang="ru-RU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$1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Picture 3" descr=""/>
          <p:cNvPicPr/>
          <p:nvPr/>
        </p:nvPicPr>
        <p:blipFill>
          <a:blip r:embed="rId1"/>
          <a:srcRect l="2942" t="32879" r="1960" b="36989"/>
          <a:stretch/>
        </p:blipFill>
        <p:spPr>
          <a:xfrm>
            <a:off x="533520" y="1143000"/>
            <a:ext cx="82296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ahoma"/>
                <a:ea typeface="Times New Roman"/>
              </a:rPr>
              <a:t>Смешанные ссылк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В формуле можно использовать смешанные ссылки, в которых координата столбца относительная, а строки – абсолютная ( пример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$1), или, наоборот координат столбца абсолютная, а строки – относительная (пример $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1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3" descr=""/>
          <p:cNvPicPr/>
          <p:nvPr/>
        </p:nvPicPr>
        <p:blipFill>
          <a:blip r:embed="rId1"/>
          <a:srcRect l="3920" t="47945" r="1960" b="27401"/>
          <a:stretch/>
        </p:blipFill>
        <p:spPr>
          <a:xfrm>
            <a:off x="685800" y="838080"/>
            <a:ext cx="7848720" cy="40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Ёля</cp:lastModifiedBy>
  <dcterms:modified xsi:type="dcterms:W3CDTF">2011-08-27T09:56:12Z</dcterms:modified>
  <cp:revision>7</cp:revision>
  <dc:subject/>
  <dc:title>PowerPoint Presentation</dc:title>
</cp:coreProperties>
</file>