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FF64-7DD0-4256-A27C-9C247770F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1F2E-FCB7-40B1-B89E-85D8572002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9088-6D9B-46D2-A04F-19877AA71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ь со ст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BE72-9B99-4586-9DCE-3AB98B08F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D88-2C82-4706-9FD1-990BD18F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7DC-BB30-4EEC-93A0-D7DCB6D4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611-7B26-4088-9907-D4E70A80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B99-4020-43E3-BEDE-FA267C45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FC4-D383-4163-B7F1-37B580C2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4B3-9154-41D5-9490-7FB94541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4EC-92BF-4C0F-B9AE-11757F2A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19D-CD43-4A0F-BEC8-4E836AB6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2E1-DD05-447C-A642-8EB4FC53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F0B-897F-43F2-B162-9C4F61D6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346-1EA5-4B11-98C9-241D1807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BAA-A40A-4B13-B99F-49738A9F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24FA-7EEC-4874-BE46-F199E78A96A6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4BD5-744B-45E8-A789-AC42231A79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ЦЕНКА ДОСТИЖЕНИЯ ПЛАНИРУЕМЫХ РЕЗУЛЬТ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ДМЕТНЫЕ  И МЕТАПРЕДМЕТНЫЕ ИТОГОВЫ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2AA3-F1DC-4C35-A48E-4B6411CFA3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a3130"/>
                </a:solidFill>
                <a:latin typeface="Times New Roman"/>
                <a:ea typeface="Times New Roman"/>
              </a:rPr>
              <a:t>Русский язык: задание базового уров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Из данного ниже предложения запиши в каждый столбик таблицы по 2 примера указанных частей речи. Записывать слова можно в начальной форме или в той форме, в которой они встретились в предложении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Прекрасная мелодия росла, поднималась, бушевала, как ветер, неслась по вершинам высоких деревьев, срывала листья, качала траву, била в лицо прохладными брызгам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тер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каждый столбик записано по два примера ,например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мена существительные 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лодия, ветер, (по)вершинам, деревьев, листья, траву, (в) лицо, брызг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 балл – задание выполнено правильно и в полном объеме: </a:t>
            </a:r>
            <a:r>
              <a:rPr b="1" lang="ru-RU" sz="1900" spc="-1" strike="noStrike" u="sng">
                <a:solidFill>
                  <a:srgbClr val="ff0000"/>
                </a:solidFill>
                <a:uFillTx/>
                <a:latin typeface="Calibri"/>
              </a:rPr>
              <a:t>в каждый столбик записано по два примера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 баллов – при записи примеров допущены ошибки в определении того, какой частью речи является слово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задание выполнено не в полном объ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Русский язык: задание повышенного уров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ы слова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ядюшка, тигрица, подруга, юнош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пиши ответы на вопросы об этих слов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кой частью речи являются эти слова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лова являются ______________________________________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акие признаки, характерные для этой части речи,  у этих слов одинаковые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____________________________________________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____________________________________________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____________________________________________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сано предложение: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лова являются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нами существительны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о три одинаковые признака этих слов из ряда возможных: 1) одушевленные, 2) нарицательные, 3) 1 склонение, 4) ед. ч., 5) Им. 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балла – правильно дописано первое предложение; указаны 3 признака, при этом неверные признаки не указа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 – правильно дописано первое предложение; во втором предложении правильно указано 1-2 признака, при этом неверные признаки не указан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баллов – выполнена только первая часть задания, вторая часть не выполнена или при ее выполнении допущены ошиб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b48200"/>
                </a:solidFill>
                <a:latin typeface="Calibri"/>
              </a:rPr>
              <a:t>ЧТО  МЫ  ПОЛУЧАЕМ  В  РЕЗУЛЬТАТЕ  МНОГОКОМПОНЕНТНОГО   КОНТРОЛЯ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Перевод обучающегося в следующий класс осуществляется по реше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ргана управления образовательного учреждения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Закон «Об образовании», гл. 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II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. 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1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полож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тоговая работа выполнена на 7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ли более («выполнено на базовом уровне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итоговой работе не выполнено правильно (или вообще не выполнено) ни одного задания повышенного уров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метка (балл) по предмету -  «отлично» («5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риалы портфолио (портфеля индивидуальных достижений учащегося) свидетельствуют об отсутствии положительной динамики разви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9253e"/>
                </a:solidFill>
                <a:latin typeface="Calibri"/>
              </a:rPr>
              <a:t>КАКОЙ ВЫВОД ДЕЛАЕТ  ОРГАН УПРАЛЕНИЯ ОБЩЕОБРАЗОВАТЕЛЬНОГО УЧРЕЖД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0A68-D15C-4720-BAB5-30475E5AB2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словия подбора заданий для проверки достижения метапредметных результатов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(русский язык, математ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642760"/>
            <a:ext cx="82580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ные знания не должны влия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a31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3130"/>
                </a:solidFill>
                <a:latin typeface="Calibri"/>
              </a:rPr>
              <a:t>на качество выполнения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a31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3130"/>
                </a:solidFill>
                <a:latin typeface="Calibri"/>
              </a:rPr>
              <a:t>на адекватность оцен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6B8D-917A-49F9-A373-2869024B4DC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. Русский яз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333360"/>
            <a:ext cx="829152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51516"/>
                </a:solidFill>
                <a:uFillTx/>
                <a:latin typeface="Calibri"/>
              </a:rPr>
              <a:t>Определи правильную последовательность своих действий при проверке орфограммы «Безударные проверяемые гласные в корне слова». Расставь числа 1, 2, 3, 4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51516"/>
                </a:solidFill>
                <a:uFillTx/>
                <a:latin typeface="Calibri"/>
              </a:rPr>
              <a:t>Чтобы не ошибиться в написании слов с безударными гласными в корне нуж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r>
              <a:rPr b="1" lang="ru-RU" sz="2000" spc="-1" strike="noStrike" u="sng">
                <a:solidFill>
                  <a:srgbClr val="151516"/>
                </a:solidFill>
                <a:uFillTx/>
                <a:latin typeface="Calibri"/>
              </a:rPr>
              <a:t>Обозначить безударный гласный той же буквой, которой обозначается ударный гласный в этом кор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r>
              <a:rPr b="1" lang="ru-RU" sz="2000" spc="-1" strike="noStrike" u="sng">
                <a:solidFill>
                  <a:srgbClr val="151516"/>
                </a:solidFill>
                <a:uFillTx/>
                <a:latin typeface="Calibri"/>
              </a:rPr>
              <a:t>Определить, в какую часть слова входит безударный глас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r>
              <a:rPr b="1" lang="ru-RU" sz="2000" spc="-1" strike="noStrike" u="sng">
                <a:solidFill>
                  <a:srgbClr val="151516"/>
                </a:solidFill>
                <a:uFillTx/>
                <a:latin typeface="Calibri"/>
              </a:rPr>
              <a:t>Для безударного гласного в корне слова подобрать проверочное сло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r>
              <a:rPr b="1" lang="ru-RU" sz="2000" spc="-1" strike="noStrike" u="sng">
                <a:solidFill>
                  <a:srgbClr val="151516"/>
                </a:solidFill>
                <a:uFillTx/>
                <a:latin typeface="Calibri"/>
              </a:rPr>
              <a:t>Поставить удар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Комментарий. Проверяется умение упорядочить «шаги»  алгорит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Верное выполнение: 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Ученик должен поставить числа следующим образо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4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2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3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Calibri"/>
              </a:rPr>
              <a:t>1</a:t>
            </a:r>
            <a:r>
              <a:rPr b="1" lang="ru-RU" sz="1800" spc="-1" strike="noStrike" u="sng">
                <a:solidFill>
                  <a:srgbClr val="151516"/>
                </a:solidFill>
                <a:uFillTx/>
                <a:latin typeface="Wingdings 2"/>
                <a:ea typeface="Wingdings 2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9390-D0DF-454B-9815-88961D3CC91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ТОГВАЯ ОЦЕНКА ДОСТИЖЕНИЯ УЧАЩИМСЯ 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я многокомпонентная система оценки призвана ответи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олько на один вопро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Выполнил ли учащийся требования стандарта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Эта оценк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«выполнил на базовом уровне», «выполнил на повышенном уровне», не выполнил на базовом уровне» -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фиксируетс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только словесно в характеристике уча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ACFD-D247-4C1A-8790-48A8035EDE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8000" y="0"/>
            <a:ext cx="9036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Многокомпонентная  система оценки достижения планируемых результатов позволяет объективно оценить индивидуальный прогресс каждого выпускника начальной школ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E0DC-3486-4DA7-B69D-2C40F24E51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http://www.fsu-expert.ru/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БЩЕСТВЕННО-ГОСУДАРСТВЕННАЯ ЭКСПЕРТИЗА В ОБРАЗОВА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5 - 10 апреля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брифинг-консультация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"Реализация требований ФГОС НОО в курсе русского языке системы учебников "Начальная школа XXI века"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566E-8827-4632-BC13-96C4ACB08E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928800"/>
            <a:ext cx="2714760" cy="2357280"/>
          </a:xfrm>
          <a:prstGeom prst="rect">
            <a:avLst/>
          </a:prstGeom>
          <a:solidFill>
            <a:srgbClr val="f4aaef"/>
          </a:solidFill>
          <a:ln w="9360">
            <a:solidFill>
              <a:srgbClr val="5a6378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Оценка </a:t>
            </a:r>
            <a:br>
              <a:rPr sz="2700"/>
            </a:b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(словесная) выполнения требований стандар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4809-F105-4299-88E9-43367A3D454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250920" y="4076640"/>
            <a:ext cx="5214960" cy="936720"/>
          </a:xfrm>
          <a:prstGeom prst="rect">
            <a:avLst/>
          </a:prstGeom>
          <a:solidFill>
            <a:srgbClr val="a4ddfa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тка (балл) по предм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Прямоугольник 4"/>
          <p:cNvGrpSpPr/>
          <p:nvPr/>
        </p:nvGrpSpPr>
        <p:grpSpPr>
          <a:xfrm>
            <a:off x="146160" y="5340240"/>
            <a:ext cx="5419440" cy="944640"/>
            <a:chOff x="146160" y="5340240"/>
            <a:chExt cx="5419440" cy="944640"/>
          </a:xfrm>
        </p:grpSpPr>
        <p:pic>
          <p:nvPicPr>
            <p:cNvPr id="6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46160" y="5340240"/>
              <a:ext cx="54194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14200" y="5429160"/>
              <a:ext cx="52866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ортфель достижений учащегося (портфолио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Прямоугольник 5"/>
          <p:cNvGrpSpPr/>
          <p:nvPr/>
        </p:nvGrpSpPr>
        <p:grpSpPr>
          <a:xfrm>
            <a:off x="2951280" y="865080"/>
            <a:ext cx="3644640" cy="1060560"/>
            <a:chOff x="2951280" y="865080"/>
            <a:chExt cx="3644640" cy="1060560"/>
          </a:xfrm>
        </p:grpSpPr>
        <p:pic>
          <p:nvPicPr>
            <p:cNvPr id="64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951280" y="865080"/>
              <a:ext cx="36446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059280" y="907920"/>
              <a:ext cx="3429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едметные результа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Прямоугольник 9"/>
          <p:cNvGrpSpPr/>
          <p:nvPr/>
        </p:nvGrpSpPr>
        <p:grpSpPr>
          <a:xfrm>
            <a:off x="6864480" y="579600"/>
            <a:ext cx="2193840" cy="938160"/>
            <a:chOff x="6864480" y="579600"/>
            <a:chExt cx="2193840" cy="938160"/>
          </a:xfrm>
        </p:grpSpPr>
        <p:pic>
          <p:nvPicPr>
            <p:cNvPr id="67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864480" y="579600"/>
              <a:ext cx="219384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929280" y="714240"/>
              <a:ext cx="20624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Выполнено на базовом уров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15"/>
          <p:cNvGrpSpPr/>
          <p:nvPr/>
        </p:nvGrpSpPr>
        <p:grpSpPr>
          <a:xfrm>
            <a:off x="6864480" y="1432080"/>
            <a:ext cx="2206440" cy="1109520"/>
            <a:chOff x="6864480" y="1432080"/>
            <a:chExt cx="2206440" cy="1109520"/>
          </a:xfrm>
        </p:grpSpPr>
        <p:pic>
          <p:nvPicPr>
            <p:cNvPr id="70" name="Прямоугольник 15" descr=""/>
            <p:cNvPicPr/>
            <p:nvPr/>
          </p:nvPicPr>
          <p:blipFill>
            <a:blip r:embed="rId4"/>
            <a:stretch/>
          </p:blipFill>
          <p:spPr>
            <a:xfrm>
              <a:off x="6864480" y="1432080"/>
              <a:ext cx="22064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929280" y="1571760"/>
              <a:ext cx="2071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Выполнено 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повышенн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уров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16"/>
          <p:cNvGrpSpPr/>
          <p:nvPr/>
        </p:nvGrpSpPr>
        <p:grpSpPr>
          <a:xfrm>
            <a:off x="6821640" y="2517840"/>
            <a:ext cx="2352600" cy="858600"/>
            <a:chOff x="6821640" y="2517840"/>
            <a:chExt cx="2352600" cy="858600"/>
          </a:xfrm>
        </p:grpSpPr>
        <p:pic>
          <p:nvPicPr>
            <p:cNvPr id="73" name="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6821640" y="2517840"/>
              <a:ext cx="2352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929280" y="2571840"/>
              <a:ext cx="2071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Не выполнено на базовом уров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17"/>
          <p:cNvGrpSpPr/>
          <p:nvPr/>
        </p:nvGrpSpPr>
        <p:grpSpPr>
          <a:xfrm>
            <a:off x="3005280" y="2316240"/>
            <a:ext cx="3560760" cy="1060200"/>
            <a:chOff x="3005280" y="2316240"/>
            <a:chExt cx="3560760" cy="1060200"/>
          </a:xfrm>
        </p:grpSpPr>
        <p:pic>
          <p:nvPicPr>
            <p:cNvPr id="76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3005280" y="2316240"/>
              <a:ext cx="356076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71880" y="2357280"/>
              <a:ext cx="3429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Метапредметные результа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Прямоугольник 18"/>
          <p:cNvGrpSpPr/>
          <p:nvPr/>
        </p:nvGrpSpPr>
        <p:grpSpPr>
          <a:xfrm>
            <a:off x="6791400" y="3943440"/>
            <a:ext cx="2206440" cy="1109520"/>
            <a:chOff x="6791400" y="3943440"/>
            <a:chExt cx="2206440" cy="1109520"/>
          </a:xfrm>
        </p:grpSpPr>
        <p:pic>
          <p:nvPicPr>
            <p:cNvPr id="79" name="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6791400" y="3943440"/>
              <a:ext cx="22064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858000" y="4076640"/>
              <a:ext cx="20718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«отлично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«хорошо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«удовлетв.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Прямоугольник 19"/>
          <p:cNvGrpSpPr/>
          <p:nvPr/>
        </p:nvGrpSpPr>
        <p:grpSpPr>
          <a:xfrm>
            <a:off x="6754680" y="5241960"/>
            <a:ext cx="2382840" cy="1493640"/>
            <a:chOff x="6754680" y="5241960"/>
            <a:chExt cx="2382840" cy="1493640"/>
          </a:xfrm>
        </p:grpSpPr>
        <p:pic>
          <p:nvPicPr>
            <p:cNvPr id="82" name="Прямоугольник 19" descr=""/>
            <p:cNvPicPr/>
            <p:nvPr/>
          </p:nvPicPr>
          <p:blipFill>
            <a:blip r:embed="rId8"/>
            <a:stretch/>
          </p:blipFill>
          <p:spPr>
            <a:xfrm>
              <a:off x="6754680" y="5241960"/>
              <a:ext cx="238284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858000" y="5286240"/>
              <a:ext cx="214308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Динамика итоговых работ, творческие задания, проекты, исследования и т.п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Прямоугольник 21"/>
          <p:cNvSpPr/>
          <p:nvPr/>
        </p:nvSpPr>
        <p:spPr>
          <a:xfrm>
            <a:off x="214200" y="285840"/>
            <a:ext cx="8786880" cy="35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ценка достижения 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6378"/>
                </a:solidFill>
                <a:latin typeface="Calibri"/>
              </a:rPr>
              <a:t>Формы итогового контро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a3130"/>
                </a:solidFill>
                <a:latin typeface="Calibri"/>
              </a:rPr>
              <a:t>Итоговая проверочная работа для оценки достижения </a:t>
            </a:r>
            <a:r>
              <a:rPr b="1" lang="ru-RU" sz="3200" spc="-1" strike="noStrike" u="sng">
                <a:solidFill>
                  <a:srgbClr val="9a3130"/>
                </a:solidFill>
                <a:uFillTx/>
                <a:latin typeface="Calibri"/>
              </a:rPr>
              <a:t>предметных результатов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a313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313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a3130"/>
                </a:solidFill>
                <a:latin typeface="Calibri"/>
              </a:rPr>
              <a:t>Контрольная работа по проверке </a:t>
            </a:r>
            <a:r>
              <a:rPr b="1" lang="ru-RU" sz="3200" spc="-1" strike="noStrike" u="sng">
                <a:solidFill>
                  <a:srgbClr val="9a3130"/>
                </a:solidFill>
                <a:uFillTx/>
                <a:latin typeface="Calibri"/>
              </a:rPr>
              <a:t>метапредметных результатов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a313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d925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9253e"/>
                </a:solidFill>
                <a:latin typeface="Calibri"/>
              </a:rPr>
              <a:t>Ориентир для разработч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313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9a3130"/>
                </a:solidFill>
                <a:latin typeface="Calibri"/>
              </a:rPr>
              <a:t>Пособие «Оценка достижения планируемых результатов в начальной школе. Система заданий» В 2 ч. Ч.1/М.Ю.Демидова, С.В. Иванов, О.А. Карабанова и др. – М.: Просвещение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E435-EBE2-4196-8FBC-575EB9268C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298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Итоговая проверочная работа для оценки достижения предметных планируемых результатов </a:t>
            </a:r>
            <a:br>
              <a:rPr sz="2900"/>
            </a:br>
            <a:r>
              <a:rPr b="0" i="1" lang="ru-RU" sz="2900" spc="-1" strike="noStrike">
                <a:solidFill>
                  <a:srgbClr val="c00000"/>
                </a:solidFill>
                <a:latin typeface="Calibri"/>
              </a:rPr>
              <a:t>(на примере русского язык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2920" y="2356920"/>
            <a:ext cx="88581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ить достижение предметных результато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сформированных метапредметных дей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ы формулировок задан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ий язык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i="1" lang="ru-RU" sz="2800" spc="-1" strike="noStrike">
                <a:solidFill>
                  <a:srgbClr val="e1f1e2"/>
                </a:solidFill>
                <a:latin typeface="Calibri"/>
              </a:rPr>
              <a:t>«Спиши», «Вставь», «Разбери»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8a3c12"/>
                </a:solidFill>
                <a:latin typeface="Calibri"/>
              </a:rPr>
              <a:t>«Найди», «Распредели», «Сгруппируй», «Выбери», «Объясни», «Докажи», «Заполни таблицу» </a:t>
            </a: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и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0E4B-1DDE-4C8F-ABDF-F91E462F1BF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64847"/>
                </a:solidFill>
                <a:latin typeface="Calibri"/>
              </a:rPr>
              <a:t>Основа контроля – планируемые результаты освоения основной образовательной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2920" y="1989000"/>
            <a:ext cx="8858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ник научится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ерационализируют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ряются в итоговом контроле на базовом и повышенном уров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получит возможность научиться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перационализируются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ят в итоговый контрол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9A76-4A71-4CAB-8859-1C2AA144CB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0" y="7282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дел «Синтакси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ть предложение, словосочетание, сло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ть при помощи смысловых вопросов связь между словами в словосочетании и предлож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цировать предложения по цели высказывания, находить повествовательные/побудительные/вопросительные пред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восклицательную/невосклицательную интонацию пред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главные и второстепенные (без деления на виды) члены пред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ть предложения с однородными чл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 получит возможность научи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ть второстепенные члены предложения – определения, дополнения, обстоятель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в соответствии с предложенным в учебнике алгоритмом разбор простого предложения (по членам предложения, синтаксический), оценивать правильность разб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ть простые и сложные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ПЛАНИРУЕМЫЕ РЕЗУЛЬТАТЫ ПО РУССКОМУ ЯЗЫ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8581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ловесная оценка «выполнено на базовом уровне», «выполнено на повышенном уровне», «не выполнено на базовом уровне»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 и характеристика заданий итоговой проверочной рабо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я базового уровн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«проверяют сформированность знаний, умений и способов действий…, которые необходимы для  успешного продолжения обучения на следующей ступени. Как правило. это стандартные  учебно-познавательные и учебно-практические задачи, в которых очевиден способ учебных действий» («Оценка достижения…», с.49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я повышенного уровн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«проверяют способность выпускника выполнять такие учебно-познавательные и учебно-практические задания, в которых нет явного указания на способ их выполнения. Учащийся сам должен выбрать способ из набора известных, освоенных в процессе изучения данного предмета» («Оценка достижения…», с.49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B9ED-B576-4F75-85CE-98E1B1254B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64847"/>
                </a:solidFill>
                <a:latin typeface="Calibri"/>
              </a:rPr>
              <a:t>Система оценки выполнения заданий базового и повышенного уров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базового уровня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 баллов, 1 б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повышенного уровня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 баллов, 1 балл, 2 бал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9B1E-D5F1-4ADE-BC9A-9E39ADE7D6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5:07:06Z</dcterms:created>
  <dc:creator>Admin</dc:creator>
  <dc:description/>
  <dc:language>en-US</dc:language>
  <cp:lastModifiedBy>Stiv</cp:lastModifiedBy>
  <dcterms:modified xsi:type="dcterms:W3CDTF">2011-04-01T05:49:27Z</dcterms:modified>
  <cp:revision>93</cp:revision>
  <dc:subject/>
  <dc:title>Слайд 1</dc:title>
</cp:coreProperties>
</file>