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E1D-4EFF-4327-9813-A3486235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66C-D4D6-465C-A209-C4C59071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52F-DDF6-4F1B-9A36-0D96C235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D88-A2D1-41E4-860B-4EC01507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5C7-2429-42D9-A891-66C992A2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AA1A-96A9-4C04-8DE9-8267D9A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5515-49E3-4064-BE56-CDB173B5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98B-0788-455A-8625-C69350B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387E-7D1A-4CE9-9719-BE7F42E2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3D98-F698-4CA4-9A18-77D87FA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EF5F-C75F-4DF1-9FED-467EDCA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129-0115-427E-8A40-0B62A1B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395-E7A9-4D1A-866E-81DD677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E07-9336-4839-BA86-FB34EFA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4C1D-D499-4AA9-BE6D-03C05D4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702-D7A9-4830-B281-A090DCF6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966-8DE3-445F-9DA1-2E72054F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28F-1301-4897-A446-26696152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C46-5EBA-4297-9F14-982B540D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E91-B648-458C-88A7-64028087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569-0F00-48EA-9DC5-8774C5F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989-B394-4281-BDFB-796C0B2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F8F-46EF-4658-AE98-39D43F5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6CA-8FEC-497F-AA39-93E04C0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4D3D-DF71-457B-91B0-2C7CC9E5A84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51E-BBA0-432C-848A-A427700AD4C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C%EE%F0%EC%FB%F8" TargetMode="External"/><Relationship Id="rId2" Type="http://schemas.openxmlformats.org/officeDocument/2006/relationships/hyperlink" Target="http://www.zooclub.ru/chlen/rak/11/index.s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000080"/>
            <a:ext cx="77929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МУНИЦИПАЛЬНОЕ КАЗЕННОЕ ОБРАЗОВАТЕЛЬНОЕ УЧЕРЕЖДЕНИЕ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«ПЛОТАВСКАЯ СРЕДНЯЯ ШКОЛА БАЕВСКОГО РАЙОНА АЛТАЙСКОГО КРАЯ»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ММАРУС - ЭНДЕМИК О.ТОМ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ЕВСКОГО РАЙОН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пеин Саша,7клас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отавская СОШ, Баевский райо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уководит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брамов В.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ель химии, экологи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брамова Л.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5937480" cy="4145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785960" y="10015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-схема о.Том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857240" y="314352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928880" y="20005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2786040" y="2643120"/>
            <a:ext cx="1471680" cy="5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6715080" y="4786200"/>
            <a:ext cx="1414440" cy="785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928800" y="60012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ж для куп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3005640" y="22147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на водопо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6572160" y="571500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ческая ферм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Стрелка вверх 10"/>
          <p:cNvSpPr/>
          <p:nvPr/>
        </p:nvSpPr>
        <p:spPr>
          <a:xfrm>
            <a:off x="3714840" y="3143160"/>
            <a:ext cx="46080" cy="46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Стрелка вверх 11"/>
          <p:cNvSpPr/>
          <p:nvPr/>
        </p:nvSpPr>
        <p:spPr>
          <a:xfrm rot="17383800">
            <a:off x="6162120" y="4349520"/>
            <a:ext cx="357120" cy="7477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Стрелка вверх 12"/>
          <p:cNvSpPr/>
          <p:nvPr/>
        </p:nvSpPr>
        <p:spPr>
          <a:xfrm rot="7879200">
            <a:off x="3796560" y="3105720"/>
            <a:ext cx="357120" cy="64440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Стрелка вверх 13"/>
          <p:cNvSpPr/>
          <p:nvPr/>
        </p:nvSpPr>
        <p:spPr>
          <a:xfrm rot="4030200">
            <a:off x="2786040" y="4694040"/>
            <a:ext cx="378000" cy="869760"/>
          </a:xfrm>
          <a:prstGeom prst="upArrow">
            <a:avLst>
              <a:gd name="adj1" fmla="val 50000"/>
              <a:gd name="adj2" fmla="val 4997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4"/>
          <a:stretch/>
        </p:blipFill>
        <p:spPr>
          <a:xfrm>
            <a:off x="5643720" y="378612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"/>
          <p:cNvPicPr/>
          <p:nvPr/>
        </p:nvPicPr>
        <p:blipFill>
          <a:blip r:embed="rId5"/>
          <a:stretch/>
        </p:blipFill>
        <p:spPr>
          <a:xfrm>
            <a:off x="4929120" y="435780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6"/>
          <p:cNvSpPr/>
          <p:nvPr/>
        </p:nvSpPr>
        <p:spPr>
          <a:xfrm>
            <a:off x="4721400" y="521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7"/>
          <p:cNvSpPr/>
          <p:nvPr/>
        </p:nvSpPr>
        <p:spPr>
          <a:xfrm>
            <a:off x="4298760" y="30002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18"/>
          <p:cNvSpPr/>
          <p:nvPr/>
        </p:nvSpPr>
        <p:spPr>
          <a:xfrm>
            <a:off x="2655720" y="4500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19"/>
          <p:cNvSpPr/>
          <p:nvPr/>
        </p:nvSpPr>
        <p:spPr>
          <a:xfrm>
            <a:off x="6150240" y="4214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8571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зультаты исследований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28800" y="2428920"/>
          <a:ext cx="7643880" cy="3929040"/>
        </p:xfrm>
        <a:graphic>
          <a:graphicData uri="http://schemas.openxmlformats.org/drawingml/2006/table">
            <a:tbl>
              <a:tblPr/>
              <a:tblGrid>
                <a:gridCol w="1528560"/>
                <a:gridCol w="1528920"/>
                <a:gridCol w="1528560"/>
                <a:gridCol w="1528920"/>
                <a:gridCol w="1528920"/>
              </a:tblGrid>
              <a:tr h="601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о-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о-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ил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2643120" y="191592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метрические показател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зультаты исследован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42960" y="2714760"/>
          <a:ext cx="7929720" cy="3490920"/>
        </p:xfrm>
        <a:graphic>
          <a:graphicData uri="http://schemas.openxmlformats.org/drawingml/2006/table">
            <a:tbl>
              <a:tblPr/>
              <a:tblGrid>
                <a:gridCol w="1982880"/>
                <a:gridCol w="1982520"/>
                <a:gridCol w="1981440"/>
                <a:gridCol w="1982880"/>
              </a:tblGrid>
              <a:tr h="11890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учас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2428920" y="2072160"/>
            <a:ext cx="42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численности амфип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85880" y="2214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грязнение водной экосистемы обусловлено природными и антропогенными факторами. Основными антропогенными источниками загрязнения являются: органические стоки от животноводческой фермы и водопой живот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рганолептическим показателям в водоеме преобладает илисто-песчаный грунт, вода в озере зеленая за счет большого количества зеленых водорослей, запах гнилостно-болотны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920" y="228600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439740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285840" y="57862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ивотноводческая ферма с юго-западной части оз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4929120" y="5786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машние животные на водопои с северной части оз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643040" y="10015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тропогенные  источники загрязн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71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ибольшее количество особей на западном ключевом участке т.к. здесь благоприятная среда для размножения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ологическое состояние о.Томское можно оценить как переходное от экологически неблагополучного к напряженному, что способствует уменьшению численности и гибели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85716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роприятия, направленные на сохранение озера Томское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785880" y="228600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Вести эколого- просветительскую работу среди населения, направленную на сохранение водоема, как среды обитания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Следить за дренажной системой каналов вдоль бере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Не допускать выпас животных вблизи водое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857160" y="251532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ихмина Т.Я. Школьный экологический мониторинг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,АГАР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евский район. История. События. Люди.- Барнаул: ОА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айский Дом печат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5.ст.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одить самостоятельно гидрометеорологические наблюдени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.,Институт консалтинга экологических проектов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нтьева М.М.Экосистемы водоемов Алтайского края. Барнаул.АГУ.19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http://ru.wikipedia.org/wiki/%CC%EE%F0%EC%FB%F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http://www.zooclub.ru/chlen/rak/11/index.s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DC10755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1143000" y="2928960"/>
            <a:ext cx="68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2" descr=""/>
          <p:cNvPicPr/>
          <p:nvPr/>
        </p:nvPicPr>
        <p:blipFill>
          <a:blip r:embed="rId1"/>
          <a:srcRect l="13467" t="8980" r="14485" b="11642"/>
          <a:stretch/>
        </p:blipFill>
        <p:spPr>
          <a:xfrm>
            <a:off x="2357280" y="2428920"/>
            <a:ext cx="4954680" cy="368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5357880" y="2071800"/>
            <a:ext cx="1270080" cy="569880"/>
          </a:xfrm>
          <a:prstGeom prst="wedgeRectCallout">
            <a:avLst>
              <a:gd name="adj1" fmla="val -65444"/>
              <a:gd name="adj2" fmla="val 161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.Томско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500120" y="10717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рта Баевского района Алтайского кр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.Томско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671508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7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554184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2894400" y="100008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ммарус (Gammarus sp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215040" y="2372400"/>
            <a:ext cx="25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стоног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ип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родышащ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образ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у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мари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–гаммар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аммарус (Gammarus sp.)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Рисунок 10" descr=""/>
          <p:cNvPicPr/>
          <p:nvPr/>
        </p:nvPicPr>
        <p:blipFill>
          <a:blip r:embed="rId1"/>
          <a:stretch/>
        </p:blipFill>
        <p:spPr>
          <a:xfrm>
            <a:off x="2286000" y="2428920"/>
            <a:ext cx="4832280" cy="3857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3126600" y="185724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аммарус засуше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00120"/>
            <a:ext cx="77929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1214280" y="1984320"/>
            <a:ext cx="7715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ить численность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s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в экологических условиях о.Томско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новодный амфипод – гаммарус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и биологические особенности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о.Томско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5 по 23 июня   2011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 план- схему расположения о. 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источники загрязнения о.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органолептические показатели о. 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численность гаммаруса  на исследуемых участ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зависимость численность особей  от экологических условий оз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необходимые мероприятия, направленные на сохранение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1571760" y="2232360"/>
            <a:ext cx="54291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граф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физ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биолог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, сравнение и ана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71680" y="2104920"/>
            <a:ext cx="45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вычерчивания карты исследуемой площад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олученным основным точ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4165560" cy="2357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5572080" y="2033640"/>
            <a:ext cx="30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прозрачности воды глазомерным способо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629320" y="3071880"/>
            <a:ext cx="2519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1:10:41Z</dcterms:created>
  <dc:creator>илья</dc:creator>
  <dc:description/>
  <dc:language>en-US</dc:language>
  <cp:lastModifiedBy>ДОМ</cp:lastModifiedBy>
  <dcterms:modified xsi:type="dcterms:W3CDTF">2001-12-31T23:23:04Z</dcterms:modified>
  <cp:revision>58</cp:revision>
  <dc:subject/>
  <dc:title>Слайд 1</dc:title>
</cp:coreProperties>
</file>