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A0E-6CA3-4B06-9E54-3E35762E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9C8-F46C-47F8-A421-944F51E6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2EA-6DFC-45D1-B00C-25B4C60C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634-66D6-4CBF-B67B-5A29B200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2CE3-65A7-4F75-9145-4BD8375D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5176-5A32-4E5B-A398-F143C68F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B27B-5D53-46E1-BCF6-33D40568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1E65-1681-4430-84D9-0EB66263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2D0D-9F8A-4B3B-A1FC-81767E88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8D4A-3153-41CF-838D-1E6A48B3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6899-D9D6-4B5B-9E60-59BCF2DB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C3F-9AF7-4317-B22E-8DCA7126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A629-C249-4177-A05A-BB704867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5EEB-153E-40FA-9DB6-0DFBAD3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D28A-D374-4CC6-A1BB-8BEFDD76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BE6F-14F1-4CA3-9D57-E08A0E65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9E8C-DF47-4D4A-B807-CF23C979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595-CE3B-45C3-B4CE-43487792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65D-35AA-484B-845D-9D9368C1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056-6942-4490-B53D-ADF23571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F7D-B943-4D5E-9DC5-18916990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9FC-126B-442C-AE03-1FCC3C7E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6F1-6AE9-44F8-9286-DAC59688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CFD-4702-4AB6-85ED-8710CC4B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9924-C53D-434E-98DE-1686F5DF71B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ED3C-CD92-4869-8D5F-5BC2FF52512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C%EE%F0%EC%FB%F8" TargetMode="External"/><Relationship Id="rId2" Type="http://schemas.openxmlformats.org/officeDocument/2006/relationships/hyperlink" Target="http://www.zooclub.ru/chlen/rak/11/index.s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000080"/>
            <a:ext cx="779292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МУНИЦИПАЛЬНОЕ КАЗЕННОЕ ОБРАЗОВАТЕЛЬНОЕ УЧЕРЕЖДЕНИЕ</a:t>
            </a:r>
            <a:br>
              <a:rPr sz="1400"/>
            </a:b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«ПЛОТАВСКАЯ СРЕДНЯЯ ШКОЛА БАЕВСКОГО РАЙОНА АЛТАЙСКОГО КРАЯ»</a:t>
            </a: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ММАРУС - ЭНДЕМИК О.ТОМ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ЕВСКОГО РАЙОН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Выполнил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пеин Саша,7клас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лотавская СОШ, Баевский район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уководител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брамов В.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итель химии, экологии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брамова Л.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857240" y="2000160"/>
            <a:ext cx="5937480" cy="41450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1785960" y="10015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-схема о.Том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857240" y="314352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928880" y="20005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2786040" y="2643120"/>
            <a:ext cx="1471680" cy="58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6715080" y="4786200"/>
            <a:ext cx="1414440" cy="785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928800" y="600120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яж для куп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3005640" y="221472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на водопо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9"/>
          <p:cNvSpPr/>
          <p:nvPr/>
        </p:nvSpPr>
        <p:spPr>
          <a:xfrm>
            <a:off x="6572160" y="571500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водческая ферм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Стрелка вверх 10"/>
          <p:cNvSpPr/>
          <p:nvPr/>
        </p:nvSpPr>
        <p:spPr>
          <a:xfrm>
            <a:off x="3714840" y="3143160"/>
            <a:ext cx="46080" cy="46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Стрелка вверх 11"/>
          <p:cNvSpPr/>
          <p:nvPr/>
        </p:nvSpPr>
        <p:spPr>
          <a:xfrm rot="17383800">
            <a:off x="6162120" y="4349520"/>
            <a:ext cx="357120" cy="74772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Стрелка вверх 12"/>
          <p:cNvSpPr/>
          <p:nvPr/>
        </p:nvSpPr>
        <p:spPr>
          <a:xfrm rot="7879200">
            <a:off x="3796560" y="3105720"/>
            <a:ext cx="357120" cy="644400"/>
          </a:xfrm>
          <a:prstGeom prst="upArrow">
            <a:avLst>
              <a:gd name="adj1" fmla="val 50000"/>
              <a:gd name="adj2" fmla="val 4999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Стрелка вверх 13"/>
          <p:cNvSpPr/>
          <p:nvPr/>
        </p:nvSpPr>
        <p:spPr>
          <a:xfrm rot="4030200">
            <a:off x="2786040" y="4694040"/>
            <a:ext cx="378000" cy="869760"/>
          </a:xfrm>
          <a:prstGeom prst="upArrow">
            <a:avLst>
              <a:gd name="adj1" fmla="val 50000"/>
              <a:gd name="adj2" fmla="val 49971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Рисунок 14" descr=""/>
          <p:cNvPicPr/>
          <p:nvPr/>
        </p:nvPicPr>
        <p:blipFill>
          <a:blip r:embed="rId4"/>
          <a:stretch/>
        </p:blipFill>
        <p:spPr>
          <a:xfrm>
            <a:off x="5643720" y="378612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5" descr=""/>
          <p:cNvPicPr/>
          <p:nvPr/>
        </p:nvPicPr>
        <p:blipFill>
          <a:blip r:embed="rId5"/>
          <a:stretch/>
        </p:blipFill>
        <p:spPr>
          <a:xfrm>
            <a:off x="4929120" y="435780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6"/>
          <p:cNvSpPr/>
          <p:nvPr/>
        </p:nvSpPr>
        <p:spPr>
          <a:xfrm>
            <a:off x="4721400" y="5214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17"/>
          <p:cNvSpPr/>
          <p:nvPr/>
        </p:nvSpPr>
        <p:spPr>
          <a:xfrm>
            <a:off x="4298760" y="30002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оугольник 18"/>
          <p:cNvSpPr/>
          <p:nvPr/>
        </p:nvSpPr>
        <p:spPr>
          <a:xfrm>
            <a:off x="2655720" y="4500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оугольник 19"/>
          <p:cNvSpPr/>
          <p:nvPr/>
        </p:nvSpPr>
        <p:spPr>
          <a:xfrm>
            <a:off x="6150240" y="4214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0720" y="85716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зультаты исследований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28800" y="2428920"/>
          <a:ext cx="7643880" cy="3929040"/>
        </p:xfrm>
        <a:graphic>
          <a:graphicData uri="http://schemas.openxmlformats.org/drawingml/2006/table">
            <a:tbl>
              <a:tblPr/>
              <a:tblGrid>
                <a:gridCol w="1528560"/>
                <a:gridCol w="1528920"/>
                <a:gridCol w="1528560"/>
                <a:gridCol w="1528920"/>
                <a:gridCol w="1528920"/>
              </a:tblGrid>
              <a:tr h="6015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сто-песча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сто-песча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ча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с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ило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2643120" y="191592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метрические показател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зультаты исследовани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42960" y="2714760"/>
          <a:ext cx="7929720" cy="3490920"/>
        </p:xfrm>
        <a:graphic>
          <a:graphicData uri="http://schemas.openxmlformats.org/drawingml/2006/table">
            <a:tbl>
              <a:tblPr/>
              <a:tblGrid>
                <a:gridCol w="1982880"/>
                <a:gridCol w="1982520"/>
                <a:gridCol w="1981440"/>
                <a:gridCol w="1982880"/>
              </a:tblGrid>
              <a:tr h="11890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ые учас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-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3"/>
          <p:cNvSpPr/>
          <p:nvPr/>
        </p:nvSpPr>
        <p:spPr>
          <a:xfrm>
            <a:off x="2428920" y="2072160"/>
            <a:ext cx="427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ы численности амфип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85880" y="2214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грязнение водной экосистемы обусловлено природными и антропогенными факторами. Основными антропогенными источниками загрязнения являются: органические стоки от животноводческой фермы и водопой животны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органолептическим показателям в водоеме преобладает илисто-песчаный грунт, вода в озере зеленая за счет большого количества зеленых водорослей, запах гнилостно-болотны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42920" y="228600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643280" y="2286000"/>
            <a:ext cx="4397400" cy="32860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3"/>
          <p:cNvSpPr/>
          <p:nvPr/>
        </p:nvSpPr>
        <p:spPr>
          <a:xfrm>
            <a:off x="285840" y="578628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Животноводческая ферма с юго-западной части озе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4929120" y="57862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омашние животные на водопои с северной части озе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643040" y="100152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тропогенные  источники загрязн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571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ибольшее количество особей на западном ключевом участке т.к. здесь благоприятная среда для размножения гаммару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кологическое состояние о.Томское можно оценить как переходное от экологически неблагополучного к напряженному, что способствует уменьшению численности и гибели гаммару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4280" y="85716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Мероприятия, направленные на сохранение озера Томское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785880" y="2286000"/>
            <a:ext cx="764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Calibri"/>
              </a:rPr>
              <a:t>Вести эколого- просветительскую работу среди населения, направленную на сохранение водоема, как среды обитания гаммару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Calibri"/>
              </a:rPr>
              <a:t>Следить за дренажной системой каналов вдоль бере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Calibri"/>
              </a:rPr>
              <a:t>Не допускать выпас животных вблизи водое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857160" y="2515320"/>
            <a:ext cx="785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шихмина Т.Я. Школьный экологический мониторинг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,АГАР, 2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евский район. История. События. Люди.- Барнаул: ОАО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тайский Дом печати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5.ст.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водить самостоятельно гидрометеорологические наблюдени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.,Институт консалтинга экологических проектов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нтьева М.М.Экосистемы водоемов Алтайского края. Барнаул.АГУ.199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1"/>
              </a:rPr>
              <a:t>http://ru.wikipedia.org/wiki/%CC%EE%F0%EC%FB%F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2"/>
              </a:rPr>
              <a:t>http://www.zooclub.ru/chlen/rak/11/index.s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SDC10755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4"/>
          <p:cNvSpPr/>
          <p:nvPr/>
        </p:nvSpPr>
        <p:spPr>
          <a:xfrm>
            <a:off x="1143000" y="2928960"/>
            <a:ext cx="687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2" descr=""/>
          <p:cNvPicPr/>
          <p:nvPr/>
        </p:nvPicPr>
        <p:blipFill>
          <a:blip r:embed="rId1"/>
          <a:srcRect l="13467" t="8980" r="14485" b="11642"/>
          <a:stretch/>
        </p:blipFill>
        <p:spPr>
          <a:xfrm>
            <a:off x="2357280" y="2428920"/>
            <a:ext cx="4954680" cy="3684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/>
          <p:cNvSpPr/>
          <p:nvPr/>
        </p:nvSpPr>
        <p:spPr>
          <a:xfrm>
            <a:off x="5357880" y="2071800"/>
            <a:ext cx="1270080" cy="569880"/>
          </a:xfrm>
          <a:prstGeom prst="wedgeRectCallout">
            <a:avLst>
              <a:gd name="adj1" fmla="val -65444"/>
              <a:gd name="adj2" fmla="val 161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о.Томско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1500120" y="107172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рта Баевского района Алтайского кр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.Томско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71720" y="2000160"/>
            <a:ext cx="671508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7" descr=""/>
          <p:cNvPicPr/>
          <p:nvPr/>
        </p:nvPicPr>
        <p:blipFill>
          <a:blip r:embed="rId1"/>
          <a:stretch/>
        </p:blipFill>
        <p:spPr>
          <a:xfrm>
            <a:off x="428760" y="2214720"/>
            <a:ext cx="554184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2894400" y="100008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ммарус (Gammarus sp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215040" y="2372400"/>
            <a:ext cx="25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у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стоноги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ипу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родышащ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у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ообраз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у 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мари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 –гаммару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00120" y="928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аммарус (Gammarus sp.)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Рисунок 10" descr=""/>
          <p:cNvPicPr/>
          <p:nvPr/>
        </p:nvPicPr>
        <p:blipFill>
          <a:blip r:embed="rId1"/>
          <a:stretch/>
        </p:blipFill>
        <p:spPr>
          <a:xfrm>
            <a:off x="2286000" y="2428920"/>
            <a:ext cx="4832280" cy="3857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3126600" y="1857240"/>
            <a:ext cx="29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аммарус засушен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00120"/>
            <a:ext cx="779292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«ГАММАРУС - ЭНДЕМИК О.ТОМСКОЕ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БАЕВСКОГО РАЙОНА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1214280" y="1984320"/>
            <a:ext cx="77155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ить численность Гаммарус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marus s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в экологических условиях о.Томское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новодный амфипод – гаммарус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marus Pule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и биологические особенности гаммарус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marus Pule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о.Томское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5 по 23 июня   2011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«ГАММАРУС - ЭНДЕМИК О.ТОМСКОЕ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БАЕВСКОГО РАЙОН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0040" y="2071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 план- схему расположения о. Томск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источники загрязнения о.Томск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органолептические показатели о. Томск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численность гаммаруса  на исследуемых участ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зависимость численность особей  от экологических условий оз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необходимые мероприятия, направленные на сохранение гаммарус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marus Pule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«ГАММАРУС - ЭНДЕМИК О.ТОМСКОЕ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БАЕВСКОГО РАЙОН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1571760" y="2232360"/>
            <a:ext cx="542916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рут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граф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физ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биолог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, сравнение и анали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тоды исследов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571680" y="2104920"/>
            <a:ext cx="45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вычерчивания карты исследуемой площад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олученным основным точка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4165560" cy="2357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5572080" y="2033640"/>
            <a:ext cx="30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ие прозрачности воды глазомерным способом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629320" y="3071880"/>
            <a:ext cx="25192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1:10:41Z</dcterms:created>
  <dc:creator>илья</dc:creator>
  <dc:description/>
  <dc:language>en-US</dc:language>
  <cp:lastModifiedBy>ДОМ</cp:lastModifiedBy>
  <dcterms:modified xsi:type="dcterms:W3CDTF">2001-12-31T23:23:04Z</dcterms:modified>
  <cp:revision>58</cp:revision>
  <dc:subject/>
  <dc:title>Слайд 1</dc:title>
</cp:coreProperties>
</file>