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9CDF-17FE-4FB8-B7B7-F10D381A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C438-207F-4B1C-A722-278DC206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9849-1ED3-40DB-9969-0B066B52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A596-D95C-4632-A118-32EF2076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F1FC-F557-4B9C-9AE6-18A347E5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1FD9-FA95-460F-A16F-6A003B91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6EDB-08C1-4131-AAF8-EA7AE1B3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E4CD-24AD-4B6C-B27C-7AFC1F0D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AF0F-5B98-4606-A4F1-11AE7E14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8ADF-0271-4846-A4F0-E9A27B81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AE14-EF70-4510-A9ED-A3FCB29B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3695-174C-43FE-80EE-AC9FF8B5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F01E-8D7C-43C8-BE90-A087788E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0F9B-0855-42C5-8808-5C8B7A48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AD40-1DAE-4044-BD2F-7A82DD0E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6587-ED8F-44AC-911B-0444B305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ADE3-8A51-4BA0-A8B7-79124214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8A8-6E37-4CB3-A1F9-17AF3019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C329-CE48-4DFB-902D-4BB72EFD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255F-B60C-497E-9341-CF3926AD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4303-D6DE-4666-8A2B-CCD33ECC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B8E9-7E63-4894-B943-9DC2F572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3DF4-8748-4857-BF3A-00B5A91C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16EB-BA60-4D4E-94A0-FA5B8928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4B82-516F-41A8-98FC-ABD8C653FEA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5DB2-158C-4034-A917-94ED8034B8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99"/>
                </a:solidFill>
                <a:latin typeface="Monotype Corsiva"/>
              </a:rPr>
              <a:t>Программы</a:t>
            </a:r>
            <a:r>
              <a:rPr b="1" lang="ru-RU" sz="72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7200"/>
            </a:br>
            <a:r>
              <a:rPr b="1" lang="ru-RU" sz="7200" spc="-1" strike="noStrike">
                <a:solidFill>
                  <a:srgbClr val="000099"/>
                </a:solidFill>
                <a:latin typeface="Monotype Corsiva"/>
              </a:rPr>
              <a:t>и файл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7763040" y="5429160"/>
            <a:ext cx="1380960" cy="142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2160720" cy="1617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3"/>
          <a:stretch/>
        </p:blipFill>
        <p:spPr>
          <a:xfrm>
            <a:off x="0" y="5529240"/>
            <a:ext cx="1763640" cy="1328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/>
          <p:cNvPicPr/>
          <p:nvPr/>
        </p:nvPicPr>
        <p:blipFill>
          <a:blip r:embed="rId4"/>
          <a:stretch/>
        </p:blipFill>
        <p:spPr>
          <a:xfrm>
            <a:off x="6012000" y="3500280"/>
            <a:ext cx="1728720" cy="1729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5"/>
          <a:stretch/>
        </p:blipFill>
        <p:spPr>
          <a:xfrm>
            <a:off x="8191440" y="0"/>
            <a:ext cx="952560" cy="1314360"/>
          </a:xfrm>
          <a:prstGeom prst="rect">
            <a:avLst/>
          </a:prstGeom>
          <a:ln w="0">
            <a:noFill/>
          </a:ln>
        </p:spPr>
      </p:pic>
      <p:sp>
        <p:nvSpPr>
          <p:cNvPr id="98" name="TextBox 8"/>
          <p:cNvSpPr/>
          <p:nvPr/>
        </p:nvSpPr>
        <p:spPr>
          <a:xfrm>
            <a:off x="983880" y="5934240"/>
            <a:ext cx="690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Средняя общеобразовательная школа №36» г. Северодви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тник Ольга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411280" y="1773360"/>
            <a:ext cx="3745080" cy="642600"/>
          </a:xfrm>
          <a:prstGeom prst="rect">
            <a:avLst/>
          </a:prstGeom>
          <a:noFill/>
          <a:ln cap="rnd" w="7632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Bookman Old Style"/>
              </a:rPr>
              <a:t>КОМПЬЮ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3716280"/>
            <a:ext cx="4032000" cy="87696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(аппаратное обеспеч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788000" y="3716280"/>
            <a:ext cx="3816360" cy="84456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ограммы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(программное обеспеч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 flipH="1">
            <a:off x="1979280" y="2565360"/>
            <a:ext cx="1584360" cy="1079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4788000" y="2565360"/>
            <a:ext cx="1584360" cy="1079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"/>
          <p:cNvPicPr/>
          <p:nvPr/>
        </p:nvPicPr>
        <p:blipFill>
          <a:blip r:embed="rId1"/>
          <a:stretch/>
        </p:blipFill>
        <p:spPr>
          <a:xfrm>
            <a:off x="6659640" y="1628640"/>
            <a:ext cx="1619280" cy="1729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2"/>
          <a:stretch/>
        </p:blipFill>
        <p:spPr>
          <a:xfrm>
            <a:off x="1908000" y="4653000"/>
            <a:ext cx="155916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/>
          <p:cNvPicPr/>
          <p:nvPr/>
        </p:nvPicPr>
        <p:blipFill>
          <a:blip r:embed="rId3"/>
          <a:stretch/>
        </p:blipFill>
        <p:spPr>
          <a:xfrm>
            <a:off x="5580000" y="4653000"/>
            <a:ext cx="230364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716360" y="5084640"/>
            <a:ext cx="1871640" cy="14036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179280" y="1566720"/>
            <a:ext cx="3889440" cy="225864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Bookman Old Style"/>
              </a:rPr>
              <a:t>Операционная система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- это пакет программ, управляющих работой компьютера и обеспечивающих взаимодействие между человеком и компьюте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356000" y="1628640"/>
            <a:ext cx="4392720" cy="305532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Bookman Old Style"/>
              </a:rPr>
              <a:t>Прикладные программы (приложения)</a:t>
            </a: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о программы, с помощью которых на компьютере выполняются конкретные зада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* ввод текс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* рисова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* вычис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* и друг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 flipH="1">
            <a:off x="1979280" y="1197000"/>
            <a:ext cx="1079640" cy="287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500720" y="1197000"/>
            <a:ext cx="934920" cy="360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684360" y="6480"/>
            <a:ext cx="7561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Bookman Old Style"/>
              </a:rPr>
              <a:t>Программы</a:t>
            </a:r>
            <a:r>
              <a:rPr b="1" i="1" lang="ru-RU" sz="2400" spc="-1" strike="noStrike">
                <a:solidFill>
                  <a:srgbClr val="000099"/>
                </a:solidFill>
                <a:latin typeface="Bookman Old Style"/>
              </a:rPr>
              <a:t> -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наборы  инстру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овокупность всех программ составляет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рограммное обеспечение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компьютера (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О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7596360" y="3213000"/>
            <a:ext cx="1547640" cy="1524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3"/>
          <a:stretch/>
        </p:blipFill>
        <p:spPr>
          <a:xfrm>
            <a:off x="6227640" y="4149720"/>
            <a:ext cx="2346480" cy="1589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4"/>
          <a:stretch/>
        </p:blipFill>
        <p:spPr>
          <a:xfrm>
            <a:off x="7164360" y="5300640"/>
            <a:ext cx="1785960" cy="1295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"/>
          <p:cNvPicPr/>
          <p:nvPr/>
        </p:nvPicPr>
        <p:blipFill>
          <a:blip r:embed="rId5"/>
          <a:stretch/>
        </p:blipFill>
        <p:spPr>
          <a:xfrm>
            <a:off x="250920" y="4005360"/>
            <a:ext cx="1743120" cy="13683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5" descr="http://lwcl.it.ru/lms-ds/content/pkg45619/resources/resource_64/content/graphics/f153_1_2_19_small.jpg"/>
          <p:cNvPicPr/>
          <p:nvPr/>
        </p:nvPicPr>
        <p:blipFill>
          <a:blip r:embed="rId6"/>
          <a:stretch/>
        </p:blipFill>
        <p:spPr>
          <a:xfrm>
            <a:off x="210960" y="5445000"/>
            <a:ext cx="1768680" cy="12988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6"/>
          <p:cNvSpPr/>
          <p:nvPr/>
        </p:nvSpPr>
        <p:spPr>
          <a:xfrm>
            <a:off x="1908000" y="4653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ОС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7"/>
          <p:cNvSpPr/>
          <p:nvPr/>
        </p:nvSpPr>
        <p:spPr>
          <a:xfrm>
            <a:off x="1908000" y="5805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ОС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539640" y="141300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Программы и данные хранятся на диске в виде файлов (от англ. file- папка для бумаг, досье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Содержимым файла может быть текст, программа, таблица, рисунок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5"/>
          <p:cNvGrpSpPr/>
          <p:nvPr/>
        </p:nvGrpSpPr>
        <p:grpSpPr>
          <a:xfrm>
            <a:off x="539640" y="2708280"/>
            <a:ext cx="7993080" cy="2033280"/>
            <a:chOff x="539640" y="2708280"/>
            <a:chExt cx="7993080" cy="2033280"/>
          </a:xfrm>
        </p:grpSpPr>
        <p:sp>
          <p:nvSpPr>
            <p:cNvPr id="123" name="Text Box 5"/>
            <p:cNvSpPr/>
            <p:nvPr/>
          </p:nvSpPr>
          <p:spPr>
            <a:xfrm>
              <a:off x="539640" y="2995560"/>
              <a:ext cx="19447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А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6"/>
            <p:cNvSpPr/>
            <p:nvPr/>
          </p:nvSpPr>
          <p:spPr>
            <a:xfrm>
              <a:off x="3276720" y="2708280"/>
              <a:ext cx="2663640" cy="2033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99"/>
                  </a:solidFill>
                  <a:latin typeface="Bookman Old Style"/>
                </a:rPr>
                <a:t>ДИС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Bookman Old Style"/>
                </a:rPr>
                <a:t>(устройство внешней памяти К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Bookman Old Style"/>
                </a:rPr>
                <a:t>ФАЙ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>
              <a:off x="2556000" y="3571920"/>
              <a:ext cx="7207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8"/>
            <p:cNvSpPr/>
            <p:nvPr/>
          </p:nvSpPr>
          <p:spPr>
            <a:xfrm>
              <a:off x="2124000" y="2708280"/>
              <a:ext cx="360360" cy="172872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45000 h 1728720"/>
                <a:gd name="textAreaBottom" fmla="*/ 16837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9"/>
            <p:cNvSpPr/>
            <p:nvPr/>
          </p:nvSpPr>
          <p:spPr>
            <a:xfrm>
              <a:off x="6012000" y="3429000"/>
              <a:ext cx="1152360" cy="431640"/>
            </a:xfrm>
            <a:custGeom>
              <a:avLst/>
              <a:gdLst>
                <a:gd name="textAreaLeft" fmla="*/ 179280 w 1152360"/>
                <a:gd name="textAreaRight" fmla="*/ 1008000 w 1152360"/>
                <a:gd name="textAreaTop" fmla="*/ 108000 h 431640"/>
                <a:gd name="textAreaBottom" fmla="*/ 324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0"/>
            <p:cNvSpPr/>
            <p:nvPr/>
          </p:nvSpPr>
          <p:spPr>
            <a:xfrm>
              <a:off x="6877080" y="2779560"/>
              <a:ext cx="1655640" cy="17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99"/>
                  </a:solidFill>
                  <a:latin typeface="Bookman Old Style"/>
                </a:rPr>
                <a:t>Файлы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Bookman Old Style"/>
                </a:rPr>
                <a:t> програм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99"/>
                  </a:solidFill>
                  <a:latin typeface="Bookman Old Style"/>
                </a:rPr>
                <a:t>Файлы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Bookman Old Style"/>
                </a:rPr>
                <a:t> 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11"/>
          <p:cNvSpPr/>
          <p:nvPr/>
        </p:nvSpPr>
        <p:spPr>
          <a:xfrm>
            <a:off x="468360" y="4898520"/>
            <a:ext cx="79214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Что необходимо знать, чтобы найти нужный файл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 Имя файла.                2) Где хранится файл – место располо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мя. расши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 flipH="1">
            <a:off x="2195640" y="5229360"/>
            <a:ext cx="129672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3995640" y="5229360"/>
            <a:ext cx="1944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>
            <a:off x="1763640" y="5734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99"/>
                </a:solidFill>
                <a:latin typeface="Mistral"/>
              </a:rPr>
              <a:t>Физкультминут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8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однимает руки класс - это «раз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овернулась голова - это «дв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Руки вниз, вперед смотри - это «тр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Руки в стороны - пошире, развернули на «четыр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 силой их к плечам прижать - это «пя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сем ребятам тихо сесть - это «шесть»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3348000" y="4365720"/>
            <a:ext cx="24480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736 0.19769 C -0.40243 0.10093 -0.3875 0.0044 -0.36163 0.00695 C -0.33594 0.00949 -0.29965 0.21204 -0.2625 0.2132 C -0.22517 0.21459 -0.1776 0.01551 -0.13837 0.01459 C -0.09931 0.01366 -0.06701 0.2081 -0.02691 0.2081 C 0.01319 0.2081 0.06024 0.01343 0.10191 0.01459 C 0.14358 0.01597 0.18785 0.21829 0.22361 0.21597 C 0.2592 0.21343 0.27899 0.00185 0.31632 0.00047 C 0.35382 -0.00092 0.5 0.1875 0.44792 0.20672 C 0.39583 0.22616 0.07795 0.13102 0.00399 0.11597 E">
                                      <p:cBhvr>
                                        <p:cTn id="52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Что содержат файлы програм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и файлы дан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CD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 «Мир информатики» 3 год обучения. Файлы и пап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95280" y="4005360"/>
            <a:ext cx="84978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Файлы программ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– инструкции компьютеру выполнить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Файлы данных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– информация для работы программ, информация –             результат выполнения про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52800" indent="-2152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Bookman Old Style"/>
              </a:rPr>
              <a:t>Папка</a:t>
            </a:r>
            <a:r>
              <a:rPr b="0" i="1" lang="ru-RU" sz="2400" spc="-1" strike="noStrike">
                <a:solidFill>
                  <a:srgbClr val="000099"/>
                </a:solidFill>
                <a:latin typeface="Bookman Old Style"/>
              </a:rPr>
              <a:t> – группа файлов, объединенных по некоторому принципу, имеющая и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258920" y="3213000"/>
            <a:ext cx="172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Й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Й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Й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137920" y="3573360"/>
            <a:ext cx="154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ПАП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ПАП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6948360" y="3284640"/>
            <a:ext cx="1152720" cy="7984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44" name="Picture 7" descr=""/>
          <p:cNvPicPr/>
          <p:nvPr/>
        </p:nvPicPr>
        <p:blipFill>
          <a:blip r:embed="rId2"/>
          <a:stretch/>
        </p:blipFill>
        <p:spPr>
          <a:xfrm>
            <a:off x="6877080" y="4797360"/>
            <a:ext cx="1366920" cy="76032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145" name="AutoShape 8"/>
          <p:cNvSpPr/>
          <p:nvPr/>
        </p:nvSpPr>
        <p:spPr>
          <a:xfrm>
            <a:off x="2484360" y="3141720"/>
            <a:ext cx="503280" cy="1366920"/>
          </a:xfrm>
          <a:custGeom>
            <a:avLst/>
            <a:gdLst>
              <a:gd name="textAreaLeft" fmla="*/ 0 w 503280"/>
              <a:gd name="textAreaRight" fmla="*/ 181800 w 50328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2484360" y="4653000"/>
            <a:ext cx="432000" cy="1297080"/>
          </a:xfrm>
          <a:custGeom>
            <a:avLst/>
            <a:gdLst>
              <a:gd name="textAreaLeft" fmla="*/ 0 w 432000"/>
              <a:gd name="textAreaRight" fmla="*/ 155880 w 432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3276720" y="3789360"/>
            <a:ext cx="180000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3132000" y="5445000"/>
            <a:ext cx="20163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12:43Z</dcterms:created>
  <dc:creator>Teacher_pc_15</dc:creator>
  <dc:description/>
  <dc:language>en-US</dc:language>
  <cp:lastModifiedBy>1</cp:lastModifiedBy>
  <dcterms:modified xsi:type="dcterms:W3CDTF">2011-10-23T07:57:06Z</dcterms:modified>
  <cp:revision>6</cp:revision>
  <dc:subject/>
  <dc:title>Программы  и файлы</dc:title>
</cp:coreProperties>
</file>