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6743-8B12-4771-B343-2734632E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B9A9-E2C7-474D-A04C-D1FF52DC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902-63F4-4E3A-AA1D-45863062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2A87-1C0D-4668-B881-EDF11AAA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2646-10BA-489C-9ABC-E90F2BCE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A4F8-0586-40F0-94E9-68CF8D7F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1B5D-156D-457F-81A6-65DE51CB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778C-E990-4847-A1C4-14BE5185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88EF-465F-44B3-9E85-E1384633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48FC-90D5-4E21-B1FF-D0A5A0F0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7DCC-1C8B-45C1-B342-BACE93D8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A5F-2C77-4359-9C2B-84D66B69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0F66-720A-4A8B-AAC2-7629DB60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450D-04C3-4EB7-A29F-EDAAAB69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C892-8F80-4C43-8EF2-805C1765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5C91-3803-4191-B58A-4270A6BA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14AC-F23D-421E-B063-070B0512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0837F-3B9F-4960-BCBC-6EBB7C8B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05628-EFEA-43E4-B22D-08B57AD0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251B5-3C3D-432F-B1AC-198763F1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5D6FA-21B5-4812-91C8-5247D17C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948B1-5BC8-4843-9695-58670572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DD2-A54D-4E7C-8622-D7CF842E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64EB8-B674-4968-9C7B-D71CDA33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4D9B6-8386-4508-B7DF-80863971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15410-39FC-4A20-A210-C1859717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CA138-0CDA-4449-9D84-A2EDAAFA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29A78-50D2-4644-BEA3-C839BCFC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8189B-8FC5-40E8-A6A6-6B4ACA32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7FF28-6E81-42B3-B6BC-0E4CD460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E8135-FC94-4CEB-9193-C7BE35AB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3113A-AC8E-4B49-B81C-17745582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E589F-B761-4EF7-A256-C7C7F274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214-52AD-4F4B-BB45-D8587311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2BDF4-7C67-44D5-8287-FFC16140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C67B4-AF41-448B-8034-04FB9FA7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12FFF-91F2-4311-AB34-AF1ACD6D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805AC-DEA1-41E4-BDF8-4BF3AADD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94087-EEEC-4AE6-80B0-41BD5565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B8D42-08DF-4D44-95E6-60B189CC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F3CDE-3CB5-492E-8A82-B51F1957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C3364-9A8C-4A46-8947-FCABF840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151A0-87A5-4B13-9AB2-4B35A990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A1843-97A5-4CEA-A021-C6FD1B77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2398-361B-44B2-8B1A-9EE0CAC7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6CEDD-03DA-4A35-AFFE-D5FB48D3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06666-00C2-4E64-B706-AB62DE04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310B3-A669-4FB4-8493-3F0350BC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3AB9E-D383-4D02-A00D-78F47881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8B333-1A0D-4673-84A8-8BC9F2CE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CFE32-12B3-4D2B-8375-F6DAA25E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43F6B-492C-431A-B6D9-E96B40C3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2EDC4-FBA5-4619-99B0-D309B203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0DC94-8BE2-411B-899A-80D9132F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E8042-F364-494D-ADEB-22583D92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679-3357-48BF-959F-D2A4A942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F372D-3B15-46FA-AA92-F6CA944C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2D2-5BFC-4E79-905D-5D65FD2C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943B-2D09-4EA7-856D-3786203F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643E-03A9-4C58-8167-2A116AB6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A334-AA05-439A-BC6A-90C0113C80E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0846-2AF0-45BD-A313-F5123A74D8F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7870-614F-4238-B6EF-5D6E81792D7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97BC-27BB-4F0D-820F-7F14AFC1AD3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76D3-5092-4AF8-9CDE-7BA1E47CC63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90;&#1072;&#1083;&#1083;&#1091;&#1088;&#1075;&#1080;&#1103;" TargetMode="External"/><Relationship Id="rId2" Type="http://schemas.openxmlformats.org/officeDocument/2006/relationships/hyperlink" Target="http://ru.wikipedia.org/wiki/&#1063;&#1091;&#1075;&#1091;&#1085;" TargetMode="External"/><Relationship Id="rId3" Type="http://schemas.openxmlformats.org/officeDocument/2006/relationships/hyperlink" Target="http://ru.wikipedia.org/wiki/&#1057;&#1090;&#1072;&#1083;&#1100;" TargetMode="External"/><Relationship Id="rId4" Type="http://schemas.openxmlformats.org/officeDocument/2006/relationships/hyperlink" Target="http://ru.wikipedia.org/wiki/&#1041;&#1088;&#1086;&#1085;&#1079;&#1072;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Кремний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стор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40687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чистом вид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ре́мн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был выделен в 1811 году французскими учеными Жозефом Луи Гей-Люссаком и Луи Жаком Тенар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705200" y="371520"/>
            <a:ext cx="2781360" cy="3182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6156360" y="3340080"/>
            <a:ext cx="2854440" cy="317664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6"/>
          <p:cNvSpPr/>
          <p:nvPr/>
        </p:nvSpPr>
        <p:spPr>
          <a:xfrm>
            <a:off x="5019480" y="3200400"/>
            <a:ext cx="154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Жозеф Луи Г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6448680" y="617220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Луи Жак Тена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исхождение назв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29920"/>
            <a:ext cx="40687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сское название «кремний» введено в 1834 году российский химиком Германом Ивановичем Гессом. В переводе c греч. κρημνός — «утес, гора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102280" y="463680"/>
            <a:ext cx="3554280" cy="451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Нахождение в природ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4068720" cy="4422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 распространённости в земной коре кремний занимает второе место. Масса земной коры на 27,6—29,5 % состоит из кремния. Хотя одна четвертая земной коры состоит из кремния, существуют лишь единичные находки кремния в самородном вид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870440" y="1596960"/>
            <a:ext cx="3773520" cy="280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олу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2920" y="529920"/>
            <a:ext cx="803124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вободный кремний может быть получен прокаливанием с магнием мелкого белого песка, который по химическому составу является почти чистым окислом кремния, Si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+2Mg=2MgO+Si , образующийся при этом аморфный кремний имеет вид бурого порошк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промышленности кремний технической чистоты получают, восстанавливая расплав Si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коксом при температуре около 1800 °C в дуговых печах. Чистота полученного таким образом кремния может достигать 99,9% (основные примеси - углерод, металлы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Физические свойств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3280" y="529920"/>
            <a:ext cx="40687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вердость кремния значительно меньше, чем алмаза. Кремний хрупок, только при нагревании выше 800 °C он становится пластичным вещество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4413240" y="1212840"/>
            <a:ext cx="4078440" cy="30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Химические свойств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соединениях кремний склонен проявлять степень окисления +4 или −4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Химически кремний малоактивен. При комнатной температуре реагирует только с газообразным фтором. При нагревании до температуры 400—500 °C кремний реагирует с кислородом с образованием диоксида Si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с хлором, бромом и иодо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имен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ический кремний находит следующие применен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компонентов сплавов в металлургии (в </a:t>
            </a:r>
            <a:r>
              <a:rPr b="0" lang="ru-RU" sz="1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металлурги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ри выплавке </a:t>
            </a:r>
            <a:r>
              <a:rPr b="0" lang="ru-RU" sz="18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чугун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18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стал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1800" spc="-1" strike="noStrike" u="sng">
                <a:solidFill>
                  <a:srgbClr val="6b9f25"/>
                </a:solidFill>
                <a:uFillTx/>
                <a:latin typeface="Verdana"/>
                <a:hlinkClick r:id="rId4"/>
              </a:rPr>
              <a:t>бронз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силумина и др.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раскислитель, модификатор свойств металлов или легирующий элемент (например, добавка определенного количества кремния при производстве трансформаторных сталей увеличивает коэрцитивную силу готового продукта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сырье для производства более чистого поликристаллического крем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сырье для производства кремнийорганических материалов, силан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ирилл</cp:lastModifiedBy>
  <dcterms:modified xsi:type="dcterms:W3CDTF">2010-03-15T18:04:12Z</dcterms:modified>
  <cp:revision>4</cp:revision>
  <dc:subject/>
  <dc:title>Кремний и оксид кремния</dc:title>
</cp:coreProperties>
</file>