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687-7B01-439A-8422-C99EC7A3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0A0-B269-40DB-AC90-EA709BBD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9A7-3162-4955-84F6-9AD26817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385-64C8-4771-BDB1-E3C298FB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2CF3-D748-4E54-9B42-98F6617F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80C0-45C3-418D-9384-E75AAD0F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BF2E-E363-499C-B253-D373B8AB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F633-5240-4203-95A8-07F24D5F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8BB1-928F-44CB-9DD3-D6502BCD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593A-1D35-42AA-8410-92681AD1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A79B-3910-4381-837E-7E28B108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EB4-8018-41CA-8769-A79A288D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9C0D-058C-4B7E-A9F1-1712E503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A2C1-EE68-4326-B5DF-F6354872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89C9-C584-4E55-B6C1-B8BDBD3A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6D33-B616-427B-9540-354A595A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2E81-B1A1-405A-9D6F-DD52B39E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7B65A-DD13-468B-9E2C-19CCE5E6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0CBE8-FD51-450E-B22A-0CECDAD4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C85AE-4296-4257-97FA-D09BF29A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84210-B41A-45CD-9B3E-7933F0CB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217EF-C26B-4DE8-9B61-D52730B6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7FF-B5C0-40EC-92EF-F678F471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2B960-7C7B-46FC-8E37-8D1DCE0E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FAB6-6921-45A8-94B5-DF42AC63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F8044-B6FF-4148-953C-308742DD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AB8C6-71C5-4265-AA96-31AE44C5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EF00B-BFBE-459A-A76B-79461110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AC764-1464-42C3-8B39-6900BCA7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A32A-6E40-4A96-BF6D-6622B79B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00B0B-8FAE-4AD7-B4D2-F91D350B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ABAB2-BCC2-4F08-B048-0D36371A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0E607-5B5B-4553-B5DA-0E59EFA6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0E3-F34A-489B-9456-31BF5B8C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EDC41-A31F-4AD2-AFD7-173F833D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74AEF-0FDC-40DD-A1CD-462B3E5D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0D8EF-9A17-4496-AAAA-9C8BF52F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8EA8B-A057-4664-A330-4A962962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BA228-AB96-4018-ADE3-526EB813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1654A-E4FE-4959-A61A-34E0598F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F2687-432B-4010-BB26-46C4C82F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DB5CF-01A9-4680-A33D-F04AFC3C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CCB3C-0C37-4796-AA17-EE6A1EC8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4ECAE-7A09-4D97-9A94-25CA4734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9D9-38B0-4D5D-8101-B71CF221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1A2E9-504E-434A-8C9E-CCAE002E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02519-57B3-42A6-9520-D3667D81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448D9-57D3-4F96-BAD6-E2A94A71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62F74-1419-4AC8-A7CC-7682B4F3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C062E-39D9-4FF5-B398-B7766E3B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19DFC-00BF-4A3B-83C5-83013A41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847BA-F0B6-418C-9540-5C3AA35D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A411E-3523-45C1-8089-CD27DF06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0F810-A612-42AC-92F5-D63F9BC7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5CE6E-B752-4503-9B85-2EF94D4D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454-6FBC-46BF-B4EB-263D2E09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81CC9-F627-452D-8F2F-1C7791C0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FDB-67D2-4B42-83EC-3B38FF58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2E5-125A-4C6F-BD20-EC312A76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4BE-6798-4AD4-AAF6-C02C09C3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5B80-C236-4898-ADD9-D2697F63268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4048-F0B9-4EA9-AE95-BAD28E4BADE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281F-D6E0-4869-B283-7112A75DCD2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B03B-6239-4B20-847F-0976D265A13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DE44-C5E4-4DA5-B834-27EDCCF7E7E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90;&#1072;&#1083;&#1083;&#1091;&#1088;&#1075;&#1080;&#1103;" TargetMode="External"/><Relationship Id="rId2" Type="http://schemas.openxmlformats.org/officeDocument/2006/relationships/hyperlink" Target="http://ru.wikipedia.org/wiki/&#1063;&#1091;&#1075;&#1091;&#1085;" TargetMode="External"/><Relationship Id="rId3" Type="http://schemas.openxmlformats.org/officeDocument/2006/relationships/hyperlink" Target="http://ru.wikipedia.org/wiki/&#1057;&#1090;&#1072;&#1083;&#1100;" TargetMode="External"/><Relationship Id="rId4" Type="http://schemas.openxmlformats.org/officeDocument/2006/relationships/hyperlink" Target="http://ru.wikipedia.org/wiki/&#1041;&#1088;&#1086;&#1085;&#1079;&#1072;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Кремний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стор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40687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чистом вид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ре́мн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был выделен в 1811 году французскими учеными Жозефом Луи Гей-Люссаком и Луи Жаком Тенар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705200" y="371520"/>
            <a:ext cx="2781360" cy="3182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6156360" y="3340080"/>
            <a:ext cx="2854440" cy="317664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6"/>
          <p:cNvSpPr/>
          <p:nvPr/>
        </p:nvSpPr>
        <p:spPr>
          <a:xfrm>
            <a:off x="5019480" y="3200400"/>
            <a:ext cx="154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Жозеф Луи Г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6448680" y="617220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Луи Жак Тена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исхождение назв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40687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сское название «кремний» введено в 1834 году российский химиком Германом Ивановичем Гессом. В переводе c греч. κρημνός — «утес, гора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102280" y="463680"/>
            <a:ext cx="3554280" cy="451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Нахождение в природ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4068720" cy="4422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 распространённости в земной коре кремний занимает второе место. Масса земной коры на 27,6—29,5 % состоит из кремния. Хотя одна четвертая земной коры состоит из кремния, существуют лишь единичные находки кремния в самородном вид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870440" y="1596960"/>
            <a:ext cx="3773520" cy="280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олу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2920" y="529920"/>
            <a:ext cx="803124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вободный кремний может быть получен прокаливанием с магнием мелкого белого песка, который по химическому составу является почти чистым окислом кремния, Si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+2Mg=2MgO+Si , образующийся при этом аморфный кремний имеет вид бурого порошк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промышленности кремний технической чистоты получают, восстанавливая расплав Si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коксом при температуре около 1800 °C в дуговых печах. Чистота полученного таким образом кремния может достигать 99,9% (основные примеси - углерод, металлы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изические свойств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529920"/>
            <a:ext cx="40687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вердость кремния значительно меньше, чем алмаза. Кремний хрупок, только при нагревании выше 800 °C он становится пластичным вещество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4413240" y="1212840"/>
            <a:ext cx="4078440" cy="30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Химические свойств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соединениях кремний склонен проявлять степень окисления +4 или −4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Химически кремний малоактивен. При комнатной температуре реагирует только с газообразным фтором. При нагревании до температуры 400—500 °C кремний реагирует с кислородом с образованием диоксида Si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с хлором, бромом и иодо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мен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ический кремний находит следующие примен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компонентов сплавов в металлургии (в </a:t>
            </a:r>
            <a:r>
              <a:rPr b="0" lang="ru-RU" sz="1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металлурги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ри выплавке </a:t>
            </a:r>
            <a:r>
              <a:rPr b="0" lang="ru-RU" sz="18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чугун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8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стал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800" spc="-1" strike="noStrike" u="sng">
                <a:solidFill>
                  <a:srgbClr val="6b9f25"/>
                </a:solidFill>
                <a:uFillTx/>
                <a:latin typeface="Verdana"/>
                <a:hlinkClick r:id="rId4"/>
              </a:rPr>
              <a:t>бронз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силумина и др.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раскислитель, модификатор свойств металлов или легирующий элемент (например, добавка определенного количества кремния при производстве трансформаторных сталей увеличивает коэрцитивную силу готового продукта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сырье для производства более чистого поликристаллического крем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сырье для производства кремнийорганических материалов, силан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ирилл</cp:lastModifiedBy>
  <dcterms:modified xsi:type="dcterms:W3CDTF">2010-03-15T18:04:12Z</dcterms:modified>
  <cp:revision>4</cp:revision>
  <dc:subject/>
  <dc:title>Кремний и оксид кремния</dc:title>
</cp:coreProperties>
</file>