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gif" ContentType="image/gif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C7D89-27DE-4EE4-92C3-71BF0951C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A5848-F6D8-449D-990B-364EA55AF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25F4408-05BC-439C-9939-C4AE7E2B4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3A1A86C-C1B5-4642-A293-262386952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9DAAEBF-E6F6-4F29-BF92-2A0A2B84E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129E9E6-A949-4F67-A1B3-0159EF0A8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1CC2C89-5A49-4B2D-9704-8EEEE4BD2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7DAB57B-0792-470B-A39D-03C19B403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D9FF9B3-C1DE-4715-9702-3261A3F76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FDEEF88-8CF1-491F-A397-0CE09DDC9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8619D3E-5C66-44B2-9D90-B2DC8D576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5316330-8A5E-4A4E-8F2B-0CAD42983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1F095-F886-4D30-BF35-66A0D3F23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68A6986-169F-4BE3-A625-D7F724878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5734CC1-B66E-4234-A319-4E5A6B864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F7BC097-0BB6-46BD-865A-AEBD0923E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B6F67C8-A1C4-4B6F-A669-28B075FAC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D5A3AA1-41C6-4DC4-AAC0-DCEF1826D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716E9A3-C811-41A4-A49F-6BB18D883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9919C3D-DBD3-4389-96B0-92359903D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BC3ABE8-F167-4D24-A41E-E09F7EB76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9BC9FE7-8E04-4A87-B3B5-0160D6774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4C361F7-AB07-457F-92B8-F32D4277B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FF12A-D416-4B93-9C4E-AAA17C570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671CDE6-E3BE-4023-BB4D-A2677C8D6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333505-272B-42C7-986A-B5BA357F9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544608-9A19-4935-A8E5-96F36A0F5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C6795C-5079-46C6-9FC2-5B707BD44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55B056-74B9-47F0-8CA0-C3E64B002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AE6FC2-68F8-4DF5-AA63-15E4E9767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4C05D0-F00A-45B4-A400-6D5D4B382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B284BE-5C89-4960-8FBB-1AC38E564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0D2653-B199-4AB6-ABAB-C02173DCD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FBFC5C-AB43-4551-AF65-EA73BED51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E18A8-7A45-422C-82EA-DD3ED3702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19DDA6-5E1B-42AC-B499-BC0D5A01F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FA35CB-E9E3-47D5-A7EC-4507D8C4D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F88963-DE11-4123-BA9C-FEB4C59E1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5C3C683-D9FA-4EA5-AB32-3BD74B23A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83815F0-4CA8-4465-A6DD-89BCAA9DD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C8DD7A5-D480-4CBD-984A-109B7AC72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1C07F57-BEF0-4E67-9ED1-43DE41790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58A19CF-6AA5-4CF2-929A-63458FEE7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C14C0BC-02C1-40A9-9B03-93DF07C27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B960817-9663-4E05-94FB-BFA21B22E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E7B1B-8EFB-4D11-98D7-6773E9F4F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0749B03-A8F7-4F8E-899D-C91EED367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82B6B22-DD27-4922-8E6B-4D1603DEE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A31FCAA-F586-4294-B8C5-EC16871A2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79BCF58-A9BE-4B20-99B1-B7C65D9C6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C18FAC8-6D8B-456A-9A43-143670DFB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10B3F-5F00-4154-A1BE-9011709E9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16E72-90B9-4D30-8FAB-738FCBA1E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D3A10-F334-4F36-8A2F-EE71FAFE3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F51E8-F015-4184-9361-BA5F95E0E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854F7-A11D-41A1-A39E-E1B4C12BF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834DB-C526-432F-912A-7F5683876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D68B7-0899-4972-933A-CBB60105A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053D4-9B06-4EBB-B1D6-653D5CE4F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CAA4F-242F-4DC9-93BC-64B54940C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0C781-95B0-4BC5-AA61-E4ED5C6DD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B8726-2C85-4991-8F9C-3E3AFFBF1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4A77FA-427C-4188-AE78-B8D6F8B2C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3A8DF2-A647-491C-A79A-F995022B8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AA6375-BF49-4109-A2A9-C0B6C4320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4300BC-D2BB-486A-92A3-5A47DE271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99D92F-6982-494C-BA01-78DFC1A19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BD5EA-3AF3-4697-8037-C32A760F7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F34DBE-BC2F-4EA0-87A9-5285CF2C8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44DF0A-079C-4A3E-A21F-77F10F6ED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344B8B-F2F1-4DFB-AA15-7C6868CFA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D2BF7A-7817-42FF-A3C0-B81BD8D2F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28904E-EAB8-4C19-B82D-F9C09AC66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015FB7-A31C-4B45-8E89-4846CAE00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CD9D43-F5DE-41B2-8A3D-9BD63D168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D437A0-9BE1-44D5-BB9A-D1774F28A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D90296-642D-408D-822A-16FFAD0A5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9B49E0-E3A9-4655-9A93-6BF6A24D9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2D677-C7D8-4B18-9464-7946F522D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80DBA4-28B4-4FA0-8F3F-0E86320CB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FDE6EC-FC67-46D1-BA9F-883D40D79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8321CE-08EB-4926-B807-1F7A0CC1F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43BA0B-B803-462F-AA83-B60C6171D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E7E903-73ED-4CD9-932F-6C617DFB2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77148E-6603-4714-9114-7937A307B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0352A6-745C-4262-9F80-A1DF03DC0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5D74E3-A412-45A5-B2F4-078992DAF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FB7B6A-613F-4306-A144-5DEA03383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EA7532-B304-4F73-9088-16F3BD10B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8B8D2-01DC-406F-96B8-AB2147B05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9FDA93-9669-48B1-97AF-8E92A4EAC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DF48C8-2E49-4962-B7D8-878A86676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9EE1E8-E5C2-4C9E-9FDC-4CD567E73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7F93DB-058A-4BB2-9CB5-C48A9C70F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F5C2A4-CA0F-4EF8-BE76-EB3A6CFBA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2065F8-733B-4DFC-BE89-E59E2A6F4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50A4FF-1918-40AA-8CBE-FF4E38DC3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EC4E91-E536-470A-8FF2-3CA55CB2E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A6210D-C438-4EBC-B63E-760B7FDB0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5D2D2A-9559-4E32-B97D-13B569375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0D4FF-E6EE-42DE-860E-B26AEFA35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7A5051-FF89-459A-A789-60882FD23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B450C4-A7C3-4BEF-B653-54D890512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CC6616-5C02-4ADC-990B-FE2F2E719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77902E-2392-4D60-9537-BB0911B97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DCDAC1-3C98-4BC1-A459-EC648BE0C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571C96-EE1D-4A3C-B8CD-368E238D3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D9B88B-43C2-4A83-B91E-4965AC867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22CC1D-1261-452B-9D33-8A1079F4A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EDEF1E-B261-4433-8430-BAD176749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53501C-562E-4EC1-9E64-A3CEABBC2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CF71E-ED67-4AF5-B309-16282ABB1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C0DB5C-888B-4134-886B-6AB362BD0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C2542E-3694-42C0-8D18-3D0067698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7D69CB-1E1C-4606-830C-1D362D758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D5BD07-87F2-45D8-9876-B30819C94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19443A-FD6D-4112-A1DB-4F7EBA8ED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9892F8-2832-4B1A-9DD3-0251B4C5A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0676B6-8782-47FC-B371-BEB88E2F0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8A64A5-6FF2-458A-B379-280BF6938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7AD80A-F705-4D97-97C0-46CEEFB1A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2A7822-C0F2-4148-BE14-BC34C15DA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E8D95-54E2-4C92-A457-C5C2C434D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930E7E-B94E-4563-B550-0CDA6D242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2DE291-0225-4053-8A53-7F23EF2D1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75B937-4B2E-4DD8-BF38-D8CDF6240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B18D09-D517-4585-BAF0-DC4287FA8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85C1BC-DAE0-4E79-98C0-569BC2AB4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AD4DEA-5835-43CD-AA94-ED091FE0B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8829C8-F41B-4EC7-A847-A856F0823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AA666A-3ED9-4FAD-B276-80A54C5D6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D6D8BD-5E6C-4011-B3FB-CB7F4BAB8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96349D-F366-422C-AD9C-5452C0528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1A5F8-9E40-4098-9A22-F28829ACD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67FF53-E0D9-427B-9265-110574AB0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C36EC4-28DB-4507-A752-D5461D204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D2CCE9-B862-45E1-BB20-A81235A8B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89E5A2-157E-4052-9E61-A78030078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0EF911-6C75-478C-9505-068844BD3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88F0A8-CC2B-484F-BE9A-792361A37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6354C8-191E-4AAD-842C-682E004AC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308D8B6-666C-4497-A725-DEBEC535E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9E73234-4511-44EB-AAEA-A3C310697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A6444C6-3280-4343-854C-15D158015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77ACB-828D-4246-9E3F-92B0287AD87E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Прямая соединительная линия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Прямоугольник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Прямоугольник 24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8" name="Прямоугольник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9" name="Прямоугольник 26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Прямоугольник 27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Прямоугольник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Овал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Овал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Прямоугольник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E5342-E95A-471A-8FAD-CC0840E43BE5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9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0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3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48CCA-467C-4FB6-A5C4-2E72EBA4A573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7" name="Прямоугольник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Прямоугольник 23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0" name="Прямоугольник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1" name="Прямоугольник 26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Прямая соединительная линия 27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Овал 28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Овал 29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B9E47-F5D9-41AC-AA8D-7972D3B16393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Прямоугольник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Прямоугольник 24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Прямоугольник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Прямая соединительная линия 26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Прямоугольник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Овал 28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Овал 29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23F1C-C040-41F0-BAE9-6282D28E4D79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BD766-1046-44DF-9AFB-8A27E18558C6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Прямоугольник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Прямоугольник 24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Прямоугольник 25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Прямоугольник 26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Прямоугольник 27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Прямоугольник 28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Прямая соединительная линия 29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Овал 30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Овал 31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63993-38A0-4CCE-A8D4-8A6CC41BE76D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Прямая соединительная линия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17F4B-2C7A-433B-87F2-5E8C9EB09CCE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Прямая соединительная линия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4" name="Прямоугольник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Прямоугольник 23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7" name="Прямоугольник 25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Прямоугольник 26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Прямоугольник 27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0" name="Прямая соединительная линия 28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1" name="Прямоугольник 29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Овал 30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Овал 31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73E69-1613-4B84-8724-E7F62EC884E4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6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7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9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0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1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2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3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03EEA-471F-4EE3-AE4F-61F7E3B6FB0D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Прямоугольник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Прямоугольник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8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9" name="Прямоугольник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0" name="Прямоугольник 26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5871F-3CA7-45E0-A2D1-41DF1A9FA674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Прямоугольник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Прямоугольник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Прямоугольник 24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Прямоугольник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Прямоугольник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Прямоугольник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Прямая соединительная линия 28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0" name="Овал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1" name="Овал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2" name="Прямоугольник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526B5-69E6-4174-BE32-381E04BFE684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46b86"/>
                </a:solidFill>
                <a:latin typeface="Georgia"/>
              </a:rPr>
              <a:t>ПОВТОРЕНИЕ ПРОЙДЕННОГО МАТЕРИАЛА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d16349"/>
                </a:solidFill>
                <a:latin typeface="Georgia"/>
              </a:rPr>
              <a:t>Математический диктант</a:t>
            </a:r>
            <a:br>
              <a:rPr sz="4200"/>
            </a:br>
            <a:r>
              <a:rPr b="0" lang="ru-RU" sz="4200" spc="-1" strike="noStrike">
                <a:solidFill>
                  <a:srgbClr val="d16349"/>
                </a:solidFill>
                <a:latin typeface="Georgia"/>
              </a:rPr>
              <a:t>1 класс</a:t>
            </a:r>
            <a:endParaRPr b="0" lang="en-US" sz="42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165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Georgia"/>
              </a:rPr>
              <a:t>Первое  слагаемое  5,  второе  слагаемое  4.  Найди  сумму.</a:t>
            </a:r>
            <a:endParaRPr b="0" lang="en-US" sz="6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Georgia"/>
              </a:rPr>
              <a:t>9</a:t>
            </a:r>
            <a:endParaRPr b="0" lang="en-US" sz="96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32" name="Рисунок 3" descr="6.gif"/>
          <p:cNvPicPr/>
          <p:nvPr/>
        </p:nvPicPr>
        <p:blipFill>
          <a:blip r:embed="rId1"/>
          <a:stretch/>
        </p:blipFill>
        <p:spPr>
          <a:xfrm>
            <a:off x="6286680" y="3929040"/>
            <a:ext cx="22143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4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18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Georgia"/>
              </a:rPr>
              <a:t>Уменьшаемое  12,  вычитаемое  2.  Найди  разность.</a:t>
            </a:r>
            <a:endParaRPr b="0" lang="en-US" sz="7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6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Georgia"/>
              </a:rPr>
              <a:t>10</a:t>
            </a:r>
            <a:endParaRPr b="0" lang="en-US" sz="96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37" name="Рисунок 3" descr="6.gif"/>
          <p:cNvPicPr/>
          <p:nvPr/>
        </p:nvPicPr>
        <p:blipFill>
          <a:blip r:embed="rId1"/>
          <a:stretch/>
        </p:blipFill>
        <p:spPr>
          <a:xfrm>
            <a:off x="6072120" y="3857760"/>
            <a:ext cx="235764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165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Georgia"/>
              </a:rPr>
              <a:t>Разность  5,  вычитаемое  2.  Найди  уменьшаемое.</a:t>
            </a:r>
            <a:endParaRPr b="0" lang="en-US" sz="6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Georgia"/>
              </a:rPr>
              <a:t>7</a:t>
            </a:r>
            <a:endParaRPr b="0" lang="en-US" sz="96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42" name="Рисунок 3" descr="6.gif"/>
          <p:cNvPicPr/>
          <p:nvPr/>
        </p:nvPicPr>
        <p:blipFill>
          <a:blip r:embed="rId1"/>
          <a:stretch/>
        </p:blipFill>
        <p:spPr>
          <a:xfrm>
            <a:off x="6215040" y="4000680"/>
            <a:ext cx="22147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4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15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Georgia"/>
              </a:rPr>
              <a:t>Сумма  равна  15,  первое  слагаемое  10.  Найди  второе  слагаемое.</a:t>
            </a:r>
            <a:endParaRPr b="0" lang="en-US" sz="6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6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Georgia"/>
              </a:rPr>
              <a:t>5</a:t>
            </a:r>
            <a:endParaRPr b="0" lang="en-US" sz="96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47" name="Рисунок 3" descr="6.gif"/>
          <p:cNvPicPr/>
          <p:nvPr/>
        </p:nvPicPr>
        <p:blipFill>
          <a:blip r:embed="rId1"/>
          <a:stretch/>
        </p:blipFill>
        <p:spPr>
          <a:xfrm>
            <a:off x="6357960" y="4071960"/>
            <a:ext cx="221472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Georgia"/>
              </a:rPr>
              <a:t>МОЛОДЦЫ!</a:t>
            </a:r>
            <a:endParaRPr b="0" lang="en-US" sz="96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50" name="Рисунок 3" descr="17.jpg"/>
          <p:cNvPicPr/>
          <p:nvPr/>
        </p:nvPicPr>
        <p:blipFill>
          <a:blip r:embed="rId1"/>
          <a:stretch/>
        </p:blipFill>
        <p:spPr>
          <a:xfrm>
            <a:off x="5715000" y="3571920"/>
            <a:ext cx="271476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165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Georgia"/>
              </a:rPr>
              <a:t>Найди  сумму  чисел  3  и  6</a:t>
            </a:r>
            <a:endParaRPr b="0" lang="en-US" sz="6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Georgia"/>
              </a:rPr>
              <a:t>9</a:t>
            </a:r>
            <a:endParaRPr b="0" lang="en-US" sz="96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12" name="Рисунок 3" descr="6.gif"/>
          <p:cNvPicPr/>
          <p:nvPr/>
        </p:nvPicPr>
        <p:blipFill>
          <a:blip r:embed="rId1"/>
          <a:stretch/>
        </p:blipFill>
        <p:spPr>
          <a:xfrm>
            <a:off x="5357880" y="3929040"/>
            <a:ext cx="29289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4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18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Georgia"/>
              </a:rPr>
              <a:t>Найди  разность  чисел  10  и  8</a:t>
            </a:r>
            <a:endParaRPr b="0" lang="en-US" sz="7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6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Georgia"/>
              </a:rPr>
              <a:t>2</a:t>
            </a:r>
            <a:endParaRPr b="0" lang="en-US" sz="96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17" name="Рисунок 3" descr="6.gif"/>
          <p:cNvPicPr/>
          <p:nvPr/>
        </p:nvPicPr>
        <p:blipFill>
          <a:blip r:embed="rId1"/>
          <a:stretch/>
        </p:blipFill>
        <p:spPr>
          <a:xfrm>
            <a:off x="6357960" y="3786120"/>
            <a:ext cx="23572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165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Georgia"/>
              </a:rPr>
              <a:t>Увеличь  10  на  3</a:t>
            </a:r>
            <a:endParaRPr b="0" lang="en-US" sz="6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Georgia"/>
              </a:rPr>
              <a:t>13</a:t>
            </a:r>
            <a:endParaRPr b="0" lang="en-US" sz="96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22" name="Рисунок 3" descr="6.gif"/>
          <p:cNvPicPr/>
          <p:nvPr/>
        </p:nvPicPr>
        <p:blipFill>
          <a:blip r:embed="rId1"/>
          <a:stretch/>
        </p:blipFill>
        <p:spPr>
          <a:xfrm>
            <a:off x="6072120" y="4214880"/>
            <a:ext cx="235764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165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Georgia"/>
              </a:rPr>
              <a:t>Уменьши  17  на  10</a:t>
            </a:r>
            <a:endParaRPr b="0" lang="en-US" sz="6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6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Georgia"/>
              </a:rPr>
              <a:t>7</a:t>
            </a:r>
            <a:endParaRPr b="0" lang="en-US" sz="96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27" name="Рисунок 3" descr="6.gif"/>
          <p:cNvPicPr/>
          <p:nvPr/>
        </p:nvPicPr>
        <p:blipFill>
          <a:blip r:embed="rId1"/>
          <a:stretch/>
        </p:blipFill>
        <p:spPr>
          <a:xfrm>
            <a:off x="6143760" y="4000680"/>
            <a:ext cx="2143080" cy="207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4T05:32:48Z</dcterms:created>
  <dc:creator>Лунегова</dc:creator>
  <dc:description/>
  <dc:language>en-US</dc:language>
  <cp:lastModifiedBy>Лунегова</cp:lastModifiedBy>
  <dcterms:modified xsi:type="dcterms:W3CDTF">2009-11-24T05:48:03Z</dcterms:modified>
  <cp:revision>2</cp:revision>
  <dc:subject/>
  <dc:title>Математический диктант 1 класс</dc:title>
</cp:coreProperties>
</file>