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1BF-5132-495B-8B43-506C79B7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D65-B2E2-44EC-95AC-BEDB36B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E9D50-9FD1-4835-B70A-52F009EB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7484E-2AAF-44AF-879A-2817075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20157-5801-4C5C-B590-4AA079F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44322-C6F3-4CC0-8686-5445490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D0777-783F-418A-8528-78AAB78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C5D93-2DA6-4F82-BDE2-8144AEE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4B42B-91BA-4F08-805D-3CB7061E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06F6B-4162-434B-8540-AEEEA398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9758E-2FAE-4F04-8444-8E81209A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8ACFB-5BEB-4973-AC0F-F9BDFEF0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37C-10AA-4DA9-9296-11208E74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1A51F-64BE-4F9C-BA5A-41DABDA8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68456-27A4-4A4B-AEC8-5103B40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2CEA8-B352-4F07-B5A6-4964A31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1DEEC-3E6D-43DB-9F6C-91B06A0F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540C8-B769-4E4A-B23E-8C5E95D6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4A3B3-FA28-4341-8FA0-F9AA20D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F0917-9CA9-4C3C-9BD5-56C87939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A8D5C-173C-4E16-A113-A0DBB6D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11191-09E4-4AB0-A0CB-62D6772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44083-1857-4D74-9C1F-84E4290B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179-FE51-44EC-8DE3-105895B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A2F86-C1A4-4A2A-8668-A8E4113F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02D9F-A9A2-4F7B-A697-76DF87F6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77C69-5433-41BD-8094-C186A44E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67840-517D-4649-A05E-537D1C98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B1477-544D-49E2-B022-6A548DE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77669-A381-4A02-A4BA-FFC7541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9102-2226-4BE6-890E-FED83FE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C611D-BC08-47D2-9825-699FE19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6C1F-6612-4498-B64F-9C24B79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CCD5-BC9C-4851-961A-4AD90DD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26FA-DB8A-49DE-A04F-B729C9AD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EBAF8-A86A-451E-BF57-416E493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F49A-BB98-4C00-8BF1-F56BBCDA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18DB-9831-4037-B43D-DF4FB5BE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F3D6F-FE0C-42B5-8172-45BBC77F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97EEF-8C5B-4FC5-81B8-41E0D9C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D8764-2D62-46B6-9BEA-81CD3C4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4A6AD-2A59-47DA-B17F-7B252CA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5D312-BDB7-42F4-BA84-9E7A666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8ABC8-06CC-4CDF-BD2A-C92274BE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20851-C71C-4593-AA58-41174C1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B13-FF5C-4AC8-A94C-1C001E8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49D66-8116-48CD-B6BD-AF524A1C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8F3C6-8471-4F1F-93C0-3FB96AE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FD0CD-264B-4BAA-B23C-8905D1B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63B9D-0860-40E3-AEEA-99290034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39B8C-AA90-4406-940D-BF73484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11B-6F6A-433A-9089-B7FE7F26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633A-8A8A-4E7A-B935-B9AEAEF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4A4-FE26-42B8-9926-255470F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E3C-0BF8-42E0-A591-A23DB77E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0F3-9450-4F75-B7E1-866508F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C45-F04F-4A69-973A-71400DF6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05F8-12D9-43E9-9A76-FBC7757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3FE-81EF-4098-8F08-53017EF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251-E17F-48AC-8C7F-FD1B001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396-69AA-4E6B-966A-EA334869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6F0F-0EF1-4102-AFEF-ECB36436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BBE2-ED62-4A6C-94F6-3C4594D3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06C3-F96A-473B-B03B-2D923B8E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8D22-8FCB-4437-94F1-19ED454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00A1-F1DB-4FB3-9722-3C73E7B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CCB4-E4EE-457A-9173-0AE8AE8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18B-9A81-4DE6-9B78-26E3F68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4DBE-3DAF-4A36-9C0C-9F44FD5E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DA58-757A-4289-8956-2D477DE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0EF5-68B7-4ABB-BEF7-CD98CDDE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6214-29F2-431E-ABA1-9E53482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C8E1-FC08-4FB0-8322-D68772D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E54F-7574-43D7-9545-D76DD9A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C694-10E5-4A5F-91A6-0DF49688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8C7D-3704-476E-B4CF-51A5290E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8F56-75DA-4C10-976E-CBCC7829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B65B-B7EF-4B34-9175-4281C934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EC4-8B45-40ED-B791-1C30E839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7116-0E45-4FCB-9D3C-284940B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07D2-0674-4E2A-BBC7-E15ADA7F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12F0-351E-4418-9FF1-45AC438F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4791-03E1-42C0-9916-A3A9B2F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399C-0EEF-4F38-AD0F-AADCC77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ED65-E10A-4851-AC12-C9A20FA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3A1B-3DFB-4761-A7D5-A41BCFF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7604-45C4-4B7E-8711-EC1DF90A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C2E3-04FF-45AE-84AA-EB5026B0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B9AF-43AC-4445-9131-D667B3DF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AE7-D7BF-436B-8479-3A9FA88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CCD9-62C9-43DF-9A3F-9BE78CF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91B4-F91A-4F30-9EE4-DEDECD2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534C-69D4-4417-8016-5DE523A2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F0065-E439-47EC-86C4-B27D4C1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EF95-5C2E-4C74-AA3D-4BE355B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1E7D-15F6-4666-ABF1-5BE7C4D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EB49-B2D7-45BF-927B-BE51AF1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7E4C-F27D-41FA-8D4E-029DF56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029A-D7BB-4040-88D0-E8089FDF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EF94-CB9E-425D-860D-21B7026E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F98-A3BA-49BF-9ACE-4B2570DA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BA7C-8DB2-459C-B53B-E60CAF4E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ACB1-A76B-4823-89D0-A40351D4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ED83-9C06-4B7B-8E05-37EE781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3B06-B6D3-4FF8-86F9-163908F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D00F-645E-4414-B380-825110B5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7A23-4B58-4911-9A49-9A647EB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7256-280B-46E2-AF39-9847C85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8AD6-9199-42F0-B9C2-B824D9D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119A-5466-4399-9DA2-09DB120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3304-5C5A-4DBA-B437-E135E45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744-45AB-4D56-9AD0-96FA211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FAA2-0C29-4696-ABCA-59AD9A5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5081-C4C0-4E3F-9517-BB793CC6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8354C-F97B-40FD-8A58-E5EE388C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A862-C670-4898-A3D8-8B0D3C0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6F93-60F8-4263-91BD-57D4ED0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4B17-0DCB-42C4-B1A2-D8300CE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002D-0156-4232-AC6B-484278CA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51315-5545-4375-8CAB-15798D2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F3789-D33B-4874-8F18-10CD521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0371-4762-43DA-93C4-D36E4DF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A5C-911D-469C-B60C-769F5F4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2CEC-8C86-4D8F-B90D-6072341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C340-9740-4749-940B-1633007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5AFB-884E-4CF7-9A37-19441B8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2E146-60B5-4842-B8ED-D6AA2B19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50552-64B3-4193-ABE7-03EBB038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FD4D4-9268-47D3-B5A2-0F0C69A6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ACDC8-AE6C-4F47-9AF3-630FC95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C79D4-9261-4FC7-8A89-2F0A8B9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D92F-BE8C-4530-BE85-E2EAED7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171A-5074-466B-96B5-CDBEBC7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32C-43D6-43E2-8155-40AD82F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7141-06BC-4777-A742-E6F7C47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4E32-47F2-442D-8A23-9EB381C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9CF08-02F2-4B54-9E60-8ED4D3D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D9238-7E1B-4DDC-A255-4CE5306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CA53B-1ABA-47F9-9AF4-44A76908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687A0-3F25-4AA5-B0DE-C5099B23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D3B60-F029-43B8-A39A-772E5C5B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05533-7367-4FE3-B88C-C18A6DE6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FE7D4-D112-49AB-958C-8FA7A90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6942A-DD6A-49BA-9B8A-01D0F9B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6C4-0F94-4921-84D4-6C16B99073B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80E-D1EF-4723-B1DA-342E8DC61F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B27-F9F6-4B21-8A8E-90D5AC061B8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D2C-7CB6-4446-A11C-BEE7F3E1940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DB0-2963-4B5C-A235-7738E2DE60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5DE-DCE8-44BA-9130-540CD5A4189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3A8-F478-4DD4-B6E1-022DBBBFBC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3553-5536-47D9-BBEA-0404308BB8C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14EC-CA46-4379-83EB-EC4B9AF6BD0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CB58-778B-4A00-BAB2-D38CA16B83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1F5A-C372-4A35-90C3-B5A22FE0D15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C2F-FEA8-4212-84A5-70CDF381C1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ПОВТОРЕНИЕ ПРОЙДЕННОГО МАТЕРИА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Математический диктант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1 класс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Первое  слагаемое  5,  второе  слагаемое  4.  Найди  сумму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6.gif"/>
          <p:cNvPicPr/>
          <p:nvPr/>
        </p:nvPicPr>
        <p:blipFill>
          <a:blip r:embed="rId1"/>
          <a:stretch/>
        </p:blipFill>
        <p:spPr>
          <a:xfrm>
            <a:off x="6286680" y="3929040"/>
            <a:ext cx="221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Уменьшаемое  12,  вычитаемое  2.  Найди  разность.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6.gif"/>
          <p:cNvPicPr/>
          <p:nvPr/>
        </p:nvPicPr>
        <p:blipFill>
          <a:blip r:embed="rId1"/>
          <a:stretch/>
        </p:blipFill>
        <p:spPr>
          <a:xfrm>
            <a:off x="6072120" y="385776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Разность  5,  вычитаемое  2.  Найди  уменьшаемое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Рисунок 3" descr="6.gif"/>
          <p:cNvPicPr/>
          <p:nvPr/>
        </p:nvPicPr>
        <p:blipFill>
          <a:blip r:embed="rId1"/>
          <a:stretch/>
        </p:blipFill>
        <p:spPr>
          <a:xfrm>
            <a:off x="6215040" y="400068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Сумма  равна  15,  первое  слагаемое  10.  Найди  второе  слагаемое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Рисунок 3" descr="6.gif"/>
          <p:cNvPicPr/>
          <p:nvPr/>
        </p:nvPicPr>
        <p:blipFill>
          <a:blip r:embed="rId1"/>
          <a:stretch/>
        </p:blipFill>
        <p:spPr>
          <a:xfrm>
            <a:off x="6357960" y="407196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Рисунок 3" descr="17.jpg"/>
          <p:cNvPicPr/>
          <p:nvPr/>
        </p:nvPicPr>
        <p:blipFill>
          <a:blip r:embed="rId1"/>
          <a:stretch/>
        </p:blipFill>
        <p:spPr>
          <a:xfrm>
            <a:off x="5715000" y="3571920"/>
            <a:ext cx="2714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Найди  сумму  чисел  3  и  6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Рисунок 3" descr="6.gif"/>
          <p:cNvPicPr/>
          <p:nvPr/>
        </p:nvPicPr>
        <p:blipFill>
          <a:blip r:embed="rId1"/>
          <a:stretch/>
        </p:blipFill>
        <p:spPr>
          <a:xfrm>
            <a:off x="5357880" y="392904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Найди  разность  чисел  10  и  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Рисунок 3" descr="6.gif"/>
          <p:cNvPicPr/>
          <p:nvPr/>
        </p:nvPicPr>
        <p:blipFill>
          <a:blip r:embed="rId1"/>
          <a:stretch/>
        </p:blipFill>
        <p:spPr>
          <a:xfrm>
            <a:off x="6357960" y="3786120"/>
            <a:ext cx="2357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Увеличь  10  на  3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3" descr="6.gif"/>
          <p:cNvPicPr/>
          <p:nvPr/>
        </p:nvPicPr>
        <p:blipFill>
          <a:blip r:embed="rId1"/>
          <a:stretch/>
        </p:blipFill>
        <p:spPr>
          <a:xfrm>
            <a:off x="6072120" y="421488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Уменьши  17  на  10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3" descr="6.gif"/>
          <p:cNvPicPr/>
          <p:nvPr/>
        </p:nvPicPr>
        <p:blipFill>
          <a:blip r:embed="rId1"/>
          <a:stretch/>
        </p:blipFill>
        <p:spPr>
          <a:xfrm>
            <a:off x="6143760" y="4000680"/>
            <a:ext cx="2143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5:32:48Z</dcterms:created>
  <dc:creator>Лунегова</dc:creator>
  <dc:description/>
  <dc:language>en-US</dc:language>
  <cp:lastModifiedBy>Лунегова</cp:lastModifiedBy>
  <dcterms:modified xsi:type="dcterms:W3CDTF">2009-11-24T05:48:03Z</dcterms:modified>
  <cp:revision>2</cp:revision>
  <dc:subject/>
  <dc:title>Математический диктант 1 класс</dc:title>
</cp:coreProperties>
</file>