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.wmf" ContentType="image/x-wmf"/>
  <Override PartName="/ppt/media/image45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35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6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1440" y="3240"/>
            <a:ext cx="13003200" cy="9753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925560" y="9026640"/>
            <a:ext cx="2922480" cy="32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en-tv.com/" TargetMode="External"/><Relationship Id="rId2" Type="http://schemas.openxmlformats.org/officeDocument/2006/relationships/image" Target="../media/image20.png"/><Relationship Id="rId3" Type="http://schemas.openxmlformats.org/officeDocument/2006/relationships/hyperlink" Target="http://www.tvc.ru/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www.rutv.ru/" TargetMode="External"/><Relationship Id="rId6" Type="http://schemas.openxmlformats.org/officeDocument/2006/relationships/image" Target="../media/image22.png"/><Relationship Id="rId7" Type="http://schemas.openxmlformats.org/officeDocument/2006/relationships/hyperlink" Target="http://www.tv3russia.ru/" TargetMode="External"/><Relationship Id="rId8" Type="http://schemas.openxmlformats.org/officeDocument/2006/relationships/image" Target="../media/image23.png"/><Relationship Id="rId9" Type="http://schemas.openxmlformats.org/officeDocument/2006/relationships/hyperlink" Target="http://www.tvzvezda.ru/" TargetMode="External"/><Relationship Id="rId10" Type="http://schemas.openxmlformats.org/officeDocument/2006/relationships/image" Target="../media/image24.png"/><Relationship Id="rId11" Type="http://schemas.openxmlformats.org/officeDocument/2006/relationships/hyperlink" Target="http://www.nationalgeographic.ru/" TargetMode="External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jpeg"/><Relationship Id="rId16" Type="http://schemas.openxmlformats.org/officeDocument/2006/relationships/image" Target="../media/image29.jpe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9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17.png"/><Relationship Id="rId32" Type="http://schemas.openxmlformats.org/officeDocument/2006/relationships/image" Target="../media/image18.png"/><Relationship Id="rId33" Type="http://schemas.openxmlformats.org/officeDocument/2006/relationships/image" Target="../media/image10.png"/><Relationship Id="rId34" Type="http://schemas.openxmlformats.org/officeDocument/2006/relationships/image" Target="../media/image11.png"/><Relationship Id="rId35" Type="http://schemas.openxmlformats.org/officeDocument/2006/relationships/image" Target="../media/image43.png"/><Relationship Id="rId36" Type="http://schemas.openxmlformats.org/officeDocument/2006/relationships/image" Target="../media/image12.png"/><Relationship Id="rId37" Type="http://schemas.openxmlformats.org/officeDocument/2006/relationships/image" Target="../media/image44.png"/><Relationship Id="rId38" Type="http://schemas.openxmlformats.org/officeDocument/2006/relationships/image" Target="../media/image16.png"/><Relationship Id="rId39" Type="http://schemas.openxmlformats.org/officeDocument/2006/relationships/image" Target="../media/image45.png"/><Relationship Id="rId40" Type="http://schemas.openxmlformats.org/officeDocument/2006/relationships/image" Target="../media/image46.png"/><Relationship Id="rId41" Type="http://schemas.openxmlformats.org/officeDocument/2006/relationships/image" Target="../media/image47.png"/><Relationship Id="rId4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bibigon.ru/doc.html?id=821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axnscifi.com/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1"/>
          <a:stretch/>
        </p:blipFill>
        <p:spPr>
          <a:xfrm>
            <a:off x="9360" y="15840"/>
            <a:ext cx="13005000" cy="97534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2"/>
          <p:cNvSpPr/>
          <p:nvPr/>
        </p:nvSpPr>
        <p:spPr>
          <a:xfrm>
            <a:off x="1533600" y="6892920"/>
            <a:ext cx="109440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4048"/>
                </a:solidFill>
                <a:latin typeface="Myriad Pro Cond"/>
              </a:rPr>
              <a:t>Спутниковое телевидение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4048"/>
                </a:solidFill>
                <a:latin typeface="Myriad Pro Cond"/>
              </a:rPr>
              <a:t> </a:t>
            </a:r>
            <a:r>
              <a:rPr b="1" lang="en-US" sz="4800" spc="-1" strike="noStrike">
                <a:solidFill>
                  <a:srgbClr val="2f4048"/>
                </a:solidFill>
                <a:latin typeface="Myriad Pro Cond"/>
              </a:rPr>
              <a:t>«VIVA» </a:t>
            </a:r>
            <a:r>
              <a:rPr b="1" lang="ru-RU" sz="4800" spc="-1" strike="noStrike">
                <a:solidFill>
                  <a:srgbClr val="2f4048"/>
                </a:solidFill>
                <a:latin typeface="Myriad Pro Cond"/>
              </a:rPr>
              <a:t>в 2008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3" descr=""/>
          <p:cNvPicPr/>
          <p:nvPr/>
        </p:nvPicPr>
        <p:blipFill>
          <a:blip r:embed="rId2"/>
          <a:stretch/>
        </p:blipFill>
        <p:spPr>
          <a:xfrm>
            <a:off x="1677960" y="1420920"/>
            <a:ext cx="51055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525600" y="412920"/>
            <a:ext cx="12025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yriad Pro Cond"/>
              </a:rPr>
              <a:t>Спутниковое телевидение «</a:t>
            </a:r>
            <a:r>
              <a:rPr b="0" lang="en-US" sz="4400" spc="-1" strike="noStrike">
                <a:solidFill>
                  <a:srgbClr val="000000"/>
                </a:solidFill>
                <a:latin typeface="Myriad Pro Cond"/>
              </a:rPr>
              <a:t>VIVA</a:t>
            </a:r>
            <a:r>
              <a:rPr b="0" lang="ru-RU" sz="4400" spc="-1" strike="noStrike">
                <a:solidFill>
                  <a:srgbClr val="000000"/>
                </a:solidFill>
                <a:latin typeface="Myriad Pro Cond"/>
              </a:rPr>
              <a:t>» сегодня: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31400" y="7540560"/>
            <a:ext cx="1312920" cy="98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20" y="746928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02320" y="1781280"/>
            <a:ext cx="1241280" cy="93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62680" y="746928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181240" y="7469280"/>
            <a:ext cx="1241280" cy="93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54320" y="6316560"/>
            <a:ext cx="1239840" cy="1020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13"/>
          <a:stretch/>
        </p:blipFill>
        <p:spPr>
          <a:xfrm>
            <a:off x="669960" y="6389640"/>
            <a:ext cx="14400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14"/>
          <a:stretch/>
        </p:blipFill>
        <p:spPr>
          <a:xfrm>
            <a:off x="8015400" y="6532560"/>
            <a:ext cx="1366560" cy="87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Hallmark"/>
          <p:cNvPicPr/>
          <p:nvPr/>
        </p:nvPicPr>
        <p:blipFill>
          <a:blip r:embed="rId15"/>
          <a:stretch/>
        </p:blipFill>
        <p:spPr>
          <a:xfrm>
            <a:off x="9671040" y="6461280"/>
            <a:ext cx="1258920" cy="942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16"/>
          <a:stretch/>
        </p:blipFill>
        <p:spPr>
          <a:xfrm>
            <a:off x="11182320" y="6316560"/>
            <a:ext cx="1440000" cy="1040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"/>
          <p:cNvPicPr/>
          <p:nvPr/>
        </p:nvPicPr>
        <p:blipFill>
          <a:blip r:embed="rId17"/>
          <a:stretch/>
        </p:blipFill>
        <p:spPr>
          <a:xfrm>
            <a:off x="5062680" y="6245280"/>
            <a:ext cx="1368360" cy="93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первый"/>
          <p:cNvPicPr/>
          <p:nvPr/>
        </p:nvPicPr>
        <p:blipFill>
          <a:blip r:embed="rId18"/>
          <a:stretch/>
        </p:blipFill>
        <p:spPr>
          <a:xfrm>
            <a:off x="885960" y="1781280"/>
            <a:ext cx="1131840" cy="992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Культура"/>
          <p:cNvPicPr/>
          <p:nvPr/>
        </p:nvPicPr>
        <p:blipFill>
          <a:blip r:embed="rId19"/>
          <a:stretch/>
        </p:blipFill>
        <p:spPr>
          <a:xfrm>
            <a:off x="6789600" y="1781280"/>
            <a:ext cx="1268640" cy="95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Вести"/>
          <p:cNvPicPr/>
          <p:nvPr/>
        </p:nvPicPr>
        <p:blipFill>
          <a:blip r:embed="rId20"/>
          <a:stretch/>
        </p:blipFill>
        <p:spPr>
          <a:xfrm>
            <a:off x="11326680" y="7540560"/>
            <a:ext cx="1224000" cy="919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РБК ТВ"/>
          <p:cNvPicPr/>
          <p:nvPr/>
        </p:nvPicPr>
        <p:blipFill>
          <a:blip r:embed="rId21"/>
          <a:stretch/>
        </p:blipFill>
        <p:spPr>
          <a:xfrm>
            <a:off x="6286680" y="7397640"/>
            <a:ext cx="1339560" cy="100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Neo Love"/>
          <p:cNvPicPr/>
          <p:nvPr/>
        </p:nvPicPr>
        <p:blipFill>
          <a:blip r:embed="rId22"/>
          <a:stretch/>
        </p:blipFill>
        <p:spPr>
          <a:xfrm>
            <a:off x="7510320" y="7469280"/>
            <a:ext cx="1268640" cy="95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8" descr="Music Love"/>
          <p:cNvPicPr/>
          <p:nvPr/>
        </p:nvPicPr>
        <p:blipFill>
          <a:blip r:embed="rId23"/>
          <a:stretch/>
        </p:blipFill>
        <p:spPr>
          <a:xfrm>
            <a:off x="8879040" y="754056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0" descr="Bridge TV"/>
          <p:cNvPicPr/>
          <p:nvPr/>
        </p:nvPicPr>
        <p:blipFill>
          <a:blip r:embed="rId24"/>
          <a:stretch/>
        </p:blipFill>
        <p:spPr>
          <a:xfrm>
            <a:off x="3549600" y="7469280"/>
            <a:ext cx="1297080" cy="97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2" descr="eurosport2"/>
          <p:cNvPicPr/>
          <p:nvPr/>
        </p:nvPicPr>
        <p:blipFill>
          <a:blip r:embed="rId25"/>
          <a:stretch/>
        </p:blipFill>
        <p:spPr>
          <a:xfrm>
            <a:off x="10750680" y="1781280"/>
            <a:ext cx="1511280" cy="80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4" descr="bibigon"/>
          <p:cNvPicPr/>
          <p:nvPr/>
        </p:nvPicPr>
        <p:blipFill>
          <a:blip r:embed="rId26"/>
          <a:stretch/>
        </p:blipFill>
        <p:spPr>
          <a:xfrm>
            <a:off x="2757600" y="1852560"/>
            <a:ext cx="1412640" cy="1060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6" descr="kinomania"/>
          <p:cNvPicPr/>
          <p:nvPr/>
        </p:nvPicPr>
        <p:blipFill>
          <a:blip r:embed="rId27"/>
          <a:stretch/>
        </p:blipFill>
        <p:spPr>
          <a:xfrm>
            <a:off x="3622680" y="646128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8" descr="euronews"/>
          <p:cNvPicPr/>
          <p:nvPr/>
        </p:nvPicPr>
        <p:blipFill>
          <a:blip r:embed="rId28"/>
          <a:stretch/>
        </p:blipFill>
        <p:spPr>
          <a:xfrm>
            <a:off x="6647040" y="6389640"/>
            <a:ext cx="1152360" cy="86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0" descr="Discovery_Channel"/>
          <p:cNvPicPr/>
          <p:nvPr/>
        </p:nvPicPr>
        <p:blipFill>
          <a:blip r:embed="rId29"/>
          <a:stretch/>
        </p:blipFill>
        <p:spPr>
          <a:xfrm>
            <a:off x="957240" y="322092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2" descr="Animal_Planet"/>
          <p:cNvPicPr/>
          <p:nvPr/>
        </p:nvPicPr>
        <p:blipFill>
          <a:blip r:embed="rId30"/>
          <a:stretch/>
        </p:blipFill>
        <p:spPr>
          <a:xfrm>
            <a:off x="741240" y="4805280"/>
            <a:ext cx="1555920" cy="116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4" descr="feniks"/>
          <p:cNvPicPr/>
          <p:nvPr/>
        </p:nvPicPr>
        <p:blipFill>
          <a:blip r:embed="rId31"/>
          <a:stretch/>
        </p:blipFill>
        <p:spPr>
          <a:xfrm>
            <a:off x="11182320" y="4876920"/>
            <a:ext cx="1268280" cy="950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6" descr="axn"/>
          <p:cNvPicPr/>
          <p:nvPr/>
        </p:nvPicPr>
        <p:blipFill>
          <a:blip r:embed="rId32"/>
          <a:stretch/>
        </p:blipFill>
        <p:spPr>
          <a:xfrm>
            <a:off x="10750680" y="300528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8" descr="Discovery-Civilisation"/>
          <p:cNvPicPr/>
          <p:nvPr/>
        </p:nvPicPr>
        <p:blipFill>
          <a:blip r:embed="rId33"/>
          <a:stretch/>
        </p:blipFill>
        <p:spPr>
          <a:xfrm>
            <a:off x="2757600" y="3508200"/>
            <a:ext cx="1441440" cy="108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0" descr="Discovery-travel"/>
          <p:cNvPicPr/>
          <p:nvPr/>
        </p:nvPicPr>
        <p:blipFill>
          <a:blip r:embed="rId34"/>
          <a:stretch/>
        </p:blipFill>
        <p:spPr>
          <a:xfrm>
            <a:off x="4989600" y="314784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2" descr="eurosport"/>
          <p:cNvPicPr/>
          <p:nvPr/>
        </p:nvPicPr>
        <p:blipFill>
          <a:blip r:embed="rId35"/>
          <a:stretch/>
        </p:blipFill>
        <p:spPr>
          <a:xfrm>
            <a:off x="8734320" y="1924200"/>
            <a:ext cx="1366920" cy="82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4" descr="Discovery-science"/>
          <p:cNvPicPr/>
          <p:nvPr/>
        </p:nvPicPr>
        <p:blipFill>
          <a:blip r:embed="rId36"/>
          <a:stretch/>
        </p:blipFill>
        <p:spPr>
          <a:xfrm>
            <a:off x="6934320" y="3220920"/>
            <a:ext cx="1484280" cy="111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6" descr="Extreme-Sports"/>
          <p:cNvPicPr/>
          <p:nvPr/>
        </p:nvPicPr>
        <p:blipFill>
          <a:blip r:embed="rId37"/>
          <a:stretch/>
        </p:blipFill>
        <p:spPr>
          <a:xfrm>
            <a:off x="9166320" y="3220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8" descr="Ocean"/>
          <p:cNvPicPr/>
          <p:nvPr/>
        </p:nvPicPr>
        <p:blipFill>
          <a:blip r:embed="rId38"/>
          <a:stretch/>
        </p:blipFill>
        <p:spPr>
          <a:xfrm>
            <a:off x="2901960" y="4948200"/>
            <a:ext cx="1484280" cy="1112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0" descr="Hunt"/>
          <p:cNvPicPr/>
          <p:nvPr/>
        </p:nvPicPr>
        <p:blipFill>
          <a:blip r:embed="rId39"/>
          <a:stretch/>
        </p:blipFill>
        <p:spPr>
          <a:xfrm>
            <a:off x="4989600" y="4589640"/>
            <a:ext cx="1584360" cy="118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2" descr="drive"/>
          <p:cNvPicPr/>
          <p:nvPr/>
        </p:nvPicPr>
        <p:blipFill>
          <a:blip r:embed="rId40"/>
          <a:stretch/>
        </p:blipFill>
        <p:spPr>
          <a:xfrm>
            <a:off x="7007400" y="481824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4" descr="villa"/>
          <p:cNvPicPr/>
          <p:nvPr/>
        </p:nvPicPr>
        <p:blipFill>
          <a:blip r:embed="rId41"/>
          <a:stretch/>
        </p:blipFill>
        <p:spPr>
          <a:xfrm>
            <a:off x="9023400" y="473220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13020840" cy="9764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101600" y="2428920"/>
            <a:ext cx="115189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f4048"/>
                </a:solidFill>
                <a:uFillTx/>
                <a:latin typeface="Myriad Pro Cond"/>
              </a:rPr>
              <a:t>www.orion-express.ru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030320" y="3363840"/>
            <a:ext cx="11518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4048"/>
                </a:solidFill>
                <a:latin typeface="Myriad Pro Cond"/>
              </a:rPr>
              <a:t>+7 495 961 01 87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7112160" y="797040"/>
            <a:ext cx="524484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957240" y="3508200"/>
            <a:ext cx="1082844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052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62e"/>
                </a:solidFill>
                <a:latin typeface="Myriad Pro Cond"/>
              </a:rPr>
              <a:t>Компания «</a:t>
            </a:r>
            <a:r>
              <a:rPr b="1" lang="en-US" sz="3600" spc="-1" strike="noStrike">
                <a:solidFill>
                  <a:srgbClr val="2a362e"/>
                </a:solidFill>
                <a:latin typeface="Myriad Pro Cond"/>
              </a:rPr>
              <a:t>Орион Экспресс»</a:t>
            </a:r>
            <a:r>
              <a:rPr b="0" lang="en-US" sz="3600" spc="-1" strike="noStrike">
                <a:solidFill>
                  <a:srgbClr val="2a362e"/>
                </a:solidFill>
                <a:latin typeface="Myriad Pro Cond"/>
              </a:rPr>
              <a:t> —</a:t>
            </a:r>
            <a:r>
              <a:rPr b="0" lang="ru-RU" sz="3600" spc="-1" strike="noStrike">
                <a:solidFill>
                  <a:srgbClr val="2a362e"/>
                </a:solidFill>
                <a:latin typeface="Myriad Pro Cond"/>
              </a:rPr>
              <a:t> оператор спутникового телевидения </a:t>
            </a:r>
            <a:r>
              <a:rPr b="1" lang="ru-RU" sz="3600" spc="-1" strike="noStrike">
                <a:solidFill>
                  <a:srgbClr val="2a362e"/>
                </a:solidFill>
                <a:latin typeface="Myriad Pro Cond"/>
              </a:rPr>
              <a:t>«</a:t>
            </a:r>
            <a:r>
              <a:rPr b="1" lang="en-US" sz="4000" spc="-1" strike="noStrike">
                <a:solidFill>
                  <a:srgbClr val="2a362e"/>
                </a:solidFill>
                <a:latin typeface="Myriad Pro Cond"/>
              </a:rPr>
              <a:t>VIVA</a:t>
            </a:r>
            <a:r>
              <a:rPr b="1" lang="ru-RU" sz="3600" spc="-1" strike="noStrike">
                <a:solidFill>
                  <a:srgbClr val="2a362e"/>
                </a:solidFill>
                <a:latin typeface="Myriad Pro Cond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8302680" y="915840"/>
            <a:ext cx="3733920" cy="3206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viva tv fon White"/>
          <p:cNvPicPr/>
          <p:nvPr/>
        </p:nvPicPr>
        <p:blipFill>
          <a:blip r:embed="rId2"/>
          <a:stretch/>
        </p:blipFill>
        <p:spPr>
          <a:xfrm>
            <a:off x="5781600" y="7108920"/>
            <a:ext cx="5329440" cy="15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1317600" y="1852560"/>
            <a:ext cx="110775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yriad Pro Cond"/>
              </a:rPr>
              <a:t>Спутниковое телевидение «VIVA» это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yriad Pro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самая широкая территория</a:t>
            </a:r>
            <a:r>
              <a:rPr b="0" lang="ru-RU" sz="3600" spc="-1" strike="noStrike">
                <a:solidFill>
                  <a:srgbClr val="000000"/>
                </a:solidFill>
                <a:latin typeface="Myriad Pro Cond"/>
              </a:rPr>
              <a:t> покрытия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yriad Pro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yriad Pro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более 40 телеканалов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yriad Pro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yriad Pro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дополнительные сервисы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yriad Pro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yriad Pro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удобные способы оплаты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yriad Pro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yriad Pro Cond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цифровое качество </a:t>
            </a:r>
            <a:r>
              <a:rPr b="0" lang="ru-RU" sz="3600" spc="-1" strike="noStrike">
                <a:solidFill>
                  <a:srgbClr val="000000"/>
                </a:solidFill>
                <a:latin typeface="Myriad Pro Cond"/>
              </a:rPr>
              <a:t>вещания</a:t>
            </a:r>
            <a:r>
              <a:rPr b="1" lang="ru-RU" sz="3600" spc="-1" strike="noStrike">
                <a:solidFill>
                  <a:srgbClr val="000000"/>
                </a:solidFill>
                <a:latin typeface="Myriad Pro Cond"/>
              </a:rPr>
              <a:t> по доступной цене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7651800" y="8381880"/>
            <a:ext cx="535284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838080" y="4070520"/>
            <a:ext cx="961416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008760" y="6618240"/>
            <a:ext cx="6686640" cy="31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173240" y="844560"/>
            <a:ext cx="10802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yriad Pro Cond"/>
              </a:rPr>
              <a:t>Спутниковое телевидение </a:t>
            </a:r>
            <a:r>
              <a:rPr b="1" lang="en-US" sz="3400" spc="-1" strike="noStrike">
                <a:solidFill>
                  <a:srgbClr val="000000"/>
                </a:solidFill>
                <a:latin typeface="Myriad Pro Cond"/>
              </a:rPr>
              <a:t>VIVA </a:t>
            </a:r>
            <a:r>
              <a:rPr b="1" lang="ru-RU" sz="3400" spc="-1" strike="noStrike">
                <a:solidFill>
                  <a:srgbClr val="000000"/>
                </a:solidFill>
                <a:latin typeface="Myriad Pro Cond"/>
              </a:rPr>
              <a:t> - это</a:t>
            </a:r>
            <a:r>
              <a:rPr b="0" lang="ru-RU" sz="3400" spc="-1" strike="noStrike">
                <a:solidFill>
                  <a:srgbClr val="000000"/>
                </a:solidFill>
                <a:latin typeface="Myriad Pro Cond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Myriad Pro Cond"/>
              </a:rPr>
              <a:t>более 40</a:t>
            </a:r>
            <a:r>
              <a:rPr b="0" lang="ru-RU" sz="3400" spc="-1" strike="noStrike">
                <a:solidFill>
                  <a:srgbClr val="000000"/>
                </a:solidFill>
                <a:latin typeface="Myriad Pro Cond"/>
              </a:rPr>
              <a:t> телеканалов.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571000" y="386856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 Cond"/>
              </a:rPr>
              <a:t>Познавательны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830680" y="329256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 Cond"/>
              </a:rPr>
              <a:t>Развлекательны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840520" y="30052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 Cond"/>
              </a:rPr>
              <a:t>Спортивны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8332920" y="473220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 Cond"/>
              </a:rPr>
              <a:t>Фильмовы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2038320" y="3940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 Cond"/>
              </a:rPr>
              <a:t>Детски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2620440" y="458964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 Cond"/>
              </a:rPr>
              <a:t>Музыкальны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9716040" y="386856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yriad Pro Cond"/>
              </a:rPr>
              <a:t>Новостные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965240" y="5740560"/>
            <a:ext cx="1051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yriad Pro Cond"/>
              </a:rPr>
              <a:t>А также доступные только Абонентам «</a:t>
            </a:r>
            <a:r>
              <a:rPr b="0" lang="en-US" sz="2800" spc="-1" strike="noStrike">
                <a:solidFill>
                  <a:srgbClr val="000000"/>
                </a:solidFill>
                <a:latin typeface="Myriad Pro Cond"/>
              </a:rPr>
              <a:t>VIVA</a:t>
            </a:r>
            <a:r>
              <a:rPr b="0" lang="ru-RU" sz="2800" spc="-1" strike="noStrike">
                <a:solidFill>
                  <a:srgbClr val="000000"/>
                </a:solidFill>
                <a:latin typeface="Myriad Pro Cond"/>
              </a:rPr>
              <a:t>» каналы Мультимания, </a:t>
            </a:r>
            <a:r>
              <a:rPr b="0" lang="en-US" sz="2800" spc="-1" strike="noStrike">
                <a:solidFill>
                  <a:srgbClr val="000000"/>
                </a:solidFill>
                <a:latin typeface="Myriad Pro Cond"/>
              </a:rPr>
              <a:t>AXN Sci-Fi</a:t>
            </a:r>
            <a:r>
              <a:rPr b="0" lang="ru-RU" sz="2800" spc="-1" strike="noStrike">
                <a:solidFill>
                  <a:srgbClr val="000000"/>
                </a:solidFill>
                <a:latin typeface="Myriad Pro Cond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Myriad Pro Cond"/>
              </a:rPr>
              <a:t>Ocean-TV, KidsCo</a:t>
            </a:r>
            <a:r>
              <a:rPr b="0" lang="ru-RU" sz="2800" spc="-1" strike="noStrike">
                <a:solidFill>
                  <a:srgbClr val="000000"/>
                </a:solidFill>
                <a:latin typeface="Myriad Pro Cond"/>
              </a:rPr>
              <a:t> и Zee T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5343120" y="2408400"/>
            <a:ext cx="23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yriad Pro Cond"/>
              </a:rPr>
              <a:t>Среди них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1461960" y="2644920"/>
            <a:ext cx="396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000000"/>
                </a:solidFill>
                <a:uFillTx/>
                <a:latin typeface="Myriad Pro Cond"/>
              </a:rPr>
              <a:t>Первый канал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" name="Picture 9" descr="shapka"/>
          <p:cNvPicPr/>
          <p:nvPr/>
        </p:nvPicPr>
        <p:blipFill>
          <a:blip r:embed="rId1"/>
          <a:stretch/>
        </p:blipFill>
        <p:spPr>
          <a:xfrm>
            <a:off x="2685960" y="3581280"/>
            <a:ext cx="138456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741240" y="5513760"/>
            <a:ext cx="55454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«Первый канал»- наследник ОРТ «Останкино» и первого канала советского телевидения. Телекомпания до сих пор имеет статус почти государственной. Кинопоказ на этом телеканале занимает 40% вещания. Развлекательный жанр на «Первом» представлен двумя напралениями – музыкальным и игровым – это «Поле чудес», «Песня года», «КВН» и пр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ill Sans"/>
              </a:rPr>
              <a:t>                                                                           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2470320" y="10605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Myriad Pro Cond"/>
              </a:rPr>
              <a:t>С</a:t>
            </a:r>
            <a:r>
              <a:rPr b="0" lang="en-US" sz="4000" spc="-1" strike="noStrike">
                <a:solidFill>
                  <a:srgbClr val="080808"/>
                </a:solidFill>
                <a:latin typeface="Myriad Pro Cond"/>
              </a:rPr>
              <a:t> </a:t>
            </a:r>
            <a:r>
              <a:rPr b="0" lang="ru-RU" sz="4000" spc="-1" strike="noStrike">
                <a:solidFill>
                  <a:srgbClr val="080808"/>
                </a:solidFill>
                <a:latin typeface="Myriad Pro Cond"/>
              </a:rPr>
              <a:t>декабря 2007 г.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Myriad Pro Cond"/>
              </a:rPr>
              <a:t>Появились</a:t>
            </a:r>
            <a:r>
              <a:rPr b="0" lang="ru-RU" sz="4000" spc="-1" strike="noStrike">
                <a:solidFill>
                  <a:srgbClr val="080808"/>
                </a:solidFill>
                <a:latin typeface="Myriad Pro Cond"/>
              </a:rPr>
              <a:t> новые телеканалы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" name="Picture 21" descr="Бибиго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31040" y="3581280"/>
            <a:ext cx="2376720" cy="17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8231040" y="2716200"/>
            <a:ext cx="331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000000"/>
                </a:solidFill>
                <a:uFillTx/>
                <a:latin typeface="Myriad Pro Cond"/>
              </a:rPr>
              <a:t>Бибигон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6789600" y="568332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Телеканал «Бибигон» - младший в семье каналов ВГТРК – это</a:t>
            </a: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 в первую очередь</a:t>
            </a: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 "добрый канал , с которым приятно общаться", снижающий чувство тревоги и при этом не только развлекающий, но и образовательный. Вниманию детей от 4 до 17 лет предложат лучшие мультфильмы и сериалы мира, реалити-шоу, спортивные игры, интеллектуальные викторины, новости литературы, музыки, театра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Discovery-Civilisation"/>
          <p:cNvPicPr/>
          <p:nvPr/>
        </p:nvPicPr>
        <p:blipFill>
          <a:blip r:embed="rId1"/>
          <a:stretch/>
        </p:blipFill>
        <p:spPr>
          <a:xfrm>
            <a:off x="1246320" y="329256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Discovery-travel"/>
          <p:cNvPicPr/>
          <p:nvPr/>
        </p:nvPicPr>
        <p:blipFill>
          <a:blip r:embed="rId2"/>
          <a:stretch/>
        </p:blipFill>
        <p:spPr>
          <a:xfrm>
            <a:off x="5207040" y="213984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Discovery-science"/>
          <p:cNvPicPr/>
          <p:nvPr/>
        </p:nvPicPr>
        <p:blipFill>
          <a:blip r:embed="rId3"/>
          <a:stretch/>
        </p:blipFill>
        <p:spPr>
          <a:xfrm>
            <a:off x="9958320" y="3652920"/>
            <a:ext cx="2089080" cy="1566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741240" y="4604760"/>
            <a:ext cx="3240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Круглосуточный канал группы Discovery, посвященный истории и достижениям цивилизаций. Программы канала адресованы тем, кого интересует мировая история, люди и центры цивилизаций. Discovery Civilisation пробуждает историю к жизни. Это документированные события, которые позволили сформировать нашу цивилизацию в сегодняшнем виде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669960" y="1852560"/>
            <a:ext cx="32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Myriad Pro Cond"/>
              </a:rPr>
              <a:t>Discovery Civilis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702320" y="3817800"/>
            <a:ext cx="377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Канал представляет развлекательные программы о путешествиях, особенностях культуры, кулинарных пристрастиях и образе жизни разных народов, архитектуре и декоре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3749400" y="1420200"/>
            <a:ext cx="56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Myriad Pro Cond"/>
              </a:rPr>
              <a:t>Discovery Travel &amp; Living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8807400" y="2500200"/>
            <a:ext cx="39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Myriad Pro Cond"/>
              </a:rPr>
              <a:t>Discovery Scienc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9381960" y="5200560"/>
            <a:ext cx="331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Discovery Science постоянно находится на острие научного и технологического поиска, рассказывает об изобретениях, показывая, как наука воздействует на нашу жизнь. Программы телеканала охватывают весь спектр научных интересов - от изучения глубин нашей Вселенной до практической науки вокруг нас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1030320" y="555480"/>
            <a:ext cx="1130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Myriad Pro Cond"/>
              </a:rPr>
              <a:t>Новые телеканалы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8"/>
          <p:cNvSpPr/>
          <p:nvPr/>
        </p:nvSpPr>
        <p:spPr>
          <a:xfrm>
            <a:off x="5925960" y="1636560"/>
            <a:ext cx="180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Myriad Pro Cond"/>
              </a:rPr>
              <a:t>Dr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25600" y="1708200"/>
            <a:ext cx="3311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000000"/>
                </a:solidFill>
                <a:uFillTx/>
                <a:latin typeface="Myriad Pro Cond"/>
              </a:rPr>
              <a:t>Охота и рыбалка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" name="Picture 10" descr="drive_big"/>
          <p:cNvPicPr/>
          <p:nvPr/>
        </p:nvPicPr>
        <p:blipFill>
          <a:blip r:embed="rId1"/>
          <a:stretch/>
        </p:blipFill>
        <p:spPr>
          <a:xfrm>
            <a:off x="5710320" y="2644920"/>
            <a:ext cx="2232000" cy="169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logo_hunt_small"/>
          <p:cNvPicPr/>
          <p:nvPr/>
        </p:nvPicPr>
        <p:blipFill>
          <a:blip r:embed="rId2"/>
          <a:stretch/>
        </p:blipFill>
        <p:spPr>
          <a:xfrm>
            <a:off x="885960" y="3147840"/>
            <a:ext cx="2205000" cy="1675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4702320" y="5001120"/>
            <a:ext cx="38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Канал </a:t>
            </a: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Drive</a:t>
            </a: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 - это знаменитые автомобили, великие гонщики, знаменитости и их машины, история и обзоры различных гонок, включая Формулу 1, автопутешествия, тюнинг и стритрейсинг, подержанные автомобили, в том числе авто-магазин, тестдрайвы, обзоры гоночных сессий и пр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885960" y="5041800"/>
            <a:ext cx="331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Телеканал познакомит телезрителя с корифеями своего дела, их трофеями и профессиональными навыками, полученными за долгие годы опытным путем. Интерес представляют отснятые материалы, рассказы и заметки знакомства и обнаружения.         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18" descr="logo_villa_small"/>
          <p:cNvPicPr/>
          <p:nvPr/>
        </p:nvPicPr>
        <p:blipFill>
          <a:blip r:embed="rId3"/>
          <a:stretch/>
        </p:blipFill>
        <p:spPr>
          <a:xfrm>
            <a:off x="9742320" y="2932200"/>
            <a:ext cx="2535480" cy="19238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9"/>
          <p:cNvSpPr/>
          <p:nvPr/>
        </p:nvSpPr>
        <p:spPr>
          <a:xfrm>
            <a:off x="9094680" y="512568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Канал покажет зрителям программы обо всем, что связано с приусадебными участками, строительством, выращиваемыми культурами, а также ряд прикладных полезных программ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9671040" y="1781280"/>
            <a:ext cx="251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000000"/>
                </a:solidFill>
                <a:uFillTx/>
                <a:latin typeface="Myriad Pro Cond"/>
              </a:rPr>
              <a:t>Усадьба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885960" y="555480"/>
            <a:ext cx="1130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Myriad Pro Cond"/>
              </a:rPr>
              <a:t>Новые телеканалы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Ocean"/>
          <p:cNvPicPr/>
          <p:nvPr/>
        </p:nvPicPr>
        <p:blipFill>
          <a:blip r:embed="rId1"/>
          <a:stretch/>
        </p:blipFill>
        <p:spPr>
          <a:xfrm>
            <a:off x="814320" y="2932200"/>
            <a:ext cx="2421000" cy="181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feniks"/>
          <p:cNvPicPr/>
          <p:nvPr/>
        </p:nvPicPr>
        <p:blipFill>
          <a:blip r:embed="rId2"/>
          <a:stretch/>
        </p:blipFill>
        <p:spPr>
          <a:xfrm>
            <a:off x="9742320" y="3005280"/>
            <a:ext cx="2205360" cy="1654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525600" y="1924200"/>
            <a:ext cx="331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Myriad Pro Cond"/>
              </a:rPr>
              <a:t>Ocean-TV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9094680" y="2068560"/>
            <a:ext cx="331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000000"/>
                </a:solidFill>
                <a:uFillTx/>
                <a:latin typeface="Myriad Pro Cond"/>
              </a:rPr>
              <a:t>Феникс-АРТ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9023400" y="4911840"/>
            <a:ext cx="37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«Феникс-Арт» – телеканал лучших российских многосерийных фильмов для всей семьи. Основу телеканала составляют популярные сериалы производства кинокомпании «Феникс-Фильм», с </a:t>
            </a: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успехом прошедшие в вечернее время на федеральных эфирных каналах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09600" y="5121360"/>
            <a:ext cx="403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Телеканал "Ocean-tv" - это первый русскоязычный телеканал о Мировом Океане и истории отношений человека и моря. </a:t>
            </a: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Океан - это огромная таинственная сила, которая дает жизнь всей нашей планете. В связи с этим становится очевидной необходимость появления телеканала на водную тему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14" descr="ax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49960" y="300528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5"/>
          <p:cNvSpPr/>
          <p:nvPr/>
        </p:nvSpPr>
        <p:spPr>
          <a:xfrm>
            <a:off x="4989600" y="2139840"/>
            <a:ext cx="331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000000"/>
                </a:solidFill>
                <a:uFillTx/>
                <a:latin typeface="Myriad Pro Cond"/>
              </a:rPr>
              <a:t>AXN Sci-Fi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4773600" y="481212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Телеканал AXN Sci-Fi – это интересные, смелые, сильные, дерзкие, выдающиеся и высокобюджетные сериалы и фильмы в жанре научной фантастики, сверхъестественной мистики и фэнтези. Среди программ телеканала сериал «Остаться в живых», получивший самую высокую оценку критиков</a:t>
            </a:r>
            <a:r>
              <a:rPr b="0" lang="ru-RU" sz="1800" spc="-1" strike="noStrike">
                <a:solidFill>
                  <a:srgbClr val="000000"/>
                </a:solidFill>
                <a:latin typeface="Myriad Pro C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885960" y="773280"/>
            <a:ext cx="1130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Myriad Pro Cond"/>
              </a:rPr>
              <a:t>Новые телеканалы: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939960" y="1852560"/>
            <a:ext cx="12064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649440" indent="-609840"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61960" y="915840"/>
            <a:ext cx="8496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80808"/>
                </a:solidFill>
                <a:latin typeface="Myriad Pro Cond"/>
              </a:rPr>
              <a:t>В 2008 г.</a:t>
            </a:r>
            <a:r>
              <a:rPr b="1" lang="ru-RU" sz="4200" spc="-1" strike="noStrike">
                <a:solidFill>
                  <a:srgbClr val="080808"/>
                </a:solidFill>
                <a:latin typeface="Myriad Pro Cond"/>
              </a:rPr>
              <a:t> появятся</a:t>
            </a:r>
            <a:r>
              <a:rPr b="0" lang="ru-RU" sz="4200" spc="-1" strike="noStrike">
                <a:solidFill>
                  <a:srgbClr val="080808"/>
                </a:solidFill>
                <a:latin typeface="Myriad Pro Cond"/>
              </a:rPr>
              <a:t> новые телеканалы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830680" y="2644920"/>
            <a:ext cx="273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000000"/>
                </a:solidFill>
                <a:uFillTx/>
                <a:latin typeface="Myriad Pro Cond"/>
              </a:rPr>
              <a:t>Телекафе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8" name="Picture 8" descr="logo-welcome"/>
          <p:cNvPicPr/>
          <p:nvPr/>
        </p:nvPicPr>
        <p:blipFill>
          <a:blip r:embed="rId1"/>
          <a:stretch/>
        </p:blipFill>
        <p:spPr>
          <a:xfrm>
            <a:off x="2470320" y="3797280"/>
            <a:ext cx="5689440" cy="1069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2470320" y="5160960"/>
            <a:ext cx="604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yriad Pro Cond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Myriad Pro Cond"/>
              </a:rPr>
              <a:t>анр </a:t>
            </a:r>
            <a:r>
              <a:rPr b="0" lang="ru-RU" sz="2400" spc="-1" strike="noStrike">
                <a:solidFill>
                  <a:srgbClr val="000000"/>
                </a:solidFill>
                <a:latin typeface="Myriad Pro Cond"/>
              </a:rPr>
              <a:t>телеканала </a:t>
            </a:r>
            <a:r>
              <a:rPr b="0" lang="en-US" sz="2400" spc="-1" strike="noStrike">
                <a:solidFill>
                  <a:srgbClr val="000000"/>
                </a:solidFill>
                <a:latin typeface="Myriad Pro Cond"/>
              </a:rPr>
              <a:t>— «звездная кулинария»: знаменитые шеф-повара и просто известные персоны будут рассказывать о своих кулинарных увлечениях, делиться секретами фирменных блюд и любимыми рецептами.</a:t>
            </a:r>
            <a:r>
              <a:rPr b="0" lang="en-US" sz="1800" spc="-1" strike="noStrike">
                <a:solidFill>
                  <a:srgbClr val="000000"/>
                </a:solidFill>
                <a:latin typeface="Myriad Pro C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2"/>
          <p:cNvSpPr/>
          <p:nvPr/>
        </p:nvSpPr>
        <p:spPr>
          <a:xfrm rot="2103000">
            <a:off x="10229040" y="25668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yriad Pro Cond"/>
              </a:rPr>
              <a:t>Скоро!!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8447040" y="7613640"/>
            <a:ext cx="345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Myriad Pro Cond"/>
              </a:rPr>
              <a:t>И другие.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19T11:05:45Z</dcterms:modified>
  <cp:revision>60</cp:revision>
  <dc:subject/>
  <dc:title>Слайд 1</dc:title>
</cp:coreProperties>
</file>