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27.png" ContentType="image/png"/>
  <Override PartName="/ppt/media/image13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1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3E9-FB19-4E9C-8763-1B5B6C76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855-8383-43A6-91EE-1A8CC4A7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E39542-FE69-40CD-AAC5-CFD46702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4D3A75-97E0-48D0-8ACD-409FED4F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7B6F12-0006-47CF-8808-465021F6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7EDF2-043C-45DF-B836-BEF120D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D5FB2A-FC39-4D9A-8835-5A52E4E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4D75FD-DD61-4A68-AD3B-0D4794DA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05B7B-025A-4543-8504-81C34A90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360B8D-B1CB-4A35-AFD1-B9D889E7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9DF37F-568F-4DEC-935B-F2794FB4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890-F403-4385-90C8-EA121FFE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563-B24A-41D5-821B-C91A4C13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2B61E-9E9A-4F26-829A-FB332173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8B0A1-B3F0-45F1-B91F-D36CB2BB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5B17D-21E8-41F0-8A3A-4B403D12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A5EF9-1A86-4921-9E58-50CA2E9E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98AB9-22D7-4B47-9DEC-B3F36C29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4964C-2644-487C-9CEE-D8FBDE19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2FE93-9DAC-4CBB-B62A-72389E4C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BF6-A380-4685-B472-3AF553BF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CA05C-395E-4710-9B1A-A1147886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931A2-79A7-431C-8C84-8B7DBB20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7204B-9B7B-4B6A-8354-8627B8B5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3B85D-B9EC-4207-8355-02F3824C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1A155-E9DD-48C7-B56D-CA32AAED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A8E2-F057-48F8-829A-A76A7F57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7835-61D8-44E9-8EB1-BB343CA1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7466-49AB-4E9F-AFD2-F71F3F54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9B7EA-DB9C-4AB5-A878-6E97081E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5232-25C6-450F-B450-575AE78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D57-CFAF-4983-A78B-CAE65B11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4D0E-EC03-4D4B-B285-3E120A8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FE10-B78B-499F-9DC4-520B314B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548B-4B7B-474B-A8A6-EEB3EBC8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8F61-9833-4930-B10E-230E33ED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E3F5-A586-403C-9281-4C69F695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C30C-C0B0-4D4F-8A26-DB781D80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6137-A9B3-4582-96DD-FFF3850B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B4C40-0BB8-4770-8EE8-B0A04156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41C26-6CE0-4ED1-B063-BFE3C033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831D6-73DE-4B4E-9110-FA657B73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376-D496-4854-94E7-8074564C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FAC65-0F9F-454E-9E73-5C0833CA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9BDD6-E498-401F-A662-DFB26C39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479CC-1638-4DFE-A837-DF42A733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F4ADB-83DF-4C9D-B0BB-AAD17B02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D22BD-2414-4ECF-B82A-011E0D4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08FF6-1545-4030-99EB-FCC190C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5B8A7-9FD2-4D48-8424-01D68E20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90EA3-F21F-408B-A70A-B0F59366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DEF79-22DD-4BAA-8113-5272218F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42923-9EE8-4D96-89D0-CA3CEABF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BD7-3749-4B77-8BFF-F12FE2F7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EBD36-CED4-4934-90B0-37081134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35DE6-F2B3-4719-9554-11F6A07D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9A02-2C3D-4F62-8175-0901CF78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6EF69-92A1-4569-A40C-2191902C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498C8-F7AC-41F8-ACE3-9D44A8DB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F69E-70D7-4188-9F07-9EA3098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AEEE-4509-4548-878A-1EE4F24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62A25-4B23-4806-B0CC-130AF54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45011-F781-482C-8584-6B7B0D42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33772-EAF1-4BB7-906D-6E916604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BEC-5864-43CB-9921-3961BC6C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3FE31-0618-46F6-A920-C4204181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4B7D7-AD8E-425C-9416-C71D2714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8D813-E1EF-4B9C-93B2-ABDACCDE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CDF6A-0F47-450E-A2E0-5995CFED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9C931-0D40-467A-826E-96A22DC1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18527-C3F5-40AA-86FD-FBA82F97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2659D-FD2A-4B05-8DD7-80BBE860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E58E7-8914-4738-B8C0-E4B5EAFA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F9AF1-2DBB-4F8A-8CD9-C331EB2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DEA03-0FB0-4AA6-ADA1-A1C0FBFF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1A5-447A-40BA-AA32-01A591F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04456-DEBF-4DB6-90BF-BA445F8E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F58D4-1381-4EA3-AB77-7823FA39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734AE-A515-43D4-ABA1-2C9CAC0F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DEC85-8DB3-4867-8F93-8EB70953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F29A0-97C2-4572-832E-BD5BD986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F3164-D7A7-49E6-B1D6-2EAAD826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08864-25BE-4477-8658-D5B98C77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E75AB-364D-4B8D-9F2A-4C4970D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D1B16-8F91-44E8-8F4D-9FBE809E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F739-39C3-466F-8262-A9A55713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CDD-046B-4DCE-BAED-375B06A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7D1BC-3B2E-40AE-8670-7E1C0DA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1FAD4-88E7-40B0-8C27-3A2DF24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B2CBA-3915-4E5A-A0F2-05B62254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848F8-AC0C-4F4D-9082-B8F365E9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E69CF-B617-4635-943B-1807C8B1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88786E-46F3-4355-A1BC-F89DC846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A10B0-ED40-4781-96CA-A699CE2C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1754CF-28FB-4991-8673-3BF1D7B9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8867C5-B53D-4BC6-96E9-88D17E8B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4A4351-C0AC-439B-8427-17C67A07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291-3537-41C1-929C-5DB78F4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45D457-DE93-416B-AB27-CC268A9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34B802-EFE8-4F7F-8289-9181965F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C61B2-9201-4225-9F13-251C306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54E74-18CA-4B1D-ABFD-F6673F37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FF07A-1C27-4C7D-9F98-C7DE1998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3DC570-BAE6-418E-A22B-92F67971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A0AF7-649F-4C20-86AC-93992D19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98774-3D0F-43F0-9560-A9EDB97B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35DC48-06A6-48AB-9570-4EC7D6E0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8AF68-A870-492F-9B7E-B8501DD1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B5E0-1585-45BA-A72E-4E06BB8A5EF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2289-A854-4589-875E-51F0F59CD59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455C-D839-4F50-9C9D-CACD1914022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90D8-A545-46BB-883F-F8386F353DC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C872-0E46-4CF0-A792-108EB6E41BD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B3B3-BBB9-4CFF-8DAD-E451E6F72D5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0F30-0FD0-450D-A776-8AE856437C8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2A28-4D58-40F8-A10A-FDBADE2C0F9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F738-E108-4F08-B193-6DE5EB53956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WordArt 5"/>
          <p:cNvSpPr txBox="1"/>
          <p:nvPr/>
        </p:nvSpPr>
        <p:spPr>
          <a:xfrm>
            <a:off x="3686040" y="836640"/>
            <a:ext cx="4631040" cy="32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йзаж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8160" cy="190368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4" descr="эпич..jpg"/>
          <p:cNvPicPr/>
          <p:nvPr/>
        </p:nvPicPr>
        <p:blipFill>
          <a:blip r:embed="rId2"/>
          <a:stretch/>
        </p:blipFill>
        <p:spPr>
          <a:xfrm>
            <a:off x="457200" y="2643120"/>
            <a:ext cx="4114800" cy="2633760"/>
          </a:xfrm>
          <a:prstGeom prst="rect">
            <a:avLst/>
          </a:prstGeom>
          <a:ln w="0">
            <a:noFill/>
          </a:ln>
        </p:spPr>
      </p:pic>
      <p:pic>
        <p:nvPicPr>
          <p:cNvPr id="420" name="Содержимое 5" descr="эпический.jpg"/>
          <p:cNvPicPr/>
          <p:nvPr/>
        </p:nvPicPr>
        <p:blipFill>
          <a:blip r:embed="rId3"/>
          <a:stretch/>
        </p:blipFill>
        <p:spPr>
          <a:xfrm>
            <a:off x="4716360" y="2428920"/>
            <a:ext cx="4141800" cy="3198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425080" cy="134748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4" descr="романтичес..jpg"/>
          <p:cNvPicPr/>
          <p:nvPr/>
        </p:nvPicPr>
        <p:blipFill>
          <a:blip r:embed="rId2"/>
          <a:stretch/>
        </p:blipFill>
        <p:spPr>
          <a:xfrm>
            <a:off x="457200" y="1571760"/>
            <a:ext cx="4043520" cy="408276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5" descr="романтический.jpg"/>
          <p:cNvPicPr/>
          <p:nvPr/>
        </p:nvPicPr>
        <p:blipFill>
          <a:blip r:embed="rId3"/>
          <a:stretch/>
        </p:blipFill>
        <p:spPr>
          <a:xfrm>
            <a:off x="4648320" y="1714680"/>
            <a:ext cx="4209840" cy="3747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8224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4" descr="пейзаж настроения.jpg"/>
          <p:cNvPicPr/>
          <p:nvPr/>
        </p:nvPicPr>
        <p:blipFill>
          <a:blip r:embed="rId2"/>
          <a:stretch/>
        </p:blipFill>
        <p:spPr>
          <a:xfrm>
            <a:off x="642960" y="1714680"/>
            <a:ext cx="4214880" cy="442908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5" descr="настроение.jpg"/>
          <p:cNvPicPr/>
          <p:nvPr/>
        </p:nvPicPr>
        <p:blipFill>
          <a:blip r:embed="rId3"/>
          <a:stretch/>
        </p:blipFill>
        <p:spPr>
          <a:xfrm>
            <a:off x="5051520" y="1646280"/>
            <a:ext cx="3592440" cy="4782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4" descr=""/>
          <p:cNvPicPr/>
          <p:nvPr/>
        </p:nvPicPr>
        <p:blipFill>
          <a:blip r:embed="rId1"/>
          <a:stretch/>
        </p:blipFill>
        <p:spPr>
          <a:xfrm>
            <a:off x="390600" y="615960"/>
            <a:ext cx="8319960" cy="2041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Сельски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Городски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Парковы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Индустриальны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Архитектурны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Морски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376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сельский"/>
          <p:cNvPicPr/>
          <p:nvPr/>
        </p:nvPicPr>
        <p:blipFill>
          <a:blip r:embed="rId2"/>
          <a:stretch/>
        </p:blipFill>
        <p:spPr>
          <a:xfrm>
            <a:off x="457200" y="1628640"/>
            <a:ext cx="4330800" cy="3745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сельский 2"/>
          <p:cNvPicPr/>
          <p:nvPr/>
        </p:nvPicPr>
        <p:blipFill>
          <a:blip r:embed="rId3"/>
          <a:stretch/>
        </p:blipFill>
        <p:spPr>
          <a:xfrm>
            <a:off x="4648320" y="23893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4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407440" cy="1494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город"/>
          <p:cNvPicPr/>
          <p:nvPr/>
        </p:nvPicPr>
        <p:blipFill>
          <a:blip r:embed="rId2"/>
          <a:stretch/>
        </p:blipFill>
        <p:spPr>
          <a:xfrm>
            <a:off x="457200" y="2014560"/>
            <a:ext cx="4038480" cy="3789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городской"/>
          <p:cNvPicPr/>
          <p:nvPr/>
        </p:nvPicPr>
        <p:blipFill>
          <a:blip r:embed="rId3"/>
          <a:stretch/>
        </p:blipFill>
        <p:spPr>
          <a:xfrm>
            <a:off x="4648320" y="2022480"/>
            <a:ext cx="4038480" cy="377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4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37680" cy="1305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парк"/>
          <p:cNvPicPr/>
          <p:nvPr/>
        </p:nvPicPr>
        <p:blipFill>
          <a:blip r:embed="rId2"/>
          <a:stretch/>
        </p:blipFill>
        <p:spPr>
          <a:xfrm>
            <a:off x="457200" y="2481120"/>
            <a:ext cx="4038480" cy="2857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парковый"/>
          <p:cNvPicPr/>
          <p:nvPr/>
        </p:nvPicPr>
        <p:blipFill>
          <a:blip r:embed="rId3"/>
          <a:stretch/>
        </p:blipFill>
        <p:spPr>
          <a:xfrm>
            <a:off x="4881600" y="1646280"/>
            <a:ext cx="357192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море"/>
          <p:cNvPicPr/>
          <p:nvPr/>
        </p:nvPicPr>
        <p:blipFill>
          <a:blip r:embed="rId2"/>
          <a:stretch/>
        </p:blipFill>
        <p:spPr>
          <a:xfrm>
            <a:off x="457200" y="2481120"/>
            <a:ext cx="4038480" cy="2855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морской"/>
          <p:cNvPicPr/>
          <p:nvPr/>
        </p:nvPicPr>
        <p:blipFill>
          <a:blip r:embed="rId3"/>
          <a:stretch/>
        </p:blipFill>
        <p:spPr>
          <a:xfrm>
            <a:off x="4648320" y="2284560"/>
            <a:ext cx="4038480" cy="32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59840" cy="22255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Героический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Исторический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Эпический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Романтический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Пейзаж настроения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3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510760" cy="1517400"/>
          </a:xfrm>
          <a:prstGeom prst="rect">
            <a:avLst/>
          </a:prstGeom>
          <a:ln w="0">
            <a:noFill/>
          </a:ln>
        </p:spPr>
      </p:pic>
      <p:pic>
        <p:nvPicPr>
          <p:cNvPr id="413" name="Содержимое 6" descr="герои 2.jpg"/>
          <p:cNvPicPr/>
          <p:nvPr/>
        </p:nvPicPr>
        <p:blipFill>
          <a:blip r:embed="rId2"/>
          <a:stretch/>
        </p:blipFill>
        <p:spPr>
          <a:xfrm>
            <a:off x="457200" y="1824120"/>
            <a:ext cx="4038480" cy="417024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7" descr="героический.jpg"/>
          <p:cNvPicPr/>
          <p:nvPr/>
        </p:nvPicPr>
        <p:blipFill>
          <a:blip r:embed="rId3"/>
          <a:stretch/>
        </p:blipFill>
        <p:spPr>
          <a:xfrm>
            <a:off x="4648320" y="1870200"/>
            <a:ext cx="4038480" cy="40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504280" cy="151740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4" descr="исторический.jpg"/>
          <p:cNvPicPr/>
          <p:nvPr/>
        </p:nvPicPr>
        <p:blipFill>
          <a:blip r:embed="rId2"/>
          <a:stretch/>
        </p:blipFill>
        <p:spPr>
          <a:xfrm>
            <a:off x="457200" y="2214720"/>
            <a:ext cx="4038480" cy="321444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5" descr="исторический2.jpg"/>
          <p:cNvPicPr/>
          <p:nvPr/>
        </p:nvPicPr>
        <p:blipFill>
          <a:blip r:embed="rId3"/>
          <a:stretch/>
        </p:blipFill>
        <p:spPr>
          <a:xfrm>
            <a:off x="4714920" y="1928880"/>
            <a:ext cx="4071960" cy="3714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4:19:51Z</dcterms:created>
  <dc:creator>qqq</dc:creator>
  <dc:description/>
  <dc:language>en-US</dc:language>
  <cp:lastModifiedBy>qqq</cp:lastModifiedBy>
  <dcterms:modified xsi:type="dcterms:W3CDTF">2009-04-13T06:14:58Z</dcterms:modified>
  <cp:revision>8</cp:revision>
  <dc:subject/>
  <dc:title>Слайд 1</dc:title>
</cp:coreProperties>
</file>