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27.png" ContentType="image/png"/>
  <Override PartName="/ppt/media/image13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1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5D7-58D6-40BF-A6F8-D9C32C48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7EE-5AA1-4637-AD49-F1FF6B84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015C10-75FF-4932-9B8D-F9282393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BD4317-25FD-4B82-984E-50292140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5851C-16FB-4D0F-A7BD-D48635CA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9215CA-C345-4E90-8484-7EFD7B9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FA607C-3156-46E8-B7C6-A98107B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33EE02-984A-41AA-9FB7-8824A8F0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0857A-0EA3-4793-87E9-020E407B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9A8398-E7B5-46BC-8346-7E9E5E67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5ABB5D-1AF6-4247-9E1B-C8065220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94A-351D-447A-A8C5-EA4A70A0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1B2-B99A-4286-95C9-5868E17E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2F8C-4594-4332-8479-1327E7E3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F5036-D17B-4254-B825-D14A583A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F49E0-7712-4626-88BA-8FE7997E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C25E0-D0B8-4EF5-B6F2-2C74634A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ABDAC-948C-41A5-969E-22ADEF42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16FB8-6D35-4E2A-B597-E9F78AA5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E8A26-EFCA-42C1-8733-58BDD568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120-AFCD-4AE8-BECE-0E775DEF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436C-B19B-4CE9-9235-07FC382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FD08F-3BB1-4A62-8043-332A99A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49A72-F90B-41D4-85BB-F1163311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214CD-C95B-4228-90C7-B75D972B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3894B-1773-43BD-BC26-3F14222A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D073-314E-4680-8784-ABB6ED8E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319C-31C8-4F85-B849-A8C93865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873C-AD9F-4A62-A33C-CD72EDF4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4BC0-EA49-42DF-BA89-C063936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037B-E3C2-4170-A9D0-063EDF8D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86E-5B40-4B26-90CA-C1BB842C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CCB6-9999-49B6-9C02-6EBB9FA7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7B73-76D8-4439-86E5-0F9307AB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E9F7-3DDE-433F-B824-46820409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878A-E958-44AA-802D-00C021B1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78D6-52C0-4D89-916A-17438B2B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CEE0-F671-4747-B7C9-E2FD8C57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B1EF-5F6B-4CF9-9A9D-A0D1140D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3C0BB-321D-4088-A664-C451AB48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A59D4-362D-48FA-B49F-8C584B57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B8F04-BBF7-4DC3-A591-A3318518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88A-F998-4849-955D-9D9E0B5B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00866-4DE6-4480-B79F-9822D7EE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205D25-8429-4740-AD20-5F7FFC8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DF3A7-B74F-471D-8FF8-EB1AF4F9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18731-68BE-4913-99A7-A743A749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E4022-D5CA-49F9-BA32-EC3C1F4D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322E7-D553-4E47-A21F-7A3113CE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71106-B72E-4AC9-8726-F6814A7C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50AEB-3E3D-485E-A43A-57F9C1E2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8F441-4776-478D-A339-0D68637A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AD0A-01DF-491C-97DA-02193F09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0E0-F44B-4CF6-ADF8-5E48BF22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E5B81-844F-4ED8-9C4A-63723BA3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990F1-78BB-4D81-B2DD-EC41855E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E37A3-D374-4828-8CFC-5D0D53C0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862C-DA60-4BF5-BFE1-697FFA1C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43498-DDF3-4F49-93BF-958E3847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B08A4-8B74-40F7-9724-89202FD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469D8-3F66-40F4-A20A-0E2D1A4E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6F90C-B3A5-44CD-ADEC-519B418D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65506-AA3E-44AD-A169-694A2B04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0462-9966-4742-9C07-21B1BD92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D57-142B-4B38-A2B4-9D54B584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CC518-AF30-4BD2-9658-CBFFE071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DFD51-467F-4E72-B64E-7814578D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40912-1167-48B3-99F8-FF7C6600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757E0-FCF0-49F7-822D-A254CD86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B59DD-EEEB-4B88-8B91-1F74505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85685-A57C-4CB8-83BB-F57534F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D8C16-6ADD-4041-863F-840CF844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09C11-6187-49AF-93C4-58B21EBA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2AEEE-6184-43CB-91D8-B86E4AE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006C8-A310-4B07-85F0-3BC0B83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0BE-FFC0-466E-A518-5DF8B2A0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BF004-47F7-4D12-A7C7-97D1E7FC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C662F-3D80-4F3C-BBDE-182112A4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D547-AF2E-4C41-A28C-3A26FA21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68352-9F5B-458A-8FF8-EF155E02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EB031-BBBC-4DAC-8E26-609E5CBC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EF79E-F530-4A6B-BF3B-F2E9E6A5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9D154-CEA7-42DD-B160-F09B151D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B86C0-1BC3-4389-8243-9319F441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0989-3AD8-4593-851D-C8C2F11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7E7E0-B06B-4192-8E07-D6CAECF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9A5-3003-46CA-A006-7131DC4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5844B-1DE7-4951-9ACA-62523DC4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0885-17EA-492C-8172-8129B09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574E1-CCD7-4FEF-84E3-81F23D8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91F3-8C1C-479C-AFAB-7F5CA5A5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605F1-609A-4262-9612-6963E389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060FB-35E1-48F0-A2AD-BC490204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2CE35-89AD-482A-BB8E-D3FA29AC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7D6A41-92FC-4F36-9466-8EE4DDA7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51DFED-6982-4031-BCCB-EE46D936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F54DF-1FA3-4E77-A7F5-AD885DCE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D2E-F5CD-4115-BF4B-6BDD8F0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0596A-E925-48AF-819A-D0B54B10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FDE5F7-52AA-44DE-8306-EFB65046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96E0F9-77B1-41FD-BB76-23D7ED0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35B897-D7FF-4686-9C3B-7277546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93D4C-6DBD-4A8B-811E-DD38ED03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A6DB0F-0AE6-46DA-BEEA-09C68AE8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E87028-D7F9-4F4D-A796-7736D2CE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1D54D9-F40C-4DE4-879A-ADB44F87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5C5FE-C93A-43C1-89D1-A990563A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CB5718-BC88-42C0-9779-1ED335C4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1DAF-62A3-4EE5-9F29-A72C5CF521F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DFB2-C9C2-4AAE-A5A4-DE0C65EDF6A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81E9-DF8A-466C-911A-E519B2B691A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94AC-7843-4A51-84F7-E5AF7BBD70C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B7F-A551-4958-8E40-BFA6E982680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79E6-15DE-4623-97F6-53A0EC98286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2C20-4466-4498-9A3F-927EE59CA8F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7D1-14D9-4670-8A75-E7D33919161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EB39-243F-4D76-A4E0-A20ACCB4D27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WordArt 5"/>
          <p:cNvSpPr txBox="1"/>
          <p:nvPr/>
        </p:nvSpPr>
        <p:spPr>
          <a:xfrm>
            <a:off x="3686040" y="836640"/>
            <a:ext cx="4631040" cy="32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йзаж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8160" cy="190368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4" descr="эпич..jpg"/>
          <p:cNvPicPr/>
          <p:nvPr/>
        </p:nvPicPr>
        <p:blipFill>
          <a:blip r:embed="rId2"/>
          <a:stretch/>
        </p:blipFill>
        <p:spPr>
          <a:xfrm>
            <a:off x="457200" y="2643120"/>
            <a:ext cx="4114800" cy="2633760"/>
          </a:xfrm>
          <a:prstGeom prst="rect">
            <a:avLst/>
          </a:prstGeom>
          <a:ln w="0">
            <a:noFill/>
          </a:ln>
        </p:spPr>
      </p:pic>
      <p:pic>
        <p:nvPicPr>
          <p:cNvPr id="420" name="Содержимое 5" descr="эпический.jpg"/>
          <p:cNvPicPr/>
          <p:nvPr/>
        </p:nvPicPr>
        <p:blipFill>
          <a:blip r:embed="rId3"/>
          <a:stretch/>
        </p:blipFill>
        <p:spPr>
          <a:xfrm>
            <a:off x="4716360" y="2428920"/>
            <a:ext cx="4141800" cy="3198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425080" cy="134748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4" descr="романтичес..jpg"/>
          <p:cNvPicPr/>
          <p:nvPr/>
        </p:nvPicPr>
        <p:blipFill>
          <a:blip r:embed="rId2"/>
          <a:stretch/>
        </p:blipFill>
        <p:spPr>
          <a:xfrm>
            <a:off x="457200" y="1571760"/>
            <a:ext cx="4043520" cy="408276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5" descr="романтический.jpg"/>
          <p:cNvPicPr/>
          <p:nvPr/>
        </p:nvPicPr>
        <p:blipFill>
          <a:blip r:embed="rId3"/>
          <a:stretch/>
        </p:blipFill>
        <p:spPr>
          <a:xfrm>
            <a:off x="4648320" y="1714680"/>
            <a:ext cx="4209840" cy="3747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8224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4" descr="пейзаж настроения.jpg"/>
          <p:cNvPicPr/>
          <p:nvPr/>
        </p:nvPicPr>
        <p:blipFill>
          <a:blip r:embed="rId2"/>
          <a:stretch/>
        </p:blipFill>
        <p:spPr>
          <a:xfrm>
            <a:off x="642960" y="1714680"/>
            <a:ext cx="4214880" cy="442908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5" descr="настроение.jpg"/>
          <p:cNvPicPr/>
          <p:nvPr/>
        </p:nvPicPr>
        <p:blipFill>
          <a:blip r:embed="rId3"/>
          <a:stretch/>
        </p:blipFill>
        <p:spPr>
          <a:xfrm>
            <a:off x="5051520" y="1646280"/>
            <a:ext cx="3592440" cy="4782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4" descr=""/>
          <p:cNvPicPr/>
          <p:nvPr/>
        </p:nvPicPr>
        <p:blipFill>
          <a:blip r:embed="rId1"/>
          <a:stretch/>
        </p:blipFill>
        <p:spPr>
          <a:xfrm>
            <a:off x="390600" y="615960"/>
            <a:ext cx="8319960" cy="2041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Сельски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Городски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Парковы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Индустриальны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Архитектурны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Cambria"/>
              </a:rPr>
              <a:t>Морские</a:t>
            </a:r>
            <a:endParaRPr b="0" lang="en-US" sz="49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60000"/>
              </a:lnSpc>
              <a:buClr>
                <a:srgbClr val="72a376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376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сельский"/>
          <p:cNvPicPr/>
          <p:nvPr/>
        </p:nvPicPr>
        <p:blipFill>
          <a:blip r:embed="rId2"/>
          <a:stretch/>
        </p:blipFill>
        <p:spPr>
          <a:xfrm>
            <a:off x="457200" y="1628640"/>
            <a:ext cx="4330800" cy="3745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сельский 2"/>
          <p:cNvPicPr/>
          <p:nvPr/>
        </p:nvPicPr>
        <p:blipFill>
          <a:blip r:embed="rId3"/>
          <a:stretch/>
        </p:blipFill>
        <p:spPr>
          <a:xfrm>
            <a:off x="4648320" y="23893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4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407440" cy="1494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город"/>
          <p:cNvPicPr/>
          <p:nvPr/>
        </p:nvPicPr>
        <p:blipFill>
          <a:blip r:embed="rId2"/>
          <a:stretch/>
        </p:blipFill>
        <p:spPr>
          <a:xfrm>
            <a:off x="457200" y="2014560"/>
            <a:ext cx="4038480" cy="3789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городской"/>
          <p:cNvPicPr/>
          <p:nvPr/>
        </p:nvPicPr>
        <p:blipFill>
          <a:blip r:embed="rId3"/>
          <a:stretch/>
        </p:blipFill>
        <p:spPr>
          <a:xfrm>
            <a:off x="4648320" y="2022480"/>
            <a:ext cx="4038480" cy="377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4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37680" cy="1305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парк"/>
          <p:cNvPicPr/>
          <p:nvPr/>
        </p:nvPicPr>
        <p:blipFill>
          <a:blip r:embed="rId2"/>
          <a:stretch/>
        </p:blipFill>
        <p:spPr>
          <a:xfrm>
            <a:off x="457200" y="2481120"/>
            <a:ext cx="4038480" cy="2857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парковый"/>
          <p:cNvPicPr/>
          <p:nvPr/>
        </p:nvPicPr>
        <p:blipFill>
          <a:blip r:embed="rId3"/>
          <a:stretch/>
        </p:blipFill>
        <p:spPr>
          <a:xfrm>
            <a:off x="4881600" y="1646280"/>
            <a:ext cx="357192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море"/>
          <p:cNvPicPr/>
          <p:nvPr/>
        </p:nvPicPr>
        <p:blipFill>
          <a:blip r:embed="rId2"/>
          <a:stretch/>
        </p:blipFill>
        <p:spPr>
          <a:xfrm>
            <a:off x="457200" y="2481120"/>
            <a:ext cx="4038480" cy="2855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морской"/>
          <p:cNvPicPr/>
          <p:nvPr/>
        </p:nvPicPr>
        <p:blipFill>
          <a:blip r:embed="rId3"/>
          <a:stretch/>
        </p:blipFill>
        <p:spPr>
          <a:xfrm>
            <a:off x="4648320" y="2284560"/>
            <a:ext cx="4038480" cy="32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59840" cy="22255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Героический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Исторический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Эпический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Романтический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Пейзаж настроения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3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510760" cy="1517400"/>
          </a:xfrm>
          <a:prstGeom prst="rect">
            <a:avLst/>
          </a:prstGeom>
          <a:ln w="0">
            <a:noFill/>
          </a:ln>
        </p:spPr>
      </p:pic>
      <p:pic>
        <p:nvPicPr>
          <p:cNvPr id="413" name="Содержимое 6" descr="герои 2.jpg"/>
          <p:cNvPicPr/>
          <p:nvPr/>
        </p:nvPicPr>
        <p:blipFill>
          <a:blip r:embed="rId2"/>
          <a:stretch/>
        </p:blipFill>
        <p:spPr>
          <a:xfrm>
            <a:off x="457200" y="1824120"/>
            <a:ext cx="4038480" cy="417024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7" descr="героический.jpg"/>
          <p:cNvPicPr/>
          <p:nvPr/>
        </p:nvPicPr>
        <p:blipFill>
          <a:blip r:embed="rId3"/>
          <a:stretch/>
        </p:blipFill>
        <p:spPr>
          <a:xfrm>
            <a:off x="4648320" y="1870200"/>
            <a:ext cx="4038480" cy="407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504280" cy="151740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4" descr="исторический.jpg"/>
          <p:cNvPicPr/>
          <p:nvPr/>
        </p:nvPicPr>
        <p:blipFill>
          <a:blip r:embed="rId2"/>
          <a:stretch/>
        </p:blipFill>
        <p:spPr>
          <a:xfrm>
            <a:off x="457200" y="2214720"/>
            <a:ext cx="4038480" cy="321444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5" descr="исторический2.jpg"/>
          <p:cNvPicPr/>
          <p:nvPr/>
        </p:nvPicPr>
        <p:blipFill>
          <a:blip r:embed="rId3"/>
          <a:stretch/>
        </p:blipFill>
        <p:spPr>
          <a:xfrm>
            <a:off x="4714920" y="1928880"/>
            <a:ext cx="4071960" cy="3714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4:19:51Z</dcterms:created>
  <dc:creator>qqq</dc:creator>
  <dc:description/>
  <dc:language>en-US</dc:language>
  <cp:lastModifiedBy>qqq</cp:lastModifiedBy>
  <dcterms:modified xsi:type="dcterms:W3CDTF">2009-04-13T06:14:58Z</dcterms:modified>
  <cp:revision>8</cp:revision>
  <dc:subject/>
  <dc:title>Слайд 1</dc:title>
</cp:coreProperties>
</file>