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12.png" ContentType="image/png"/>
  <Override PartName="/ppt/media/image13.png" ContentType="image/png"/>
  <Override PartName="/ppt/media/image33.wmf" ContentType="image/x-wmf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4.wmf" ContentType="image/x-wmf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32.wmf" ContentType="image/x-wmf"/>
  <Override PartName="/ppt/media/image29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1.wmf" ContentType="image/x-wmf"/>
  <Override PartName="/ppt/media/image4.png" ContentType="image/png"/>
  <Override PartName="/ppt/media/image30.wmf" ContentType="image/x-wmf"/>
  <Override PartName="/ppt/media/image27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F8FB-58CC-49FA-A2FE-541E9BB41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610E-95FE-48DC-A44C-EE7051FB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5F6F-B9BE-46A1-B7B9-80A59F046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A15D-7C46-4594-9976-F34DB0CC7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D353-051B-4FC1-A536-BD5293F2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F03F-A4A1-4ECC-A6BC-1FFBB7B9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5496-DE5D-48DA-A793-3B79E7F9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3354-FD5C-41A0-AA3F-63C51DBD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F306-4BD7-4B41-97B0-C7FD08F1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FB51-4655-48AC-9333-57DD18B8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D577-A562-43D3-9535-614337DF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B294-E1C7-462B-8C6A-D1519722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cc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3FDB-7BD4-41D0-88AA-596EAEB98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cc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33cc"/>
                </a:solidFill>
                <a:latin typeface="Comic Sans MS"/>
              </a:rPr>
              <a:t>Америк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резентация урока</a:t>
            </a: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лена учителем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У «СОШ № 27»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якшиной  Н.П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07 – 2008 уч.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cc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Раст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932360" y="270828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84360" y="4149720"/>
            <a:ext cx="4582800" cy="1749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877080" y="836640"/>
            <a:ext cx="1805040" cy="1800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6804000" y="4292640"/>
            <a:ext cx="2089080" cy="21636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468360" y="1413000"/>
            <a:ext cx="35272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cc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Южная  Амери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48036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cc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686040" y="2443320"/>
            <a:ext cx="1771920" cy="1971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987640" y="2205000"/>
            <a:ext cx="2952720" cy="244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012000" y="3573360"/>
            <a:ext cx="2643120" cy="2592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468360" y="3645000"/>
            <a:ext cx="2448000" cy="2479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6012000" y="260280"/>
            <a:ext cx="2643120" cy="2664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468360" y="260280"/>
            <a:ext cx="24480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cc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cc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Северная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Амери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908000" y="1600200"/>
            <a:ext cx="5759640" cy="4525920"/>
            <a:chOff x="1908000" y="1600200"/>
            <a:chExt cx="5759640" cy="4525920"/>
          </a:xfrm>
        </p:grpSpPr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1908000" y="1600200"/>
              <a:ext cx="575964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 txBox="1"/>
            <p:nvPr/>
          </p:nvSpPr>
          <p:spPr>
            <a:xfrm>
              <a:off x="1908000" y="1600200"/>
              <a:ext cx="575964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cc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Канад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лаг  Кана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732720" y="134136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4824360" cy="3311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435640" y="4724280"/>
            <a:ext cx="2592360" cy="1873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1116000" y="4581360"/>
            <a:ext cx="2592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cc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Отта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435640" y="3933720"/>
            <a:ext cx="3168720" cy="244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64000" y="1197000"/>
            <a:ext cx="3240360" cy="2332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11280" y="1197000"/>
            <a:ext cx="3168720" cy="244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611280" y="3933720"/>
            <a:ext cx="3097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cc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Животный  ми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1871640" cy="1800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516720" y="1557360"/>
            <a:ext cx="2058840" cy="2114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588000" y="4292640"/>
            <a:ext cx="2060640" cy="2160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3492360" y="2492280"/>
            <a:ext cx="2448000" cy="2305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468360" y="4292640"/>
            <a:ext cx="21589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cc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СШ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5040360" cy="3528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659640" y="407664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940360" y="692280"/>
            <a:ext cx="2521080" cy="2592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395280" y="4581360"/>
            <a:ext cx="20160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cc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Вашингто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059280" y="2060640"/>
            <a:ext cx="3097080" cy="2881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39640" y="1125360"/>
            <a:ext cx="2737080" cy="244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012000" y="3789360"/>
            <a:ext cx="2563560" cy="2548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6012000" y="1125360"/>
            <a:ext cx="2786040" cy="244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611280" y="4005360"/>
            <a:ext cx="2665440" cy="24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cc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Нью -Йор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2735280" cy="2264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084720" y="3860640"/>
            <a:ext cx="2779920" cy="2403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084720" y="1341360"/>
            <a:ext cx="2735280" cy="2232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324000" y="1341360"/>
            <a:ext cx="2735280" cy="2232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3132000" y="2421000"/>
            <a:ext cx="28083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16:39:42Z</dcterms:created>
  <dc:creator>user</dc:creator>
  <dc:description/>
  <dc:language>en-US</dc:language>
  <cp:lastModifiedBy>user</cp:lastModifiedBy>
  <dcterms:modified xsi:type="dcterms:W3CDTF">2009-03-29T10:03:11Z</dcterms:modified>
  <cp:revision>3</cp:revision>
  <dc:subject/>
  <dc:title>Америка</dc:title>
</cp:coreProperties>
</file>