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39C2-88C9-432C-9C0D-12464C1F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457A-7D68-4075-B13F-16AEC83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D3EC-AB4B-46C7-9E86-98367A59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55AB-8FF2-4717-A66D-7E0BA69F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FDD-147B-4DA7-A347-325156EC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DD97-E896-4C63-8CCD-587691B4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135D-F8BD-41FF-825E-AB850481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EC9E-ECA7-48E3-827E-FB43DD6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ED04-84ED-4DB8-92B4-A7531931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ABF-A1D9-4037-97F7-D8BF6FF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7118-643C-439A-9C53-2C8F4B9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FBD0-F7A4-48AF-971B-D97A6FA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826-330F-46E4-9672-37D66ED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0668-9B1B-47FA-A5B0-219A7923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533-5335-49FF-9672-4E9D266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1746-ED2A-486D-8907-13475832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225-3801-4807-ADF6-13981F9B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12A4-F47A-4EA6-9FD8-CC42309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20D1-F7E8-4A3D-A963-030AC17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2083-FC87-431D-80F3-26A338E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B027-1DBC-44D1-8BCE-B39548A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19FF-1920-4A2A-9CF1-639990D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D3F2-C934-4ADA-9084-1C73D94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6FC9-8DBB-4C1C-A697-B60AF1F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2C05-2F00-435F-8C66-C1CB80BFC9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813-B967-4C59-9177-4AE6B14C8F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sgram.narod.ru/191-207.html" TargetMode="External"/><Relationship Id="rId2" Type="http://schemas.openxmlformats.org/officeDocument/2006/relationships/hyperlink" Target="http://www.krugosvet.ru/enc/gumanitarnye_nauki/lingvistika/SLOVOOBRAZOVANI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07136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ловообразование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.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НЕД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91920" y="3789360"/>
            <a:ext cx="624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Не+д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(от не делат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ПЕЛЬМ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67080" y="3726000"/>
            <a:ext cx="53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Пель+ня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3059280" y="44370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5003640" y="450864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15680" y="52293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ух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79840" y="517680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Т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ШАХМА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38720" y="3919680"/>
            <a:ext cx="52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Шах+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КАРАНДА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995640" y="1628640"/>
            <a:ext cx="773280" cy="2089440"/>
          </a:xfrm>
          <a:prstGeom prst="downArrow">
            <a:avLst>
              <a:gd name="adj1" fmla="val 50000"/>
              <a:gd name="adj2" fmla="val 675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6880" y="3252960"/>
            <a:ext cx="52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Кара+ 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H="1">
            <a:off x="3132000" y="458136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003640" y="4653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48920" y="524844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861440" y="5229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7d"/>
                </a:solidFill>
                <a:uFillTx/>
                <a:latin typeface="Arial"/>
              </a:rPr>
              <a:t>Вывод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аименования предметам и явлениям давались и формировались с течением времени, с учетом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rusgram.narod.ru/191-207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krugosvet.ru/enc/gumanitarnye_nauki/lingvistika/SLOVOOBRAZOVANI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c.academic.ru/dic.nsf/bse/1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Arial"/>
              </a:rPr>
              <a:t>Или знакомые слова, которые представляют собой сращение нескольких слов, опознать которые возможно порою лишь путем этимологического анали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1476360" y="141300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РОСЛИСЬ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Близлежащий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   сумасше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1258920" y="256536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908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1480" y="3357720"/>
            <a:ext cx="60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лиз    +  лежащий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  +   ума   +  сшещд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4067280" y="249228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364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643280" y="2565360"/>
            <a:ext cx="144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050560" y="4005360"/>
            <a:ext cx="34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сегодня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2700000" y="4508640"/>
            <a:ext cx="289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908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492360" y="4508640"/>
            <a:ext cx="21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340000" y="522936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сего    +   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3200" y="3994200"/>
            <a:ext cx="603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Спаси (вас) Б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ДОТ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924360" y="1700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63200" y="3716280"/>
            <a:ext cx="50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До + т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987280" y="4508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003640" y="4508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280" y="5157720"/>
            <a:ext cx="20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36920" y="51768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общеславянское слово-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Comic Sans MS"/>
              </a:rPr>
              <a:t>   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ТЕП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995640" y="1484280"/>
            <a:ext cx="720720" cy="2016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63640" y="3344760"/>
            <a:ext cx="46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то  + пьр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2987280" y="4149720"/>
            <a:ext cx="28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076720" y="414972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688040" y="4941720"/>
            <a:ext cx="24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Указательное место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Средне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5240" y="494172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рилагательное среднег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Историческое развит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05092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987640" y="191628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топьр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07672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996520" y="19573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пепь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788508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50920" y="2421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050920" y="2637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207240" y="24415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5076720" y="2637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56360" y="242100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3960" y="191628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о+пь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ДОТОШ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8000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02000" y="3703680"/>
            <a:ext cx="480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До т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(доточны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СУ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6520" y="3941640"/>
            <a:ext cx="52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Су+тк+и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H="1">
            <a:off x="3059280" y="4724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88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5724360" y="472428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178360" y="52484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Су (со)-при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264200" y="53722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Древний кор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тъ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705640" y="5248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оказатель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2:08:26Z</dcterms:created>
  <dc:creator>Учитель</dc:creator>
  <dc:description/>
  <dc:language>en-US</dc:language>
  <cp:lastModifiedBy>COMP</cp:lastModifiedBy>
  <dcterms:modified xsi:type="dcterms:W3CDTF">2011-10-14T09:25:21Z</dcterms:modified>
  <cp:revision>8</cp:revision>
  <dc:subject/>
  <dc:title>Слайд 1</dc:title>
</cp:coreProperties>
</file>