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8C5-389F-450C-A26B-C75578C7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FE4-157F-4B18-B461-22C2A4B8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800-7476-4E99-860C-3D6D93CC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1D0-931E-4CAA-B544-4488A043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02DB-8BB9-45ED-BBBE-D7129B97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B421-FC05-406F-9B55-34CDA347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7EFD-80DD-417E-8359-985D7870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879E-4BEA-4003-8766-2FB2FF1E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6076-5571-4560-A927-D16E7E29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633C-0A49-4018-B200-31C96C6F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7602-24DD-4516-A6CE-39320E5B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FC0-968B-46F1-9932-1807FEBD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2DBA-42F2-4A59-8CDC-AD608B89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694C-A832-44DB-ADD0-4AAA9037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FD9D-3EFD-4CAD-94CC-AFD589C4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AE13-3555-487E-AACA-C51CBF74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C6FE-66A8-4EE0-88A3-50101187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B01-4D62-4DC8-8C8A-5E2F46F3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672-65C7-4085-A3E2-635CBC70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32A-A632-4E28-A32F-E5EE2879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530-F3E8-4EF6-826C-38357DF5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9D2-A5DA-4C90-BB4A-CEE20D24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6AC-DA7F-4F4D-8628-47D06A47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68C-E2F0-4184-A867-9A66014D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CF66-9EEF-4229-BA79-F1DF773A0E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671B-B8EB-404E-BDF2-F91BEB9B78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Олимпиада по музыке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етр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льич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айковск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528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оберт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Шума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4708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митрий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Борисович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балевск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2040" y="762120"/>
            <a:ext cx="3679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 №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ите склад музыки ( полифония или гомофо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Если узнали произведение и автора, укажите в отве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 № 2 (теоретический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места в Санкт-Петербурге связаны с именем П.И.Чайковског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 №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ите форму музыкального произведения и назовите (если знаете) автора и произвед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67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891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 №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звучат 3 фрагмента. Какой из них принадлежит Р.Шуману, П.И.Чайковскому, Д.Б.Кабалевском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 №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ите певческий голо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зовите музыкальные фрагменты и укажите имена композиторов, которые являются авторами произведе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0-17T12:28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