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C64-AC25-4D49-92B8-1A4FBD69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B11-E9C0-443F-8CA2-8B90B9AA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10C-C814-4C1D-8FEA-50088A1F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51C-9347-4B96-A51E-8A18C506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1BAF-96ED-40B7-8480-774B97A0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0DC2-54C5-4E8C-811F-DEE0860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0D1F-CBB4-4BBC-AA41-C57A2E62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4887-C806-48FC-8001-AF9B983E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2D72-AF62-43B3-82FC-AAC5816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80CB-7049-4C8C-A30D-5223F368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1DDF-BF0E-458E-9CCC-8BF04D0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A1B-D5AB-4EA3-B3D4-29703927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0937-8DBB-42F0-A0EB-AAF1CD9F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3272-C1DE-41EA-93AA-5B5AF67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F927-04C0-4233-9E71-BDF49351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E70A-156C-4B2C-B50D-C4EF691A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081D-1809-4D88-A29C-D6485E50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840-2794-463F-AB2B-1CFC499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551-A716-438C-9C60-3BDAE33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423-A04F-4B9A-BD23-2EEA9C67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9F6-B731-4F69-BDB0-995630B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B42-C95C-4AB3-879E-85CE0EC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128-47C5-4DB1-BE64-D7A6A20D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C69-CD46-4754-A476-B4662F5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A16-14DE-4F15-9EF8-3A4AAB8432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2D01-61D5-4884-8A0F-DCD1884EE6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лимпиада по музыке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етр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льич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айков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оберт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Шума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4708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митри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Борисович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балев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2040" y="762120"/>
            <a:ext cx="3679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ите склад музыки ( полифония или гомофо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узнали произведение и автора, укажите в отве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 2 (теоретический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места в Санкт-Петербурге связаны с именем П.И.Чайковског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ите форму музыкального произведения и назовите (если знаете) автора и произвед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91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звучат 3 фрагмента. Какой из них принадлежит Р.Шуману, П.И.Чайковскому, Д.Б.Кабалевском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прос №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ите певческий голо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зовите музыкальные фрагменты и укажите имена композиторов, которые являются авторами произвед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0-17T12:28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