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26D-79CC-45F1-AE1A-7B80AC8E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01D-B422-4D8A-A01C-AE8FD11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99E-E9AC-4C70-A522-4165119C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EAC-23B2-40B2-AF54-AEDCD5A7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92CF-5A7B-4F58-841C-6194BC61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851-BCA4-422E-B256-8C40122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6855-6114-45FE-9444-ABD0D8A8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8506-0AC3-4DF1-ABD1-B390A08B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91A-EC27-4488-B1BD-F322F090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DF6-4CF5-4869-B088-5465FA4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3AA-21BA-4393-A8B6-A9572B9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281-4288-4BAE-8FCA-9F46E4B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7495-06A6-47CA-8A73-C244883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294-A23B-423A-9EF0-60EB35D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4AA-D3BC-4654-9196-A30A11A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F5B-7E5D-43DA-A4A2-4DEA3DBD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C25-CEAA-41C4-98D0-582D7D42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1E73-EDA2-4715-8FC9-A045635D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4FB3-99CA-43BE-A0B7-43A41FF6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3C72-1BB4-48E4-A08E-52D1D65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98E2-41DC-45D2-8047-19040EC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56B1-3AB4-4D69-8E31-7A142EA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431-0E67-4B55-A6FA-230DA63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08A1-A523-4FE5-A5B6-F618F80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87E1-EA38-4A90-923A-50949F0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8529-3FA6-4E81-8B64-3C8BD894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CBD1-2B0E-4A2E-979F-773ECE1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6654-15A7-47DD-828E-8553E89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DEC1-D783-43FE-AAD0-EC506153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573B-B498-4A0B-B329-14DF9003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7471-8F67-44B3-BE51-B10E36F1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9C5E-DE4A-4F5D-8B8C-57B88B6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F5E9-537C-4260-901B-7F3A3E16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D8C-0C55-4916-A3BA-1739B03E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56AD-2E53-47E1-A223-920E2341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C487-8CB6-4ACF-9AC9-578E838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4E5C6-90F4-47EF-B86A-E7E4D40E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1CE5-BE55-47C3-BF39-D073A54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7F41-308A-4492-B150-22863C6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DE71-4881-4B5A-B9EE-D065EAB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CC39-E78B-41EE-979B-C9C3308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C110-BA69-4BF0-A866-6474930B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4205-F114-4B25-A50F-ACE67EBC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6989-742B-451B-9CA2-CEE0DBF7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278-2B28-4442-95DA-82A0378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6B2D-9766-4F0F-89A8-50388022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EF99-9E93-4DD1-9D8E-889C14D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FE9A-EEF1-4261-9879-7DB1084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5F68-BB45-440A-A99F-49486DA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AF46-6272-4C8E-8B82-956F371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6F8C-4EA1-43F3-BA77-CB9996D9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F9D6-E9EC-4B9B-A4F1-4060F29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7ABBF-E913-45AF-AE61-6897054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01D2-AE90-48E2-91CB-AC8DCB6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52A1-3A5B-4A99-9558-4E4CEAA7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172-32C4-4D78-A674-F24CC14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10EF-A95B-4F04-8C4A-20A3E9B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A765-FD95-423C-A08A-F4D0C60A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8392-6C79-41A6-9305-9A4D0DD6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2CE7-3A09-41E5-9A81-21F675C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2A73-A277-44C6-B395-A20D532D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5690-7B95-4778-978B-8CABCCF0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E3BE1-0BEA-4FCD-BD61-E33BF4C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E8C1-288A-4A10-BA6C-820F4E20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424D7-FEA2-4FEC-8879-44B08F8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8A87-78F2-4A72-8A5F-D687540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2BA-DD1B-41E5-8FDB-8D112DC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6E9B-6723-496D-9B13-1FD6ABC2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B54A-2796-4553-A8EB-05BB43BB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0ACC-383C-43D7-BC67-B7EAAE74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56D1-8800-428A-82EE-8D9D59D2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C21F-6614-493A-905A-F077DCD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CFFC-B34C-4954-819D-2804FF6C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597B-0D94-488B-ADE7-D681D58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E0D17-285E-4276-A83C-97EF361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445E-8C67-4D61-AE3F-8010B92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A25B-FB30-4650-B5B3-1AFDC3BD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A8D-7A33-4108-A223-91A9B94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EEFD-0917-4751-A738-9C13CE6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3ECE-A7D8-4888-9F04-A794FE9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8CEB-B51D-42BD-8C5E-CE8F25BB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6F20-0803-4D68-8B82-11059B4F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D30B-CFB7-47E7-91FE-35B472B5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3718-1C38-4C10-96B2-CF2AA267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CE258-F3BF-42C3-9C79-7C4C1B8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5C21F-6FBF-4A03-B118-0C5C8FE0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C10E6-E29D-458D-905A-B3A7DC3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582D-8F0D-467D-B754-4E2D91F5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D55-6A13-4A17-890C-04EAA9F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85E7-C813-4B44-9501-315939B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8FB0-AFA1-45D6-A3B6-90E353A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725E-48D4-486B-A46C-E302296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CEC2E-8811-4C81-A7FB-2A4FD18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2BB0-EAA2-4BFC-B1BD-41CDAAD5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775D-E151-472D-9B88-55209B56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4420-B7EF-4701-A609-84F09CC7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1EF-8C7A-46AA-AB95-2EC52FEE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C39-DCCD-41CB-9C08-7D828D8D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D33-C9B0-4D32-BA53-B0FAD8E97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6DB7-9AB7-45AB-83B1-E421F0049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CFEC-208E-4C5A-AD9A-0970483AC1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6A84-39DB-42E0-8A45-8F2DE7E8F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7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8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D8A-0F3F-4186-87A1-4695CA66DC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3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3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4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22C-A7B0-4771-BBEB-D6C003F4A4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ИТИЧЕСКИЕ ПЕРИОДЫ В ЖИЗНИ ЖЕНЩИНЫ И ВАРИАНТЫ КОРРЕКЦИИ НАРУШЕНИЙ РЕПРОДУКТИВНОГО ЗДОРОВЬЯ В ЭТИ ПЕРИ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фессор кафедры акушер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гинекологии ВГ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ктор медицинских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.И.Кисел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Факторы увеличения риска сердечно-сосудистых заболеваний в постменопауз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руппа – обменные факто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– изменение обмена липидов и липопротеи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– изменение обмена инсулина и углев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– изменение гемостаза и фибриноли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группа – необменные измен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– дисфункция эндотелиальных кле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– изменение функции сердца и гемодинам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– прочие механиз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03640" y="6093000"/>
            <a:ext cx="38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«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ilium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edicum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11, том 3,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АЧЕСТВО ЖИЗНИ -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восприятие индивидами их положения в жизни в контексте культуры и системы ценнос-тей, в которых они живут, и в соответствии с их целями, ожиданиями, стандартами и забота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чество жиз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озволяет оценить субъективную меру благополучия и удовлетворенность условиями жизни, индивидуальное восприятие жизни в сферах, которые связаны со здоровьем, дает возможность определить субъективную оценку физического состояния, психологических функций, степень социальной адаптации, что необходимо для понимания врачом проблем пациентки, способствует формированию правильного индивидуального терапевтического под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АЧЕСТВО ЖИЗНИ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зволяет оценить субъективную меру благополучия и удовлетворенность условиями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дивидуальное восприятие жизни в сферах, которые связаны со здоровь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ределить субъективную оценку физического состояния, психологических функций, степень социальной адаптации, что необходимо для понимания врачом проблем пациен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пособствует формированию правильного индивидуального терапевтического под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59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нние симпто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8592600">
            <a:off x="1907640" y="2349000"/>
            <a:ext cx="920880" cy="114480"/>
          </a:xfrm>
          <a:custGeom>
            <a:avLst/>
            <a:gdLst>
              <a:gd name="textAreaLeft" fmla="*/ 114840 w 920880"/>
              <a:gd name="textAreaRight" fmla="*/ 806040 w 92088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125800">
            <a:off x="6372000" y="2349360"/>
            <a:ext cx="865080" cy="144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2708280"/>
            <a:ext cx="3600360" cy="22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Вазомотор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иливы ж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зно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ипотония или гипертенз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оловные бо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сердцеби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2360" y="2637000"/>
            <a:ext cx="3672000" cy="23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сихо-вегетатив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дражи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н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аб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еспокой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пр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бывч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внимате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1280" y="5157720"/>
            <a:ext cx="784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Вазомоторные и психо-вегетативные нарушения составляют симптомокомплекс, называемый климактерическим синдром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92720" y="6021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редневременные симпто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8592600">
            <a:off x="2484000" y="2636280"/>
            <a:ext cx="822240" cy="144360"/>
          </a:xfrm>
          <a:custGeom>
            <a:avLst/>
            <a:gdLst>
              <a:gd name="textAreaLeft" fmla="*/ 102600 w 822240"/>
              <a:gd name="textAreaRight" fmla="*/ 719640 w 8222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25800">
            <a:off x="5364000" y="2707920"/>
            <a:ext cx="865440" cy="144360"/>
          </a:xfrm>
          <a:custGeom>
            <a:avLst/>
            <a:gdLst>
              <a:gd name="textAreaLeft" fmla="*/ 108000 w 865440"/>
              <a:gd name="textAreaRight" fmla="*/ 757440 w 8654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280" y="3141720"/>
            <a:ext cx="3168720" cy="28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Урогениталь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ухость во влагали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боль при поло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нош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уд и ж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истал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держание м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03640" y="3141720"/>
            <a:ext cx="3168720" cy="28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Кожа и ее придат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ух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ломкость ног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морщ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ухость и выпад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f00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вол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68360" y="5877000"/>
            <a:ext cx="619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79640" y="609300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здние симпто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8592600">
            <a:off x="2267640" y="3860280"/>
            <a:ext cx="1163880" cy="203400"/>
          </a:xfrm>
          <a:custGeom>
            <a:avLst/>
            <a:gdLst>
              <a:gd name="textAreaLeft" fmla="*/ 145440 w 1163880"/>
              <a:gd name="textAreaRight" fmla="*/ 1018440 w 116388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4508640"/>
            <a:ext cx="3600360" cy="93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ердечно-сосудист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боле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19640" y="4653000"/>
            <a:ext cx="280836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теопоро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852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менные нару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9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лассификация климактерических расстройст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32360" y="6021360"/>
            <a:ext cx="38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2975400">
            <a:off x="5604120" y="3909240"/>
            <a:ext cx="1163520" cy="203400"/>
          </a:xfrm>
          <a:custGeom>
            <a:avLst/>
            <a:gdLst>
              <a:gd name="textAreaLeft" fmla="*/ 145440 w 1163520"/>
              <a:gd name="textAreaRight" fmla="*/ 1018080 w 116352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ипичные формы КС</a:t>
            </a: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стречаются у 13 % больных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7138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имактерическая кардиомиопатия (миокардиодистроф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патико-адреналовые кри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80% «здоровых» женщин (без приливов) имеются психовегетативные нару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ступы бронхиальной астмы, не поддающиеся традиционной терап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ухой» конъюнктивит, стоматит, ларинг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5013360"/>
            <a:ext cx="82803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авляющее число пациентов впервые обращаются к терапевту и другим специалистам, а не к гинеколог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64000" y="6021360"/>
            <a:ext cx="34560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           «Неоперативная гинекология», 2002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116000" y="404640"/>
            <a:ext cx="65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лимактерический синдр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3800" y="22766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ертенз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окарди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3800" y="38606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ерапев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6320" y="4653000"/>
            <a:ext cx="22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пресс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нические ат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памя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05440" y="5950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сихи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в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211640" y="40766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гениталь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15240" y="501336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руш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чеиспуск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16360" y="6093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7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з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хой конъюктив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индром Съегрен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11960" y="3213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кули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04320" y="3716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рофическ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менения ко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90520" y="4941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осме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56000" y="220500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опороз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оартр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02880" y="3284640"/>
            <a:ext cx="17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евм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равм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вропат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26920" y="1700280"/>
            <a:ext cx="3175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24360" y="1484280"/>
            <a:ext cx="1152720" cy="2232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48360" y="1413000"/>
            <a:ext cx="0" cy="2736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08720" y="1413000"/>
            <a:ext cx="35892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3284640"/>
            <a:ext cx="0" cy="64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123640" y="1700280"/>
            <a:ext cx="1800" cy="3024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24000" y="5661000"/>
            <a:ext cx="0" cy="358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92360" y="1484280"/>
            <a:ext cx="0" cy="792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19640" y="5805360"/>
            <a:ext cx="0" cy="3812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85080" y="2708280"/>
            <a:ext cx="0" cy="57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308720" y="4437000"/>
            <a:ext cx="0" cy="5335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92360" y="28526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19640" y="4797360"/>
            <a:ext cx="0" cy="28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995640" y="692280"/>
            <a:ext cx="73080" cy="3889080"/>
          </a:xfrm>
          <a:prstGeom prst="downArrow">
            <a:avLst>
              <a:gd name="adj1" fmla="val 50000"/>
              <a:gd name="adj2" fmla="val 1330419"/>
            </a:avLst>
          </a:prstGeom>
          <a:solidFill>
            <a:srgbClr val="3333ff"/>
          </a:solidFill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66880" y="4724280"/>
            <a:ext cx="9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1 го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70680" y="472428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5-70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692280"/>
            <a:ext cx="0" cy="38890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40" y="47242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5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4653000"/>
            <a:ext cx="8670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00360" y="692280"/>
            <a:ext cx="0" cy="388908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692280"/>
            <a:ext cx="0" cy="388908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8604360" y="692280"/>
            <a:ext cx="23760" cy="3960720"/>
          </a:xfrm>
          <a:prstGeom prst="line">
            <a:avLst/>
          </a:prstGeom>
          <a:ln w="4140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09" name=""/>
          <p:cNvCxnSpPr/>
          <p:nvPr/>
        </p:nvCxnSpPr>
        <p:spPr>
          <a:xfrm>
            <a:off x="755640" y="1197000"/>
            <a:ext cx="321552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0" name=""/>
          <p:cNvCxnSpPr/>
          <p:nvPr/>
        </p:nvCxnSpPr>
        <p:spPr>
          <a:xfrm>
            <a:off x="2916000" y="1844280"/>
            <a:ext cx="23295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1" name=""/>
          <p:cNvCxnSpPr/>
          <p:nvPr/>
        </p:nvCxnSpPr>
        <p:spPr>
          <a:xfrm>
            <a:off x="5364000" y="1341000"/>
            <a:ext cx="3144240" cy="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611280" y="765000"/>
            <a:ext cx="3308400" cy="3268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енопаузальный перех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3280" y="1413000"/>
            <a:ext cx="23940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именопау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5640" y="836640"/>
            <a:ext cx="28368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66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стменопау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2800" y="2060640"/>
            <a:ext cx="8701200" cy="72072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лимактерический синдр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5064120" y="-87120"/>
            <a:ext cx="604800" cy="64850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рогенитальная атроф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5022000" y="746280"/>
            <a:ext cx="718920" cy="65152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теопоро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32000" y="5084640"/>
            <a:ext cx="6262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тимальное начало терапии – период «менопаузального переход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92360" y="5661000"/>
            <a:ext cx="52560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этот период частота и выраженнос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имактер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стройств максималь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3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лимактерический период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ерап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2209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1925640"/>
            <a:ext cx="868680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е медикаментозна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блюдение режима дня, занятия  спортом,   рациональное     питание, ЛФК, санаторное лечение; физиолеч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дикаментозная: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Е ВЛИЯЮЩАЯ  НА ЭСТРОГЕННЫЕ РЕЦЕПТ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депрессанты, седативные средства, витами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кро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ЛИЯЮЩАЯ  НА ЭСТРОГЕННЫЕ РЕЦЕПТО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рмональная (ЗГ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горм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то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имадино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меопатические сре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Проблема заболеваемости женщин в климактерическом периоде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1052640"/>
            <a:ext cx="8785080" cy="4464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 85 % женщин страдают от типичных климактерическ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расстрой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 78 % женщин испытывают приливы ж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коло 50 % женщин страдают от депрессивных     расстройст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нервозности, раздражительности, бессонниц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слабления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коло 50% женщин имеют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артериальную гипертенз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 ишемическую болезнь серд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5589720"/>
            <a:ext cx="835164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ачество жизни у многих женщин значительно снижается в климактерическом пери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ЕДИКАМЕНТОЗНАЯ НЕГОРМОНАЛЬНАЯ ТЕРА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мпатолитик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езерп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¼ табл. 1-2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реноблокатор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зида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1 /4 таблетки 2-3 раза в ден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угер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25 мг 3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реобладании парасимпатических реакций показаны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стойка белладон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5 - 10 капель в день, антигистаминные препарат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веги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1 мг ил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упраст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0,25 мг 1 - 2 раза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рмозящее действие на вегетативную и эмоциональную возбудимость оказыв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еллоид и беллатамин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2-3 таблетки в ден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1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6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ют нормализации изменений гомеос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сихоэмоциональных расстройствах показаны нейротропные средства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зеп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0,01 г 1 - 3 раза в день), при выраженных расстройствах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ренол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2,5 мг 1 - 2 раза в день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уются также психотропные стимуляторы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отропил, церебролизин, аминало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КАЗАНИЯ К  ЗГТ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ливы жара, ночные п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прессии, нарушения 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паурения, сухость во влагал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енное мочеиспускание, диз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ержание м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еопор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РЕПАРАТЫ ЗГ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бинированные эстрогенгестагенные препараты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микрогинон, фемоден, ановла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эстрогены: эстрадиола валерат, микронизированный эстрадиол; конъюгированные эстрогены: эстрона сульфат, эквилины; эстриол и его дериват - экстриола сукци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ные или синтетические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естагены: медроксипрогестерон, прогестерона ацетат, ципротерона ацетат, норгестрел, левонор-гестрел, норэтистерона ацетат и новое поколение прогестагенов - дезогестрел, гестоден, норгестимат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БСЛЕДОВАНИЕ ПЕРЕД НАЗНАЧЕНИЕМ ЗГ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показ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состояния гениталий (УЗИ), молочных жел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зки на онкоцитоло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, рост, масс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агулограм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лестерин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ротивопоказания для назначения ЗГ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37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галищное кровотечение неясного гене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ое тяжелое заболевание пече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ый тромбоз глубоких в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ое тромбоэмболическое заболе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 молочной железы (в настоящем; если в анамнезе, то возможны исключ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 эндометрия (в настоящем; если в анамнезе, то возможны исключ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дометриоз (противопоказана монотерапия эстрогена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ожденные заболевания, связанные с обменом липидов – гипертриглицериде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651640" y="6237360"/>
            <a:ext cx="3097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Неоперативная гинекология» 200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бочные эффекты ЗГ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250920" y="1628640"/>
          <a:ext cx="8447040" cy="4187880"/>
        </p:xfrm>
        <a:graphic>
          <a:graphicData uri="http://schemas.openxmlformats.org/drawingml/2006/table">
            <a:tbl>
              <a:tblPr/>
              <a:tblGrid>
                <a:gridCol w="3025800"/>
                <a:gridCol w="2735280"/>
                <a:gridCol w="26859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Эстрог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гестаг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изводные прогестер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b46d0"/>
                          </a:solidFill>
                          <a:latin typeface="Arial"/>
                        </a:rPr>
                        <a:t>Производные 19-норстеро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31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тоз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ение массы т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ержка жидк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ная боль, мигр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змы в мышцах ног и оте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лестаз и холелитиа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ильное выделение цервикальной слиз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рубание молочных жел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ость во влага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мено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либид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фо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сть, утомляем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рсут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о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тембра голо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ение аппети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ение массы т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е ХС-ЛПВ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37440" cy="11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40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Соста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15760" y="1744560"/>
            <a:ext cx="7708680" cy="4254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1 таблетка, покрытая оболочкой содерж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мг сухого экстракта корневища цимицифуги, что соответствует 20 мг высушенного лекарственного растительного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100 г раствора содержа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г жидкого экстракта корневища цимицифуги, что эквивалентно 2,4 г высушенного лекарственного растительного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держание этанола:  35,0 – 40,0 %                                             (в объемном отношен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50920" y="1268280"/>
            <a:ext cx="8569080" cy="165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пециальный экстракт BNO 1055, входящий в соста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лимадинона</a:t>
            </a:r>
            <a:r>
              <a:rPr b="1" lang="ru-RU" sz="2000" spc="-1" strike="noStrike" baseline="30000">
                <a:solidFill>
                  <a:srgbClr val="800000"/>
                </a:solidFill>
                <a:latin typeface="Symbol"/>
                <a:ea typeface="Symbol"/>
              </a:rPr>
              <a:t>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держит высокоспецифичные и органоселективные фитоэстроге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«Фито-СЭРМ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– селективный эстроген-рецепторный модулятор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40360" y="3068640"/>
            <a:ext cx="144360" cy="865080"/>
          </a:xfrm>
          <a:prstGeom prst="downArrow">
            <a:avLst>
              <a:gd name="adj1" fmla="val 50000"/>
              <a:gd name="adj2" fmla="val 149813"/>
            </a:avLst>
          </a:prstGeom>
          <a:solidFill>
            <a:srgbClr val="cc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9280" y="4149720"/>
            <a:ext cx="8713800" cy="172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кстракт цимицифуги BNO 1055 селективно связыва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 эстрогеновыми рецепторами ЦНС, костей, яичник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не воздействуя при этом на матку и не стимулируя рост эндомет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3600"/>
            </a:br>
            <a:r>
              <a:rPr b="0" lang="ru-RU" sz="3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оказания для примен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136000" cy="31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гетативно-сосудистые и психические нарушения в период пре-, мено- и постменопаузы («приливы»,    повышенная потливость, головокружение, головные боли, нарушение сна, повышенная возбудимость,  изменения настроения, апатия, сердцебиение и др.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мадинон</a:t>
            </a:r>
            <a:r>
              <a:rPr b="1" lang="ru-RU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32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Дозировка и способ примен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43040" y="1888920"/>
            <a:ext cx="77738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0 капель 2 раза в ден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 таблетка 2 раза в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Таблет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не раскусывая,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с небольш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количеством в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апевтический эффект наступает постепенно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яется приблизительно через 2 не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Без консульта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ача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лимадинон</a:t>
            </a:r>
            <a:r>
              <a:rPr b="0" lang="de-DE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лед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более 3 месяцев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ительность л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врач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533520" y="333360"/>
          <a:ext cx="8153280" cy="612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3360"/>
                    <a:ext cx="815328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имадинон</a:t>
            </a:r>
            <a:r>
              <a:rPr b="1" lang="ru-RU" sz="4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13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Побочное действ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редких случаях возможны боли в верхней половине жив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ы аллергические реакции к компонентам препа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3213000"/>
            <a:ext cx="8064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ротивопоказ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 повышенная чувствительность 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онентам препара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динон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не следует применять для лечения пациентов с эстрогенозависимыми опухо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вор Климадинон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льзя применять для лечения пациентов,страдающих алкоголизмом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содержит этиловый спирт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961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сто Климадинона</a:t>
            </a:r>
            <a:r>
              <a:rPr b="1" lang="ru-RU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в терапии климактерических расстройст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6708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лимактерический синдром легкой и средней степени тяж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гативное отношение к Г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ивопоказания к ЗГ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стоящее оперативное леч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иод об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возможность консультации гинеколо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кологические заболевания репродуктивных органов в анамнезе на любом этапе после оп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1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парат Климадинон эффективен в лечении климактерического синдрома у женщин в перименопаузе и позволяет значительно уменьшить клинические проявления климактерического синдрома, за счет регрессии нейровегетативных и психоэмоциональных симптом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данным суточного мониторирования АД, под влиянием лечения препаратом Климадинон достоверно уменьшается нагрузка давлением на организм женщины, нормализуется циркадный ритм АД. Таким образом, препарат проявляет терапевтическую эффективность при лабильной АГ в перименопаузе и может быть использован в программе профилактики А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мадинон улучшает качество жизни у женщин в перименопаузе с климактерическим синдромом средней и тяжелой степени в сферах: психологической, уровня независимости, социальных взаимоотношений, общего качества жизни и состояния здоровья. Способствует улучшению сна и отдыха, возможностям для приобретения новой информации и навыков, трудоспособности, что является следствием полного отсутствия либо значительного уменьшения клинических проявлений климактерического синдрома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е признаки терапевтической эффективности Климадинона определяются уже на 3-4- й неделе лечения, продолжительность курсового лечения в каждом конкретном случае индивидуаль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мадинон не содержит синтетических гормонов и пригоден для длительной терапии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87280" y="907920"/>
            <a:ext cx="549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1864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3640" y="33336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БЛАГОДАР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924360" y="2997360"/>
            <a:ext cx="503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БЛАГОДАР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З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771640" y="5950080"/>
            <a:ext cx="597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Barret – Connor E., Groady K.A.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метник В.П.,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333360"/>
            <a:ext cx="8209080" cy="525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имактери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– естественный перио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жиз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женщ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днако высокая частота и тяже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мптомов дефицита половых гормо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начительно снижают качество жиз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превращают это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риод в своеобразную болез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987640" y="1773360"/>
            <a:ext cx="165564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енопау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35280" y="2205000"/>
            <a:ext cx="316080" cy="3527640"/>
          </a:xfrm>
          <a:prstGeom prst="downArrow">
            <a:avLst>
              <a:gd name="adj1" fmla="val 50000"/>
              <a:gd name="adj2" fmla="val 279015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4720" y="5805360"/>
            <a:ext cx="10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1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3440" y="314172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 1 го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2349360"/>
            <a:ext cx="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32720" y="1916280"/>
            <a:ext cx="0" cy="352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95640" y="3860640"/>
            <a:ext cx="2592360" cy="628920"/>
          </a:xfrm>
          <a:prstGeom prst="leftRightArrow">
            <a:avLst>
              <a:gd name="adj1" fmla="val 50000"/>
              <a:gd name="adj2" fmla="val 82057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стменопау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76360" y="3789360"/>
            <a:ext cx="2087640" cy="900000"/>
          </a:xfrm>
          <a:prstGeom prst="leftRightArrow">
            <a:avLst>
              <a:gd name="adj1" fmla="val 50000"/>
              <a:gd name="adj2" fmla="val 46177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енопаузаль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ерех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9800" y="537372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5-7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32720" y="4005360"/>
            <a:ext cx="2195280" cy="485640"/>
          </a:xfrm>
          <a:prstGeom prst="leftRightArrow">
            <a:avLst>
              <a:gd name="adj1" fmla="val 50000"/>
              <a:gd name="adj2" fmla="val 89989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тар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32000" y="2060640"/>
            <a:ext cx="0" cy="352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9080" y="558972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5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56000" y="2421000"/>
            <a:ext cx="2160360" cy="600120"/>
          </a:xfrm>
          <a:prstGeom prst="leftRightArrow">
            <a:avLst>
              <a:gd name="adj1" fmla="val 50000"/>
              <a:gd name="adj2" fmla="val 71664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ерименопау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3716280"/>
            <a:ext cx="8672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84640"/>
            <a:ext cx="1332000" cy="957240"/>
          </a:xfrm>
          <a:prstGeom prst="leftRightArrow">
            <a:avLst>
              <a:gd name="adj1" fmla="val 50000"/>
              <a:gd name="adj2" fmla="val 27701"/>
            </a:avLst>
          </a:prstGeom>
          <a:gradFill rotWithShape="0">
            <a:gsLst>
              <a:gs pos="0">
                <a:srgbClr val="ffff66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Фертильны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пери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84360" y="2349360"/>
            <a:ext cx="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11280" y="3068640"/>
            <a:ext cx="11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 1,5 – 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2" name=""/>
          <p:cNvCxnSpPr/>
          <p:nvPr/>
        </p:nvCxnSpPr>
        <p:spPr>
          <a:xfrm flipV="1">
            <a:off x="3995280" y="4580640"/>
            <a:ext cx="252180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5219640" y="4724280"/>
            <a:ext cx="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95640" y="4797360"/>
            <a:ext cx="11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– 5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97800" y="5084640"/>
            <a:ext cx="96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нняя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95600" y="48690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здня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5640" y="105264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1197000"/>
            <a:ext cx="86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есмотр Совета обществ по изучению менопаузы (СОИМ) при Международной ассоциации по менопаузе, 1999, Иокогама, Япо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03280" y="333360"/>
            <a:ext cx="648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ериоды климактер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1628640"/>
          <a:ext cx="7211880" cy="50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721188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116000" y="2276640"/>
            <a:ext cx="5402160" cy="2808000"/>
          </a:xfrm>
          <a:custGeom>
            <a:avLst/>
            <a:gdLst/>
            <a:ahLst/>
            <a:rect l="l" t="t" r="r" b="b"/>
            <a:pathLst>
              <a:path w="3402" h="1837">
                <a:moveTo>
                  <a:pt x="0" y="0"/>
                </a:moveTo>
                <a:cubicBezTo>
                  <a:pt x="272" y="19"/>
                  <a:pt x="545" y="38"/>
                  <a:pt x="817" y="227"/>
                </a:cubicBezTo>
                <a:cubicBezTo>
                  <a:pt x="1089" y="416"/>
                  <a:pt x="1376" y="884"/>
                  <a:pt x="1633" y="1134"/>
                </a:cubicBezTo>
                <a:cubicBezTo>
                  <a:pt x="1890" y="1384"/>
                  <a:pt x="2064" y="1611"/>
                  <a:pt x="2359" y="1724"/>
                </a:cubicBezTo>
                <a:cubicBezTo>
                  <a:pt x="2654" y="1837"/>
                  <a:pt x="3221" y="1807"/>
                  <a:pt x="3402" y="18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42920" y="2276640"/>
            <a:ext cx="5329440" cy="2352600"/>
          </a:xfrm>
          <a:custGeom>
            <a:avLst/>
            <a:gdLst/>
            <a:ahLst/>
            <a:rect l="l" t="t" r="r" b="b"/>
            <a:pathLst>
              <a:path w="3357" h="1482">
                <a:moveTo>
                  <a:pt x="0" y="461"/>
                </a:moveTo>
                <a:cubicBezTo>
                  <a:pt x="193" y="230"/>
                  <a:pt x="386" y="0"/>
                  <a:pt x="590" y="98"/>
                </a:cubicBezTo>
                <a:cubicBezTo>
                  <a:pt x="794" y="196"/>
                  <a:pt x="1013" y="832"/>
                  <a:pt x="1225" y="1051"/>
                </a:cubicBezTo>
                <a:cubicBezTo>
                  <a:pt x="1437" y="1270"/>
                  <a:pt x="1505" y="1346"/>
                  <a:pt x="1860" y="1414"/>
                </a:cubicBezTo>
                <a:cubicBezTo>
                  <a:pt x="2215" y="1482"/>
                  <a:pt x="3115" y="1444"/>
                  <a:pt x="3357" y="1459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16000" y="1916280"/>
            <a:ext cx="5329080" cy="2557440"/>
          </a:xfrm>
          <a:custGeom>
            <a:avLst/>
            <a:gdLst/>
            <a:ahLst/>
            <a:rect l="l" t="t" r="r" b="b"/>
            <a:pathLst>
              <a:path w="3357" h="1611">
                <a:moveTo>
                  <a:pt x="0" y="1611"/>
                </a:moveTo>
                <a:cubicBezTo>
                  <a:pt x="306" y="1418"/>
                  <a:pt x="613" y="1225"/>
                  <a:pt x="817" y="1021"/>
                </a:cubicBezTo>
                <a:cubicBezTo>
                  <a:pt x="1021" y="817"/>
                  <a:pt x="1021" y="552"/>
                  <a:pt x="1225" y="386"/>
                </a:cubicBezTo>
                <a:cubicBezTo>
                  <a:pt x="1429" y="220"/>
                  <a:pt x="1837" y="46"/>
                  <a:pt x="2041" y="23"/>
                </a:cubicBezTo>
                <a:cubicBezTo>
                  <a:pt x="2245" y="0"/>
                  <a:pt x="2230" y="227"/>
                  <a:pt x="2449" y="250"/>
                </a:cubicBezTo>
                <a:cubicBezTo>
                  <a:pt x="2668" y="273"/>
                  <a:pt x="3206" y="121"/>
                  <a:pt x="3357" y="15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42920" y="4005360"/>
            <a:ext cx="5329440" cy="865080"/>
          </a:xfrm>
          <a:custGeom>
            <a:avLst/>
            <a:gdLst/>
            <a:ahLst/>
            <a:rect l="l" t="t" r="r" b="b"/>
            <a:pathLst>
              <a:path w="3357" h="545">
                <a:moveTo>
                  <a:pt x="0" y="514"/>
                </a:moveTo>
                <a:cubicBezTo>
                  <a:pt x="265" y="529"/>
                  <a:pt x="530" y="545"/>
                  <a:pt x="726" y="469"/>
                </a:cubicBezTo>
                <a:cubicBezTo>
                  <a:pt x="922" y="393"/>
                  <a:pt x="1028" y="120"/>
                  <a:pt x="1179" y="60"/>
                </a:cubicBezTo>
                <a:cubicBezTo>
                  <a:pt x="1330" y="0"/>
                  <a:pt x="1270" y="91"/>
                  <a:pt x="1633" y="106"/>
                </a:cubicBezTo>
                <a:cubicBezTo>
                  <a:pt x="1996" y="121"/>
                  <a:pt x="3153" y="151"/>
                  <a:pt x="3357" y="151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72360" y="4941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строге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01440" y="4508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Эстр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4508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73440" y="213372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С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29440" y="5950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47628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намика уровней гормонов в климактерическом перио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3280" y="6508800"/>
            <a:ext cx="410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Кулаков В.И., Сметнк В.П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«Руководство по климактерию», 2001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2504880" cy="4908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24000" y="33336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ы, содержащие эстрогеновые рецепт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7920" y="1341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Репроду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49840" y="141300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Не репроду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9600" y="1628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ипоталаму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гипофи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8720" y="249228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оч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е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19600" y="36450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тк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ич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75600" y="170028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з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00720" y="2708280"/>
            <a:ext cx="25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ердечно-сосудист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86880" y="328464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04320" y="357336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олстый кишеч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54520" y="544500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жа и е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дат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71240" y="4941720"/>
            <a:ext cx="200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стно-мышеч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11280" y="1844640"/>
            <a:ext cx="1550880" cy="142920"/>
            <a:chOff x="2411280" y="1844640"/>
            <a:chExt cx="1550880" cy="142920"/>
          </a:xfrm>
        </p:grpSpPr>
        <p:sp>
          <p:nvSpPr>
            <p:cNvPr id="547" name=""/>
            <p:cNvSpPr/>
            <p:nvPr/>
          </p:nvSpPr>
          <p:spPr>
            <a:xfrm>
              <a:off x="241128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56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584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74920" y="18446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62200" y="184464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411280" y="2781360"/>
            <a:ext cx="1550880" cy="142920"/>
            <a:chOff x="2411280" y="2781360"/>
            <a:chExt cx="1550880" cy="142920"/>
          </a:xfrm>
        </p:grpSpPr>
        <p:sp>
          <p:nvSpPr>
            <p:cNvPr id="553" name=""/>
            <p:cNvSpPr/>
            <p:nvPr/>
          </p:nvSpPr>
          <p:spPr>
            <a:xfrm>
              <a:off x="241128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9856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8584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4920" y="2781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62200" y="27813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340000" y="3933720"/>
            <a:ext cx="1549080" cy="142920"/>
            <a:chOff x="2340000" y="3933720"/>
            <a:chExt cx="1549080" cy="142920"/>
          </a:xfrm>
        </p:grpSpPr>
        <p:sp>
          <p:nvSpPr>
            <p:cNvPr id="559" name=""/>
            <p:cNvSpPr/>
            <p:nvPr/>
          </p:nvSpPr>
          <p:spPr>
            <a:xfrm>
              <a:off x="234000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2692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1384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2560" y="393372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89840" y="3933720"/>
              <a:ext cx="399240" cy="12708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140360" y="3644640"/>
            <a:ext cx="2160000" cy="142920"/>
            <a:chOff x="4140360" y="3644640"/>
            <a:chExt cx="2160000" cy="142920"/>
          </a:xfrm>
        </p:grpSpPr>
        <p:sp>
          <p:nvSpPr>
            <p:cNvPr id="565" name=""/>
            <p:cNvSpPr/>
            <p:nvPr/>
          </p:nvSpPr>
          <p:spPr>
            <a:xfrm rot="10800000">
              <a:off x="576540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0800000">
              <a:off x="543384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0800000">
              <a:off x="510228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0800000">
              <a:off x="476856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0800000">
              <a:off x="4140360" y="3660480"/>
              <a:ext cx="461520" cy="1270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0800000">
              <a:off x="6135480" y="3644640"/>
              <a:ext cx="16488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148000" y="5949720"/>
            <a:ext cx="1263600" cy="142920"/>
            <a:chOff x="5148000" y="5949720"/>
            <a:chExt cx="1263600" cy="142920"/>
          </a:xfrm>
        </p:grpSpPr>
        <p:sp>
          <p:nvSpPr>
            <p:cNvPr id="572" name=""/>
            <p:cNvSpPr/>
            <p:nvPr/>
          </p:nvSpPr>
          <p:spPr>
            <a:xfrm rot="10800000">
              <a:off x="626868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0800000">
              <a:off x="598140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0800000">
              <a:off x="5692320" y="5949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5148000" y="59655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140000" y="3428640"/>
            <a:ext cx="1871640" cy="142920"/>
            <a:chOff x="4140000" y="3428640"/>
            <a:chExt cx="1871640" cy="142920"/>
          </a:xfrm>
        </p:grpSpPr>
        <p:sp>
          <p:nvSpPr>
            <p:cNvPr id="577" name=""/>
            <p:cNvSpPr/>
            <p:nvPr/>
          </p:nvSpPr>
          <p:spPr>
            <a:xfrm rot="10800000">
              <a:off x="554796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0800000">
              <a:off x="526068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0800000">
              <a:off x="497340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0800000">
              <a:off x="468432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4140000" y="344448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0800000">
              <a:off x="5868720" y="342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642920" y="5013000"/>
            <a:ext cx="1263600" cy="142920"/>
            <a:chOff x="4642920" y="5013000"/>
            <a:chExt cx="1263600" cy="142920"/>
          </a:xfrm>
        </p:grpSpPr>
        <p:sp>
          <p:nvSpPr>
            <p:cNvPr id="584" name=""/>
            <p:cNvSpPr/>
            <p:nvPr/>
          </p:nvSpPr>
          <p:spPr>
            <a:xfrm rot="10800000">
              <a:off x="576360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547632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0800000">
              <a:off x="5187240" y="501300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0800000">
              <a:off x="4642920" y="502884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211280" y="1844640"/>
            <a:ext cx="1869840" cy="144000"/>
            <a:chOff x="4211280" y="1844640"/>
            <a:chExt cx="1869840" cy="144000"/>
          </a:xfrm>
        </p:grpSpPr>
        <p:sp>
          <p:nvSpPr>
            <p:cNvPr id="589" name=""/>
            <p:cNvSpPr/>
            <p:nvPr/>
          </p:nvSpPr>
          <p:spPr>
            <a:xfrm rot="10800000">
              <a:off x="5618520" y="1844640"/>
              <a:ext cx="142560" cy="1425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0800000">
              <a:off x="5331600" y="18457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0800000">
              <a:off x="5044320" y="18457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0800000">
              <a:off x="4755600" y="18457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0800000">
              <a:off x="4211280" y="1861560"/>
              <a:ext cx="399960" cy="127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0800000">
              <a:off x="5938920" y="18457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56000" y="2923920"/>
            <a:ext cx="1796760" cy="144360"/>
            <a:chOff x="4356000" y="2923920"/>
            <a:chExt cx="1796760" cy="144360"/>
          </a:xfrm>
        </p:grpSpPr>
        <p:sp>
          <p:nvSpPr>
            <p:cNvPr id="596" name=""/>
            <p:cNvSpPr/>
            <p:nvPr/>
          </p:nvSpPr>
          <p:spPr>
            <a:xfrm rot="10800000">
              <a:off x="5762520" y="2923920"/>
              <a:ext cx="14220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0800000">
              <a:off x="547560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0800000">
              <a:off x="518868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0800000">
              <a:off x="4899960" y="292392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0800000">
              <a:off x="4356000" y="2939760"/>
              <a:ext cx="399600" cy="12708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6010200" y="2925360"/>
              <a:ext cx="14256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0" y="5157720"/>
            <a:ext cx="27716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.П.Сметник, Л.Г.Тумилович «Неоперативная гинекология» 2003, Моск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1600" y="4149720"/>
            <a:ext cx="1870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ретра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чевой пузыр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138920" y="3895920"/>
            <a:ext cx="1945080" cy="378360"/>
            <a:chOff x="4138920" y="3895920"/>
            <a:chExt cx="1945080" cy="378360"/>
          </a:xfrm>
        </p:grpSpPr>
        <p:sp>
          <p:nvSpPr>
            <p:cNvPr id="605" name=""/>
            <p:cNvSpPr/>
            <p:nvPr/>
          </p:nvSpPr>
          <p:spPr>
            <a:xfrm rot="11246400">
              <a:off x="5596560" y="407844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1246400">
              <a:off x="5301000" y="403992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246400">
              <a:off x="5005440" y="400104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246400">
              <a:off x="4707720" y="396252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1246400">
              <a:off x="4145040" y="3921840"/>
              <a:ext cx="415080" cy="1281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246400">
              <a:off x="5926680" y="4121280"/>
              <a:ext cx="148320" cy="144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йроэндокринная дисфункция гипоталамуса в менопауз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1914480"/>
            <a:ext cx="3959280" cy="57636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-эндорфиновой а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3645000"/>
            <a:ext cx="230508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орадренал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71640" y="3645000"/>
            <a:ext cx="216216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опам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4581360"/>
            <a:ext cx="3745080" cy="863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изменение терморегуля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6360" y="2421000"/>
            <a:ext cx="237492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или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27640" y="3213000"/>
            <a:ext cx="2374920" cy="432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ипергидро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56360" y="3860640"/>
            <a:ext cx="2374920" cy="432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ипертенз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27640" y="4653000"/>
            <a:ext cx="2374920" cy="431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жи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258920" y="2637000"/>
            <a:ext cx="57456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2637000"/>
            <a:ext cx="576360" cy="86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2060640"/>
            <a:ext cx="217440" cy="3598920"/>
          </a:xfrm>
          <a:custGeom>
            <a:avLst/>
            <a:gdLst>
              <a:gd name="textAreaLeft" fmla="*/ 63720 w 217440"/>
              <a:gd name="textAreaRight" fmla="*/ 217800 w 217440"/>
              <a:gd name="textAreaTop" fmla="*/ 149760 h 3598920"/>
              <a:gd name="textAreaBottom" fmla="*/ 344916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4720" y="2276640"/>
            <a:ext cx="12952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284720" y="4221000"/>
            <a:ext cx="14396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3933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7640" y="64911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08720" y="623736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.R.Genazzani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820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йроэндокринная дисфункция лимбической системы в менопаузе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3429000"/>
            <a:ext cx="3168720" cy="64764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орадрен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5280" y="2205000"/>
            <a:ext cx="3168720" cy="72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еротон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80000" y="2565360"/>
            <a:ext cx="180000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708360" y="4076640"/>
            <a:ext cx="1871640" cy="8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80000" y="378936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27640" y="64911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64000" y="6093000"/>
            <a:ext cx="33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.R.Genazzani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4508640"/>
            <a:ext cx="3168720" cy="72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Symbol"/>
                <a:ea typeface="Symbol"/>
              </a:rPr>
              <a:t>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опам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24360" y="2133720"/>
            <a:ext cx="3238560" cy="324000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6a0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зменение настро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 привыч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возбудим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депрес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бессон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головная бо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мигрен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снижение когнитив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функ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31:52Z</dcterms:created>
  <dc:creator>Alex Arestov</dc:creator>
  <dc:description/>
  <dc:language>en-US</dc:language>
  <cp:lastModifiedBy>Your User Name</cp:lastModifiedBy>
  <dcterms:modified xsi:type="dcterms:W3CDTF">2008-12-23T10:11:40Z</dcterms:modified>
  <cp:revision>10</cp:revision>
  <dc:subject/>
  <dc:title>Презентация PowerPoint</dc:title>
</cp:coreProperties>
</file>