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png" ContentType="image/png"/>
  <Override PartName="/ppt/media/image8.jpeg" ContentType="image/jpeg"/>
  <Override PartName="/ppt/media/image10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ADC9-C98E-4012-95CB-33DDC91C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750-7884-4810-9724-0C790FB6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5AA-47CC-4C8C-A23C-4E5C15BF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27B-C05C-4118-9750-C3055F65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A976-5A0E-4098-9FC4-318894B7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3126-A54B-4086-87A0-B1AD0399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BB00-F5A1-4F99-8EB2-BAEDED4E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11DA-03CC-4DC1-B211-8B2D0FDE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D6B9-515F-4C42-9866-531D83B0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63E9-E298-4FAB-A8E3-D4FF1C38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9F89-B234-4D2B-800E-057C97D9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B3FB-1246-4A04-91E1-1B5E47A3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6331-5412-452D-91DE-595CCABA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19F9-89E8-4C1E-9E48-3C579DDE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EAD7-B3FB-4BBA-AC54-FBF137F8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E9B1-E5E7-4DE1-8595-562C4EF4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7D8F-C939-4DA1-AE2F-4013D5AF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14F56-7DAC-4645-9AA9-E60CAE87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2C988-E376-444F-8C14-A6DE2650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8B742-7A67-4289-9031-79A2458A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8B39E-A3DF-4281-8781-8A75AE85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F6CC8-452B-447F-92F8-3EBE6544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704-36E3-4FC7-9044-13BB3C7A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48DBA-F018-4084-99DC-C6C38119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3F44A-91AB-4896-B17D-3C6CB61D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589B6-1DA6-4D4C-8D1C-20CAE2DD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A3E40-83DB-4549-8E2C-CF70B788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FA5C4-DE7D-427D-A956-906D31EE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0E154-A9AF-4764-AAFE-591120F4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D6A40-B5B1-4EE9-9335-73241C8B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E19AC-D89D-4E29-B12A-E5C374F2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81F9B-A011-4267-A5D3-BE1D7E41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D1452-88A7-4A8A-96BB-4962BDFA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16F-FBD3-4035-A539-C17B07DA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0E07F-81E0-48B3-9F0D-03890814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6285E-A264-4106-AF3C-09EDD6C0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71832-4CBE-40AE-9CA9-A9ED8B67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1290A-93C9-4726-81B2-701E7CD0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3C8C0-C576-43AF-8380-0BDCD4C7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A7F82-C2D1-4CD6-A200-9E3B6197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934B6-A9D7-49B2-9772-8B2B559E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A362D-EF97-4F1D-BB2E-E9AA3E83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CFC2D-9D22-493A-A0D7-818D4414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638B8-5168-4258-AF99-A05FA222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683-3B8E-41D1-8DB5-C1C8CB14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55EB6-74C8-4B91-AD3E-D6B8C933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3F099-973B-4090-9C7C-D857C9F1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AB0EC-0646-4A6A-B7DC-F9D1F3DF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3F44C-F0EC-4C76-B716-C00E32A8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AF478-EC02-4D71-85DE-2078F190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6630F-FC6F-4821-9911-E26CE65D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837A0-FA5D-4F83-8CF6-F2FCB259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239B5-74E3-44C2-A866-150CC67A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701A6-03B1-4551-8F66-3A6E739B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B5B52-2E2D-48FA-A32C-2070E573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3D3-725D-44F2-81B7-0D5D2589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85340-2B88-4468-ACA7-B49B060B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B4EAF-F072-4317-845F-7E077F73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8EEEC-96E6-43AB-B21A-3F28C537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E76AC-BEC6-4084-AFDE-649125AD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DABD7-704A-44B2-A9FC-33139894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EEDC9-2DD1-457A-A8E3-8AD3D16B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26459-01BB-4CFD-81F9-851A74C2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B70D6-9E6D-4DB1-A135-25B603F3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9E1E1-1C51-44EA-BC40-1C37F0CB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38227-C091-4D8A-AD5F-F6D90BF2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59F-5561-45A5-8659-B408598C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B02B4-716B-4C9F-9804-1421CA32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2B76F-583C-4967-8B76-40C1CAA2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3A178-72E2-4428-AD5A-B187A4C3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6CDB2-A074-4CC9-A555-E224B554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556B3-6E3C-4F1B-8E9C-C6FED3EE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AA509-C707-41C4-A934-42E83DD0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651CD-884F-445A-8322-83BED81C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A7245-4AC6-4212-8CDB-0A75567A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CAC71-5C89-4AD1-9021-300BE603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79D11-62F4-4CDD-B41D-710AE046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DAEB-72A6-40D9-AF56-BF507491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D2AA7-0FE7-43B1-8EC4-93C3BE36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B6088-B474-4A05-8E82-855C37E8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810D2-71C2-413A-9174-FA0BEC1E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67B59-2681-49EF-8A72-54BF9209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1F3EE-51FC-4A15-AAAB-5BBC08FD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9587A-1531-4798-BDF2-ECD74D62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5B1A4-E878-4F17-BA3F-8CBE25D0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1B7AD-D34E-417B-B930-5717D08D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C0784-0FE5-48A9-9E18-3FA56158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FA209-53A2-41DE-9F2B-EE7873C3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13E-B4C5-495C-8192-C07BCF53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C1AA3-B03D-4C12-8B81-13870B38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74DE0-285C-4154-ACCD-DEC1FFFF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34725-DB20-4EE0-BE21-C77AE2FA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EE1A3-0FAB-446A-B3EB-C16053F8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16A65-D7FA-448C-B0FA-EB3AAAFE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A0679-DC24-450D-96C0-23B95EED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65996-C2E0-4493-9396-51204C26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9F74-3D1B-4F86-B961-7C36A91F8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49BB-C4A2-4340-B064-556CF149F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25C3-C73C-4364-8EAD-8A547AA68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94EC-8869-45DF-866C-3822E303D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8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E40E-7328-450C-AEB1-51FB7CC455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FD9D-B891-4077-89FD-EB6D6BF48C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79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8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DE2B-E088-4904-9A3D-6B293980979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33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34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40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89E4-9610-46B2-B2F6-BBA82CF1DDF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РИТИЧЕСКИЕ ПЕРИОДЫ В ЖИЗНИ ЖЕНЩИНЫ И ВАРИАНТЫ КОРРЕКЦИИ НАРУШЕНИЙ РЕПРОДУКТИВНОГО ЗДОРОВЬЯ В ЭТИ ПЕРИОДЫ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фессор кафедры акушерст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 гинекологии ВГМ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октор медицинских нау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.И.Киселе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Факторы увеличения риска сердечно-сосудистых заболеваний в постменопаузе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группа – обменные фактор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 – изменение обмена липидов и липопротеин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 – изменение обмена инсулина и углево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 – изменение гемостаза и фибриноли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I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группа – необменные измене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 – дисфункция эндотелиальных клет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 – изменение функции сердца и гемодинам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 – прочие механизм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003640" y="6093000"/>
            <a:ext cx="388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.П.Сметник,«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nsilium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Medicum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»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11, том 3,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КАЧЕСТВО ЖИЗНИ -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то восприятие индивидами их положения в жизни в контексте культуры и системы ценнос-тей, в которых они живут, и в соответствии с их целями, ожиданиями, стандартами и заботам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ачество жизн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позволяет оценить субъективную меру благополучия и удовлетворенность условиями жизни, индивидуальное восприятие жизни в сферах, которые связаны со здоровьем, дает возможность определить субъективную оценку физического состояния, психологических функций, степень социальной адаптации, что необходимо для понимания врачом проблем пациентки, способствует формированию правильного индивидуального терапевтического подх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КАЧЕСТВО ЖИЗНИ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зволяет оценить субъективную меру благополучия и удовлетворенность условиями жиз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ндивидуальное восприятие жизни в сферах, которые связаны со здоровь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пределить субъективную оценку физического состояния, психологических функций, степень социальной адаптации, что необходимо для понимания врачом проблем пациент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пособствует формированию правильного индивидуального терапевтического подх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893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Классификация климактерических расстройств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5977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нние симпто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8592600">
            <a:off x="1907640" y="2349000"/>
            <a:ext cx="920880" cy="114480"/>
          </a:xfrm>
          <a:custGeom>
            <a:avLst/>
            <a:gdLst>
              <a:gd name="textAreaLeft" fmla="*/ 114840 w 920880"/>
              <a:gd name="textAreaRight" fmla="*/ 806040 w 920880"/>
              <a:gd name="textAreaTop" fmla="*/ 28440 h 114480"/>
              <a:gd name="textAreaBottom" fmla="*/ 86040 h 114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rot="2125800">
            <a:off x="6372000" y="2349360"/>
            <a:ext cx="865080" cy="144720"/>
          </a:xfrm>
          <a:custGeom>
            <a:avLst/>
            <a:gdLst>
              <a:gd name="textAreaLeft" fmla="*/ 108000 w 865080"/>
              <a:gd name="textAreaRight" fmla="*/ 757080 w 86508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5280" y="2708280"/>
            <a:ext cx="3600360" cy="22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Вазомоторны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приливы жа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озно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повышенная потлив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гипотония или гипертенз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головные бо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сердцеби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32360" y="2637000"/>
            <a:ext cx="3672000" cy="237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Психо-вегетативны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здражитель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нлив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лаб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беспокой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епресс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абывчив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вниматель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11280" y="5157720"/>
            <a:ext cx="78483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Вазомоторные и психо-вегетативные нарушения составляют симптомокомплекс, называемый климактерическим синдром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292720" y="602136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.П.Сметник, Л.Г.Тумилович            «Неоперативная гинекология», 2003, Моск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Классификация климактерических расстройств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редневременные симпто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8592600">
            <a:off x="2484000" y="2636280"/>
            <a:ext cx="822240" cy="144360"/>
          </a:xfrm>
          <a:custGeom>
            <a:avLst/>
            <a:gdLst>
              <a:gd name="textAreaLeft" fmla="*/ 102600 w 822240"/>
              <a:gd name="textAreaRight" fmla="*/ 719640 w 8222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rot="2125800">
            <a:off x="5364000" y="2707920"/>
            <a:ext cx="865440" cy="144360"/>
          </a:xfrm>
          <a:custGeom>
            <a:avLst/>
            <a:gdLst>
              <a:gd name="textAreaLeft" fmla="*/ 108000 w 865440"/>
              <a:gd name="textAreaRight" fmla="*/ 757440 w 8654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11280" y="3141720"/>
            <a:ext cx="3168720" cy="28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Урогенитальны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ff0000"/>
              </a:buClr>
              <a:buSzPct val="11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сухость во влагалищ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0000"/>
              </a:buClr>
              <a:buSzPct val="11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боль при полово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снош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ff0000"/>
              </a:buClr>
              <a:buSzPct val="11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зуд и жж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ff0000"/>
              </a:buClr>
              <a:buSzPct val="11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цисталг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ff0000"/>
              </a:buClr>
              <a:buSzPct val="11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недержание м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003640" y="3141720"/>
            <a:ext cx="3168720" cy="28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Кожа и ее придатк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ff0000"/>
              </a:buClr>
              <a:buSzPct val="11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сух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ff0000"/>
              </a:buClr>
              <a:buSzPct val="11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ломкость ногт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ff0000"/>
              </a:buClr>
              <a:buSzPct val="11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морщин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ff0000"/>
              </a:buClr>
              <a:buSzPct val="11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сухость и выпад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ff0000"/>
              </a:buClr>
              <a:buSzPct val="11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воло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268360" y="5877000"/>
            <a:ext cx="619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79640" y="609300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оздние симптом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rot="8592600">
            <a:off x="2267640" y="3860280"/>
            <a:ext cx="1163880" cy="203400"/>
          </a:xfrm>
          <a:custGeom>
            <a:avLst/>
            <a:gdLst>
              <a:gd name="textAreaLeft" fmla="*/ 145440 w 1163880"/>
              <a:gd name="textAreaRight" fmla="*/ 1018440 w 1163880"/>
              <a:gd name="textAreaTop" fmla="*/ 50760 h 203400"/>
              <a:gd name="textAreaBottom" fmla="*/ 152640 h 203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5280" y="4508640"/>
            <a:ext cx="3600360" cy="936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сердечно-сосудисты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заболе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219640" y="4653000"/>
            <a:ext cx="2808360" cy="503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стеопоро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908000" y="28526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менные наруш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title"/>
          </p:nvPr>
        </p:nvSpPr>
        <p:spPr>
          <a:xfrm>
            <a:off x="324000" y="620280"/>
            <a:ext cx="8496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лассификация климактерических расстройст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932360" y="6021360"/>
            <a:ext cx="38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.П.Сметник, Л.Г.Тумилович            «Неоперативная гинекология», 2003, Моск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2975400">
            <a:off x="5604120" y="3909240"/>
            <a:ext cx="1163520" cy="203400"/>
          </a:xfrm>
          <a:custGeom>
            <a:avLst/>
            <a:gdLst>
              <a:gd name="textAreaLeft" fmla="*/ 145440 w 1163520"/>
              <a:gd name="textAreaRight" fmla="*/ 1018080 w 1163520"/>
              <a:gd name="textAreaTop" fmla="*/ 50760 h 203400"/>
              <a:gd name="textAreaBottom" fmla="*/ 152640 h 203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48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типичные формы КС</a:t>
            </a:r>
            <a:br>
              <a:rPr sz="40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встречаются у 13 % больных)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87138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лимактерическая кардиомиопатия (миокардиодистрофия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мпатико-адреналовые криз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80% «здоровых» женщин (без приливов) имеются психовегетативные наруш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ступы бронхиальной астмы, не поддающиеся традиционной терап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Сухой» конъюнктивит, стоматит, ларинги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24000" y="5013360"/>
            <a:ext cx="828036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одавляющее число пациентов впервые обращаются к терапевту и другим специалистам, а не к гинеколог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364000" y="6021360"/>
            <a:ext cx="34560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.П.Сметник, Л.Г.Тумилович            «Неоперативная гинекология», 2002, Моск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116000" y="404640"/>
            <a:ext cx="65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лимактерический синдр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3800" y="2276640"/>
            <a:ext cx="16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ипертенз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окардио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строф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3800" y="386064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Терапев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76320" y="4653000"/>
            <a:ext cx="220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пресс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анические ата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нижение памя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05440" y="595008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сихиат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Невро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211640" y="40766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огенитальн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роф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215240" y="5013360"/>
            <a:ext cx="20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руш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чеиспуск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716360" y="6093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ро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553080" y="177336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ижение зр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хой конъюктив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индром Съегрен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311960" y="3213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Окули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04320" y="3716280"/>
            <a:ext cx="20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рофическ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менения кож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90520" y="49417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Космето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556000" y="2205000"/>
            <a:ext cx="19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еопороз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еоартри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02880" y="3284640"/>
            <a:ext cx="178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Ревмато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Травмато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Невропато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826920" y="1700280"/>
            <a:ext cx="31752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724360" y="1484280"/>
            <a:ext cx="1152720" cy="2232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48360" y="1413000"/>
            <a:ext cx="0" cy="2736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308720" y="1413000"/>
            <a:ext cx="358920" cy="3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900000" y="3284640"/>
            <a:ext cx="0" cy="649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123640" y="1700280"/>
            <a:ext cx="1800" cy="3024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124000" y="5661000"/>
            <a:ext cx="0" cy="358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92360" y="1484280"/>
            <a:ext cx="0" cy="792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19640" y="5805360"/>
            <a:ext cx="0" cy="3812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885080" y="2708280"/>
            <a:ext cx="0" cy="57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308720" y="4437000"/>
            <a:ext cx="0" cy="5335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492360" y="28526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219640" y="4797360"/>
            <a:ext cx="0" cy="289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5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5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600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5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7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75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8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85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900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95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995640" y="692280"/>
            <a:ext cx="73080" cy="3889080"/>
          </a:xfrm>
          <a:prstGeom prst="downArrow">
            <a:avLst>
              <a:gd name="adj1" fmla="val 50000"/>
              <a:gd name="adj2" fmla="val 1330419"/>
            </a:avLst>
          </a:prstGeom>
          <a:solidFill>
            <a:srgbClr val="3333ff"/>
          </a:solidFill>
          <a:ln w="442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566880" y="4724280"/>
            <a:ext cx="9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1 го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870680" y="472428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65-70 ле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68360" y="692280"/>
            <a:ext cx="0" cy="3889080"/>
          </a:xfrm>
          <a:prstGeom prst="line">
            <a:avLst/>
          </a:prstGeom>
          <a:ln w="4752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240" y="472428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5 ле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50920" y="4653000"/>
            <a:ext cx="86709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700360" y="692280"/>
            <a:ext cx="0" cy="3889080"/>
          </a:xfrm>
          <a:prstGeom prst="line">
            <a:avLst/>
          </a:prstGeom>
          <a:ln w="4140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92720" y="692280"/>
            <a:ext cx="0" cy="3889080"/>
          </a:xfrm>
          <a:prstGeom prst="line">
            <a:avLst/>
          </a:prstGeom>
          <a:ln w="4140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8604360" y="692280"/>
            <a:ext cx="23760" cy="3960720"/>
          </a:xfrm>
          <a:prstGeom prst="line">
            <a:avLst/>
          </a:prstGeom>
          <a:ln w="4140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09" name=""/>
          <p:cNvCxnSpPr/>
          <p:nvPr/>
        </p:nvCxnSpPr>
        <p:spPr>
          <a:xfrm>
            <a:off x="755640" y="1197000"/>
            <a:ext cx="321552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0" name=""/>
          <p:cNvCxnSpPr/>
          <p:nvPr/>
        </p:nvCxnSpPr>
        <p:spPr>
          <a:xfrm>
            <a:off x="2916000" y="1844280"/>
            <a:ext cx="232956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1" name=""/>
          <p:cNvCxnSpPr/>
          <p:nvPr/>
        </p:nvCxnSpPr>
        <p:spPr>
          <a:xfrm>
            <a:off x="5364000" y="1341000"/>
            <a:ext cx="3144240" cy="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12" name=""/>
          <p:cNvSpPr/>
          <p:nvPr/>
        </p:nvSpPr>
        <p:spPr>
          <a:xfrm>
            <a:off x="611280" y="765000"/>
            <a:ext cx="3308400" cy="32688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66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енопаузальный перехо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43280" y="1413000"/>
            <a:ext cx="2394000" cy="36828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66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ерименопауз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35640" y="836640"/>
            <a:ext cx="2836800" cy="36828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66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стменопауз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2800" y="2060640"/>
            <a:ext cx="8701200" cy="720720"/>
          </a:xfrm>
          <a:prstGeom prst="flowChartDecision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Климактерический синдр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rot="16200000">
            <a:off x="5064120" y="-87120"/>
            <a:ext cx="604800" cy="64850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рогенитальная атроф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rot="16200000">
            <a:off x="5022000" y="746280"/>
            <a:ext cx="718920" cy="651528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теопоро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332000" y="5084640"/>
            <a:ext cx="6262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тимальное начало терапии – период «менопаузального переход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692360" y="5661000"/>
            <a:ext cx="525600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этот период частота и выраженност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лимактерическ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сстройств максималь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3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3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65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3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95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3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Климактерический период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Терап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1219320" y="22096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7200" y="1925640"/>
            <a:ext cx="8686800" cy="49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     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е медикаментозная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блюдение режима дня, занятия  спортом,   рациональное     питание, ЛФК, санаторное лечение; физиолеч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Медикаментозная: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Е ВЛИЯЮЩАЯ  НА ЭСТРОГЕННЫЕ РЕЦЕПТО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идепрессанты, седативные средства, витамин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икроэлемен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ЛИЯЮЩАЯ  НА ЭСТРОГЕННЫЕ РЕЦЕПТОР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ормональная (ЗГТ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егормональ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то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M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лимадинон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меопатические сре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6699"/>
                </a:solidFill>
                <a:latin typeface="Arial"/>
              </a:rPr>
              <a:t>Проблема заболеваемости женщин в климактерическом периоде</a:t>
            </a:r>
            <a:endParaRPr b="0" lang="en-US" sz="2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1052640"/>
            <a:ext cx="8785080" cy="4464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4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4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о 85 % женщин страдают от типичных климактерическ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расстройст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4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о 78 % женщин испытывают приливы жар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4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Около 50 % женщин страдают от депрессивных     расстройст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нервозности, раздражительности, бессонниц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ослабления памя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14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Около 50% женщин имеют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артериальную гипертензи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и ишемическую болезнь сердц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8360" y="5589720"/>
            <a:ext cx="8351640" cy="16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Качество жизни у многих женщин значительно снижается в климактерическом период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МЕДИКАМЕНТОЗНАЯ НЕГОРМОНАЛЬНАЯ ТЕРА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066320" y="1125000"/>
            <a:ext cx="75438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мпатолитик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езерп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 ¼ табл. 1-2 раза в де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дреноблокатор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бзида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 1 /4 таблетки 2-3 раза в ден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тугеро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 25 мг 3 раза в де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реобладании парасимпатических реакций показаны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астойка белладон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 5 - 10 капель в день, антигистаминные препараты: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авеги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1 мг или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упраст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 0,25 мг 1 - 2 раза в де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рмозящее действие на вегетативную и эмоциональную возбудимость оказываю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беллоид и беллатамина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2-3 таблетки в день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итамины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1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B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6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ствуют нормализации изменений гомеост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сихоэмоциональных расстройствах показаны нейротропные средства -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азепа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0,01 г 1 - 3 раза в день), при выраженных расстройствах -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френоло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2,5 мг 1 - 2 раза в день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комендуются также психотропные стимуляторы -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оотропил, церебролизин, аминало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ОКАЗАНИЯ К  ЗГТ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ливы жара, ночные п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прессии, нарушения с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спаурения, сухость во влагалищ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енное мочеиспускание, дизу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ержание мо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Б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теопоро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5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500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4" dur="500"/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7" dur="500"/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500"/>
                                        <p:tgtEl>
                                          <p:spTgt spid="7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500"/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РЕПАРАТЫ ЗГ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бинированные эстрогенгестагенные препараты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микрогинон, фемоден, ановла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родные эстрогены: эстрадиола валерат, микронизированный эстрадиол; конъюгированные эстрогены: эстрона сульфат, эквилины; эстриол и его дериват - экстриола сукцин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родные или синтетические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естагены: медроксипрогестерон, прогестерона ацетат, ципротерона ацетат, норгестрел, левонор-гестрел, норэтистерона ацетат и новое поколение прогестагенов - дезогестрел, гестоден, норгестимат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ОБСЛЕДОВАНИЕ ПЕРЕД НАЗНАЧЕНИЕМ ЗГ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мн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тивопоказ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ование состояния гениталий (УЗИ), молочных жел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зки на онкоцитоло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Д, рост, масса т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агулограм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лестерин кро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2" dur="5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4" dur="500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7" dur="500"/>
                                        <p:tgtEl>
                                          <p:spTgt spid="7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ротивопоказания для назначения ЗГ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3743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800000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галищное кровотечение неясного генез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800000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трое тяжелое заболевание печен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800000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трый тромбоз глубоких ве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800000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трое тромбоэмболическое заболева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800000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к молочной железы (в настоящем; если в анамнезе, то возможны исключения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800000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к эндометрия (в настоящем; если в анамнезе, то возможны исключения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800000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дометриоз (противопоказана монотерапия эстрогенам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800000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рожденные заболевания, связанные с обменом липидов – гипертриглицеридем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651640" y="6237360"/>
            <a:ext cx="3097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.П.Сметник, Л.Г.Тумилович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«Неоперативная гинекология» 200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бочные эффекты ЗГ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250920" y="1628640"/>
          <a:ext cx="8447040" cy="4187880"/>
        </p:xfrm>
        <a:graphic>
          <a:graphicData uri="http://schemas.openxmlformats.org/drawingml/2006/table">
            <a:tbl>
              <a:tblPr/>
              <a:tblGrid>
                <a:gridCol w="3025800"/>
                <a:gridCol w="2735280"/>
                <a:gridCol w="268596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7b46d0"/>
                          </a:solidFill>
                          <a:latin typeface="Arial"/>
                        </a:rPr>
                        <a:t>Эстроге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b46d0"/>
                          </a:solidFill>
                          <a:latin typeface="Arial"/>
                        </a:rPr>
                        <a:t>Прогестаге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7b46d0"/>
                          </a:solidFill>
                          <a:latin typeface="Arial"/>
                        </a:rPr>
                        <a:t>Производные прогестер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7b46d0"/>
                          </a:solidFill>
                          <a:latin typeface="Arial"/>
                        </a:rPr>
                        <a:t>Производные 19-норстерои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</a:tr>
              <a:tr h="31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шно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стоз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величение массы те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ержка жидк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ловная боль, мигр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змы в мышцах ног и отеч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лестаз и холелитиа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ильное выделение цервикальной слиз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грубание молочных желе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хость во влагалищ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поменоре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нижение либид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сфор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абость, утомляем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рсутиз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н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боре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нижение тембра голо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вышение аппети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величение массы те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нижение ХС-ЛПВ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137440" cy="115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лимадинон</a:t>
            </a:r>
            <a:r>
              <a:rPr b="1" lang="ru-RU" sz="4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</a:t>
            </a:r>
            <a:br>
              <a:rPr sz="4000"/>
            </a:b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 Состав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15760" y="1744560"/>
            <a:ext cx="7708680" cy="42544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1 таблетка, покрытая оболочкой содержи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 мг сухого экстракта корневища цимицифуги, что соответствует 20 мг высушенного лекарственного растительного сыр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100 г раствора содержа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2 г жидкого экстракта корневища цимицифуги, что эквивалентно 2,4 г высушенного лекарственного растительного сыр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одержание этанола:  35,0 – 40,0 %                                             (в объемном отношени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250920" y="1268280"/>
            <a:ext cx="8569080" cy="1656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Специальный экстракт BNO 1055, входящий в состав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лимадинона</a:t>
            </a:r>
            <a:r>
              <a:rPr b="1" lang="ru-RU" sz="2000" spc="-1" strike="noStrike" baseline="30000">
                <a:solidFill>
                  <a:srgbClr val="800000"/>
                </a:solidFill>
                <a:latin typeface="Symbol"/>
                <a:ea typeface="Symbol"/>
              </a:rPr>
              <a:t>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содержит высокоспецифичные и органоселективные фитоэстроген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(«Фито-СЭРМ»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– селективный эстроген-рецепторный модулятор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40360" y="3068640"/>
            <a:ext cx="144360" cy="865080"/>
          </a:xfrm>
          <a:prstGeom prst="downArrow">
            <a:avLst>
              <a:gd name="adj1" fmla="val 50000"/>
              <a:gd name="adj2" fmla="val 149813"/>
            </a:avLst>
          </a:prstGeom>
          <a:solidFill>
            <a:srgbClr val="cc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9280" y="4149720"/>
            <a:ext cx="8713800" cy="1727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Экстракт цимицифуги BNO 1055 селективно связываетс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с эстрогеновыми рецепторами ЦНС, костей, яичник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не воздействуя при этом на матку и не стимулируя рост эндометр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Климадинон</a:t>
            </a:r>
            <a:r>
              <a:rPr b="1" lang="ru-RU" sz="44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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лимадинон</a:t>
            </a:r>
            <a:r>
              <a:rPr b="1" lang="ru-RU" sz="4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</a:t>
            </a:r>
            <a:br>
              <a:rPr sz="3600"/>
            </a:br>
            <a:r>
              <a:rPr b="0" lang="ru-RU" sz="3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Показания для примен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136000" cy="31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гетативно-сосудистые и психические нарушения в период пре-, мено- и постменопаузы («приливы»,    повышенная потливость, головокружение, головные боли, нарушение сна, повышенная возбудимость,  изменения настроения, апатия, сердцебиение и др.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5164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имадинон</a:t>
            </a:r>
            <a:r>
              <a:rPr b="1" lang="ru-RU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</a:t>
            </a:r>
            <a:br>
              <a:rPr sz="32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Дозировка и способ применения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743040" y="1888920"/>
            <a:ext cx="77738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30 капель 2 раза в ден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1 таблетка 2 раза в д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Таблетк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имают не раскусывая,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с небольш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количеством во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апевтический эффект наступает постепенно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является приблизительно через 2 нед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Без консультаци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ача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лимадинон</a:t>
            </a:r>
            <a:r>
              <a:rPr b="0" lang="de-DE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леду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ять более 3 месяцев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лительность л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яется врач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533520" y="333360"/>
          <a:ext cx="8153280" cy="612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3360"/>
                    <a:ext cx="815328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Климадинон</a:t>
            </a:r>
            <a:r>
              <a:rPr b="1" lang="ru-RU" sz="44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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23640" y="1828800"/>
            <a:ext cx="8134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Побочное действ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редких случаях возможны боли в верхней половине живо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зможны аллергические реакции к компонентам препар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95280" y="3213000"/>
            <a:ext cx="806436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Противопоказа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дивидуальная повышенная чувствительность 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мпонентам препарат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мадинон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не следует применять для лечения пациентов с эстрогенозависимыми опухол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твор Климадинон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ельзя применять для лечения пациентов,страдающих алкоголизмом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(содержит этиловый спирт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961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Место Климадинона</a:t>
            </a:r>
            <a:r>
              <a:rPr b="1" lang="ru-RU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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в терапии климактерических расстройст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6708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лимактерический синдром легкой и средней степени тяж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егативное отношение к Г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тивопоказания к ЗГ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едстоящее оперативное лече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ериод обслед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евозможность консультации гинеколог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нкологические заболевания репродуктивных органов в анамнезе на любом этапе после оп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7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7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1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9280" y="404640"/>
            <a:ext cx="87854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парат Климадинон эффективен в лечении климактерического синдрома у женщин в перименопаузе и позволяет значительно уменьшить клинические проявления климактерического синдрома, за счет регрессии нейровегетативных и психоэмоциональных симптом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данным суточного мониторирования АД, под влиянием лечения препаратом Климадинон достоверно уменьшается нагрузка давлением на организм женщины, нормализуется циркадный ритм АД. Таким образом, препарат проявляет терапевтическую эффективность при лабильной АГ в перименопаузе и может быть использован в программе профилактики А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имадинон улучшает качество жизни у женщин в перименопаузе с климактерическим синдромом средней и тяжелой степени в сферах: психологической, уровня независимости, социальных взаимоотношений, общего качества жизни и состояния здоровья. Способствует улучшению сна и отдыха, возможностям для приобретения новой информации и навыков, трудоспособности, что является следствием полного отсутствия либо значительного уменьшения клинических проявлений климактерического синдрома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ые признаки терапевтической эффективности Климадинона определяются уже на 3-4- й неделе лечения, продолжительность курсового лечения в каждом конкретном случае индивидуальн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имадинон не содержит синтетических гормонов и пригоден для длительной терапии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187280" y="907920"/>
            <a:ext cx="549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91864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1763640" y="333360"/>
            <a:ext cx="62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БЛАГОДАР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ВНИМАНИЕ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3924360" y="2997360"/>
            <a:ext cx="5038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БЛАГОДАРЮ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З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ВНИМАНИЕ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2771640" y="5950080"/>
            <a:ext cx="597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Barret – Connor E., Groady K.A.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Сметник В.П.,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8360" y="333360"/>
            <a:ext cx="8209080" cy="525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имактерий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– естественный перио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жизни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женщин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днако высокая частота и тяже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имптомов дефицита половых гормон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начительно снижают качество жизн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 превращают это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ериод в своеобразную болезн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987640" y="1773360"/>
            <a:ext cx="1655640" cy="398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Менопауз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635280" y="2205000"/>
            <a:ext cx="316080" cy="3527640"/>
          </a:xfrm>
          <a:prstGeom prst="downArrow">
            <a:avLst>
              <a:gd name="adj1" fmla="val 50000"/>
              <a:gd name="adj2" fmla="val 279015"/>
            </a:avLst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04720" y="5805360"/>
            <a:ext cx="10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1 го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53440" y="3141720"/>
            <a:ext cx="8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 1 го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788000" y="2349360"/>
            <a:ext cx="0" cy="1295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32720" y="1916280"/>
            <a:ext cx="0" cy="3528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95640" y="3860640"/>
            <a:ext cx="2592360" cy="628920"/>
          </a:xfrm>
          <a:prstGeom prst="leftRightArrow">
            <a:avLst>
              <a:gd name="adj1" fmla="val 50000"/>
              <a:gd name="adj2" fmla="val 82057"/>
            </a:avLst>
          </a:prstGeom>
          <a:gradFill rotWithShape="0">
            <a:gsLst>
              <a:gs pos="0">
                <a:srgbClr val="ffff66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Постменопауз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476360" y="3789360"/>
            <a:ext cx="2087640" cy="900000"/>
          </a:xfrm>
          <a:prstGeom prst="leftRightArrow">
            <a:avLst>
              <a:gd name="adj1" fmla="val 50000"/>
              <a:gd name="adj2" fmla="val 46177"/>
            </a:avLst>
          </a:prstGeom>
          <a:gradFill rotWithShape="0">
            <a:gsLst>
              <a:gs pos="0">
                <a:srgbClr val="ffff66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Менопаузальны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перехо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69800" y="5373720"/>
            <a:ext cx="14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5-70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32720" y="4005360"/>
            <a:ext cx="2195280" cy="485640"/>
          </a:xfrm>
          <a:prstGeom prst="leftRightArrow">
            <a:avLst>
              <a:gd name="adj1" fmla="val 50000"/>
              <a:gd name="adj2" fmla="val 89989"/>
            </a:avLst>
          </a:prstGeom>
          <a:gradFill rotWithShape="0">
            <a:gsLst>
              <a:gs pos="0">
                <a:srgbClr val="ffff66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Стар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32000" y="2060640"/>
            <a:ext cx="0" cy="352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29080" y="5589720"/>
            <a:ext cx="10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5 л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56000" y="2421000"/>
            <a:ext cx="2160360" cy="600120"/>
          </a:xfrm>
          <a:prstGeom prst="leftRightArrow">
            <a:avLst>
              <a:gd name="adj1" fmla="val 50000"/>
              <a:gd name="adj2" fmla="val 71664"/>
            </a:avLst>
          </a:prstGeom>
          <a:gradFill rotWithShape="0">
            <a:gsLst>
              <a:gs pos="0">
                <a:srgbClr val="ffff66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Перименопауз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0920" y="3716280"/>
            <a:ext cx="86724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3284640"/>
            <a:ext cx="1332000" cy="957240"/>
          </a:xfrm>
          <a:prstGeom prst="leftRightArrow">
            <a:avLst>
              <a:gd name="adj1" fmla="val 50000"/>
              <a:gd name="adj2" fmla="val 27701"/>
            </a:avLst>
          </a:prstGeom>
          <a:gradFill rotWithShape="0">
            <a:gsLst>
              <a:gs pos="0">
                <a:srgbClr val="ffff66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Фертильны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перио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484360" y="2349360"/>
            <a:ext cx="0" cy="1295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411280" y="3068640"/>
            <a:ext cx="117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 1,5 – 2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о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2" name=""/>
          <p:cNvCxnSpPr/>
          <p:nvPr/>
        </p:nvCxnSpPr>
        <p:spPr>
          <a:xfrm flipV="1">
            <a:off x="3995280" y="4580640"/>
            <a:ext cx="2521800" cy="39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5219640" y="4724280"/>
            <a:ext cx="0" cy="79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95640" y="4797360"/>
            <a:ext cx="11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 – 5 ле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97800" y="5084640"/>
            <a:ext cx="96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нняя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95600" y="486900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здня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5640" y="1052640"/>
            <a:ext cx="68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0920" y="1197000"/>
            <a:ext cx="863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есмотр Совета обществ по изучению менопаузы (СОИМ) при Международной ассоциации по менопаузе, 1999, Иокогама, Япо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03280" y="333360"/>
            <a:ext cx="648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ериоды климактер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"/>
          <p:cNvGraphicFramePr/>
          <p:nvPr/>
        </p:nvGraphicFramePr>
        <p:xfrm>
          <a:off x="0" y="1628640"/>
          <a:ext cx="7211880" cy="50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7211880" cy="50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/>
          <p:cNvSpPr/>
          <p:nvPr/>
        </p:nvSpPr>
        <p:spPr>
          <a:xfrm>
            <a:off x="1116000" y="2276640"/>
            <a:ext cx="5402160" cy="2808000"/>
          </a:xfrm>
          <a:custGeom>
            <a:avLst/>
            <a:gdLst/>
            <a:ahLst/>
            <a:rect l="l" t="t" r="r" b="b"/>
            <a:pathLst>
              <a:path w="3402" h="1837">
                <a:moveTo>
                  <a:pt x="0" y="0"/>
                </a:moveTo>
                <a:cubicBezTo>
                  <a:pt x="272" y="19"/>
                  <a:pt x="545" y="38"/>
                  <a:pt x="817" y="227"/>
                </a:cubicBezTo>
                <a:cubicBezTo>
                  <a:pt x="1089" y="416"/>
                  <a:pt x="1376" y="884"/>
                  <a:pt x="1633" y="1134"/>
                </a:cubicBezTo>
                <a:cubicBezTo>
                  <a:pt x="1890" y="1384"/>
                  <a:pt x="2064" y="1611"/>
                  <a:pt x="2359" y="1724"/>
                </a:cubicBezTo>
                <a:cubicBezTo>
                  <a:pt x="2654" y="1837"/>
                  <a:pt x="3221" y="1807"/>
                  <a:pt x="3402" y="181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42920" y="2276640"/>
            <a:ext cx="5329440" cy="2352600"/>
          </a:xfrm>
          <a:custGeom>
            <a:avLst/>
            <a:gdLst/>
            <a:ahLst/>
            <a:rect l="l" t="t" r="r" b="b"/>
            <a:pathLst>
              <a:path w="3357" h="1482">
                <a:moveTo>
                  <a:pt x="0" y="461"/>
                </a:moveTo>
                <a:cubicBezTo>
                  <a:pt x="193" y="230"/>
                  <a:pt x="386" y="0"/>
                  <a:pt x="590" y="98"/>
                </a:cubicBezTo>
                <a:cubicBezTo>
                  <a:pt x="794" y="196"/>
                  <a:pt x="1013" y="832"/>
                  <a:pt x="1225" y="1051"/>
                </a:cubicBezTo>
                <a:cubicBezTo>
                  <a:pt x="1437" y="1270"/>
                  <a:pt x="1505" y="1346"/>
                  <a:pt x="1860" y="1414"/>
                </a:cubicBezTo>
                <a:cubicBezTo>
                  <a:pt x="2215" y="1482"/>
                  <a:pt x="3115" y="1444"/>
                  <a:pt x="3357" y="1459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116000" y="1916280"/>
            <a:ext cx="5329080" cy="2557440"/>
          </a:xfrm>
          <a:custGeom>
            <a:avLst/>
            <a:gdLst/>
            <a:ahLst/>
            <a:rect l="l" t="t" r="r" b="b"/>
            <a:pathLst>
              <a:path w="3357" h="1611">
                <a:moveTo>
                  <a:pt x="0" y="1611"/>
                </a:moveTo>
                <a:cubicBezTo>
                  <a:pt x="306" y="1418"/>
                  <a:pt x="613" y="1225"/>
                  <a:pt x="817" y="1021"/>
                </a:cubicBezTo>
                <a:cubicBezTo>
                  <a:pt x="1021" y="817"/>
                  <a:pt x="1021" y="552"/>
                  <a:pt x="1225" y="386"/>
                </a:cubicBezTo>
                <a:cubicBezTo>
                  <a:pt x="1429" y="220"/>
                  <a:pt x="1837" y="46"/>
                  <a:pt x="2041" y="23"/>
                </a:cubicBezTo>
                <a:cubicBezTo>
                  <a:pt x="2245" y="0"/>
                  <a:pt x="2230" y="227"/>
                  <a:pt x="2449" y="250"/>
                </a:cubicBezTo>
                <a:cubicBezTo>
                  <a:pt x="2668" y="273"/>
                  <a:pt x="3206" y="121"/>
                  <a:pt x="3357" y="15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42920" y="4005360"/>
            <a:ext cx="5329440" cy="865080"/>
          </a:xfrm>
          <a:custGeom>
            <a:avLst/>
            <a:gdLst/>
            <a:ahLst/>
            <a:rect l="l" t="t" r="r" b="b"/>
            <a:pathLst>
              <a:path w="3357" h="545">
                <a:moveTo>
                  <a:pt x="0" y="514"/>
                </a:moveTo>
                <a:cubicBezTo>
                  <a:pt x="265" y="529"/>
                  <a:pt x="530" y="545"/>
                  <a:pt x="726" y="469"/>
                </a:cubicBezTo>
                <a:cubicBezTo>
                  <a:pt x="922" y="393"/>
                  <a:pt x="1028" y="120"/>
                  <a:pt x="1179" y="60"/>
                </a:cubicBezTo>
                <a:cubicBezTo>
                  <a:pt x="1330" y="0"/>
                  <a:pt x="1270" y="91"/>
                  <a:pt x="1633" y="106"/>
                </a:cubicBezTo>
                <a:cubicBezTo>
                  <a:pt x="1996" y="121"/>
                  <a:pt x="3153" y="151"/>
                  <a:pt x="3357" y="151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372360" y="494172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Эстроген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301440" y="450864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Эстр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45080" y="407664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Л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73440" y="213372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ФС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229440" y="59500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5280" y="476280"/>
            <a:ext cx="8001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намика уровней гормонов в климактерическом период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643280" y="6508800"/>
            <a:ext cx="4105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Кулаков В.И., Сметнк В.П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«Руководство по климактерию», 2001, Моск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2504880" cy="49086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324000" y="333360"/>
            <a:ext cx="85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рганы, содержащие эстрогеновые рецепто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7920" y="134136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Репродуктив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649840" y="141300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Не репродуктив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59600" y="162864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ипоталаму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гипофи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28720" y="2492280"/>
            <a:ext cx="13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лоч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желез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119600" y="364500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атка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ичн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375600" y="170028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оз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300720" y="2708280"/>
            <a:ext cx="259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ердечно-сосудиста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исте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86880" y="328464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чен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04320" y="357336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олстый кишечни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654520" y="5445000"/>
            <a:ext cx="112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ожа и е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идатк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71240" y="4941720"/>
            <a:ext cx="2006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остно-мышечна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исте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411280" y="1844640"/>
            <a:ext cx="1550880" cy="142920"/>
            <a:chOff x="2411280" y="1844640"/>
            <a:chExt cx="1550880" cy="142920"/>
          </a:xfrm>
        </p:grpSpPr>
        <p:sp>
          <p:nvSpPr>
            <p:cNvPr id="547" name=""/>
            <p:cNvSpPr/>
            <p:nvPr/>
          </p:nvSpPr>
          <p:spPr>
            <a:xfrm>
              <a:off x="2411280" y="184464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98560" y="184464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85840" y="184464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74920" y="184464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62200" y="1844640"/>
              <a:ext cx="399960" cy="1270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411280" y="2781360"/>
            <a:ext cx="1550880" cy="142920"/>
            <a:chOff x="2411280" y="2781360"/>
            <a:chExt cx="1550880" cy="142920"/>
          </a:xfrm>
        </p:grpSpPr>
        <p:sp>
          <p:nvSpPr>
            <p:cNvPr id="553" name=""/>
            <p:cNvSpPr/>
            <p:nvPr/>
          </p:nvSpPr>
          <p:spPr>
            <a:xfrm>
              <a:off x="2411280" y="278136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98560" y="278136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85840" y="278136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74920" y="278136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562200" y="2781360"/>
              <a:ext cx="399960" cy="1270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2340000" y="3933720"/>
            <a:ext cx="1549080" cy="142920"/>
            <a:chOff x="2340000" y="3933720"/>
            <a:chExt cx="1549080" cy="142920"/>
          </a:xfrm>
        </p:grpSpPr>
        <p:sp>
          <p:nvSpPr>
            <p:cNvPr id="559" name=""/>
            <p:cNvSpPr/>
            <p:nvPr/>
          </p:nvSpPr>
          <p:spPr>
            <a:xfrm>
              <a:off x="2340000" y="3933720"/>
              <a:ext cx="1425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626920" y="3933720"/>
              <a:ext cx="1425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13840" y="3933720"/>
              <a:ext cx="1425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02560" y="3933720"/>
              <a:ext cx="1425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489840" y="3933720"/>
              <a:ext cx="399240" cy="12708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140360" y="3644640"/>
            <a:ext cx="2160000" cy="142920"/>
            <a:chOff x="4140360" y="3644640"/>
            <a:chExt cx="2160000" cy="142920"/>
          </a:xfrm>
        </p:grpSpPr>
        <p:sp>
          <p:nvSpPr>
            <p:cNvPr id="565" name=""/>
            <p:cNvSpPr/>
            <p:nvPr/>
          </p:nvSpPr>
          <p:spPr>
            <a:xfrm rot="10800000">
              <a:off x="5765400" y="3644640"/>
              <a:ext cx="16488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0800000">
              <a:off x="5433840" y="3644640"/>
              <a:ext cx="16488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0800000">
              <a:off x="5102280" y="3644640"/>
              <a:ext cx="16488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0800000">
              <a:off x="4768560" y="3644640"/>
              <a:ext cx="16488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0800000">
              <a:off x="4140360" y="3660480"/>
              <a:ext cx="461520" cy="127080"/>
            </a:xfrm>
            <a:custGeom>
              <a:avLst/>
              <a:gdLst>
                <a:gd name="textAreaLeft" fmla="*/ 0 w 461520"/>
                <a:gd name="textAreaRight" fmla="*/ 461880 w 4615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0800000">
              <a:off x="6135480" y="3644640"/>
              <a:ext cx="16488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5148000" y="5949720"/>
            <a:ext cx="1263600" cy="142920"/>
            <a:chOff x="5148000" y="5949720"/>
            <a:chExt cx="1263600" cy="142920"/>
          </a:xfrm>
        </p:grpSpPr>
        <p:sp>
          <p:nvSpPr>
            <p:cNvPr id="572" name=""/>
            <p:cNvSpPr/>
            <p:nvPr/>
          </p:nvSpPr>
          <p:spPr>
            <a:xfrm rot="10800000">
              <a:off x="6268680" y="594972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10800000">
              <a:off x="5981400" y="594972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10800000">
              <a:off x="5692320" y="594972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0800000">
              <a:off x="5148000" y="5965560"/>
              <a:ext cx="399960" cy="1270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4140000" y="3428640"/>
            <a:ext cx="1871640" cy="142920"/>
            <a:chOff x="4140000" y="3428640"/>
            <a:chExt cx="1871640" cy="142920"/>
          </a:xfrm>
        </p:grpSpPr>
        <p:sp>
          <p:nvSpPr>
            <p:cNvPr id="577" name=""/>
            <p:cNvSpPr/>
            <p:nvPr/>
          </p:nvSpPr>
          <p:spPr>
            <a:xfrm rot="10800000">
              <a:off x="5547960" y="342864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0800000">
              <a:off x="5260680" y="342864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0800000">
              <a:off x="4973400" y="342864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0800000">
              <a:off x="4684320" y="342864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0800000">
              <a:off x="4140000" y="3444480"/>
              <a:ext cx="399960" cy="1270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10800000">
              <a:off x="5868720" y="342864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4642920" y="5013000"/>
            <a:ext cx="1263600" cy="142920"/>
            <a:chOff x="4642920" y="5013000"/>
            <a:chExt cx="1263600" cy="142920"/>
          </a:xfrm>
        </p:grpSpPr>
        <p:sp>
          <p:nvSpPr>
            <p:cNvPr id="584" name=""/>
            <p:cNvSpPr/>
            <p:nvPr/>
          </p:nvSpPr>
          <p:spPr>
            <a:xfrm rot="10800000">
              <a:off x="5763600" y="501300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0800000">
              <a:off x="5476320" y="501300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0800000">
              <a:off x="5187240" y="501300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0800000">
              <a:off x="4642920" y="5028840"/>
              <a:ext cx="399960" cy="1270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4211280" y="1844640"/>
            <a:ext cx="1869840" cy="144000"/>
            <a:chOff x="4211280" y="1844640"/>
            <a:chExt cx="1869840" cy="144000"/>
          </a:xfrm>
        </p:grpSpPr>
        <p:sp>
          <p:nvSpPr>
            <p:cNvPr id="589" name=""/>
            <p:cNvSpPr/>
            <p:nvPr/>
          </p:nvSpPr>
          <p:spPr>
            <a:xfrm rot="10800000">
              <a:off x="5618520" y="1844640"/>
              <a:ext cx="142560" cy="1425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0800000">
              <a:off x="5331600" y="1845720"/>
              <a:ext cx="14256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0800000">
              <a:off x="5044320" y="1845720"/>
              <a:ext cx="14220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0800000">
              <a:off x="4755600" y="1845720"/>
              <a:ext cx="14256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0800000">
              <a:off x="4211280" y="1861560"/>
              <a:ext cx="399960" cy="1270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0800000">
              <a:off x="5938920" y="1845720"/>
              <a:ext cx="14220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56000" y="2923920"/>
            <a:ext cx="1796760" cy="144360"/>
            <a:chOff x="4356000" y="2923920"/>
            <a:chExt cx="1796760" cy="144360"/>
          </a:xfrm>
        </p:grpSpPr>
        <p:sp>
          <p:nvSpPr>
            <p:cNvPr id="596" name=""/>
            <p:cNvSpPr/>
            <p:nvPr/>
          </p:nvSpPr>
          <p:spPr>
            <a:xfrm rot="10800000">
              <a:off x="5762520" y="2923920"/>
              <a:ext cx="14220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0800000">
              <a:off x="5475600" y="2923920"/>
              <a:ext cx="14256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0800000">
              <a:off x="5188680" y="2923920"/>
              <a:ext cx="14256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0800000">
              <a:off x="4899960" y="2923920"/>
              <a:ext cx="14256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0800000">
              <a:off x="4356000" y="2939760"/>
              <a:ext cx="399600" cy="12708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0800000">
              <a:off x="6010200" y="2925360"/>
              <a:ext cx="14256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0" y="5157720"/>
            <a:ext cx="27716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.П.Сметник, Л.Г.Тумилович «Неоперативная гинекология» 2003, Моск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1600" y="4149720"/>
            <a:ext cx="1870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уретра 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очевой пузыр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138920" y="3895920"/>
            <a:ext cx="1945080" cy="378360"/>
            <a:chOff x="4138920" y="3895920"/>
            <a:chExt cx="1945080" cy="378360"/>
          </a:xfrm>
        </p:grpSpPr>
        <p:sp>
          <p:nvSpPr>
            <p:cNvPr id="605" name=""/>
            <p:cNvSpPr/>
            <p:nvPr/>
          </p:nvSpPr>
          <p:spPr>
            <a:xfrm rot="11246400">
              <a:off x="5596560" y="4078440"/>
              <a:ext cx="148320" cy="1440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1246400">
              <a:off x="5301000" y="4039920"/>
              <a:ext cx="148320" cy="1440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1246400">
              <a:off x="5005440" y="4001040"/>
              <a:ext cx="148320" cy="1440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1246400">
              <a:off x="4707720" y="3962520"/>
              <a:ext cx="148320" cy="1440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1246400">
              <a:off x="4145040" y="3921840"/>
              <a:ext cx="415080" cy="128160"/>
            </a:xfrm>
            <a:custGeom>
              <a:avLst/>
              <a:gdLst>
                <a:gd name="textAreaLeft" fmla="*/ 0 w 415080"/>
                <a:gd name="textAreaRight" fmla="*/ 415440 w 41508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1246400">
              <a:off x="5926680" y="4121280"/>
              <a:ext cx="148320" cy="1440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500"/>
                            </p:stCondLst>
                            <p:childTnLst>
                              <p:par>
                                <p:cTn id="1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5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500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272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йроэндокринная дисфункция гипоталамуса в менопаузе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0920" y="1914480"/>
            <a:ext cx="3959280" cy="57636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Symbol"/>
                <a:ea typeface="Symbol"/>
              </a:rPr>
              <a:t>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в-эндорфиновой актив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9280" y="3645000"/>
            <a:ext cx="2305080" cy="43164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норадренал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71640" y="3645000"/>
            <a:ext cx="2162160" cy="43164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Symbol"/>
                <a:ea typeface="Symbol"/>
              </a:rPr>
              <a:t>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допам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5280" y="4581360"/>
            <a:ext cx="3745080" cy="86364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изменение терморегуля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156360" y="2421000"/>
            <a:ext cx="2374920" cy="43164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прилив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227640" y="3213000"/>
            <a:ext cx="2374920" cy="43200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гипергидро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56360" y="3860640"/>
            <a:ext cx="2374920" cy="43200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гипертенз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227640" y="4653000"/>
            <a:ext cx="2374920" cy="43164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ожир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1258920" y="2637000"/>
            <a:ext cx="574560" cy="93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71640" y="2637000"/>
            <a:ext cx="576360" cy="86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867280" y="2060640"/>
            <a:ext cx="217440" cy="3598920"/>
          </a:xfrm>
          <a:custGeom>
            <a:avLst/>
            <a:gdLst>
              <a:gd name="textAreaLeft" fmla="*/ 63720 w 217440"/>
              <a:gd name="textAreaRight" fmla="*/ 217800 w 217440"/>
              <a:gd name="textAreaTop" fmla="*/ 149760 h 3598920"/>
              <a:gd name="textAreaBottom" fmla="*/ 3449160 h 359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84720" y="2276640"/>
            <a:ext cx="129528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4284720" y="4221000"/>
            <a:ext cx="1439640" cy="9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076720" y="393372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27640" y="64911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08720" y="623736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.R.Genazzani,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820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ейроэндокринная дисфункция лимбической системы в менопаузе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95280" y="3429000"/>
            <a:ext cx="3168720" cy="64764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норадренал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95280" y="2205000"/>
            <a:ext cx="3168720" cy="72072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Symbol"/>
                <a:ea typeface="Symbol"/>
              </a:rPr>
              <a:t>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еротон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780000" y="2565360"/>
            <a:ext cx="180000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3708360" y="4076640"/>
            <a:ext cx="1871640" cy="866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780000" y="3789360"/>
            <a:ext cx="180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27640" y="64911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364000" y="6093000"/>
            <a:ext cx="33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.R.Genazzani,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5280" y="4508640"/>
            <a:ext cx="3168720" cy="72072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Symbol"/>
                <a:ea typeface="Symbol"/>
              </a:rPr>
              <a:t>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допам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24360" y="2133720"/>
            <a:ext cx="3238560" cy="324000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6a0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изменение настро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и привыч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возбудим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депресс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бессонниц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головная бол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(мигрень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снижение когнитив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функц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5:31:52Z</dcterms:created>
  <dc:creator>Alex Arestov</dc:creator>
  <dc:description/>
  <dc:language>en-US</dc:language>
  <cp:lastModifiedBy>Your User Name</cp:lastModifiedBy>
  <dcterms:modified xsi:type="dcterms:W3CDTF">2008-12-23T10:11:40Z</dcterms:modified>
  <cp:revision>10</cp:revision>
  <dc:subject/>
  <dc:title>Презентация PowerPoint</dc:title>
</cp:coreProperties>
</file>