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029C-3F37-4F73-9C23-C78682C97C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542-8033-46AD-B91A-B7656F56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68A-BE3D-4370-93AB-AE2B2DCA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BD4-2EB3-49E2-969B-63071D2B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1EC-4F2D-4C8E-BADE-D67F0BD6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977-07CC-4C93-86E0-A9EDA5B0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DA9-86AA-4843-B8EC-C5BF0D51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9EE-BB01-45E5-B442-1C4DCAF6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96C-67BF-48F8-83A7-02061DEC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71E5-D533-485C-89CC-5FD16DD7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7E9-A6DF-435D-AD34-EC57A566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45B-9FC4-4E5A-B5C9-AC4F4539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08C-5497-428D-A6D2-30CF4973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EF55-40DE-4175-BF3F-D5B89CB5B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cburevestnik.ru/?p=38" TargetMode="External"/><Relationship Id="rId3" Type="http://schemas.openxmlformats.org/officeDocument/2006/relationships/hyperlink" Target="http://fcburevestnik.ru/?p=38" TargetMode="External"/><Relationship Id="rId4" Type="http://schemas.openxmlformats.org/officeDocument/2006/relationships/hyperlink" Target="http://fcburevestnik.ru/?p=38" TargetMode="External"/><Relationship Id="rId5" Type="http://schemas.openxmlformats.org/officeDocument/2006/relationships/hyperlink" Target="http://fcburevestnik.ru/?p=38" TargetMode="Externa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тание гранаты с разбега на дальность, с места в ц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3429000"/>
            <a:ext cx="609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читель физической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ихайлин Антон Геннад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ОУ СОШ №4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57200" y="274680"/>
          <a:ext cx="8229600" cy="6448320"/>
        </p:xfrm>
        <a:graphic>
          <a:graphicData uri="http://schemas.openxmlformats.org/drawingml/2006/table">
            <a:tbl>
              <a:tblPr/>
              <a:tblGrid>
                <a:gridCol w="4038480"/>
                <a:gridCol w="2133720"/>
                <a:gridCol w="2057400"/>
              </a:tblGrid>
              <a:tr h="35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вытянуты вперёд на уровне груд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мах правой ногой, стопой достать левую кисть ру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мах левой ногой, стопой достать правую кисть ру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а прямая, мах интенсивный, руки не опуск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на пояс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исесть руки вперёд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ед полны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57200" y="274680"/>
          <a:ext cx="8229600" cy="6616800"/>
        </p:xfrm>
        <a:graphic>
          <a:graphicData uri="http://schemas.openxmlformats.org/drawingml/2006/table">
            <a:tbl>
              <a:tblPr/>
              <a:tblGrid>
                <a:gridCol w="4876920"/>
                <a:gridCol w="1523880"/>
                <a:gridCol w="1828800"/>
              </a:tblGrid>
              <a:tr h="33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на пояс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огнуться назад руки  верх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аклониться вперёд руки вниз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исесть руки вперёд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уться сильне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руки на поясе большие пальцы вперёд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 вращаем тазом вправо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8 вращаем тазом вле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прямо, вращать только таз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274680"/>
          <a:ext cx="8229600" cy="5322960"/>
        </p:xfrm>
        <a:graphic>
          <a:graphicData uri="http://schemas.openxmlformats.org/drawingml/2006/table">
            <a:tbl>
              <a:tblPr/>
              <a:tblGrid>
                <a:gridCol w="4343400"/>
                <a:gridCol w="2209680"/>
                <a:gridCol w="1676520"/>
              </a:tblGrid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выпад правой нагой, руки на коле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покачивани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мена положения но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на колено не опускать. Выпад глубок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выпад правой ногой, руки на колен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покачивани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разворот на 180* покачивание на левой ног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выполнять по команде учител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19051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274680"/>
          <a:ext cx="8229600" cy="6288120"/>
        </p:xfrm>
        <a:graphic>
          <a:graphicData uri="http://schemas.openxmlformats.org/drawingml/2006/table">
            <a:tbl>
              <a:tblPr/>
              <a:tblGrid>
                <a:gridCol w="4267080"/>
                <a:gridCol w="1219320"/>
                <a:gridCol w="2743200"/>
              </a:tblGrid>
              <a:tr h="30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руки на поясе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ыпад правой ногой, руки на колено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выпад левой ногой, руки на колено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прям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сед на левой ноге правая прямая в сторон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перекатиться на правую ногу, левая прямая в сторону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гивать мышцы бедр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038480"/>
                <a:gridCol w="2133720"/>
                <a:gridCol w="20574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, руки на пояс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ыжок ноги на ширине плеч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. Прыжки из полного присед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рыгивание вверх и подтягивание коленей к груд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жки выполнять на передней части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мягко, как можно вы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мление мяг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000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ая част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458200" cy="4836960"/>
        </p:xfrm>
        <a:graphic>
          <a:graphicData uri="http://schemas.openxmlformats.org/drawingml/2006/table">
            <a:tbl>
              <a:tblPr/>
              <a:tblGrid>
                <a:gridCol w="3681360"/>
                <a:gridCol w="1652760"/>
                <a:gridCol w="3124080"/>
              </a:tblGrid>
              <a:tr h="48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ьные беговые упражн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ое бедр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хлёст голен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аге, прыжки с ноги на ног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линг (шаг, прыжок в вер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коки (продвижение на передней части стопы вперёд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аждый шаг высоко поднимать колено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работают как при беге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выполняется коленом вперёд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выполнении помогаем рук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па к стопе и в верх с продвижением вперёд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495680"/>
                <a:gridCol w="1524240"/>
                <a:gridCol w="220968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ым боком приставными шаг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м боком приставными шаг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корени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20-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 20-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0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выполняется бок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быстр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6324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ание гранаты с разбега на дальность; с места в ц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600" cy="49816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274320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с четырех бросковых шаг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на технику с медленного разбега до контрольной отме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ь за скручиванием туловища вправо, не опускать вниз кисть с мячом; ритм бросковых шагов задает учите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28800" y="4419720"/>
            <a:ext cx="5486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267080"/>
                <a:gridCol w="1219320"/>
                <a:gridCol w="27432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бросковых шагов с разбега с акцентированием внимания на быстрое выполнение крестного шага («обгон снаряда»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 крестным шагом левым боком впере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ично выносить правую ногу вперед, туловище и плечевой пояс отстают от движения ног и та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76201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038480"/>
                <a:gridCol w="1447920"/>
                <a:gridCol w="27432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 на дальность с полного разбег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с места в ц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щать внимание на скручивание туловища впра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вверх – вдох, руки вниз – выдо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5410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Развитие силы, быстроты, лов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Содействовать развитию: внимания, памяти мышления в ходе двиг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Воспитание у учащихся навыков сознательного и активного отношения к учебному процес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87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ысить уровень физического развития и подготовленности учащихс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686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ключительная часть уро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457840" cy="4959360"/>
        </p:xfrm>
        <a:graphic>
          <a:graphicData uri="http://schemas.openxmlformats.org/drawingml/2006/table">
            <a:tbl>
              <a:tblPr/>
              <a:tblGrid>
                <a:gridCol w="4228920"/>
                <a:gridCol w="1488240"/>
                <a:gridCol w="2740680"/>
              </a:tblGrid>
              <a:tr h="49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я на восстановления дых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едение итогов уро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ее задание задавать индивидуально каждому учащему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вверх – вдох, руки вниз – выдо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ть ошибки, отметить лучши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ить на вопросы учащихс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cburevestnik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?p=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ьно бросать гара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rosatletika.ru/cont…Полусогнутая рука с гранатой- свободной двигается вперед-назад в та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lib.rushkolnik.ru/text/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а метания гра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tvoytrener.ru/foru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ги расставлены на ширину ст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o-nei.ru/effektivnye-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ражнение в... на вдохе правой ногой делаете резкий вы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bmsi.ru/doc/e2c21d25-df…Метание мяча на д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 урока:  практическое за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проведения: словесный, наглядный, игр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о проведения: спортивная площадка  школы № 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оведения: по распис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чество часов: 45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вентарь: свисток, секундомер,  мел, ру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готовительная часть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-13 ми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1676520"/>
          <a:ext cx="8763120" cy="5079960"/>
        </p:xfrm>
        <a:graphic>
          <a:graphicData uri="http://schemas.openxmlformats.org/drawingml/2006/table">
            <a:tbl>
              <a:tblPr/>
              <a:tblGrid>
                <a:gridCol w="3589560"/>
                <a:gridCol w="2252520"/>
                <a:gridCol w="29210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, приветствие,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ение задач урока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ьба: на носках, на пятках, на внешней и внутренней сторонах стопы, в полу приседе, в полном приседе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ленный бег по стадиону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ить стойку, наличие спортивной форм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ь за осанкой, спина прям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легко, свобод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19209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 (ОРУ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691160"/>
        </p:xfrm>
        <a:graphic>
          <a:graphicData uri="http://schemas.openxmlformats.org/drawingml/2006/table">
            <a:tbl>
              <a:tblPr/>
              <a:tblGrid>
                <a:gridCol w="4191120"/>
                <a:gridCol w="1295280"/>
                <a:gridCol w="2743200"/>
              </a:tblGrid>
              <a:tr h="22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, руки на поясе, разминаем мышцы шеи (наклоны, вращения головы)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литуда вращения полна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п. ноги на ширине плеч, руки перед грудь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рывки руками перед грудью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рывки прямыми руками в сторон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а прямая, локти не опуск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2819520"/>
            <a:ext cx="16765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274680"/>
          <a:ext cx="8229600" cy="6470640"/>
        </p:xfrm>
        <a:graphic>
          <a:graphicData uri="http://schemas.openxmlformats.org/drawingml/2006/table">
            <a:tbl>
              <a:tblPr/>
              <a:tblGrid>
                <a:gridCol w="3809880"/>
                <a:gridCol w="1676520"/>
                <a:gridCol w="2743200"/>
              </a:tblGrid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правая рука вверху, левая в низу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рывки руками назад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смена положения ру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к плечам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 круговые вращения руками вперёд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-7-8 круговые вращения наза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щения выполнять по полной амплитуд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 flipH="1">
            <a:off x="5866560" y="60804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ки прямые, рывки интенсив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1628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274680"/>
          <a:ext cx="8229600" cy="5648400"/>
        </p:xfrm>
        <a:graphic>
          <a:graphicData uri="http://schemas.openxmlformats.org/drawingml/2006/table">
            <a:tbl>
              <a:tblPr/>
              <a:tblGrid>
                <a:gridCol w="4419720"/>
                <a:gridCol w="1981080"/>
                <a:gridCol w="1828800"/>
              </a:tblGrid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опущены вдоль туловищ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 вращение прямыми руками в перёд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-7-8 вращение руками наза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дарьте друг друга. Руки прям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на пояс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 наклон вперёд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ни не сгиб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1905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74680"/>
          <a:ext cx="8229600" cy="6002280"/>
        </p:xfrm>
        <a:graphic>
          <a:graphicData uri="http://schemas.openxmlformats.org/drawingml/2006/table">
            <a:tbl>
              <a:tblPr/>
              <a:tblGrid>
                <a:gridCol w="5029200"/>
                <a:gridCol w="1143000"/>
                <a:gridCol w="205740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ноги вместе наклоны вперёд.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на ширине плеч, наклоны вперё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ак можно шире, наклоны вперё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цами рук дотянуться до п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донями дотянуться до п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тями дотянуться до пол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широкая стойка ноги врозь,      на каждый счёт касание кистью правой руки левой стопы и наоборот. «Мельниц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у согнуть в пояснице. Руки прямы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7:06:12Z</dcterms:created>
  <dc:creator>user</dc:creator>
  <dc:description/>
  <dc:language>en-US</dc:language>
  <cp:lastModifiedBy>user</cp:lastModifiedBy>
  <dcterms:modified xsi:type="dcterms:W3CDTF">2014-03-01T17:25:5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