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91F4-25AE-4268-AECE-ECBB1B7EA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FF6-A280-4E86-8C6D-6D19C4C0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21E-7405-47D1-AEB8-8179B92D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6F4-81D7-439F-8D65-ECDA4981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AE9-1885-4E26-AD2E-51519AAF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61A-2DD1-4B34-8C53-27C52008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504-8460-4662-9B34-5CB37652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B88-7B00-447C-A96B-FB95532C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10A-7000-4C53-9725-44C4547C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EE4-9DF1-4267-93A0-69292D35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2DC-677C-4BF4-86AD-92DBCFA2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C0E-9A39-4424-9FD8-0113C15B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29C-7409-45A5-A874-1C595F10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1C45-85A0-4235-AB6D-1C7A6FBDC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burevestnik.ru/?p=38" TargetMode="External"/><Relationship Id="rId3" Type="http://schemas.openxmlformats.org/officeDocument/2006/relationships/hyperlink" Target="http://fcburevestnik.ru/?p=38" TargetMode="External"/><Relationship Id="rId4" Type="http://schemas.openxmlformats.org/officeDocument/2006/relationships/hyperlink" Target="http://fcburevestnik.ru/?p=38" TargetMode="External"/><Relationship Id="rId5" Type="http://schemas.openxmlformats.org/officeDocument/2006/relationships/hyperlink" Target="http://fcburevestnik.ru/?p=38" TargetMode="Externa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, с места в ц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34290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ихайлин Антон Геннад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ОУ СОШ №4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274680"/>
          <a:ext cx="8229600" cy="644832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35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вытянуты вперёд на уровне груд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мах правой ногой, стопой достать ле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мах левой ногой, стопой достать пра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мах интенсивный, рук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исесть руки в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274680"/>
          <a:ext cx="8229600" cy="6616800"/>
        </p:xfrm>
        <a:graphic>
          <a:graphicData uri="http://schemas.openxmlformats.org/drawingml/2006/table">
            <a:tbl>
              <a:tblPr/>
              <a:tblGrid>
                <a:gridCol w="4876920"/>
                <a:gridCol w="1523880"/>
                <a:gridCol w="1828800"/>
              </a:tblGrid>
              <a:tr h="33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на пояс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огнуться назад руки  верх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аклониться вперёд руки вниз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сесть руки вперё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 большие пальцы вперёд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вращаем тазом вправ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274680"/>
          <a:ext cx="8229600" cy="5322960"/>
        </p:xfrm>
        <a:graphic>
          <a:graphicData uri="http://schemas.openxmlformats.org/drawingml/2006/table">
            <a:tbl>
              <a:tblPr/>
              <a:tblGrid>
                <a:gridCol w="4343400"/>
                <a:gridCol w="2209680"/>
                <a:gridCol w="1676520"/>
              </a:tblGrid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агой, руки на коле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ена положения но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на колено не опускать. Выпад глубок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огой, руки на коле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разворот на 180* покачивание на левой ног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ть по команде учител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19051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274680"/>
          <a:ext cx="8229600" cy="628812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30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ыпад правой ногой, руки на колено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выпад левой ногой, руки на колено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сед на левой ноге правая прямая в стор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перекатиться на правую ногу, левая прямая в сторону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ыжок ноги на ширине плеч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. Прыжки из полного присед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рыгивание вверх и подтягивание коленей к груд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мягко, как можно вы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мление мяг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000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ая част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458200" cy="4836960"/>
        </p:xfrm>
        <a:graphic>
          <a:graphicData uri="http://schemas.openxmlformats.org/drawingml/2006/table">
            <a:tbl>
              <a:tblPr/>
              <a:tblGrid>
                <a:gridCol w="3681360"/>
                <a:gridCol w="1652760"/>
                <a:gridCol w="3124080"/>
              </a:tblGrid>
              <a:tr h="48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ые беговые упражн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е бедр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хлёст голен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аге, прыжки с ноги на ног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линг (шаг, прыжок в вер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коки (продвижение на передней части стопы вперёд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работают как при беге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выполняется колено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ыполнении помогаем ру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па к стопе и в верх с продвижение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495680"/>
                <a:gridCol w="1524240"/>
                <a:gridCol w="220968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ени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0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ется бок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быстр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6324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; с места в 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49816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274320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четырех бросковых шаг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на технику с медленного разбега до контрольной отм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скручиванием туловища вправо, не опускать вниз кисть с мячом; ритм бросковых шагов задает учит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548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бросковых шагов с разбега с акцентированием внимания на быстрое выполнение крестного шага («обгон снаряда»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 крестным шагом левым боком впере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чно выносить правую ногу вперед, туловище и плечевой пояс отстают от движения ног и та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76201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14479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 на дальность с полного разбег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места в ц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ать внимание на скручивание туловища впра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5410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азвитие силы, быстроты, лов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87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86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ключительная часть уро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457840" cy="4959360"/>
        </p:xfrm>
        <a:graphic>
          <a:graphicData uri="http://schemas.openxmlformats.org/drawingml/2006/table">
            <a:tbl>
              <a:tblPr/>
              <a:tblGrid>
                <a:gridCol w="4228920"/>
                <a:gridCol w="1488240"/>
                <a:gridCol w="2740680"/>
              </a:tblGrid>
              <a:tr h="49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я на восстановления дых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ее задание задавать индивидуально каждому учащему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ть ошибки, отметить лучши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ить на вопросы учащихс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cburevestnik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?p=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ьно бросать гара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rosatletika.ru/cont…Полусогнутая рука с гранатой- свободной двигается вперед-назад в та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lib.rushkolnik.ru/text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метания гр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tvoytrener.ru/foru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и расставлены на ширину ст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o-nei.ru/effektivnye-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ражнение в... на вдохе правой ногой делаете резкий вы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msi.ru/doc/e2c21d25-df…Метание мяча на д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 урока:  практическое за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проведения: словесный, наглядный, игр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о проведения: спортивная площадка  школы №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оведения: по распис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часов: 45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вентарь: свисток, секундомер,  мел, ру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готовительная часть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-13 ми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76520"/>
          <a:ext cx="8763120" cy="5079960"/>
        </p:xfrm>
        <a:graphic>
          <a:graphicData uri="http://schemas.openxmlformats.org/drawingml/2006/table">
            <a:tbl>
              <a:tblPr/>
              <a:tblGrid>
                <a:gridCol w="3589560"/>
                <a:gridCol w="2252520"/>
                <a:gridCol w="29210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, приветствие,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 задач урока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ьба: на носках, на пятках, на внешней и внутренней сторонах стопы, в полу приседе, в полном присед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ый бег по стадиону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стойку, наличие спортивной фор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осанкой, спина прям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, свобод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1920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 (ОРУ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691160"/>
        </p:xfrm>
        <a:graphic>
          <a:graphicData uri="http://schemas.openxmlformats.org/drawingml/2006/table">
            <a:tbl>
              <a:tblPr/>
              <a:tblGrid>
                <a:gridCol w="4191120"/>
                <a:gridCol w="1295280"/>
                <a:gridCol w="2743200"/>
              </a:tblGrid>
              <a:tr h="22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, разминаем мышцы шеи (наклоны, вращения головы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литуда вращения полна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п. ноги на ширине плеч, руки перед груд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перед грудью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рывки прямыми руками в сторон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локт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1676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274680"/>
          <a:ext cx="8229600" cy="6470640"/>
        </p:xfrm>
        <a:graphic>
          <a:graphicData uri="http://schemas.openxmlformats.org/drawingml/2006/table">
            <a:tbl>
              <a:tblPr/>
              <a:tblGrid>
                <a:gridCol w="3809880"/>
                <a:gridCol w="1676520"/>
                <a:gridCol w="2743200"/>
              </a:tblGrid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правая рука вверху, левая в низ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наза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смена положения ру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к плечам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круговые вращения руками вперёд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круговые вращения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щения выполнять по полной амплитуд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 flipH="1">
            <a:off x="5866560" y="60804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ки прямые, рывки интенсив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1628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74680"/>
          <a:ext cx="8229600" cy="5648400"/>
        </p:xfrm>
        <a:graphic>
          <a:graphicData uri="http://schemas.openxmlformats.org/drawingml/2006/table">
            <a:tbl>
              <a:tblPr/>
              <a:tblGrid>
                <a:gridCol w="4419720"/>
                <a:gridCol w="1981080"/>
                <a:gridCol w="1828800"/>
              </a:tblGrid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опущены вдоль туловищ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вращение прямыми руками в 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вращение руками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дарьте друг друга. Руки прям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 наклон вперёд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ни не сгиб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74680"/>
          <a:ext cx="8229600" cy="600228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205740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ноги вместе наклоны вперёд.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на ширине плеч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ак можно шире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цами рук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донями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тями дотянуться до пол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широкая стойка ноги врозь,      на каждый счёт касание кистью правой руки левой стопы и наоборот. «Мельниц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у согнуть в пояснице. Руки прям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7:06:12Z</dcterms:created>
  <dc:creator>user</dc:creator>
  <dc:description/>
  <dc:language>en-US</dc:language>
  <cp:lastModifiedBy>user</cp:lastModifiedBy>
  <dcterms:modified xsi:type="dcterms:W3CDTF">2014-03-01T17:25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