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8.png" ContentType="image/png"/>
  <Override PartName="/ppt/media/989.wav" ContentType="audio/x-wav"/>
  <Override PartName="/ppt/media/991.wav" ContentType="audio/x-wav"/>
  <Override PartName="/ppt/media/image17.jpeg" ContentType="image/jpeg"/>
  <Override PartName="/ppt/media/969.wav" ContentType="audio/x-wav"/>
  <Override PartName="/ppt/media/image15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2.gif" ContentType="image/gif"/>
  <Override PartName="/ppt/media/image10.jpeg" ContentType="image/jpeg"/>
  <Override PartName="/ppt/media/image3.jpeg" ContentType="image/jpeg"/>
  <Override PartName="/ppt/media/909.wav" ContentType="audio/x-wav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DAA-0686-44EB-871E-F26F0FF1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B06-AC9D-463F-A30D-AF93A6E6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A26-ED8F-4F5A-A91F-916CAF3F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77D-34AF-462C-9D2D-459A7142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E45-AE6D-4AF6-A2F2-D36A6569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2F0-966D-41B7-9AB6-B7E008F0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A4A-5182-428E-B9EF-1D0913CF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BC0-1597-4E41-A63B-C3A1549E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642-B021-40C6-9C02-D731A297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482-1604-4BEF-90CE-34B00BC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BF3-5002-43FB-A9F1-136B3A75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9AB-6C2E-4C44-8C38-E352C066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0986-C1AC-4F8C-AECB-7609525FB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audio" Target="../media/909.wav"/><Relationship Id="rId14" Type="http://schemas.openxmlformats.org/officeDocument/2006/relationships/audio" Target="../media/909.wav"/><Relationship Id="rId15" Type="http://schemas.openxmlformats.org/officeDocument/2006/relationships/audio" Target="../media/969.wav"/><Relationship Id="rId16" Type="http://schemas.openxmlformats.org/officeDocument/2006/relationships/audio" Target="../media/989.wav"/><Relationship Id="rId17" Type="http://schemas.openxmlformats.org/officeDocument/2006/relationships/audio" Target="../media/909.wav"/><Relationship Id="rId18" Type="http://schemas.openxmlformats.org/officeDocument/2006/relationships/audio" Target="../media/909.wav"/><Relationship Id="rId1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audio" Target="../media/991.wav"/><Relationship Id="rId13" Type="http://schemas.openxmlformats.org/officeDocument/2006/relationships/audio" Target="../media/989.wav"/><Relationship Id="rId14" Type="http://schemas.openxmlformats.org/officeDocument/2006/relationships/audio" Target="../media/991.wav"/><Relationship Id="rId15" Type="http://schemas.openxmlformats.org/officeDocument/2006/relationships/audio" Target="../media/989.wav"/><Relationship Id="rId16" Type="http://schemas.openxmlformats.org/officeDocument/2006/relationships/audio" Target="../media/991.wav"/><Relationship Id="rId17" Type="http://schemas.openxmlformats.org/officeDocument/2006/relationships/audio" Target="../media/989.wav"/><Relationship Id="rId18" Type="http://schemas.openxmlformats.org/officeDocument/2006/relationships/audio" Target="../media/991.wav"/><Relationship Id="rId19" Type="http://schemas.openxmlformats.org/officeDocument/2006/relationships/audio" Target="../media/989.wav"/><Relationship Id="rId20" Type="http://schemas.openxmlformats.org/officeDocument/2006/relationships/audio" Target="../media/969.wav"/><Relationship Id="rId2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991.wav"/><Relationship Id="rId7" Type="http://schemas.openxmlformats.org/officeDocument/2006/relationships/audio" Target="../media/989.wav"/><Relationship Id="rId8" Type="http://schemas.openxmlformats.org/officeDocument/2006/relationships/audio" Target="../media/969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audio" Target="../media/991.wav"/><Relationship Id="rId9" Type="http://schemas.openxmlformats.org/officeDocument/2006/relationships/audio" Target="../media/989.wav"/><Relationship Id="rId10" Type="http://schemas.openxmlformats.org/officeDocument/2006/relationships/audio" Target="../media/991.wav"/><Relationship Id="rId11" Type="http://schemas.openxmlformats.org/officeDocument/2006/relationships/audio" Target="../media/989.wav"/><Relationship Id="rId12" Type="http://schemas.openxmlformats.org/officeDocument/2006/relationships/audio" Target="../media/969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991.wav"/><Relationship Id="rId7" Type="http://schemas.openxmlformats.org/officeDocument/2006/relationships/audio" Target="../media/989.wav"/><Relationship Id="rId8" Type="http://schemas.openxmlformats.org/officeDocument/2006/relationships/audio" Target="../media/969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hyperlink" Target="file:///projekt_support/vizitka/Ken_vizitka.doc" TargetMode="External"/><Relationship Id="rId5" Type="http://schemas.openxmlformats.org/officeDocument/2006/relationships/hyperlink" Target="file:///Ken-Mystery%20of%20Black%20hole.ppt" TargetMode="External"/><Relationship Id="rId6" Type="http://schemas.openxmlformats.org/officeDocument/2006/relationships/hyperlink" Target="file:///Ken_Black%20news.pub" TargetMode="External"/><Relationship Id="rId7" Type="http://schemas.openxmlformats.org/officeDocument/2006/relationships/hyperlink" Target="file:///Did%20mat.ppt" TargetMode="External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audio" Target="../media/991.wav"/><Relationship Id="rId11" Type="http://schemas.openxmlformats.org/officeDocument/2006/relationships/audio" Target="../media/989.wav"/><Relationship Id="rId12" Type="http://schemas.openxmlformats.org/officeDocument/2006/relationships/audio" Target="../media/969.wav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991.wav"/><Relationship Id="rId7" Type="http://schemas.openxmlformats.org/officeDocument/2006/relationships/audio" Target="../media/989.wav"/><Relationship Id="rId8" Type="http://schemas.openxmlformats.org/officeDocument/2006/relationships/audio" Target="../media/969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audio" Target="../media/991.wav"/><Relationship Id="rId9" Type="http://schemas.openxmlformats.org/officeDocument/2006/relationships/audio" Target="../media/989.wav"/><Relationship Id="rId10" Type="http://schemas.openxmlformats.org/officeDocument/2006/relationships/audio" Target="../media/969.wav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" Target="slide1.xm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audio" Target="../media/909.wav"/><Relationship Id="rId10" Type="http://schemas.openxmlformats.org/officeDocument/2006/relationships/audio" Target="../media/909.wav"/><Relationship Id="rId11" Type="http://schemas.openxmlformats.org/officeDocument/2006/relationships/audio" Target="../media/969.wav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228600"/>
            <a:ext cx="39625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Monotype Corsiva"/>
              </a:rPr>
              <a:t>ЧЕР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4120" y="228600"/>
            <a:ext cx="2895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Monotype Corsiva"/>
              </a:rPr>
              <a:t>ДЫ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715000" y="6273720"/>
            <a:ext cx="1714320" cy="583920"/>
            <a:chOff x="5715000" y="6273720"/>
            <a:chExt cx="1714320" cy="583920"/>
          </a:xfrm>
        </p:grpSpPr>
        <p:sp>
          <p:nvSpPr>
            <p:cNvPr id="45" name="">
              <a:hlinkClick r:id="" action="ppaction://hlinkshowjump?jump=nextslide"/>
            </p:cNvPr>
            <p:cNvSpPr/>
            <p:nvPr/>
          </p:nvSpPr>
          <p:spPr>
            <a:xfrm>
              <a:off x="5715000" y="627372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6629400" y="657828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ВПЕРЕД!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866960" y="6273720"/>
            <a:ext cx="1714320" cy="584280"/>
            <a:chOff x="1866960" y="6273720"/>
            <a:chExt cx="1714320" cy="584280"/>
          </a:xfrm>
        </p:grpSpPr>
        <p:sp>
          <p:nvSpPr>
            <p:cNvPr id="48" name="">
              <a:hlinkClick r:id="" action="ppaction://hlinkshowjump?jump=endshow"/>
            </p:cNvPr>
            <p:cNvSpPr/>
            <p:nvPr/>
          </p:nvSpPr>
          <p:spPr>
            <a:xfrm flipH="1">
              <a:off x="1866960" y="627372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171520" y="657864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ВЫХОД!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3505320" y="6400800"/>
            <a:ext cx="21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Arial"/>
              </a:rPr>
              <a:t>Иваново 200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414800"/>
            <a:ext cx="7543800" cy="384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Из всех измышлений человеческого ума, от единорогов и химер до водородной бомбы, наверное, самое фантастическое — это образ черный дыры, отделенной от остального пространства определенной границей, которую ничто не может пересечь; дыры, обладающей настолько сильным гравитационным полем, что даже свет задерживается его мертвой хваткой; дыры, искривляющей пространство и тормозящей время. Подобно единорогам и химерам, черная дыра кажется более уместной в фантастических романах или в мифах древности, чем в реальной Вселенной. И тем не менее законы современной физики фактически требуют, чтобы черные дыры существовали. Возможно, только наша Галактика содержит миллионы их” — так сказал о черных дырах американский физик К. То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049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04920" y="5548320"/>
            <a:ext cx="2361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Bookman Old Style"/>
              </a:rPr>
              <a:t>АВТОР ПРОЕК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5791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омаров Евгени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629400" y="5505480"/>
            <a:ext cx="23623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Bookman Old Style"/>
              </a:rPr>
              <a:t>РУКОВОДИТЕЛЬ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57913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ириченко Наталья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9320"/>
                            </p:stCondLst>
                            <p:childTnLst>
                              <p:par>
                                <p:cTn id="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32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132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232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000240" y="304920"/>
            <a:ext cx="279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Тема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066320"/>
            <a:ext cx="7467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Тайна черной ды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23960" y="1828800"/>
            <a:ext cx="372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Учебный предм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590560"/>
            <a:ext cx="7467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Астро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09760" y="3276720"/>
            <a:ext cx="2200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Участник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038120"/>
            <a:ext cx="7467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920" y="4648320"/>
            <a:ext cx="3628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Количество ча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562360"/>
            <a:ext cx="74678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5 – 17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67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70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4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64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8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8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4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88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3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62120" y="1447920"/>
            <a:ext cx="7848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Основополагающий вопрос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479480"/>
            <a:ext cx="7467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Есть ли еще тайны во Вселен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76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79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8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514600" y="380880"/>
            <a:ext cx="4162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Методически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990360"/>
            <a:ext cx="8839440" cy="182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1. Раскрытие «тайны» черной дыры (существование, свойства, «рождение», «жизнь и смерть»,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2. Освоение учащимися теоретического материала о черных ды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3. Умение описывать черную дыру, как о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89548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Дидактически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504600"/>
            <a:ext cx="8381880" cy="24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1. Создание интриги для стремления к изучению наук (астрономии, физики, математ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2. Освоение учащимися основных принципов работы в условиях технологии проектного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3. Развитие у учащихся исследовательских ум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4. Развитие у учащихся коммуникативных, личностных, социальных, художественно-сомати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5. Развитие умения вести дискусс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87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90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16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316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616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48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905120" y="76320"/>
            <a:ext cx="5524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Этапы и сроки провед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837000"/>
            <a:ext cx="7467840" cy="518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прос на тему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Что я знаю о черной дыре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» - 1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Выбор творческого названия проекта -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.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бсуждение плана работы над проектом -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0,5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Разработка индивидуальных планов работы -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0,5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5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амостоятельная работа групп по выполнению заданий –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не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6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тчет группы теоретиков –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3-5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7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одведение итогов. Контрольная работа и дискуссия о спецкурсе. –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96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99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728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28720" y="380880"/>
            <a:ext cx="7858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чебно-методический пакет к проекту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82320"/>
            <a:ext cx="8610480" cy="487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.  Визитная карточк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2.  Презентация уче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3.  Публикация уче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b-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5.  Самостоятельн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.  Критерии оценивания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.  Критерий оценивания публ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7.  Критерий оценивани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b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-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8.  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105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108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12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143000" y="609480"/>
            <a:ext cx="753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писок использованной литератур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335600"/>
            <a:ext cx="8839440" cy="46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Черепащук А.М. Массы черных дыр в двойных системах. Успехи физических наук, т. 166, с. 809, 1996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2.   “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Русский энциклопедический словарь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3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Соросовский образовательный журнал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№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3 1997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г. статья “Чёрные дыры в двойных звёздныхсистем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№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6 1997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г. статья “Горячие “чёрные дыры”. Новое в понимании природы теплоты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№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6 1998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г. статья “Искусственная вселенная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4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Энциклопедия для детей Аванта+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Астроном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Физ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5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М. Кьюиш “юный исследователь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6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Ф. Ю. Зигель “Астрономия в её развитии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7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С. Данлоп “Азбука звёздного неба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8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К. Юоллард “Как и почему?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9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Т. И. Гонтарук “Я познаю мир. Серия космос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0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И.Д. Новиков, доктор ф.-м.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1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По материалам журнала Земля и Вселенная № 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5 1977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2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Фото от 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Fraser Cain http://www.universetoday.com,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с разрешения серв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3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Подготовлено проектом 'Астрогалактика', опубликовано 2 июля 2005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4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Статья 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Константин Злосчастьев о чёрных дырах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5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Совместный проект Журнал 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Химия и жизнь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»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, Российский общеобразовательный порта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.   Глава из книги У.Дж.Кауфмана 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Космический рубеж теории относительности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114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117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976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857240" y="609480"/>
            <a:ext cx="507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писок использован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инернет-источников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2142360"/>
            <a:ext cx="8839440" cy="389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krugosve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2.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ru.wikiped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astro.rin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elementy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space.vs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6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astrogalaxy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7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membran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chandra.harvard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astronomy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qd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11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compulent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12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glazok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13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ssg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14.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yos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15.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hubblesit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16. Видео-коллекция 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www.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123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126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908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362320" y="1523880"/>
            <a:ext cx="457200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3276720"/>
            <a:ext cx="7391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Monotype Corsiva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14680" y="6273720"/>
            <a:ext cx="1714320" cy="584280"/>
            <a:chOff x="1714680" y="6273720"/>
            <a:chExt cx="1714320" cy="584280"/>
          </a:xfrm>
        </p:grpSpPr>
        <p:sp>
          <p:nvSpPr>
            <p:cNvPr id="132" name="">
              <a:hlinkClick r:id="rId6" action="ppaction://hlinksldjump"/>
            </p:cNvPr>
            <p:cNvSpPr/>
            <p:nvPr/>
          </p:nvSpPr>
          <p:spPr>
            <a:xfrm flipH="1">
              <a:off x="1714680" y="627372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019240" y="657864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В НАЧАЛО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62720" y="6273720"/>
            <a:ext cx="1714320" cy="583920"/>
            <a:chOff x="5562720" y="6273720"/>
            <a:chExt cx="1714320" cy="583920"/>
          </a:xfrm>
        </p:grpSpPr>
        <p:sp>
          <p:nvSpPr>
            <p:cNvPr id="135" name="">
              <a:hlinkClick r:id="" action="ppaction://hlinkshowjump?jump=endshow"/>
            </p:cNvPr>
            <p:cNvSpPr/>
            <p:nvPr/>
          </p:nvSpPr>
          <p:spPr>
            <a:xfrm>
              <a:off x="5562720" y="627372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477120" y="657828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ВЫХО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4:26:21Z</dcterms:created>
  <dc:creator>Ken Mei'mashedralana</dc:creator>
  <dc:description/>
  <dc:language>en-US</dc:language>
  <cp:lastModifiedBy>Математический факультет</cp:lastModifiedBy>
  <dcterms:modified xsi:type="dcterms:W3CDTF">2006-05-24T09:41:33Z</dcterms:modified>
  <cp:revision>21</cp:revision>
  <dc:subject/>
  <dc:title>Слайд 1</dc:title>
</cp:coreProperties>
</file>