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8.png" ContentType="image/png"/>
  <Override PartName="/ppt/media/989.wav" ContentType="audio/x-wav"/>
  <Override PartName="/ppt/media/991.wav" ContentType="audio/x-wav"/>
  <Override PartName="/ppt/media/image17.jpeg" ContentType="image/jpeg"/>
  <Override PartName="/ppt/media/969.wav" ContentType="audio/x-wav"/>
  <Override PartName="/ppt/media/image15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10.jpeg" ContentType="image/jpeg"/>
  <Override PartName="/ppt/media/image3.jpeg" ContentType="image/jpeg"/>
  <Override PartName="/ppt/media/909.wav" ContentType="audio/x-wav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18E-4ABA-492F-BD68-96DD71F4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589-FEF4-4212-BEAC-8E3F6A25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AE1-8A15-41D2-985A-D0DABDF6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B77-F7AE-4FA3-8923-8C4A7C44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315-2A57-40B1-AC48-E37C236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74E-A186-417D-B197-AB52F00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660-0480-41B9-805F-BDE9450B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465-EC74-4A1B-B680-94E86FF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C5A-3ED4-4733-AAC0-44EE9A7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1B5-67A0-46D7-B989-9EFD2C4F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3F8-0FE6-40A9-B1E2-3B5306A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B00-B2DC-4364-BC46-BCEE4CE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2D84-8B21-4FEE-9EFA-1BC7959A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audio" Target="../media/909.wav"/><Relationship Id="rId14" Type="http://schemas.openxmlformats.org/officeDocument/2006/relationships/audio" Target="../media/909.wav"/><Relationship Id="rId15" Type="http://schemas.openxmlformats.org/officeDocument/2006/relationships/audio" Target="../media/969.wav"/><Relationship Id="rId16" Type="http://schemas.openxmlformats.org/officeDocument/2006/relationships/audio" Target="../media/989.wav"/><Relationship Id="rId17" Type="http://schemas.openxmlformats.org/officeDocument/2006/relationships/audio" Target="../media/909.wav"/><Relationship Id="rId18" Type="http://schemas.openxmlformats.org/officeDocument/2006/relationships/audio" Target="../media/909.wav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audio" Target="../media/991.wav"/><Relationship Id="rId13" Type="http://schemas.openxmlformats.org/officeDocument/2006/relationships/audio" Target="../media/989.wav"/><Relationship Id="rId14" Type="http://schemas.openxmlformats.org/officeDocument/2006/relationships/audio" Target="../media/991.wav"/><Relationship Id="rId15" Type="http://schemas.openxmlformats.org/officeDocument/2006/relationships/audio" Target="../media/989.wav"/><Relationship Id="rId16" Type="http://schemas.openxmlformats.org/officeDocument/2006/relationships/audio" Target="../media/991.wav"/><Relationship Id="rId17" Type="http://schemas.openxmlformats.org/officeDocument/2006/relationships/audio" Target="../media/989.wav"/><Relationship Id="rId18" Type="http://schemas.openxmlformats.org/officeDocument/2006/relationships/audio" Target="../media/991.wav"/><Relationship Id="rId19" Type="http://schemas.openxmlformats.org/officeDocument/2006/relationships/audio" Target="../media/989.wav"/><Relationship Id="rId20" Type="http://schemas.openxmlformats.org/officeDocument/2006/relationships/audio" Target="../media/969.wav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991.wav"/><Relationship Id="rId9" Type="http://schemas.openxmlformats.org/officeDocument/2006/relationships/audio" Target="../media/989.wav"/><Relationship Id="rId10" Type="http://schemas.openxmlformats.org/officeDocument/2006/relationships/audio" Target="../media/991.wav"/><Relationship Id="rId11" Type="http://schemas.openxmlformats.org/officeDocument/2006/relationships/audio" Target="../media/989.wav"/><Relationship Id="rId12" Type="http://schemas.openxmlformats.org/officeDocument/2006/relationships/audio" Target="../media/969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hyperlink" Target="file:///projekt_support/vizitka/Ken_vizitka.doc" TargetMode="External"/><Relationship Id="rId5" Type="http://schemas.openxmlformats.org/officeDocument/2006/relationships/hyperlink" Target="file:///Ken-Mystery%20of%20Black%20hole.ppt" TargetMode="External"/><Relationship Id="rId6" Type="http://schemas.openxmlformats.org/officeDocument/2006/relationships/hyperlink" Target="file:///Ken_Black%20news.pub" TargetMode="External"/><Relationship Id="rId7" Type="http://schemas.openxmlformats.org/officeDocument/2006/relationships/hyperlink" Target="file:///Did%20mat.ppt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audio" Target="../media/991.wav"/><Relationship Id="rId11" Type="http://schemas.openxmlformats.org/officeDocument/2006/relationships/audio" Target="../media/989.wav"/><Relationship Id="rId12" Type="http://schemas.openxmlformats.org/officeDocument/2006/relationships/audio" Target="../media/969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991.wav"/><Relationship Id="rId7" Type="http://schemas.openxmlformats.org/officeDocument/2006/relationships/audio" Target="../media/989.wav"/><Relationship Id="rId8" Type="http://schemas.openxmlformats.org/officeDocument/2006/relationships/audio" Target="../media/969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991.wav"/><Relationship Id="rId9" Type="http://schemas.openxmlformats.org/officeDocument/2006/relationships/audio" Target="../media/989.wav"/><Relationship Id="rId10" Type="http://schemas.openxmlformats.org/officeDocument/2006/relationships/audio" Target="../media/969.wav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" Target="slide1.xm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audio" Target="../media/909.wav"/><Relationship Id="rId10" Type="http://schemas.openxmlformats.org/officeDocument/2006/relationships/audio" Target="../media/909.wav"/><Relationship Id="rId11" Type="http://schemas.openxmlformats.org/officeDocument/2006/relationships/audio" Target="../media/969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28600"/>
            <a:ext cx="39625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ЧЕ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4120" y="228600"/>
            <a:ext cx="2895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ДЫ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15000" y="6273720"/>
            <a:ext cx="1714320" cy="583920"/>
            <a:chOff x="5715000" y="6273720"/>
            <a:chExt cx="1714320" cy="583920"/>
          </a:xfrm>
        </p:grpSpPr>
        <p:sp>
          <p:nvSpPr>
            <p:cNvPr id="45" name="">
              <a:hlinkClick r:id="" action="ppaction://hlinkshowjump?jump=nextslide"/>
            </p:cNvPr>
            <p:cNvSpPr/>
            <p:nvPr/>
          </p:nvSpPr>
          <p:spPr>
            <a:xfrm>
              <a:off x="5715000" y="627372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629400" y="657828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ПЕРЕД!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66960" y="6273720"/>
            <a:ext cx="1714320" cy="584280"/>
            <a:chOff x="1866960" y="6273720"/>
            <a:chExt cx="1714320" cy="584280"/>
          </a:xfrm>
        </p:grpSpPr>
        <p:sp>
          <p:nvSpPr>
            <p:cNvPr id="48" name="">
              <a:hlinkClick r:id="" action="ppaction://hlinkshowjump?jump=endshow"/>
            </p:cNvPr>
            <p:cNvSpPr/>
            <p:nvPr/>
          </p:nvSpPr>
          <p:spPr>
            <a:xfrm flipH="1">
              <a:off x="1866960" y="627372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171520" y="657864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ЫХОД!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3505320" y="6400800"/>
            <a:ext cx="21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Иваново 200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414800"/>
            <a:ext cx="7543800" cy="384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Из всех измышлений человеческого ума, от единорогов и химер до водородной бомбы, наверное, самое фантастическое — это образ черный дыры, отделенной от остального пространства определенной границей, которую ничто не может пересечь; дыры, обладающей настолько сильным гравитационным полем, что даже свет задерживается его мертвой хваткой; дыры, искривляющей пространство и тормозящей время. Подобно единорогам и химерам, черная дыра кажется более уместной в фантастических романах или в мифах древности, чем в реальной Вселенной. И тем не менее законы современной физики фактически требуют, чтобы черные дыры существовали. Возможно, только наша Галактика содержит миллионы их” — так сказал о черных дырах американский физик К. То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920" y="5548320"/>
            <a:ext cx="2361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Bookman Old Style"/>
              </a:rPr>
              <a:t>АВТОР ПРОЕК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5791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омаров Евгени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29400" y="5505480"/>
            <a:ext cx="23623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Bookman Old Style"/>
              </a:rPr>
              <a:t>РУКОВОДИТЕЛ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57913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ириченко Наталья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932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3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132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32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00240" y="304920"/>
            <a:ext cx="279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Тема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06632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Тайна черной ды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23960" y="1828800"/>
            <a:ext cx="37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Учебный предм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59056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Астр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09760" y="327672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Участни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03812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920" y="4648320"/>
            <a:ext cx="3628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Количество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360"/>
            <a:ext cx="7467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5 – 17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67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70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4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64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8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8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4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88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120" y="14479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сновополагающи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479480"/>
            <a:ext cx="7467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Есть ли еще тайны во Вселен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76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79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8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14600" y="380880"/>
            <a:ext cx="4162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Методически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990360"/>
            <a:ext cx="8839440" cy="18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. Раскрытие «тайны» черной дыры (существование, свойства, «рождение», «жизнь и смерть»,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2. Освоение учащимися теоретического материала о черных ды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3. Умение описывать черную дыру, как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89548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Дидактически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504600"/>
            <a:ext cx="8381880" cy="24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. Создание интриги для стремления к изучению наук (астрономии, физики, математ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2. Освоение учащимися основных принципов работы в условиях технологии проектного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3. Развитие у учащихс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4. Развитие у учащихся коммуникативных, личностных, социальных, художественно-сомати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5. Развитие умения вести дискусс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87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90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16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316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616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48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76320"/>
            <a:ext cx="552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Этапы и сроки провед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837000"/>
            <a:ext cx="7467840" cy="518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прос на тему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Что я знаю о черной дыре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» - 1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ыбор творческого названия проекта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.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бсуждение плана работы над проектом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0,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зработка индивидуальных планов работы -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0,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5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амостоятельная работа групп по выполнению заданий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6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тчет группы теоретиков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3-5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ТАП </a:t>
            </a:r>
            <a:r>
              <a:rPr b="1" i="1" lang="en" sz="2000" spc="-1" strike="noStrike" u="sng">
                <a:solidFill>
                  <a:srgbClr val="ffff00"/>
                </a:solidFill>
                <a:uFillTx/>
                <a:latin typeface="Arial"/>
              </a:rPr>
              <a:t>7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одведение итогов. Контрольная работа и дискуссия о спецкурсе. – </a:t>
            </a:r>
            <a:r>
              <a:rPr b="1" i="1" lang="en" sz="20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96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99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28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28720" y="380880"/>
            <a:ext cx="785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чебно-методический пакет к проект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82320"/>
            <a:ext cx="8610480" cy="487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.  Визитная карточк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.  Презентация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.  Публикация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b-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5.  Самостоятель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 Критерии оценивания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 Критерий оценивания публ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7.  Критерий оценивани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b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-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. 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05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08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12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143000" y="609480"/>
            <a:ext cx="753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исок использованной литерату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335600"/>
            <a:ext cx="8839440" cy="46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Черепащук А.М. Массы черных дыр в двойных системах. Успехи физических наук, т. 166, с. 809, 1996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2.   “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Русский энциклопедический словарь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3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оросовский образовательный журнал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3 199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Чёрные дыры в двойных звёздныхсистем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 199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Горячие “чёрные дыры”. Новое в понимании природы теплоты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 1998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. статья “Искусственная вселенная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4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Энциклопедия для детей Аванта+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Астроном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из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5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М. Кьюиш “юный исследователь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6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. Ю. Зигель “Астрономия в её развитии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7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. Данлоп “Азбука звёздного неба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8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. Юоллард “Как и почему?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9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Т. И. Гонтарук “Я познаю мир. Серия космос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0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И.Д. Новиков, доктор ф.-м.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1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По материалам журнала Земля и Вселенная №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5 1977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2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Фото от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Fraser Cain http://www.universetoday.com,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 разрешения серв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3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Подготовлено проектом 'Астрогалактика', опубликовано 2 июля 2005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4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татья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онстантин Злосчастьев о чёрных дырах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5.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Совместный проект Журнал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Химия и жизнь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, Российский общеобразовательный порт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.   Глава из книги У.Дж.Кауфмана 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Космический рубеж теории относительности</a:t>
            </a:r>
            <a:r>
              <a:rPr b="1" i="1" lang="en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14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17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76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857240" y="609480"/>
            <a:ext cx="507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исок использован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инернет-источников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142360"/>
            <a:ext cx="8839440" cy="38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krugosv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2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ru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.rin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element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space.vs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galax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membran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chandra.harvard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astronom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qd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1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compulent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2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glazo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13.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ssg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4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yo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5. 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http://www.hubblesit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16. Видео-коллекция </a:t>
            </a:r>
            <a:r>
              <a:rPr b="1" i="1" lang="en" sz="1600" spc="-1" strike="noStrike">
                <a:solidFill>
                  <a:srgbClr val="ffff00"/>
                </a:solidFill>
                <a:latin typeface="Arial"/>
              </a:rPr>
              <a:t>www.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15000" y="6172200"/>
            <a:ext cx="1714320" cy="583920"/>
            <a:chOff x="5715000" y="6172200"/>
            <a:chExt cx="1714320" cy="583920"/>
          </a:xfrm>
        </p:grpSpPr>
        <p:sp>
          <p:nvSpPr>
            <p:cNvPr id="123" name="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629400" y="647676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ДАЛЕЕ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6960" y="6172200"/>
            <a:ext cx="1714320" cy="584280"/>
            <a:chOff x="1866960" y="6172200"/>
            <a:chExt cx="1714320" cy="584280"/>
          </a:xfrm>
        </p:grpSpPr>
        <p:sp>
          <p:nvSpPr>
            <p:cNvPr id="126" name="">
              <a:hlinkClick r:id="" action="ppaction://hlinkshowjump?jump=previousslide"/>
            </p:cNvPr>
            <p:cNvSpPr/>
            <p:nvPr/>
          </p:nvSpPr>
          <p:spPr>
            <a:xfrm flipH="1">
              <a:off x="1866960" y="617220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171520" y="647712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НАЗА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99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8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908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362320" y="1523880"/>
            <a:ext cx="4572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3276720"/>
            <a:ext cx="7391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3333ff">
                      <a:alpha val="80000"/>
                    </a:srgbClr>
                  </a:outerShdw>
                </a:effectLst>
                <a:latin typeface="Monotype Corsiva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3333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14680" y="6273720"/>
            <a:ext cx="1714320" cy="584280"/>
            <a:chOff x="1714680" y="6273720"/>
            <a:chExt cx="1714320" cy="584280"/>
          </a:xfrm>
        </p:grpSpPr>
        <p:sp>
          <p:nvSpPr>
            <p:cNvPr id="132" name="">
              <a:hlinkClick r:id="rId6" action="ppaction://hlinksldjump"/>
            </p:cNvPr>
            <p:cNvSpPr/>
            <p:nvPr/>
          </p:nvSpPr>
          <p:spPr>
            <a:xfrm flipH="1">
              <a:off x="1714680" y="6273720"/>
              <a:ext cx="1714320" cy="58428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019240" y="6578640"/>
              <a:ext cx="5331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 НАЧАЛО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62720" y="6273720"/>
            <a:ext cx="1714320" cy="583920"/>
            <a:chOff x="5562720" y="6273720"/>
            <a:chExt cx="1714320" cy="583920"/>
          </a:xfrm>
        </p:grpSpPr>
        <p:sp>
          <p:nvSpPr>
            <p:cNvPr id="135" name="">
              <a:hlinkClick r:id="" action="ppaction://hlinkshowjump?jump=endshow"/>
            </p:cNvPr>
            <p:cNvSpPr/>
            <p:nvPr/>
          </p:nvSpPr>
          <p:spPr>
            <a:xfrm>
              <a:off x="5562720" y="6273720"/>
              <a:ext cx="1714320" cy="583920"/>
            </a:xfrm>
            <a:custGeom>
              <a:avLst/>
              <a:gdLst/>
              <a:ahLst/>
              <a:rect l="l" t="t" r="r" b="b"/>
              <a:pathLst>
                <a:path w="1080" h="320">
                  <a:moveTo>
                    <a:pt x="648" y="16"/>
                  </a:moveTo>
                  <a:cubicBezTo>
                    <a:pt x="720" y="32"/>
                    <a:pt x="1080" y="208"/>
                    <a:pt x="984" y="256"/>
                  </a:cubicBezTo>
                  <a:cubicBezTo>
                    <a:pt x="888" y="304"/>
                    <a:pt x="144" y="320"/>
                    <a:pt x="72" y="304"/>
                  </a:cubicBezTo>
                  <a:cubicBezTo>
                    <a:pt x="0" y="288"/>
                    <a:pt x="448" y="216"/>
                    <a:pt x="552" y="160"/>
                  </a:cubicBezTo>
                  <a:cubicBezTo>
                    <a:pt x="656" y="104"/>
                    <a:pt x="576" y="0"/>
                    <a:pt x="6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477120" y="6578280"/>
              <a:ext cx="53352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000000"/>
                    </a:solidFill>
                    <a:miter/>
                  </a:ln>
                  <a:solidFill>
                    <a:srgbClr val="00ffff"/>
                  </a:solidFill>
                  <a:latin typeface="Impact"/>
                </a:rPr>
                <a:t>ВЫХОД</a:t>
              </a:r>
              <a:endPara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  <a:ea typeface="Impact"/>
              </a:endParaRPr>
            </a:p>
          </p:txBody>
        </p:sp>
      </p:grpSp>
    </p:spTree>
  </p:cSld>
  <p:transition spd="slow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9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96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4:26:21Z</dcterms:created>
  <dc:creator>Ken Mei'mashedralana</dc:creator>
  <dc:description/>
  <dc:language>en-US</dc:language>
  <cp:lastModifiedBy>Математический факультет</cp:lastModifiedBy>
  <dcterms:modified xsi:type="dcterms:W3CDTF">2006-05-24T09:41:33Z</dcterms:modified>
  <cp:revision>21</cp:revision>
  <dc:subject/>
  <dc:title>Слайд 1</dc:title>
</cp:coreProperties>
</file>