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AF5-8C69-417B-B7ED-3449D35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02B-2D57-4B9C-9B83-F7DAF1F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00C-3AC8-4953-B6F5-91D5040E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997-B2E9-4F8D-AEB4-1812B5A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456-3FD1-47F6-9294-1C605E49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909-971A-4B59-A4CB-33222AE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6CAC-8469-48E3-A541-AD8879C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9B0E-FD8E-43B3-80A3-378EB1E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441-E4E9-466E-94FF-415B1F2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1DF0-B3E1-44F1-8189-3CEED3B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004-541C-4F78-B398-11D7A19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D39-411D-418C-A673-F5DA825A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D868-D5FE-43B3-A778-C747736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AF40-816D-4BA4-8F4D-22BA64D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FA6E-4110-40A7-8BB3-298F521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7E54-2195-4FC4-AE8D-5BA6074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A25-0A0C-4B47-93EF-9E53CE00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0F0-C376-44E5-BEDC-64CADAB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C95-9600-4589-A12B-1CB9276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26F-CBDB-4C3E-B602-F4F544C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66D-8826-4F8B-A60B-424FED67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173-00DC-466F-A219-6F3AF00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735-8E1D-4591-987F-4648F19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2F5-C499-4570-81E2-7CD0FE8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97B-830A-4AFD-946A-109525D9F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3B18-4E1F-4A44-BA9A-B4114C872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43280" y="587700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. Тали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76640"/>
            <a:ext cx="309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полнила: Чиянова             Александра ученица 9-а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уководитель:  Коновалова Галина Владимиров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8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У СОШ ОАО «РЖД» №4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700360" y="765000"/>
            <a:ext cx="41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: </a:t>
            </a:r>
            <a:endParaRPr b="0" lang="en-US" sz="1800" spc="1" strike="noStrike">
              <a:ln w="0">
                <a:noFill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71640" y="1413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Энергетик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щего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2158920" cy="1692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rcRect l="51666" t="46668" r="25003" b="0"/>
          <a:stretch/>
        </p:blipFill>
        <p:spPr>
          <a:xfrm>
            <a:off x="2987640" y="4149720"/>
            <a:ext cx="10652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rcRect l="25003" t="46668" r="50002" b="0"/>
          <a:stretch/>
        </p:blipFill>
        <p:spPr>
          <a:xfrm>
            <a:off x="250920" y="3284640"/>
            <a:ext cx="1439640" cy="2305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rcRect l="23334" t="0" r="53335" b="75561"/>
          <a:stretch/>
        </p:blipFill>
        <p:spPr>
          <a:xfrm>
            <a:off x="1042920" y="4797360"/>
            <a:ext cx="1800360" cy="171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rcRect l="48337" t="0" r="28332" b="75561"/>
          <a:stretch/>
        </p:blipFill>
        <p:spPr>
          <a:xfrm>
            <a:off x="2124000" y="3284640"/>
            <a:ext cx="1076400" cy="180000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278920" y="6570720"/>
            <a:ext cx="865080" cy="287280"/>
          </a:xfrm>
          <a:custGeom>
            <a:avLst/>
            <a:gdLst>
              <a:gd name="textAreaLeft" fmla="*/ 18360 w 865080"/>
              <a:gd name="textAreaRight" fmla="*/ 846720 w 86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989" h="21600">
                <a:moveTo>
                  <a:pt x="0" y="0"/>
                </a:moveTo>
                <a:lnTo>
                  <a:pt x="64989" y="0"/>
                </a:lnTo>
                <a:lnTo>
                  <a:pt x="64989" y="21600"/>
                </a:lnTo>
                <a:lnTo>
                  <a:pt x="0" y="21600"/>
                </a:lnTo>
                <a:close/>
              </a:path>
              <a:path fill="lightenLess" w="64989" h="21600">
                <a:moveTo>
                  <a:pt x="0" y="0"/>
                </a:moveTo>
                <a:lnTo>
                  <a:pt x="64989" y="0"/>
                </a:lnTo>
                <a:lnTo>
                  <a:pt x="63589" y="1400"/>
                </a:lnTo>
                <a:lnTo>
                  <a:pt x="1400" y="1400"/>
                </a:lnTo>
                <a:close/>
              </a:path>
              <a:path fill="darken" w="64989" h="21600">
                <a:moveTo>
                  <a:pt x="64989" y="0"/>
                </a:moveTo>
                <a:lnTo>
                  <a:pt x="64989" y="21600"/>
                </a:lnTo>
                <a:lnTo>
                  <a:pt x="63589" y="20200"/>
                </a:lnTo>
                <a:lnTo>
                  <a:pt x="63589" y="1400"/>
                </a:lnTo>
                <a:close/>
              </a:path>
              <a:path fill="darkenLess" w="64989" h="21600">
                <a:moveTo>
                  <a:pt x="64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89" y="20200"/>
                </a:lnTo>
                <a:close/>
              </a:path>
              <a:path fill="lighten" w="64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89" h="21600">
                <a:moveTo>
                  <a:pt x="25488" y="3794"/>
                </a:moveTo>
                <a:lnTo>
                  <a:pt x="39501" y="10800"/>
                </a:lnTo>
                <a:lnTo>
                  <a:pt x="25488" y="17806"/>
                </a:lnTo>
                <a:close/>
              </a:path>
            </a:pathLst>
          </a:custGeom>
          <a:solidFill>
            <a:srgbClr val="ff99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920" y="189000"/>
            <a:ext cx="87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роэнэрг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836640"/>
            <a:ext cx="60134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Началом развития ветроэнергетики можно считать 1850 год, когда датчанин Ла Кур построил первый ветрогенератор. Сегодня в Дании действуют более 2000 ветроэнергоустановок, и она является основным экспортом этого вида генераторов. Активно развивается ветроэнергетика в Швеции, отказавшейся от ядерной энергетики. В США планируется в ближайшие 10-15 лет довести производство ветро-энергии до уровня ядерной энергети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очти 40% территории России удобно для установки ветровых преобразователей, общая мощность которых может достичь 100 миллиардов КВ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48337" t="0" r="28332" b="75561"/>
          <a:stretch/>
        </p:blipFill>
        <p:spPr>
          <a:xfrm>
            <a:off x="6516720" y="981000"/>
            <a:ext cx="2376360" cy="2519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364500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Эффективность использования энергии ветра в значительной степени зависит от конструкции ветрогенератора, а именно- крыльчатки. Чаще всего разработки ведут на четырёх основных типах пропелле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>
            <a:lum contrast="42000"/>
          </a:blip>
          <a:srcRect l="9995" t="22911" r="52030" b="39860"/>
          <a:stretch/>
        </p:blipFill>
        <p:spPr>
          <a:xfrm>
            <a:off x="826920" y="4581360"/>
            <a:ext cx="7201080" cy="2087640"/>
          </a:xfrm>
          <a:prstGeom prst="rect">
            <a:avLst/>
          </a:prstGeom>
          <a:ln w="76320">
            <a:solidFill>
              <a:srgbClr val="0088e4"/>
            </a:solidFill>
            <a:miter/>
          </a:ln>
        </p:spPr>
      </p:pic>
      <p:grpSp>
        <p:nvGrpSpPr>
          <p:cNvPr id="325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26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39640" y="0"/>
            <a:ext cx="8064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мпирическая форму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00" y="1341360"/>
            <a:ext cx="849600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зумеется, не вся энергия может быть преобразована в электрическую. Известна эмпирическая формула, связывающая мощность воздушного потока и скорость ветра с электрической мощностью на выходе электрогенерато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Где Р –мощность в кВт на один метр в квадрате площадки, нормальной к воздушному пот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оретически достижимый КПД ветрогенератора равен примерно 60%, с учётом различных потерь и неравномерности воздушных потоков его величина колеблется в пределах 15-1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настоящее время нет существенных технических препятствий, ограничивающих широкое применение ветроэнергетики в ближайшем будущем с вкладом до 10-15% в общее энегропроизвод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4000" y="2781360"/>
                <a:ext cx="3420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33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00000" y="260280"/>
            <a:ext cx="80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овая энер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1114560"/>
            <a:ext cx="5688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Морские и океанические волны представляют, пожалуй, более заманчивый источник энергии, чем приливы. Общее её запасы  оцениваются в 3 млрд.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нтерес к волновой энергетике заметно вырос в последние 10-15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уществуют две основные группы волновых устройст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ертикального перемещения воды для вращения зафиксированных относительно поверхности воды турбогенератор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спользование горизонтального перемещения в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одном из таких преобразователей вода поступает  вертикальную трубу и сжимает находящийся в ней воздух, который, вырываясь наружу, вращает турби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ри спаде волны вода в трубе опускается и засасывает воздух, когда вода опять начинает подниматься, цикл повториться. Периодичность действия такого преобразователя колеблется от 5-6 секунд до 1-2 минут. Достоинство его в том, что турбогенератор не контактирует с агрессивной морской вод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2232000" cy="2166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38" name=""/>
          <p:cNvSpPr txBox="1"/>
          <p:nvPr/>
        </p:nvSpPr>
        <p:spPr>
          <a:xfrm rot="5400000">
            <a:off x="-2368080" y="345528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энергия оке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2232000" cy="2519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252360"/>
            <a:ext cx="806796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ергия прили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1268280"/>
            <a:ext cx="34560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громное количество энергии содержится в океанических приливах, общий потенциал которой оценивается в 1млдр. кВт. На Земле имеется около 25 мест, где уровень подъема воды очень выс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тоимость 1 кВт-часа энергии, полученной на ПЭС, пока примерно в два раза дороже произведённой на обычных электростанциях. Связано это с большими капитальными затратами на строительство. Конструктивно у ПЭС много общего с ГЭ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ЭС не загрязняет окружающую среду, потребляют практически неисчерпаемую энергию океана. Однако и они имеют свой минус: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значительное использование приливной энергии приведёт к заметному замедлению вращения Земли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2303280" cy="1979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23334" t="0" r="53335" b="75561"/>
          <a:stretch/>
        </p:blipFill>
        <p:spPr>
          <a:xfrm>
            <a:off x="5364000" y="3141720"/>
            <a:ext cx="3384720" cy="3222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 rot="5400000">
            <a:off x="-2223720" y="3599640"/>
            <a:ext cx="5472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энергия океан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51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95280" y="258840"/>
            <a:ext cx="85644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лиоэнерге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1413000"/>
            <a:ext cx="352908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уществует два способа преобразования солнечной энергии в электрическую: прямой и с применением промежуточных звеньев. Из всех многочисленных вариантов выделились два: из прямых – фотоэлектрический, из косвенных – термодинамиче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Термодинамические преобразователи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имеют три основных элемента три основных элемента: концентратор солнечной энергии, нагреватель, турбогенератор. Концентраторы – это малопоглощающие поверхности, выполненные в форме различных зеркал: плоских, параболических, фасетчат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Фотопреобразователи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Полупродниковые преобразователи оказались наиболее прекспертивным устройством для преобразования солнечной энергии в электрическу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Главное достоинство всех фотоэнергетических преобразователей прямого и косвенного типа заключается в том, что их работа не нарушает энергетические потоки и круговороты энергии и вещества в би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rcRect l="25003" t="46668" r="50002" b="0"/>
          <a:stretch/>
        </p:blipFill>
        <p:spPr>
          <a:xfrm>
            <a:off x="6588000" y="5300640"/>
            <a:ext cx="1295640" cy="1224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>
            <a:lum contrast="72000"/>
          </a:blip>
          <a:srcRect l="54463" t="10095" r="9031" b="35303"/>
          <a:stretch/>
        </p:blipFill>
        <p:spPr>
          <a:xfrm>
            <a:off x="5724360" y="1197000"/>
            <a:ext cx="3168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156360" y="4941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лиоэлектрост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>
            <a:lum contrast="42000"/>
          </a:blip>
          <a:srcRect l="57098" t="8869" r="25191" b="65679"/>
          <a:stretch/>
        </p:blipFill>
        <p:spPr>
          <a:xfrm>
            <a:off x="4211640" y="2997360"/>
            <a:ext cx="1440000" cy="13586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360" name="" descr=""/>
          <p:cNvPicPr/>
          <p:nvPr/>
        </p:nvPicPr>
        <p:blipFill>
          <a:blip r:embed="rId6">
            <a:lum contrast="42000"/>
          </a:blip>
          <a:srcRect l="55321" t="59969" r="25015" b="13898"/>
          <a:stretch/>
        </p:blipFill>
        <p:spPr>
          <a:xfrm>
            <a:off x="4211640" y="4653000"/>
            <a:ext cx="1428840" cy="1314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pSp>
        <p:nvGrpSpPr>
          <p:cNvPr id="36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6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471840" y="2708280"/>
          <a:ext cx="239544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1840" y="2708280"/>
                    <a:ext cx="2395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 txBox="1"/>
          <p:nvPr/>
        </p:nvSpPr>
        <p:spPr>
          <a:xfrm>
            <a:off x="539640" y="260280"/>
            <a:ext cx="784872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руктура энергетики Росси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5"/>
          <a:srcRect l="50065" t="71713" r="33204" b="802"/>
          <a:stretch/>
        </p:blipFill>
        <p:spPr>
          <a:xfrm>
            <a:off x="250920" y="1052640"/>
            <a:ext cx="3889440" cy="1333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rcRect l="70778" t="0" r="0" b="71029"/>
          <a:stretch/>
        </p:blipFill>
        <p:spPr>
          <a:xfrm>
            <a:off x="4716360" y="981000"/>
            <a:ext cx="4173480" cy="1305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rcRect l="513" t="1171" r="70686" b="71644"/>
          <a:stretch/>
        </p:blipFill>
        <p:spPr>
          <a:xfrm>
            <a:off x="179280" y="4076640"/>
            <a:ext cx="3168720" cy="1252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rcRect l="30137" t="72776" r="51925" b="0"/>
          <a:stretch/>
        </p:blipFill>
        <p:spPr>
          <a:xfrm>
            <a:off x="5940360" y="3860640"/>
            <a:ext cx="3024360" cy="1181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2349360"/>
            <a:ext cx="331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4,9 % энергии вырабатывается на ТЭС, причём 45%- на газе – ценнейшем химическом сырье. Недостатков на ТЭС много, главный- экологический, поэтому нужно снижать их уровень и переходить к экологическим видам энерг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373720"/>
            <a:ext cx="320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5.4 % вырабатываются на АЭС. АЭС удобный и чистый вид энергии, дело только за безопасностью, один Чернобыль это доказал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76640"/>
            <a:ext cx="295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.7 % вырабатывается на ГЭС, но только к сожалению мы используем лишь на 18 % гидроптенциал России, и поэтому в перспективе заменить большинство ТЭС на ГЭ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0360" y="5064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енее 0.1 % на альтернативных источниках энергии. Все они еще исследовательского типа, но развитие их в России очень важно, как экологических источ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7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00000" y="1989000"/>
            <a:ext cx="7561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ля современного мира важно развивать альтернативные источники энергии – как самые экологические и для экономии топлива. Ну а пока это энергетика будущег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P. S.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Сегодня наиболее последовательные футурологи- экологи убеждены, что к 2030 – 2050 гг. нетрадиционные источники энергии будут основными, а традиционные, напротив, потеряют своё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784520" cy="1160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95280" y="404640"/>
            <a:ext cx="2533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150"/>
                            </p:stCondLst>
                            <p:childTnLst>
                              <p:par>
                                <p:cTn id="5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75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042920" y="260280"/>
            <a:ext cx="669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терату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197000"/>
            <a:ext cx="8964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Глобальные проблемы современности. – М.: Мысль, 199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Рыженков А.П. Физика. Человек. Окружающая среда. Прил. к учебнику физики для 7 кл. общеобразовательных учреждений. – М.: Просвещение, 199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Володин В.В. Энергия, век двадцать первый. – М.: Детская литература, 200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Юдасин Л.С. Энергетика: проблемы и надежды. – М.: Просвещение, 1990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Козлов В.Б. Энергетика и природа. – М.: Мысль, 197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Проценко А.Н. Энергия будущего. – М.: Молодая гвардия, 200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Уразалиев А.П. Экологическая конференция . Физика в школе. № 1, 1998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Реймере Н.Ф. природопользование: Словарь-справочник. – М.: Мысль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75640" y="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920" y="18900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341360"/>
            <a:ext cx="62658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лавный вопрос ХХ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века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анные статистики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3. Диаграмма преимуществ и недостатков различных видов энергий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4. Альтернативные источники энер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1.Геотермальная 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геоТЭ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б. проблемы геоТЭ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. Ветро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 эмпирическая форму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3. Энергия океа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. волновая энер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б. энергия прил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4. Гелиоэнергет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 Структура энергетики России сегод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6. Заклю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7. Литера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126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1268280"/>
            <a:ext cx="17290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2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3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4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5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6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7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8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9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0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1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2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3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4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5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6 ст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285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2852640"/>
            <a:ext cx="819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Главный вопрос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XXI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колько человеку нужно энергии? Сколько энергии нужно произвести, чтобы жить в теплых и удобных квартирах, чтобы создавать необходимые изделия, пользоваться транспортом, чтобы готовить пищу, чтобы развлека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260280"/>
            <a:ext cx="604836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Monotype Corsiva"/>
              </a:rPr>
              <a:t>Природа доставит нам всяческие блага, если мы воздадим ей должные почести; она нас карает лишь тогда ,когда, отвернувшись от нее, мы начинаем кощунственно курить фимиам идолам, возведенным нашим воображениям на принадлежащий ей т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К.Гольбах «Система прир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 rot="10800000">
            <a:off x="2047680" y="0"/>
            <a:ext cx="726840" cy="836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35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8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8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80"/>
                            </p:stCondLst>
                            <p:childTnLst>
                              <p:par>
                                <p:cTn id="11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3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08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0920" y="126828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Специалисты считают, что к началу 2020 года каждому живущему на Земле понадобится для нормальной жизни примерно 3-4 киловатта мощности. Если учесть, что к этому времени население Земли будет составлять примерно 7,5 миллиарда человек (сегодня нас 5 миллиардов), то примерная величина потребляемой энергетической мощности составит почти 30 миллиардов киловатт. Сейчас в мире общее потребление энергии составляет примерно 10,5 миллиарда киловатт. Следовательно, уже в первой четверти следующего века человечеству придётся установить вдвое больше энергетических источников, чем оно имеет сегодня.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260280"/>
            <a:ext cx="7777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нные статисти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42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79280" y="907920"/>
            <a:ext cx="8785080" cy="5546520"/>
            <a:chOff x="179280" y="907920"/>
            <a:chExt cx="8785080" cy="5546520"/>
          </a:xfrm>
        </p:grpSpPr>
        <p:sp>
          <p:nvSpPr>
            <p:cNvPr id="245" name=""/>
            <p:cNvSpPr/>
            <p:nvPr/>
          </p:nvSpPr>
          <p:spPr>
            <a:xfrm>
              <a:off x="705600" y="90792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ccff"/>
                  </a:solidFill>
                  <a:latin typeface="Arial"/>
                </a:rPr>
                <a:t>Т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2280" y="90792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В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3360" y="90792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Г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34080" y="90792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cc33"/>
                  </a:solidFill>
                  <a:latin typeface="Arial"/>
                </a:rPr>
                <a:t>П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61120" y="90792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А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13640" y="90792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00"/>
                  </a:solidFill>
                  <a:latin typeface="Arial"/>
                </a:rPr>
                <a:t>СЭ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280" y="907920"/>
              <a:ext cx="526320" cy="187308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Ч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5600" y="278100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Вызыв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кислот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ожди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пособству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«парниковом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эффекту»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ртя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ельеф шахт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2280" y="278100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ртя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ландшафт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ним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ольши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3360" y="278100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таплива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гром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ространства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азруша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естественную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ред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бит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флоры и фауны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34080" y="278100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тенциаль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пасны 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удоходства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ним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 моря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61120" y="278100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бразу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радиоактив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тходы, могу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анести вред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кружающе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реде в случа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утечки радиаций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3640" y="278100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Огром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емл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ют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д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олнеч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батаре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9280" y="2781000"/>
              <a:ext cx="526320" cy="18734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Н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9ff99"/>
                  </a:solidFill>
                  <a:latin typeface="Arial"/>
                </a:rPr>
                <a:t>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600" y="458136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Мож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контролирова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грязнение среды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овать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д станци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2280" y="458136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Экологичес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чисты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ю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аровое топливо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83360" y="458136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у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озд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овые водоёмы.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34080" y="4581360"/>
              <a:ext cx="14266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Миниму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оверхност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суши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у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61120" y="4581360"/>
              <a:ext cx="135108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ри отсутстви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утечки никак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загрязнен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ы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больш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площади под АЭС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3640" y="4581360"/>
              <a:ext cx="1350720" cy="187164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Не загрязняет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атмосфера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используетс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даровая энергия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9280" y="4581360"/>
              <a:ext cx="526320" cy="187308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П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М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324000" y="189000"/>
            <a:ext cx="85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грамма преимуществ и недостатков различных видов энерг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189000"/>
            <a:ext cx="86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omic"/>
              </a:rPr>
              <a:t>Человечество ещё плохо использует возможности получения энергии из природных, практически неисчерпаемых источников: тепла земных недр и океана, энергии океанических течений, приливов и волн, ветра.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9280" y="1197000"/>
            <a:ext cx="8425080" cy="5400720"/>
            <a:chOff x="179280" y="1197000"/>
            <a:chExt cx="8425080" cy="5400720"/>
          </a:xfrm>
        </p:grpSpPr>
        <p:sp>
          <p:nvSpPr>
            <p:cNvPr id="273" name=""/>
            <p:cNvSpPr/>
            <p:nvPr/>
          </p:nvSpPr>
          <p:spPr>
            <a:xfrm>
              <a:off x="7740720" y="1773360"/>
              <a:ext cx="0" cy="266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6720" y="1916280"/>
              <a:ext cx="0" cy="2665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24000" y="1197000"/>
              <a:ext cx="8280360" cy="7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ьтернативные источники энерги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9640" y="2565360"/>
              <a:ext cx="3168720" cy="136836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Ветроэнерг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5280" y="4653000"/>
              <a:ext cx="3456000" cy="14400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Гелиоэнергети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4720" y="4508640"/>
              <a:ext cx="4176720" cy="2089080"/>
            </a:xfrm>
            <a:prstGeom prst="rect">
              <a:avLst/>
            </a:prstGeom>
            <a:solidFill>
              <a:srgbClr val="009999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Энерг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океа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9280" y="2276640"/>
              <a:ext cx="4284720" cy="1728720"/>
            </a:xfrm>
            <a:prstGeom prst="rect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Геотерм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</a:rPr>
                <a:t>энерг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8360" y="1916280"/>
              <a:ext cx="0" cy="288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0000" y="1916280"/>
              <a:ext cx="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24000" y="333360"/>
            <a:ext cx="84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термальная энер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4046400" y="1413000"/>
            <a:ext cx="4606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 год к поверхности Земли поступает                           тепловой энерг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ли                                   , 90% ее поступает за счёт теплопроводности пород литосферы, 10% вместе с лавой, горячим паром, водой и газами. Верхняя часть земной коры имеет температурный градиент 20-30      С на 2-30м. И даже на 2-3 м. На Земле довольно много мест, где имеются термальные источники и большие температурные градиенты. Это часть районов России, Исландии, Новой Зеландии и США, а также других стран, имеющих на своей территории горные массивы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80000" y="1700280"/>
                <a:ext cx="180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а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03640" y="2565360"/>
                <a:ext cx="2160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1"/>
          <a:srcRect l="51666" t="46668" r="25003" b="0"/>
          <a:stretch/>
        </p:blipFill>
        <p:spPr>
          <a:xfrm>
            <a:off x="468360" y="1341360"/>
            <a:ext cx="3240000" cy="525636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292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294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35280" y="333360"/>
            <a:ext cx="46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ТЭ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268280"/>
            <a:ext cx="4105440" cy="3385800"/>
          </a:xfrm>
          <a:prstGeom prst="rect">
            <a:avLst/>
          </a:prstGeom>
          <a:noFill/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еоТЭС используют естественные термальные воды с температурой от 90 до 200 С и давлением пара от 3 до 6 МПа. Используется эффект резкого падения давления в потоке воды, выходящей на поверхность. Вода при этом вскипает и превращается в пар из-за резкого падения давления. Пар после отделения от воды в сепараторе направляется в турбогенерато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6920" y="249228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4716360" y="1268280"/>
            <a:ext cx="3961080" cy="3385800"/>
          </a:xfrm>
          <a:prstGeom prst="rect">
            <a:avLst/>
          </a:prstGeom>
          <a:noFill/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 местах, где нет выхода термальных вод, но имеются высокотемпературное поле вблизи от поверхности, в качестве теплоносителя используют поверхностные или грунтовые воды. Вода закачивается в полость высокотемпературного слоя, образовавшийся пар с высокими параметрами по другой скважине подаётся на турбогенерат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2168400">
            <a:off x="3276720" y="981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388400">
            <a:off x="5076360" y="979200"/>
            <a:ext cx="432000" cy="288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4941720"/>
            <a:ext cx="51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ервая геоТЭС была построена в 1904 в Италии. Общая мощность в мире геоТЭС около 1,5 ГВт, по прогнозам на 2010 год, их общий вклад в мировое электропроизводство достигает 2-3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867280" y="4797360"/>
            <a:ext cx="2305080" cy="187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95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9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150"/>
                            </p:stCondLst>
                            <p:childTnLst>
                              <p:par>
                                <p:cTn id="2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189000"/>
            <a:ext cx="8209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ы геоТЭ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50920" y="1197000"/>
            <a:ext cx="201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-первы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119700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это особенности расположения. Геотермальные районы, как правило, сейсмически активны и удалены от потреби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2421000"/>
            <a:ext cx="20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-вторы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2421000"/>
            <a:ext cx="64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термальные воды обычно сильно минерализованы и коррозионно активны активны, вследствие чего водотоки и трубопроводы быстро изнашиваются и подвергаются быстрому обрастанию со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0920" y="3933720"/>
            <a:ext cx="201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-третьи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3933720"/>
            <a:ext cx="64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геоТЭС представляют и экологическую опасность опасность, если они работают на закачиваемой воде, так как возникает проблема хранения и переработки отработанных вод, насыщенных солями; кроме того, необходима очистка вод от попутных газ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2000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72360" y="6570720"/>
            <a:ext cx="971640" cy="287280"/>
            <a:chOff x="8172360" y="6570720"/>
            <a:chExt cx="971640" cy="287280"/>
          </a:xfrm>
        </p:grpSpPr>
        <p:sp>
          <p:nvSpPr>
            <p:cNvPr id="317" name="">
              <a:hlinkClick r:id="" action="ppaction://hlinkshowjump?jump=nextslide"/>
            </p:cNvPr>
            <p:cNvSpPr/>
            <p:nvPr/>
          </p:nvSpPr>
          <p:spPr>
            <a:xfrm>
              <a:off x="8604360" y="6570720"/>
              <a:ext cx="539640" cy="287280"/>
            </a:xfrm>
            <a:custGeom>
              <a:avLst/>
              <a:gdLst>
                <a:gd name="textAreaLeft" fmla="*/ 18360 w 539640"/>
                <a:gd name="textAreaRight" fmla="*/ 521280 w 539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0551" h="21600">
                  <a:moveTo>
                    <a:pt x="0" y="0"/>
                  </a:moveTo>
                  <a:lnTo>
                    <a:pt x="40551" y="0"/>
                  </a:lnTo>
                  <a:lnTo>
                    <a:pt x="40551" y="21600"/>
                  </a:lnTo>
                  <a:lnTo>
                    <a:pt x="0" y="21600"/>
                  </a:lnTo>
                  <a:close/>
                </a:path>
                <a:path fill="lightenLess" w="40551" h="21600">
                  <a:moveTo>
                    <a:pt x="0" y="0"/>
                  </a:moveTo>
                  <a:lnTo>
                    <a:pt x="40551" y="0"/>
                  </a:lnTo>
                  <a:lnTo>
                    <a:pt x="39151" y="1400"/>
                  </a:lnTo>
                  <a:lnTo>
                    <a:pt x="1400" y="1400"/>
                  </a:lnTo>
                  <a:close/>
                </a:path>
                <a:path fill="darken" w="40551" h="21600">
                  <a:moveTo>
                    <a:pt x="40551" y="0"/>
                  </a:moveTo>
                  <a:lnTo>
                    <a:pt x="40551" y="21600"/>
                  </a:lnTo>
                  <a:lnTo>
                    <a:pt x="39151" y="20200"/>
                  </a:lnTo>
                  <a:lnTo>
                    <a:pt x="39151" y="1400"/>
                  </a:lnTo>
                  <a:close/>
                </a:path>
                <a:path fill="darkenLess" w="40551" h="21600">
                  <a:moveTo>
                    <a:pt x="405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151" y="20200"/>
                  </a:lnTo>
                  <a:close/>
                </a:path>
                <a:path fill="lighten" w="405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551" h="21600">
                  <a:moveTo>
                    <a:pt x="13269" y="3794"/>
                  </a:moveTo>
                  <a:lnTo>
                    <a:pt x="27282" y="10800"/>
                  </a:lnTo>
                  <a:lnTo>
                    <a:pt x="13269" y="17806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>
              <a:hlinkClick r:id="" action="ppaction://hlinkshowjump?jump=previousslide"/>
            </p:cNvPr>
            <p:cNvSpPr/>
            <p:nvPr/>
          </p:nvSpPr>
          <p:spPr>
            <a:xfrm>
              <a:off x="8172360" y="6570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4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8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800"/>
                            </p:stCondLst>
                            <p:childTnLst>
                              <p:par>
                                <p:cTn id="2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21:46:50Z</dcterms:created>
  <dc:creator>.</dc:creator>
  <dc:description/>
  <dc:language>en-US</dc:language>
  <cp:lastModifiedBy>User</cp:lastModifiedBy>
  <dcterms:modified xsi:type="dcterms:W3CDTF">2008-01-10T10:33:59Z</dcterms:modified>
  <cp:revision>21</cp:revision>
  <dc:subject/>
  <dc:title>Слайд 1</dc:title>
</cp:coreProperties>
</file>