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24.wmf" ContentType="image/x-wmf"/>
  <Override PartName="/ppt/media/image12.wmf" ContentType="image/x-wmf"/>
  <Override PartName="/ppt/media/image23.wmf" ContentType="image/x-wmf"/>
  <Override PartName="/ppt/media/image11.wmf" ContentType="image/x-wmf"/>
  <Override PartName="/ppt/media/image22.wmf" ContentType="image/x-wmf"/>
  <Override PartName="/ppt/media/image2.jpeg" ContentType="image/jpeg"/>
  <Override PartName="/ppt/media/image3.gif" ContentType="image/gif"/>
  <Override PartName="/ppt/media/image14.wmf" ContentType="image/x-wmf"/>
  <Override PartName="/ppt/media/image4.gif" ContentType="image/gif"/>
  <Override PartName="/ppt/media/image15.wmf" ContentType="image/x-wmf"/>
  <Override PartName="/ppt/media/image1.jpeg" ContentType="image/jpeg"/>
  <Override PartName="/ppt/media/image16.wmf" ContentType="image/x-wm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E4C-30BA-4D11-B901-5B661D0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1CC-72BB-445F-B642-CD914BC7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697-7F7B-4A1D-BB9A-B42AEA16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B13-9C3C-4CCA-826A-51FA5E33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70F-3ECA-43BF-8A6E-2AD2F90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8B2-FA92-4034-8F43-E0EFFDA5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46B-D4CF-46E6-90E2-A45E761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FAE-8535-4474-A8B6-81C73B7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56C-EB35-48B0-AB85-F9DA5CD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371-C833-4283-9269-29CCD55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4BB-4E4D-4B41-9081-4642E88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B30-010D-44E1-9281-173B45C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665-8534-4B25-AA1B-5D0562417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енаже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степен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МОУ г. Мурманска гимназия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Шахова Татьяна Александров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979640" y="1341360"/>
          <a:ext cx="108108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341360"/>
                    <a:ext cx="10810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1908000" y="2421000"/>
          <a:ext cx="1441800" cy="80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2421000"/>
                    <a:ext cx="14418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908000" y="3213000"/>
          <a:ext cx="208944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8000" y="3213000"/>
                    <a:ext cx="20894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0"/>
          <p:cNvGraphicFramePr/>
          <p:nvPr/>
        </p:nvGraphicFramePr>
        <p:xfrm>
          <a:off x="1908000" y="4076640"/>
          <a:ext cx="1579680" cy="165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8000" y="4076640"/>
                    <a:ext cx="15796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979640" y="5661000"/>
          <a:ext cx="1440000" cy="69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79640" y="5661000"/>
                    <a:ext cx="1440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7"/>
              <p:cNvSpPr txBox="1"/>
              <p:nvPr/>
            </p:nvSpPr>
            <p:spPr>
              <a:xfrm>
                <a:off x="3073320" y="1557360"/>
                <a:ext cx="19875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7"/>
              <p:cNvSpPr txBox="1"/>
              <p:nvPr/>
            </p:nvSpPr>
            <p:spPr>
              <a:xfrm>
                <a:off x="3438360" y="2565360"/>
                <a:ext cx="3127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1"/>
              <p:cNvSpPr txBox="1"/>
              <p:nvPr/>
            </p:nvSpPr>
            <p:spPr>
              <a:xfrm>
                <a:off x="4164120" y="3429000"/>
                <a:ext cx="309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4"/>
              <p:cNvSpPr txBox="1"/>
              <p:nvPr/>
            </p:nvSpPr>
            <p:spPr>
              <a:xfrm>
                <a:off x="3699000" y="4365720"/>
                <a:ext cx="4089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47"/>
              <p:cNvSpPr txBox="1"/>
              <p:nvPr/>
            </p:nvSpPr>
            <p:spPr>
              <a:xfrm>
                <a:off x="3692520" y="5516640"/>
                <a:ext cx="1900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48"/>
          <p:cNvSpPr/>
          <p:nvPr/>
        </p:nvSpPr>
        <p:spPr>
          <a:xfrm flipV="1">
            <a:off x="4500720" y="5660640"/>
            <a:ext cx="36036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9"/>
          <p:cNvSpPr/>
          <p:nvPr/>
        </p:nvSpPr>
        <p:spPr>
          <a:xfrm flipV="1">
            <a:off x="4284720" y="609300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5"/>
          <p:cNvGraphicFramePr/>
          <p:nvPr/>
        </p:nvGraphicFramePr>
        <p:xfrm>
          <a:off x="1201680" y="1413000"/>
          <a:ext cx="115272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1680" y="1413000"/>
                    <a:ext cx="11527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1201680" y="2492280"/>
          <a:ext cx="1346400" cy="13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1680" y="2492280"/>
                    <a:ext cx="134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1201680" y="3860640"/>
          <a:ext cx="1513080" cy="73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01680" y="3860640"/>
                    <a:ext cx="1513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1254240" y="4799160"/>
          <a:ext cx="1150920" cy="49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4240" y="4799160"/>
                    <a:ext cx="1150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2651040" y="1413000"/>
                <a:ext cx="21052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Line 13"/>
          <p:cNvSpPr/>
          <p:nvPr/>
        </p:nvSpPr>
        <p:spPr>
          <a:xfrm flipV="1">
            <a:off x="4299120" y="148608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V="1">
            <a:off x="4514760" y="1989000"/>
            <a:ext cx="2174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7"/>
              <p:cNvSpPr txBox="1"/>
              <p:nvPr/>
            </p:nvSpPr>
            <p:spPr>
              <a:xfrm>
                <a:off x="4816440" y="1427040"/>
                <a:ext cx="6318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0"/>
              <p:cNvSpPr txBox="1"/>
              <p:nvPr/>
            </p:nvSpPr>
            <p:spPr>
              <a:xfrm>
                <a:off x="2570040" y="2709720"/>
                <a:ext cx="2557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Line 21"/>
          <p:cNvSpPr/>
          <p:nvPr/>
        </p:nvSpPr>
        <p:spPr>
          <a:xfrm flipV="1">
            <a:off x="4370400" y="2852280"/>
            <a:ext cx="36036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V="1">
            <a:off x="4586400" y="3249360"/>
            <a:ext cx="2174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4"/>
              <p:cNvSpPr txBox="1"/>
              <p:nvPr/>
            </p:nvSpPr>
            <p:spPr>
              <a:xfrm>
                <a:off x="4802040" y="3249720"/>
                <a:ext cx="17964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5"/>
              <p:cNvSpPr txBox="1"/>
              <p:nvPr/>
            </p:nvSpPr>
            <p:spPr>
              <a:xfrm>
                <a:off x="5278320" y="2760840"/>
                <a:ext cx="1414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2684520" y="3789360"/>
                <a:ext cx="19288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8"/>
              <p:cNvSpPr txBox="1"/>
              <p:nvPr/>
            </p:nvSpPr>
            <p:spPr>
              <a:xfrm>
                <a:off x="2394000" y="4870440"/>
                <a:ext cx="1927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2"/>
              <p:cNvSpPr txBox="1"/>
              <p:nvPr/>
            </p:nvSpPr>
            <p:spPr>
              <a:xfrm>
                <a:off x="2595600" y="5373720"/>
                <a:ext cx="5959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6"/>
              <p:cNvSpPr txBox="1"/>
              <p:nvPr/>
            </p:nvSpPr>
            <p:spPr>
              <a:xfrm>
                <a:off x="1332000" y="5300640"/>
                <a:ext cx="8427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Rectangle 58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7"/>
          <p:cNvGraphicFramePr/>
          <p:nvPr/>
        </p:nvGraphicFramePr>
        <p:xfrm>
          <a:off x="1692360" y="1916280"/>
          <a:ext cx="971640" cy="43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916280"/>
                    <a:ext cx="9716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2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1619280" y="2492280"/>
          <a:ext cx="1258920" cy="6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2492280"/>
                    <a:ext cx="12589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3"/>
          <p:cNvGraphicFramePr/>
          <p:nvPr/>
        </p:nvGraphicFramePr>
        <p:xfrm>
          <a:off x="1692360" y="3141720"/>
          <a:ext cx="104292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141720"/>
                    <a:ext cx="1042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1619280" y="3645000"/>
          <a:ext cx="1152360" cy="100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19280" y="3645000"/>
                    <a:ext cx="11523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1619280" y="4724280"/>
          <a:ext cx="1187280" cy="51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4724280"/>
                    <a:ext cx="1187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1619280" y="5373720"/>
          <a:ext cx="122400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5373720"/>
                    <a:ext cx="12240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3"/>
          <p:cNvGraphicFramePr/>
          <p:nvPr/>
        </p:nvGraphicFramePr>
        <p:xfrm>
          <a:off x="1619280" y="6021360"/>
          <a:ext cx="1476360" cy="461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9280" y="6021360"/>
                    <a:ext cx="1476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27"/>
              <p:cNvSpPr txBox="1"/>
              <p:nvPr/>
            </p:nvSpPr>
            <p:spPr>
              <a:xfrm>
                <a:off x="2930400" y="1341360"/>
                <a:ext cx="4211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28"/>
              <p:cNvSpPr txBox="1"/>
              <p:nvPr/>
            </p:nvSpPr>
            <p:spPr>
              <a:xfrm>
                <a:off x="1766880" y="1341360"/>
                <a:ext cx="1022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2"/>
              <p:cNvSpPr txBox="1"/>
              <p:nvPr/>
            </p:nvSpPr>
            <p:spPr>
              <a:xfrm>
                <a:off x="2760840" y="1878120"/>
                <a:ext cx="1865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5"/>
              <p:cNvSpPr txBox="1"/>
              <p:nvPr/>
            </p:nvSpPr>
            <p:spPr>
              <a:xfrm>
                <a:off x="2901960" y="2565360"/>
                <a:ext cx="1866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37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1"/>
              <p:cNvSpPr txBox="1"/>
              <p:nvPr/>
            </p:nvSpPr>
            <p:spPr>
              <a:xfrm>
                <a:off x="2805120" y="3141720"/>
                <a:ext cx="1774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5"/>
              <p:cNvSpPr txBox="1"/>
              <p:nvPr/>
            </p:nvSpPr>
            <p:spPr>
              <a:xfrm>
                <a:off x="2921040" y="3645000"/>
                <a:ext cx="2889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Line 46"/>
          <p:cNvSpPr/>
          <p:nvPr/>
        </p:nvSpPr>
        <p:spPr>
          <a:xfrm>
            <a:off x="3203640" y="5013360"/>
            <a:ext cx="115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0"/>
              <p:cNvSpPr txBox="1"/>
              <p:nvPr/>
            </p:nvSpPr>
            <p:spPr>
              <a:xfrm>
                <a:off x="3017880" y="5408640"/>
                <a:ext cx="8715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4"/>
              <p:cNvSpPr txBox="1"/>
              <p:nvPr/>
            </p:nvSpPr>
            <p:spPr>
              <a:xfrm>
                <a:off x="3062160" y="5985000"/>
                <a:ext cx="2345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730520" y="1450800"/>
                <a:ext cx="8586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619280" y="2565360"/>
                <a:ext cx="1050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4"/>
              <p:cNvSpPr txBox="1"/>
              <p:nvPr/>
            </p:nvSpPr>
            <p:spPr>
              <a:xfrm>
                <a:off x="1693800" y="3789360"/>
                <a:ext cx="935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8"/>
              <p:cNvSpPr txBox="1"/>
              <p:nvPr/>
            </p:nvSpPr>
            <p:spPr>
              <a:xfrm>
                <a:off x="1690560" y="5013360"/>
                <a:ext cx="938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2"/>
              <p:cNvSpPr txBox="1"/>
              <p:nvPr/>
            </p:nvSpPr>
            <p:spPr>
              <a:xfrm>
                <a:off x="2768760" y="1413000"/>
                <a:ext cx="3321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6"/>
              <p:cNvSpPr txBox="1"/>
              <p:nvPr/>
            </p:nvSpPr>
            <p:spPr>
              <a:xfrm>
                <a:off x="2786040" y="2565360"/>
                <a:ext cx="2981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0"/>
              <p:cNvSpPr txBox="1"/>
              <p:nvPr/>
            </p:nvSpPr>
            <p:spPr>
              <a:xfrm>
                <a:off x="2685960" y="3789360"/>
                <a:ext cx="2895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2870280" y="5013360"/>
                <a:ext cx="351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Line 35"/>
          <p:cNvSpPr/>
          <p:nvPr/>
        </p:nvSpPr>
        <p:spPr>
          <a:xfrm flipV="1">
            <a:off x="5219640" y="558972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 flipV="1">
            <a:off x="5651640" y="5084640"/>
            <a:ext cx="2174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0"/>
              <p:cNvSpPr txBox="1"/>
              <p:nvPr/>
            </p:nvSpPr>
            <p:spPr>
              <a:xfrm>
                <a:off x="6645240" y="5099040"/>
                <a:ext cx="16160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41"/>
          <p:cNvSpPr/>
          <p:nvPr/>
        </p:nvSpPr>
        <p:spPr>
          <a:xfrm flipV="1">
            <a:off x="7704000" y="515628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7667640" y="5589360"/>
            <a:ext cx="2174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7"/>
              <p:cNvSpPr txBox="1"/>
              <p:nvPr/>
            </p:nvSpPr>
            <p:spPr>
              <a:xfrm>
                <a:off x="8317080" y="5099040"/>
                <a:ext cx="360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то, что стараешь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20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20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20:16Z</dcterms:created>
  <dc:creator>Customer</dc:creator>
  <dc:description/>
  <dc:language>en-US</dc:language>
  <cp:lastModifiedBy>Customer</cp:lastModifiedBy>
  <dcterms:modified xsi:type="dcterms:W3CDTF">2010-03-30T17:04:09Z</dcterms:modified>
  <cp:revision>7</cp:revision>
  <dc:subject/>
  <dc:title>Слайд 1</dc:title>
</cp:coreProperties>
</file>