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79E-2B60-4AD6-A348-70CAEB15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387-12EF-412D-ADE5-84F4FAD9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4B2-BC90-4002-BCCA-FA2A4CA4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EC7-54D2-47AD-99D0-C511003A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0E-7282-46FD-A396-5982C122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392-DC28-40DA-A444-1DA17FC9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60C-A587-4C97-BD98-A655C711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987-D56F-42F5-8789-48C2B954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C6C-52DD-4D5E-A3AD-7399731D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D15-826A-42AE-9A2D-5D5871B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B14-3BA0-428B-BC1F-9FD33FC5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407-1DA8-4484-943B-4E216A5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6A5-F889-4E73-9062-443368585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5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Коля</cp:lastModifiedBy>
  <dcterms:modified xsi:type="dcterms:W3CDTF">2013-07-10T08:22:46Z</dcterms:modified>
  <cp:revision>28</cp:revision>
  <dc:subject/>
  <dc:title>Слайд 1</dc:title>
</cp:coreProperties>
</file>