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F9C-59DA-47CD-A00D-F904CF1C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A87-332C-4FA8-AB46-2D2013B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2B3-0806-4977-9EEF-5141C48C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684-8BAD-4688-AA60-6C82419E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D72-7770-4D96-A802-C92A4EE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EA5-7B46-447E-964B-09ACAC07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C39-E2D9-40E7-96E3-02595D83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6CA-F67B-4DB9-9514-A173D0C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318-AC5B-4D3A-A303-8BBF09C4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AD6-2CF8-4339-8046-B7C823F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B41-FE34-4229-A59F-63E5FA7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D54-9A31-413D-A565-322EF17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422-2DC7-45D0-8210-BDF06B890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5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Коля</cp:lastModifiedBy>
  <dcterms:modified xsi:type="dcterms:W3CDTF">2013-07-10T08:22:46Z</dcterms:modified>
  <cp:revision>28</cp:revision>
  <dc:subject/>
  <dc:title>Слайд 1</dc:title>
</cp:coreProperties>
</file>