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9F7-36B1-4FB0-8CF6-D011EE86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7B3-64D6-4009-8DE7-5B98CB60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847-CED3-4AFD-AC42-55C79005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2F1-D25C-43BC-8C16-5CB29D59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493-51C5-40B7-ADF7-0F1255AD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66E-7A8D-4C18-B2A1-B9C6E255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CDB-36B5-4AC1-BFBB-3BA272E5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F23-554C-47FC-946E-E5825777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2C2-02E8-4399-9114-59D72934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3B2-C49E-48EA-B32D-47F9D1A1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130-A873-4E96-825E-C71F3A57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B85-E450-4402-9322-741FF228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63FE-0E79-4EFB-B970-AF8486307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a/a3/Snegir1.jpg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общего и профессионального образования Свердловской обла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БОУ  СПО  «Ирбитский гуманитарный колледж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трукт урока литературного чтен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клас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екреты загадки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Разработчики:         Дягилева Н.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Бабошина Н. 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Серкова В. 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Епанчинцева Т. 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Ананьева С. 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Вахрушева Д. А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бит 20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95280" y="404640"/>
            <a:ext cx="8424720" cy="61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7236000" y="692280"/>
            <a:ext cx="1029960" cy="17031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"/>
          <p:cNvPicPr/>
          <p:nvPr/>
        </p:nvPicPr>
        <p:blipFill>
          <a:blip r:embed="rId2"/>
          <a:stretch/>
        </p:blipFill>
        <p:spPr>
          <a:xfrm>
            <a:off x="7596360" y="5229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3"/>
          <a:stretch/>
        </p:blipFill>
        <p:spPr>
          <a:xfrm rot="2130000">
            <a:off x="3276360" y="1785600"/>
            <a:ext cx="3806640" cy="507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1" descr=""/>
          <p:cNvPicPr/>
          <p:nvPr/>
        </p:nvPicPr>
        <p:blipFill>
          <a:blip r:embed="rId4"/>
          <a:stretch/>
        </p:blipFill>
        <p:spPr>
          <a:xfrm>
            <a:off x="3780000" y="620640"/>
            <a:ext cx="2652480" cy="2664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0" descr=""/>
          <p:cNvPicPr/>
          <p:nvPr/>
        </p:nvPicPr>
        <p:blipFill>
          <a:blip r:embed="rId5"/>
          <a:stretch/>
        </p:blipFill>
        <p:spPr>
          <a:xfrm>
            <a:off x="684360" y="4437000"/>
            <a:ext cx="2160360" cy="1616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6"/>
          <a:stretch/>
        </p:blipFill>
        <p:spPr>
          <a:xfrm>
            <a:off x="7093080" y="3284640"/>
            <a:ext cx="1584360" cy="14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7"/>
          <a:stretch/>
        </p:blipFill>
        <p:spPr>
          <a:xfrm>
            <a:off x="539640" y="1557360"/>
            <a:ext cx="360072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9"/>
          <p:cNvSpPr txBox="1"/>
          <p:nvPr/>
        </p:nvSpPr>
        <p:spPr>
          <a:xfrm>
            <a:off x="755640" y="1773360"/>
            <a:ext cx="73436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чностные: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ваивает роль ученик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имательно относится к красоте окружающего мира, к произведениям устного народного творчества.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етапредметные: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ует свое рабочее место под руководством учителя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яет и понимает цель учебной деятельности с помощью учителя. Анализирует загадку с целью выделения существенных признаков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тает тексты вслух и про себя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ет при составлении загадки согласно алгоритму (памятке)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упает в диалог (отвечает на вопросы, задает вопросы, уточняет непонятное). Оформляет свои мысли в устной и письменной речи с учетом учебных ситуаций. Сотрудничает с товарищами при выполнении заданий в паре, группе. 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метные: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комится с особенностями загадок, включающих признаки предметов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ет интерес к произведениям фольклор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ует умения конструировать зага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Admin\Рабочий стол\Картинки\РАЗНЫЕ\pv-wld-24.jpg"/>
          <p:cNvPicPr/>
          <p:nvPr/>
        </p:nvPicPr>
        <p:blipFill>
          <a:blip r:embed="rId1"/>
          <a:stretch/>
        </p:blipFill>
        <p:spPr>
          <a:xfrm>
            <a:off x="3638520" y="-6480"/>
            <a:ext cx="1244520" cy="19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142920" y="1857240"/>
          <a:ext cx="6143760" cy="4714920"/>
        </p:xfrm>
        <a:graphic>
          <a:graphicData uri="http://schemas.openxmlformats.org/drawingml/2006/table">
            <a:tbl>
              <a:tblPr/>
              <a:tblGrid>
                <a:gridCol w="682560"/>
                <a:gridCol w="682560"/>
                <a:gridCol w="682560"/>
                <a:gridCol w="682920"/>
                <a:gridCol w="682560"/>
                <a:gridCol w="682560"/>
                <a:gridCol w="682560"/>
                <a:gridCol w="682560"/>
                <a:gridCol w="682920"/>
              </a:tblGrid>
              <a:tr h="669960">
                <a:tc gridSpan="4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2560">
                <a:tc row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gridSpan="4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gridSpan="4" row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1"/>
          <p:cNvSpPr/>
          <p:nvPr/>
        </p:nvSpPr>
        <p:spPr>
          <a:xfrm>
            <a:off x="5143680" y="58597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То рыжая, то серая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ванием бел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214200" y="142920"/>
            <a:ext cx="214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мочек пух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ое ухо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ает ловко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 морков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1857240" y="571680"/>
            <a:ext cx="242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Хвост пушистый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золотистый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у живет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кур крад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7429680" y="1928880"/>
            <a:ext cx="192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хнатенька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атенька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 пьет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нки по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5643720" y="2928960"/>
            <a:ext cx="300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Хозяин лесной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ыпается весной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имой, под вьюжный в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т в избушке снегов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6357960" y="5143680"/>
            <a:ext cx="29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то зимой холодной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хмурый и голодный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2928960" y="1785960"/>
            <a:ext cx="271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   а   я   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928800" y="2500200"/>
            <a:ext cx="263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 и   с   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928800" y="314316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н    е   г   и    р   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214200" y="378612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 о   ш  к   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1571760" y="450072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  е   д    в   е   д    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928800" y="514368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о   л  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42920" y="585792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  е    л   к  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Documents and Settings\Admin\Рабочий стол\Картинки\РАЗНЫЕ\Z_003.JPG"/>
          <p:cNvPicPr/>
          <p:nvPr/>
        </p:nvPicPr>
        <p:blipFill>
          <a:blip r:embed="rId2"/>
          <a:stretch/>
        </p:blipFill>
        <p:spPr>
          <a:xfrm>
            <a:off x="281160" y="1066680"/>
            <a:ext cx="147456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Файл:Snegir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51560" y="353880"/>
            <a:ext cx="1683000" cy="14385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7"/>
          <p:cNvSpPr/>
          <p:nvPr/>
        </p:nvSpPr>
        <p:spPr>
          <a:xfrm>
            <a:off x="4929120" y="142920"/>
            <a:ext cx="335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расногрудый, чернокрылый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 зернышки клевать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вым снегом на рябине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явится опя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C:\Documents and Settings\Admin\Рабочий стол\Картинки\КОШКИ\K_003.JPG"/>
          <p:cNvPicPr/>
          <p:nvPr/>
        </p:nvPicPr>
        <p:blipFill>
          <a:blip r:embed="rId5"/>
          <a:stretch/>
        </p:blipFill>
        <p:spPr>
          <a:xfrm>
            <a:off x="5851440" y="1279440"/>
            <a:ext cx="1762200" cy="165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Admin\Рабочий стол\Картинки\МЕДВЕДИ\M_515.JPG"/>
          <p:cNvPicPr/>
          <p:nvPr/>
        </p:nvPicPr>
        <p:blipFill>
          <a:blip r:embed="rId6"/>
          <a:stretch/>
        </p:blipFill>
        <p:spPr>
          <a:xfrm>
            <a:off x="6851520" y="3925800"/>
            <a:ext cx="1908360" cy="129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Documents and Settings\Admin\Рабочий стол\Картинки\СОБАКИ И ВОЛКИ\WOLVES~1.JPG"/>
          <p:cNvPicPr/>
          <p:nvPr/>
        </p:nvPicPr>
        <p:blipFill>
          <a:blip r:embed="rId7"/>
          <a:stretch/>
        </p:blipFill>
        <p:spPr>
          <a:xfrm>
            <a:off x="7192800" y="5565600"/>
            <a:ext cx="1818000" cy="129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C:\Documents and Settings\Admin\Рабочий стол\Картинки\РАЗНЫЕ\Белка1.jpg"/>
          <p:cNvPicPr/>
          <p:nvPr/>
        </p:nvPicPr>
        <p:blipFill>
          <a:blip r:embed="rId8"/>
          <a:stretch/>
        </p:blipFill>
        <p:spPr>
          <a:xfrm>
            <a:off x="3565440" y="5278320"/>
            <a:ext cx="1725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Arial"/>
              </a:rPr>
              <a:t>Загадка – ума заряд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4105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ведь в берлоге спит зимо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большущею сосной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когда придёт весна, Просыпается от 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00720" y="333000"/>
            <a:ext cx="446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зяин лес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ыпается вес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зимой под вьюжный 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ит в избушке сне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748720" y="5950080"/>
          <a:ext cx="395280" cy="3650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7" descr="C:\Documents and Settings\Admin\Рабочий стол\Картинки\МЕДВЕДИ\M_515.JPG"/>
          <p:cNvPicPr/>
          <p:nvPr/>
        </p:nvPicPr>
        <p:blipFill>
          <a:blip r:embed="rId1"/>
          <a:stretch/>
        </p:blipFill>
        <p:spPr>
          <a:xfrm>
            <a:off x="1908000" y="3213000"/>
            <a:ext cx="50403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635280" y="3713400"/>
            <a:ext cx="51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основе загадки лежит неожиданное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равн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Она открывает нам поэтическую красоту в самых обычных вещах, предметах, явлениях. Развивает наши ум, наблюдательность, фант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ЛИСА И КОЛО БО В"/>
          <p:cNvPicPr/>
          <p:nvPr/>
        </p:nvPicPr>
        <p:blipFill>
          <a:blip r:embed="rId1"/>
          <a:stretch/>
        </p:blipFill>
        <p:spPr>
          <a:xfrm>
            <a:off x="324000" y="2060640"/>
            <a:ext cx="3228840" cy="40370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7"/>
          <p:cNvSpPr/>
          <p:nvPr/>
        </p:nvSpPr>
        <p:spPr>
          <a:xfrm>
            <a:off x="3492360" y="476280"/>
            <a:ext cx="5472360" cy="2952720"/>
          </a:xfrm>
          <a:prstGeom prst="cloudCallout">
            <a:avLst>
              <a:gd name="adj1" fmla="val -64796"/>
              <a:gd name="adj2" fmla="val 47740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ЗАГАД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это мудреный вопрос, заданный в поэтической иносказательной фор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2411280" y="836640"/>
            <a:ext cx="46800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627280" y="2133720"/>
            <a:ext cx="4176720" cy="155628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раткость, иносказательное описание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771640" y="4724280"/>
            <a:ext cx="3816360" cy="155628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итмичность и рифмованность, форма в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8388360" y="6093000"/>
            <a:ext cx="360360" cy="433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356000" y="378936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>
            <a:hlinkClick r:id="rId1" action="ppaction://hlinksldjump"/>
          </p:cNvPr>
          <p:cNvSpPr/>
          <p:nvPr/>
        </p:nvSpPr>
        <p:spPr>
          <a:xfrm>
            <a:off x="845964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3794"/>
                </a:moveTo>
                <a:lnTo>
                  <a:pt x="20533" y="10800"/>
                </a:lnTo>
                <a:lnTo>
                  <a:pt x="6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2a00"/>
                </a:solidFill>
                <a:latin typeface="Arial"/>
              </a:rPr>
              <a:t>Памятка </a:t>
            </a:r>
            <a:br>
              <a:rPr sz="4000"/>
            </a:br>
            <a:r>
              <a:rPr b="1" lang="en-US" sz="4000" spc="-1" strike="noStrike">
                <a:solidFill>
                  <a:srgbClr val="542a00"/>
                </a:solidFill>
                <a:latin typeface="Arial"/>
              </a:rPr>
              <a:t>как составлять 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те предмет и рассмотрите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что (на кого) он похож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овите самые главные внешние  признаки предмета, по которым его можно отличить  от всех других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думайте свою загад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395280" y="404640"/>
            <a:ext cx="8424720" cy="61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 rot="13143000">
            <a:off x="5263920" y="2653920"/>
            <a:ext cx="178416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4156200" cy="51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3:40:45Z</dcterms:created>
  <dc:creator>мама</dc:creator>
  <dc:description/>
  <dc:language>en-US</dc:language>
  <cp:lastModifiedBy>ВАДИМ</cp:lastModifiedBy>
  <dcterms:modified xsi:type="dcterms:W3CDTF">2011-11-11T04:12:08Z</dcterms:modified>
  <cp:revision>3</cp:revision>
  <dc:subject/>
  <dc:title>Секреты загадки</dc:title>
</cp:coreProperties>
</file>