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3C0-0AE1-4BD0-899A-C56E0120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537-B87D-4998-86D6-7FF000B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F47-B2E2-43B1-BE34-7A983F37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665-01A3-4471-9E01-D155392E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69DD-4933-4C33-AD65-B66DE859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D9C7-762B-476A-8FEE-50CD564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99D-886C-4ACA-809D-7AAB0603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47D4-4312-43B5-B155-6C8D0C52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4BBA-570F-43CC-998E-561B04F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C13C-CE03-43C9-B387-76EA361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76F-0A38-47F4-B373-0AB65EE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DE7-A5A7-4B48-8D54-235CFA8B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4B0-81C0-4149-93BB-E7BBDF2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2D7E-4296-4387-A395-7A4F018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1DCB-FDBE-4954-BD67-871D900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F4EC-5FA5-4E1C-BE20-6858126B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8CE8-8550-426A-909B-ECB741AE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F47-E856-43CE-A85F-E32D5A4E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0EF-3B7F-41DE-A2AB-7ABE7AF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851-5569-4303-B618-CC39A74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137-EF74-415B-B0F8-3AA554AF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76C-A4E6-4743-B241-8E80547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B2B-2044-4AA8-AE8E-B78EE33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293-D504-467B-9E6F-3587B83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DF81-A423-4A52-B2F8-7572500A7B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A90-C448-490D-A4A1-A2AE36FF2C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ма: 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рядок выполнения действий в выражениях без скобок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2997360"/>
            <a:ext cx="799308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вершенствование знаний выполнения действий в выражениях без скобо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вить логическое мышление, познавательную активность и вним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16000" y="333360"/>
            <a:ext cx="48085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Устный счет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1844640"/>
            <a:ext cx="100836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989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148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198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85080" y="198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бота по рядам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781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8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34136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:7*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249228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-12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57336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+27: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3573360"/>
            <a:ext cx="280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в выражениях без скобок сначала выполняются по порядку слева направо сильные действия, а затем слабые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981000"/>
            <a:ext cx="27370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если выражение без скобок содержит только сильные действия (умножение или деление), то они выполняются по порядку слева на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276640"/>
            <a:ext cx="3059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если выражение без скобок содержит только слабые  действия (сложение или вычитание), то они выполняются по порядку слева напра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 пословицу и запиши её. Ключ к шифру – таблица умножения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628640"/>
          <a:ext cx="3168720" cy="45309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20720"/>
                <a:gridCol w="8636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1989000"/>
          <a:ext cx="4680000" cy="3113280"/>
        </p:xfrm>
        <a:graphic>
          <a:graphicData uri="http://schemas.openxmlformats.org/drawingml/2006/table">
            <a:tbl>
              <a:tblPr/>
              <a:tblGrid>
                <a:gridCol w="549360"/>
                <a:gridCol w="603000"/>
                <a:gridCol w="576360"/>
                <a:gridCol w="647640"/>
                <a:gridCol w="576360"/>
                <a:gridCol w="576360"/>
                <a:gridCol w="64764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564000" y="544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Землю Солнце красит, а человека тру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йди симметри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551640" cy="485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132000" y="42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530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9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30064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530064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4365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530028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1640" y="436572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003640" y="436572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003640" y="5373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2232000" cy="172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4221000"/>
            <a:ext cx="1584360" cy="165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йти и закрасить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мметричные точ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69280" cy="4186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421000"/>
            <a:ext cx="0" cy="280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2060640"/>
            <a:ext cx="0" cy="3529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50028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37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3284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3284640"/>
            <a:ext cx="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42920" y="472428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2565360"/>
            <a:ext cx="10810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24360" y="40514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64000" y="3284640"/>
            <a:ext cx="3510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715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шаем вмест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осадки подготовили 30 кустов. Пятая часть всех кустов- малина, четвёртая часть оставшихся кустов – крыжовни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колько было кустов крыжовн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Сколько было кустов мали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: 5 = 6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Сколько кустов осталось после посадки мали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– 6 = 24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Сколько было кустов крыжовн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4 : 4 = 6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: 6 кустов крыжовника бы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амостоятельная рабо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Пети 9 руб. 50 коп. Он купил мороженное за 4 р. 20 к. На следующий день мама дала ему ещё 3 р. 40 к. Сколько денег стало у Пе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па раздал поровну четверым детям 12 вафель. Сколько вафель получили две девочк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8:35:24Z</dcterms:created>
  <dc:creator>назарова</dc:creator>
  <dc:description/>
  <dc:language>en-US</dc:language>
  <cp:lastModifiedBy>назарова</cp:lastModifiedBy>
  <dcterms:modified xsi:type="dcterms:W3CDTF">2010-04-26T11:41:38Z</dcterms:modified>
  <cp:revision>8</cp:revision>
  <dc:subject/>
  <dc:title>Устный счет:</dc:title>
</cp:coreProperties>
</file>