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77AC-BC1F-4FC6-AC41-B3EFEAB7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8FE-E116-43EB-8AAE-2C6339FF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A70C-84EB-4245-B4E0-3E9646B0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B752-B004-4C73-B8A2-C0722E2A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7A0A-E270-4B71-A168-3CCDE36B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0F94-7740-4A80-8316-83FACAF2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5CDE-0EFA-477B-94B3-75D8092A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38C5-CAFC-4FBC-B49D-4C0D4480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61E4-5F1C-4B74-BC25-98E9AC02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7434-DF1D-42C7-B1BF-245C3F10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1F7B-DF1F-4F29-B2A0-BDE2A15D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C278-33C5-4568-B330-5DD8933F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C165-09DE-41B0-9E09-2B88833A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39A0-E4F6-4057-AAD1-3F169AF3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CEBA-D384-4218-B9E6-F8775B5E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42A6-440E-4B86-9CE0-D3BE3CFA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B8CB-6C1D-4617-AEA0-AC1A9BC0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7E52-47AE-4EC2-94A7-596232E2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DA2E-A905-4BB8-A35D-2F1F7DF4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CE9E-95B2-4F92-AA1B-370A2919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20A3-F893-4148-81CD-D2BA1ECD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2D0F-E733-4FA7-998B-DEC2FBE5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CF0D-7FAA-4733-8D72-6D5332C7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8FB-0FD3-44B0-9273-BA8A925C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84E7-2FDB-4EA1-9426-85DC5D35F02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BC05-36C8-40F5-BF02-756909EF5EC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Тема: </a:t>
            </a:r>
            <a:br>
              <a:rPr sz="4200"/>
            </a:b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орядок выполнения действий в выражениях без скобок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0920" y="2997360"/>
            <a:ext cx="7993080" cy="26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ель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вершенствование знаний выполнения действий в выражениях без скобок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звить логическое мышление, познавательную активность и внима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16000" y="333360"/>
            <a:ext cx="48085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Устный счет: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1844640"/>
            <a:ext cx="1008360" cy="100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43280" y="1844640"/>
            <a:ext cx="1008000" cy="100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1844640"/>
            <a:ext cx="1008000" cy="100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6360" y="1844640"/>
            <a:ext cx="1008000" cy="100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12000" y="1844640"/>
            <a:ext cx="1008000" cy="100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95640" y="2276640"/>
            <a:ext cx="64764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2276640"/>
            <a:ext cx="64764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08720" y="2276640"/>
            <a:ext cx="64764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4360" y="2276640"/>
            <a:ext cx="64764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19890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5640" y="1484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51280" y="1557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1628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6360" y="1989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2060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27640" y="21337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85080" y="1989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абота по рядам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62864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ря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78136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ря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386064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ря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1341360"/>
            <a:ext cx="3887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5:7*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2492280"/>
            <a:ext cx="3887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7-12+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3573360"/>
            <a:ext cx="3887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6+27: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3573360"/>
            <a:ext cx="2809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в выражениях без скобок сначала выполняются по порядку слева направо сильные действия, а затем слабые действ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27640" y="981000"/>
            <a:ext cx="27370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если выражение без скобок содержит только сильные действия (умножение или деление), то они выполняются по порядку слева напра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84720" y="2276640"/>
            <a:ext cx="3059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если выражение без скобок содержит только слабые  действия (сложение или вычитание), то они выполняются по порядку слева напра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рочитай пословицу и запиши её. Ключ к шифру – таблица умножения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0920" y="1628640"/>
          <a:ext cx="3168720" cy="45309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20720"/>
                <a:gridCol w="86364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924360" y="1989000"/>
          <a:ext cx="4680000" cy="3113280"/>
        </p:xfrm>
        <a:graphic>
          <a:graphicData uri="http://schemas.openxmlformats.org/drawingml/2006/table">
            <a:tbl>
              <a:tblPr/>
              <a:tblGrid>
                <a:gridCol w="549360"/>
                <a:gridCol w="603000"/>
                <a:gridCol w="576360"/>
                <a:gridCol w="647640"/>
                <a:gridCol w="576360"/>
                <a:gridCol w="576360"/>
                <a:gridCol w="64764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3564000" y="544500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Землю Солнце красит, а человека тру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Найди симметри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6551640" cy="4859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132000" y="4292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4292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5300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4292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19640" y="4941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2000" y="530064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708000" y="530064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51640" y="4365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651640" y="5300280"/>
            <a:ext cx="576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651640" y="4365720"/>
            <a:ext cx="576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5003640" y="4365720"/>
            <a:ext cx="648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5003640" y="5373720"/>
            <a:ext cx="648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4149720"/>
            <a:ext cx="2232000" cy="1727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03640" y="4221000"/>
            <a:ext cx="1584360" cy="1656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13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Найти и закрасить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симметричные точк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469280" cy="4186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76720" y="2421000"/>
            <a:ext cx="0" cy="280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32360" y="2060640"/>
            <a:ext cx="0" cy="35290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350028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4371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43280" y="328464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24360" y="3284640"/>
            <a:ext cx="0" cy="14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642920" y="472428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43280" y="2565360"/>
            <a:ext cx="108108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724360" y="4051440"/>
            <a:ext cx="1079640" cy="698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364000" y="3284640"/>
            <a:ext cx="351000" cy="1439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643280" y="3645000"/>
            <a:ext cx="37152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ешаем вместе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ля посадки подготовили 30 кустов. Пятая часть всех кустов- малина, четвёртая часть оставшихся кустов – крыжовник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колько было кустов крыжовник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Сколько было кустов малины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0 : 5 = 6 (кус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Сколько кустов осталось после посадки малины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0 – 6 = 24 (кус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Сколько было кустов крыжовник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4 : 4 = 6 (кус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твет: 6 кустов крыжовника был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амостоятельная работ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1 вариан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Пети 9 руб. 50 коп. Он купил мороженное за 4 р. 20 к. На следующий день мама дала ему ещё 3 р. 40 к. Сколько денег стало у Пети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2 вариан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апа раздал поровну четверым детям 12 вафель. Сколько вафель получили две девочки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8:35:24Z</dcterms:created>
  <dc:creator>назарова</dc:creator>
  <dc:description/>
  <dc:language>en-US</dc:language>
  <cp:lastModifiedBy>назарова</cp:lastModifiedBy>
  <dcterms:modified xsi:type="dcterms:W3CDTF">2010-04-26T11:41:38Z</dcterms:modified>
  <cp:revision>8</cp:revision>
  <dc:subject/>
  <dc:title>Устный счет:</dc:title>
</cp:coreProperties>
</file>