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F83-D3E3-4A48-8DD1-7A0C54E3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290-F984-4CF7-9B6A-A9F863E5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C2C-5851-44A7-9FE2-59BE3FBE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CFB-7AB0-498D-8FF8-F7E00179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E350-8AC1-49A0-8DBB-4CEA95B2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B074-53EF-4B66-BB9D-F56D6608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B5FF-547C-4BF8-8F33-65DC9C79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CF49-0007-478C-8FAD-9BE2BBD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C9B7-62E7-48B0-9F51-53CAA59C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DEEF-A8B3-4FE9-BDC2-2A312F78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5724-58F5-4C6E-950B-A2413A9A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4FC-1F45-49AF-8DB8-DF70F400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39BC-87F1-4B30-B8CA-AC3155A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D0B5-EAD2-4A8E-A319-6494E2D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C030-5C56-464C-BF9A-E38CC253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84B4-ACCB-4FE4-943D-F8481500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E94F-07BD-48F4-A234-8B3FAB4D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8F6-B17B-43F8-A98E-69EF5E05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22E-785F-4865-BE1A-1904D087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0A0-C845-4AF7-A06C-30E5C546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397-3DBA-4085-9556-97398EA2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C56-40C2-4514-A215-FA2EC232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E10-DF78-4B49-A05D-23F89BFF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F0C-1881-47FB-B5FD-C05F1288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D14F-51E0-4DC8-AA95-09F3D043FB5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D44F-1449-4023-898C-87080E0312F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491680" cy="159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E:\attachment26.jpeg"/>
          <p:cNvPicPr/>
          <p:nvPr/>
        </p:nvPicPr>
        <p:blipFill>
          <a:blip r:embed="rId2"/>
          <a:stretch/>
        </p:blipFill>
        <p:spPr>
          <a:xfrm>
            <a:off x="2428920" y="1811160"/>
            <a:ext cx="31431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3160"/>
            <a:ext cx="30081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713880"/>
            <a:ext cx="354348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, добивающийся вним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, борющийся за в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стительный ребен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 с ощущением собственной неспособ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E:\attachment26.jpeg"/>
          <p:cNvPicPr/>
          <p:nvPr/>
        </p:nvPicPr>
        <p:blipFill>
          <a:blip r:embed="rId1"/>
          <a:stretch/>
        </p:blipFill>
        <p:spPr>
          <a:xfrm>
            <a:off x="4603680" y="1484280"/>
            <a:ext cx="35402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200016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Родители выбирают неподходящее время для разговоров. Подходящее время наступает, когда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вы чувствуете себя спокойно и уверенно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ваш ребенок не беснуется, не орет и не плачет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ребенок не поглощен чем-то немыслимо интересны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учшее для воспитательных разговоров время - когда вы обречены на общество друг друга и нет никакой альтернативы, например, куда-то вместе еде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Родители читают ребенку нотации. Всем в детстве читали нотации, однако мало кто может вспомнить содержание хоть одной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2428560"/>
            <a:ext cx="82296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Родители продолжают придираться или угрожать и по-прежнему разговаривают с детьми без должного уважения, то есть пытаются настаивать на своем, не оставляют ребенку выбора. Это вызывает у ребенка протест, он будет упорствовать в своих заблуждениях, лишь бы не дать родителям почувствовать вкус поб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235728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Один или оба родителя периодически начинают сюсюкать с ребенком, поддаваться на его провокации. Шумно жалеть его, когда он решил воплями чего-нибудь добиться, приговаривать иногда неуверенному: "Ах ты, мой бедненький, ничего-то у тебя не клеится"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2643120"/>
            <a:ext cx="82296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Родители непоследовательны и следуют данным рекомендациям только тогда, когда они в хорошем настроении, но возвращаются к своим предшествующим методам воспитания, если не видят непосредственных результатов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2571840"/>
            <a:ext cx="82296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У родителей не хватает терпения. Они дают ребенку очень маленький срок для какого-нибудь дела, а когда он не успевает к этому сроку, делают за него все с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663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орьба за вниман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663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орьба за самоутверждение против чрезмерной родительской опек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66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желание отомстить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отеря веры в собственный успе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77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Трудолюби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Успеш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Чрезмерное честолюби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 Стремление быть первы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 Надеж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. Обаяни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Делать все напоказ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Остроуми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. Быть в любимчиках у учител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. Впечатлитель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1. Склонность к пустословию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2. Хвастовств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3. Зануд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4. Надоедлив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5. Легкие проказ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6. Склонность дразни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7. Крик, пла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. Лен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. Неловк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. Неопрятн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1. Застенчив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2. Робос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3. Зависи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Склонность демонстрировать моральное превосход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Склонность демонстрировать превосходство в умении планировать дел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Склонность демонстрировать превосходство в умении справляться с дела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Склонность демонстрировать свое интеллектуальное превосход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Дерзос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Непокорнос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Вспыльчивос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Прогулы уро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Склонность к спора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Неподчинен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1. Упрям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. Забывчивос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3. Склонность к безделью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рушать всевозможные правил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Злос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Жестокос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Воровств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Угрюмое сопротивление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Сильная пассив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24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омплекс неполноценност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Безнадежнос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Тупос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Лень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5:34:43Z</dcterms:created>
  <dc:creator>химия</dc:creator>
  <dc:description/>
  <dc:language>en-US</dc:language>
  <cp:lastModifiedBy>Admin</cp:lastModifiedBy>
  <dcterms:modified xsi:type="dcterms:W3CDTF">2011-11-02T16:29:54Z</dcterms:modified>
  <cp:revision>7</cp:revision>
  <dc:subject/>
  <dc:title>Причины плохого поведения ребенка</dc:title>
</cp:coreProperties>
</file>