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E9E-6359-43A1-8875-22D3E9B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F1A-B860-4CDF-9A4B-CA870741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497-B548-41DA-81E9-45A3AB30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09F-AE33-4179-AB61-59421A3D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8B9A-43C7-436E-982C-A4F805B7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2ABD-28FC-44D9-A9A8-AADAA37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DF12-6D78-4CE4-9732-DC2BF37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B0B8-2121-49FC-A219-DD59C27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18A-F434-4110-ADEF-DBD7643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A622-D49F-4872-AEB2-2AC6438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8E9-52BE-49BB-AC1F-26A8249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811-7586-4A06-B267-0DF86D3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DC22-6B01-48BF-9851-3653363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C4EC-1E5F-4AE9-B134-B24AD52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F875-8473-498D-BF87-5C60BD8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475A-7864-43B3-80DF-C5050AB0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D95-54F0-4FC6-B8E8-1A937739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804-09E0-4CF7-A3FA-57EC20D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318-2774-46CF-8BFD-3602B4E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FDD-9797-4057-89FB-1D240E5E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75C-7B50-4A6C-9B04-2ADE1058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5BF-0F58-45B0-9FED-9F22FE3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7CE-9BBD-4237-B6AF-0E7E91E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B03-AF06-42FB-9B4C-D5ADC33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BB2-969E-4B0F-AA62-DE2D8357043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5E97-107D-45C1-AD18-19C3CF877A1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491680" cy="15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E:\attachment26.jpeg"/>
          <p:cNvPicPr/>
          <p:nvPr/>
        </p:nvPicPr>
        <p:blipFill>
          <a:blip r:embed="rId2"/>
          <a:stretch/>
        </p:blipFill>
        <p:spPr>
          <a:xfrm>
            <a:off x="2428920" y="1811160"/>
            <a:ext cx="3143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3160"/>
            <a:ext cx="30081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713880"/>
            <a:ext cx="354348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, добивающийся вним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, борющийся за 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стительный ребе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 с ощущением собственной неспособ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E:\attachment26.jpeg"/>
          <p:cNvPicPr/>
          <p:nvPr/>
        </p:nvPicPr>
        <p:blipFill>
          <a:blip r:embed="rId1"/>
          <a:stretch/>
        </p:blipFill>
        <p:spPr>
          <a:xfrm>
            <a:off x="4603680" y="1484280"/>
            <a:ext cx="35402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Родители выбирают неподходящее время для разговоров. Подходящее время наступает, когда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вы чувствуете себя спокойно и уверенно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ваш ребенок не беснуется, не орет и не плачет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ребенок не поглощен чем-то немыслимо интересны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е для воспитательных разговоров время - когда вы обречены на общество друг друга и нет никакой альтернативы, например, куда-то вместе ед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одители читают ребенку нотации. Всем в детстве читали нотации, однако мало кто может вспомнить содержание хоть одно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2428560"/>
            <a:ext cx="82296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Родители продолжают придираться или угрожать и по-прежнему разговаривают с детьми без должного уважения, то есть пытаются настаивать на своем, не оставляют ребенку выбора. Это вызывает у ребенка протест, он будет упорствовать в своих заблуждениях, лишь бы не дать родителям почувствовать вкус поб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35728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Один или оба родителя периодически начинают сюсюкать с ребенком, поддаваться на его провокации. Шумно жалеть его, когда он решил воплями чего-нибудь добиться, приговаривать иногда неуверенному: "Ах ты, мой бедненький, ничего-то у тебя не клеится"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2643120"/>
            <a:ext cx="82296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Родители непоследовательны и следуют данным рекомендациям только тогда, когда они в хорошем настроении, но возвращаются к своим предшествующим методам воспитания, если не видят непосредственных результа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257184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У родителей не хватает терпения. Они дают ребенку очень маленький срок для какого-нибудь дела, а когда он не успевает к этому сроку, делают за него все с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рьба за внима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рьба за самоутверждение против чрезмерной родительской опе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желание отомстить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теря веры в собственный успе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77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Трудолюб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Успеш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Чрезмерное честолюб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Стремление быть первы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Надеж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 Обаян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Делать все напоказ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Остроум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 Быть в любимчиках у учител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. Впечатлитель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 Склонность к пустослови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. Хвастовств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. Зануд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. Надоедлив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5. Легкие проказ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. Склонность дразни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. Крик, пла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. Лен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. Неловк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. Неопрят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1. Застенчив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2. Роб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3. Зависи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клонность демонстрировать моральное превосход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Склонность демонстрировать превосходство в умении планировать д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Склонность демонстрировать превосходство в умении справляться с дел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Склонность демонстрировать свое интеллектуальное превосход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Дерз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Непокорн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Вспыльчив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Прогулы уро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Склонность к спора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Неподчинен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. Упрям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. Забывчив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. Склонность к безделью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рушать всевозможные прави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Зл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Жесток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оровств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Угрюмое сопротивлени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Сильная пассив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24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омплекс неполноценност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Безнадежн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Туп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Лень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5:34:43Z</dcterms:created>
  <dc:creator>химия</dc:creator>
  <dc:description/>
  <dc:language>en-US</dc:language>
  <cp:lastModifiedBy>Admin</cp:lastModifiedBy>
  <dcterms:modified xsi:type="dcterms:W3CDTF">2011-11-02T16:29:54Z</dcterms:modified>
  <cp:revision>7</cp:revision>
  <dc:subject/>
  <dc:title>Причины плохого поведения ребенка</dc:title>
</cp:coreProperties>
</file>