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66F-B45C-4BB4-9067-838D5CEE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A6AB-CC9F-41BD-B6F5-5A7F4400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BAB4-BAA7-4F1A-8D8B-D1F3C1EB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19F-671A-42D5-BDB5-0497D31B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7ECE-9FDC-4E68-BD97-D2626138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D707-2683-46A4-8398-449AFDFB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5C9F-04EB-4750-B149-B53B2700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0312-E0FF-48AE-9F65-0A453705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031A-F820-4BDE-8460-45DE5E35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D0B9-3BF9-42ED-A2D3-DEB06FDA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93EF-7763-4194-A37F-5FA21E4B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6377-ABC5-4B7C-BB8D-58F1C2DD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751D-5441-4BCC-B279-69DF6591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2A9B-29B6-435C-95B9-6B693122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0575-4FC7-4593-907E-ACDE7F7B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EC61-5D49-4117-AAEC-971A88BF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728A-D2FE-40B1-A767-5C1CD8A3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73A-E9DA-4E5E-AE17-6BB7C255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87B0-2E3D-456C-BCB6-76BE90C9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1688-7E18-44FA-886D-6721C630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17E-906C-47A5-9597-AEFEE6D2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EDE-C50C-44E3-B0FD-7255B9E4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4F8D-5921-4650-B309-1EF18844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EDDA-BBF8-4058-95EE-3B484739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0497-1AE5-4848-80CA-7B281E54B02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EB66-F487-4BD9-B493-74621E01317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alitra-ru.ru/index.php?page=zima-v-kartinah-russkih-hudozhnikov---pejzazhistov" TargetMode="External"/><Relationship Id="rId2" Type="http://schemas.openxmlformats.org/officeDocument/2006/relationships/hyperlink" Target="http://www.palitra-ru.ru/index.php?page=zima-v-kartinah-russkih-hudozhnikov---pejzazhistov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Зима в картинах русских художников - пейзажистов</a:t>
            </a:r>
            <a:r>
              <a:rPr b="0" lang="en-US" sz="5700" spc="-1" strike="noStrike" u="sng">
                <a:solidFill>
                  <a:srgbClr val="eec85e"/>
                </a:solidFill>
                <a:uFillTx/>
                <a:latin typeface="Arial"/>
                <a:hlinkClick r:id="rId2"/>
              </a:rPr>
              <a:t>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ГОУ ММГ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Учитель начальных классов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Павлова Оксана Степановн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онстантин Коровин « Зима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11280" y="1600200"/>
            <a:ext cx="79930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35880" cy="38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точник : http://gallerix.ru/album/200-Russian/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А.Васнецов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«Старорусский город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2072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Владимир Казанцев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«На полустанке. Зимнее утро на Уральской дороге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136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.Горбатов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«Зимний пейзаж с церковью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1280" y="1600200"/>
            <a:ext cx="7993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Иван Шишкин « Зима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280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Никифор Крылов « Зимний пейзаж. Русская зима.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2072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Борис Кустодиев « Масленицы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2120" y="1484280"/>
            <a:ext cx="76197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Юлий Клевер « Закат солнца зимой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5280" y="1600200"/>
            <a:ext cx="8353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. Вельц « Иней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207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15:39:10Z</dcterms:created>
  <dc:creator>Admin</dc:creator>
  <dc:description/>
  <dc:language>en-US</dc:language>
  <cp:lastModifiedBy>Admin</cp:lastModifiedBy>
  <dcterms:modified xsi:type="dcterms:W3CDTF">2011-12-26T16:03:31Z</dcterms:modified>
  <cp:revision>5</cp:revision>
  <dc:subject/>
  <dc:title>Зима в картинах русских художников - пейзажистов </dc:title>
</cp:coreProperties>
</file>