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80F-3781-4ACD-9E40-C9DA562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FD9-D094-4378-88D4-2A7B4693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AD9-78B3-4AEC-B7E8-35FCCF42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82A-DF81-4646-B78B-05835F27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4C70-BF49-47F3-8FE8-7B541C89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31E-0829-4150-945B-84723C0E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C21-491F-492F-AEAD-E847AA75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140B-29BA-4802-9B31-6AB3170D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8E4E-E712-4286-9C99-6EC9A25E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0FA-7725-4804-8CE2-10C263FE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450-1808-4987-8EAA-CF6EA3E0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F81-7D21-445B-8D9F-6778148E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3DE4-ED8F-4298-9A1D-D45552C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1EA6-F662-4DC9-A2E0-37F1E4A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D6DC-9E4E-4AF2-A4E3-8BC004F0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4A8-D0D6-4A48-9339-F4D9B841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733-2C15-4E41-AC62-A723E31D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858-DA45-40AB-96C9-0E0BC608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381-8588-4A30-9FE7-0269A25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807-B965-498B-8B7C-8B229494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7F6-2BAA-4EE2-94FF-3FF3A2EC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CDF-5FFE-4936-8EF5-A9CEB81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B7E-C154-4EE7-8538-C5BB7F0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6FE-7B64-4EB2-881C-C80F090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1DE-08DF-4726-BD26-65BFB56FDD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B0C1-0B4A-4866-B915-42F5DF1048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alitra-ru.ru/index.php?page=zima-v-kartinah-russkih-hudozhnikov---pejzazhistov" TargetMode="External"/><Relationship Id="rId2" Type="http://schemas.openxmlformats.org/officeDocument/2006/relationships/hyperlink" Target="http://www.palitra-ru.ru/index.php?page=zima-v-kartinah-russkih-hudozhnikov---pejzazhistov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Зима в картинах русских художников - пейзажистов</a:t>
            </a:r>
            <a:r>
              <a:rPr b="0" lang="en-US" sz="57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ГОУ ММ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Учитель начальных классов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Павлова Оксана Степанов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нстантин Коровин « Зим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 : http://gallerix.ru/album/200-Russian/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.Васнецо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Старорусский город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ладимир Казанце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«На полустанке. Зимнее утро на Уральской дороге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136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.Горбат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Зимний пейзаж с церковью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ван Шишкин « Зим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80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икифор Крылов « Зимний пейзаж. Русская зима.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Борис Кустодиев « Масленицы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484280"/>
            <a:ext cx="7619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Юлий Клевер « Закат солнца зимой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. Вельц « Ине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5:39:10Z</dcterms:created>
  <dc:creator>Admin</dc:creator>
  <dc:description/>
  <dc:language>en-US</dc:language>
  <cp:lastModifiedBy>Admin</cp:lastModifiedBy>
  <dcterms:modified xsi:type="dcterms:W3CDTF">2011-12-26T16:03:31Z</dcterms:modified>
  <cp:revision>5</cp:revision>
  <dc:subject/>
  <dc:title>Зима в картинах русских художников - пейзажистов </dc:title>
</cp:coreProperties>
</file>