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2B1-F37D-4BF7-8420-D85EF5834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37AF-2C13-4966-99C1-C0CB785F3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348-EF81-469E-81A9-A706BB5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FA6-6B9E-4EC8-89D7-387E44D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4B3-2F3D-4613-BAF8-0C8B3C93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D3F-F9C0-439E-B582-94E99827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CB1-2A53-4271-9981-02C1588B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091-F418-44ED-B156-FDCD3665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637-0B33-47B7-A1B7-A30A761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C75-31A9-4AA8-A232-526E690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60-3440-4D8F-A21B-7FB06FA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D4A-461D-495C-BA0F-41CC815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EB5-BE90-4845-B45C-4214866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C66-7C5A-4ED7-8087-703987B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7450-378B-49F5-A32F-51B379DE0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71600" y="39625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автор - составитель теста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В. И. Регель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источник: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ttp://www.physics-regelman.com/high/IdealGas/1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езентации:   Бахтин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990720" y="5335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Тест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Работа идеального газа»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группа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(первый уровень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двумя вырезанными противолежащими углами 3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80880" y="3808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енных графиков наиболее точно отражает зависимость работы идеального газа при изобарном расширении от изменения его объем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04920" y="1503360"/>
            <a:ext cx="1695240" cy="127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000160" y="1486080"/>
            <a:ext cx="165744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3809880" y="1515960"/>
            <a:ext cx="1714680" cy="13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5410080" y="1528920"/>
            <a:ext cx="1685880" cy="130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5"/>
          <a:stretch/>
        </p:blipFill>
        <p:spPr>
          <a:xfrm>
            <a:off x="7188120" y="1530360"/>
            <a:ext cx="171468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612000" y="2706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518560" y="269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7878960" y="2706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6193800" y="27241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4494600" y="272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3200400"/>
          <a:ext cx="8229600" cy="1311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: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 диаграмме показана зависимость работы идеального газа от его количества вещества при изобарном процессе. Какой из нижеуказанных точек соответствует минимальное изменение температур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2"/>
          <p:cNvSpPr/>
          <p:nvPr/>
        </p:nvSpPr>
        <p:spPr>
          <a:xfrm>
            <a:off x="4938840" y="3084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6"/>
          <a:stretch/>
        </p:blipFill>
        <p:spPr>
          <a:xfrm>
            <a:off x="1692360" y="4543560"/>
            <a:ext cx="2324160" cy="19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084640" y="4419720"/>
          <a:ext cx="1447920" cy="198108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04920" y="380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точек на диаграмме работы идеального газа от изменения объёма, соответствует точка с максимальным давлением? ( Процесс изобар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3520" y="1397160"/>
            <a:ext cx="2104920" cy="17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038480" y="1397160"/>
          <a:ext cx="1981440" cy="182880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Прямоугольник 3"/>
          <p:cNvSpPr/>
          <p:nvPr/>
        </p:nvSpPr>
        <p:spPr>
          <a:xfrm>
            <a:off x="380880" y="32227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величин соответствует выражение: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ru-RU" sz="2000" spc="-1" strike="noStrike" baseline="30000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?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де: p- давление; a-ускорение; t-время; v-ско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4343400"/>
          <a:ext cx="2133720" cy="1981080"/>
        </p:xfrm>
        <a:graphic>
          <a:graphicData uri="http://schemas.openxmlformats.org/drawingml/2006/table">
            <a:tbl>
              <a:tblPr/>
              <a:tblGrid>
                <a:gridCol w="2133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Объё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95200" y="380880"/>
            <a:ext cx="816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5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рисунке показан график работ идеального газа при изобарном расширении от изменения температур. В каком из нижеприведённых соотношений находятся между собой количества вещества этих газ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523880" y="1628640"/>
            <a:ext cx="2176560" cy="187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495680" y="1600200"/>
          <a:ext cx="2305080" cy="18288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Прямоугольник 3"/>
          <p:cNvSpPr/>
          <p:nvPr/>
        </p:nvSpPr>
        <p:spPr>
          <a:xfrm>
            <a:off x="457200" y="34322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6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оздух массой 290г. при изобарном нагревании, совершил работу 640 Дж. На сколько градусов Цельсия был нагрет этот газ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05400" y="4267080"/>
          <a:ext cx="1981080" cy="198144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281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26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0,12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272,87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380880" y="38088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7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графиков наиболее точно отражает зависимость работы внешних сил при изобарном охлаждении от изменении температур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047600" y="1635120"/>
            <a:ext cx="167652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914640" y="1649520"/>
            <a:ext cx="1619280" cy="132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6858000" y="1649520"/>
            <a:ext cx="165744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2057400" y="3811680"/>
            <a:ext cx="163836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5"/>
          <a:stretch/>
        </p:blipFill>
        <p:spPr>
          <a:xfrm>
            <a:off x="5715000" y="3619440"/>
            <a:ext cx="1685880" cy="16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615240" y="1709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29080" y="167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560640" y="164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18640" y="38862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17140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938840" y="2947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801720" y="2133720"/>
            <a:ext cx="4933800" cy="37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46240" y="533520"/>
          <a:ext cx="8229600" cy="1311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: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ие из нижеприведенных графиков зависимости некоторых параметров идеального газа ( при постоянном количестве вещества идеального газа) приведённых на рисунке, соответствуют положительной работе внешних сил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324480" y="2971800"/>
          <a:ext cx="1828800" cy="19810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419040" y="6094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9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анная масса идеального газа изотермически расши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о некоторого объёма, затем при постоянном давлении переходит в состояние соответствующее первоначальному объёму, а затем изохорно возвращается в первоначальное состояние. В каком из нижеприведённых соотношений находятся между собой работы сил, совершающих данный процес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00400" y="3352680"/>
          <a:ext cx="2743200" cy="18288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ьзя определи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33520" y="3808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0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деальный газ, изобарно при постоянной температуре увеличивает свой объём. Какой из ниже приведённых графиков, отражает зависимость работы газа от изменения массы газ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20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719520" y="1995480"/>
            <a:ext cx="1986120" cy="158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6324480" y="2057400"/>
            <a:ext cx="1981440" cy="149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104920" cy="16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5"/>
          <a:stretch/>
        </p:blipFill>
        <p:spPr>
          <a:xfrm>
            <a:off x="5415120" y="4278240"/>
            <a:ext cx="1920600" cy="1470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67140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38400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76360" y="209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566360" y="43876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955400" y="43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nd-team</dc:creator>
  <dc:description/>
  <dc:language>en-US</dc:language>
  <cp:lastModifiedBy>Demo</cp:lastModifiedBy>
  <dcterms:modified xsi:type="dcterms:W3CDTF">2011-10-31T10:51:3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