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1885-243F-490C-A501-A1AC9D3BC3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7AA1-701E-4874-8BDD-AD83CC2406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4300-D058-4DAC-BC75-D34BC8913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8472-7027-49BD-AC5C-36AF1144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88A5-3478-4F3B-970A-84A63C5DA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C900-B375-4E72-A0E3-BD97AD757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F4A7-53AA-470C-AEC6-FE92C9DF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074E-204C-48A7-A75F-164BBC3D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41CF-BE22-46AC-8587-F2B55172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8CB4-9A0F-4333-9E39-73368FC8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E319-68F8-4962-A040-D1C60F76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CB5C-7D76-488B-BA2A-B6E0B5EE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38EE-F280-4AF7-A482-3AC3561B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2C5A-099B-427D-9CFF-B484A80B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94A4-20F0-4998-BB53-B7C0DFEAB3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1371600" y="39625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автор - составитель теста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В. И. Регельм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источник: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ttp://www.physics-regelman.com/high/IdealGas/1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 презентации:   Бахтина И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Заголовок 1"/>
          <p:cNvSpPr/>
          <p:nvPr/>
        </p:nvSpPr>
        <p:spPr>
          <a:xfrm>
            <a:off x="990720" y="533520"/>
            <a:ext cx="72388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Book Antiqua"/>
              </a:rPr>
              <a:t>Тест по теме 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Book Antiqua"/>
              </a:rPr>
              <a:t>«Работа идеального газа» 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Book Antiqua"/>
              </a:rPr>
              <a:t>группа 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Book Antiqua"/>
              </a:rPr>
              <a:t>(первый уровень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с двумя вырезанными противолежащими углами 3"/>
          <p:cNvSpPr/>
          <p:nvPr/>
        </p:nvSpPr>
        <p:spPr>
          <a:xfrm>
            <a:off x="228600" y="228600"/>
            <a:ext cx="8686800" cy="6400800"/>
          </a:xfrm>
          <a:custGeom>
            <a:avLst/>
            <a:gdLst/>
            <a:ahLst/>
            <a:rect l="l" t="t" r="r" b="b"/>
            <a:pathLst>
              <a:path w="8686800" h="6400800">
                <a:moveTo>
                  <a:pt x="0" y="0"/>
                </a:moveTo>
                <a:lnTo>
                  <a:pt x="7619979" y="0"/>
                </a:lnTo>
                <a:lnTo>
                  <a:pt x="8686800" y="1066821"/>
                </a:lnTo>
                <a:lnTo>
                  <a:pt x="8686800" y="6400800"/>
                </a:lnTo>
                <a:lnTo>
                  <a:pt x="8686800" y="6400800"/>
                </a:lnTo>
                <a:lnTo>
                  <a:pt x="1066821" y="6400800"/>
                </a:lnTo>
                <a:lnTo>
                  <a:pt x="0" y="5333979"/>
                </a:lnTo>
                <a:lnTo>
                  <a:pt x="0" y="0"/>
                </a:lnTo>
                <a:close/>
              </a:path>
            </a:pathLst>
          </a:custGeom>
          <a:noFill/>
          <a:ln w="88920">
            <a:solidFill>
              <a:srgbClr val="2d2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с двумя вырезанными противолежащими углами 4"/>
          <p:cNvSpPr/>
          <p:nvPr/>
        </p:nvSpPr>
        <p:spPr>
          <a:xfrm>
            <a:off x="228600" y="228600"/>
            <a:ext cx="8686800" cy="6400800"/>
          </a:xfrm>
          <a:custGeom>
            <a:avLst/>
            <a:gdLst/>
            <a:ahLst/>
            <a:rect l="l" t="t" r="r" b="b"/>
            <a:pathLst>
              <a:path w="8686800" h="6400800">
                <a:moveTo>
                  <a:pt x="0" y="0"/>
                </a:moveTo>
                <a:lnTo>
                  <a:pt x="7619979" y="0"/>
                </a:lnTo>
                <a:lnTo>
                  <a:pt x="8686800" y="1066821"/>
                </a:lnTo>
                <a:lnTo>
                  <a:pt x="8686800" y="6400800"/>
                </a:lnTo>
                <a:lnTo>
                  <a:pt x="8686800" y="6400800"/>
                </a:lnTo>
                <a:lnTo>
                  <a:pt x="1066821" y="6400800"/>
                </a:lnTo>
                <a:lnTo>
                  <a:pt x="0" y="5333979"/>
                </a:lnTo>
                <a:lnTo>
                  <a:pt x="0" y="0"/>
                </a:lnTo>
                <a:close/>
              </a:path>
            </a:pathLst>
          </a:custGeom>
          <a:noFill/>
          <a:ln w="88920">
            <a:solidFill>
              <a:srgbClr val="3c8c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с двумя вырезанными противолежащими углами 4"/>
          <p:cNvSpPr/>
          <p:nvPr/>
        </p:nvSpPr>
        <p:spPr>
          <a:xfrm>
            <a:off x="228600" y="228600"/>
            <a:ext cx="8686800" cy="6400800"/>
          </a:xfrm>
          <a:custGeom>
            <a:avLst/>
            <a:gdLst/>
            <a:ahLst/>
            <a:rect l="l" t="t" r="r" b="b"/>
            <a:pathLst>
              <a:path w="8686800" h="6400800">
                <a:moveTo>
                  <a:pt x="0" y="0"/>
                </a:moveTo>
                <a:lnTo>
                  <a:pt x="7619979" y="0"/>
                </a:lnTo>
                <a:lnTo>
                  <a:pt x="8686800" y="1066821"/>
                </a:lnTo>
                <a:lnTo>
                  <a:pt x="8686800" y="6400800"/>
                </a:lnTo>
                <a:lnTo>
                  <a:pt x="8686800" y="6400800"/>
                </a:lnTo>
                <a:lnTo>
                  <a:pt x="1066821" y="6400800"/>
                </a:lnTo>
                <a:lnTo>
                  <a:pt x="0" y="5333979"/>
                </a:lnTo>
                <a:lnTo>
                  <a:pt x="0" y="0"/>
                </a:lnTo>
                <a:close/>
              </a:path>
            </a:pathLst>
          </a:custGeom>
          <a:noFill/>
          <a:ln w="88920">
            <a:solidFill>
              <a:srgbClr val="3c8c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с двумя вырезанными противолежащими углами 4"/>
          <p:cNvSpPr/>
          <p:nvPr/>
        </p:nvSpPr>
        <p:spPr>
          <a:xfrm>
            <a:off x="228600" y="228600"/>
            <a:ext cx="8686800" cy="6400800"/>
          </a:xfrm>
          <a:custGeom>
            <a:avLst/>
            <a:gdLst/>
            <a:ahLst/>
            <a:rect l="l" t="t" r="r" b="b"/>
            <a:pathLst>
              <a:path w="8686800" h="6400800">
                <a:moveTo>
                  <a:pt x="0" y="0"/>
                </a:moveTo>
                <a:lnTo>
                  <a:pt x="7619979" y="0"/>
                </a:lnTo>
                <a:lnTo>
                  <a:pt x="8686800" y="1066821"/>
                </a:lnTo>
                <a:lnTo>
                  <a:pt x="8686800" y="6400800"/>
                </a:lnTo>
                <a:lnTo>
                  <a:pt x="8686800" y="6400800"/>
                </a:lnTo>
                <a:lnTo>
                  <a:pt x="1066821" y="6400800"/>
                </a:lnTo>
                <a:lnTo>
                  <a:pt x="0" y="5333979"/>
                </a:lnTo>
                <a:lnTo>
                  <a:pt x="0" y="0"/>
                </a:lnTo>
                <a:close/>
              </a:path>
            </a:pathLst>
          </a:custGeom>
          <a:noFill/>
          <a:ln w="88920">
            <a:solidFill>
              <a:srgbClr val="3c8c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с двумя вырезанными противолежащими углами 4"/>
          <p:cNvSpPr/>
          <p:nvPr/>
        </p:nvSpPr>
        <p:spPr>
          <a:xfrm>
            <a:off x="228600" y="228600"/>
            <a:ext cx="8686800" cy="6400800"/>
          </a:xfrm>
          <a:custGeom>
            <a:avLst/>
            <a:gdLst/>
            <a:ahLst/>
            <a:rect l="l" t="t" r="r" b="b"/>
            <a:pathLst>
              <a:path w="8686800" h="6400800">
                <a:moveTo>
                  <a:pt x="0" y="0"/>
                </a:moveTo>
                <a:lnTo>
                  <a:pt x="7619979" y="0"/>
                </a:lnTo>
                <a:lnTo>
                  <a:pt x="8686800" y="1066821"/>
                </a:lnTo>
                <a:lnTo>
                  <a:pt x="8686800" y="6400800"/>
                </a:lnTo>
                <a:lnTo>
                  <a:pt x="8686800" y="6400800"/>
                </a:lnTo>
                <a:lnTo>
                  <a:pt x="1066821" y="6400800"/>
                </a:lnTo>
                <a:lnTo>
                  <a:pt x="0" y="5333979"/>
                </a:lnTo>
                <a:lnTo>
                  <a:pt x="0" y="0"/>
                </a:lnTo>
                <a:close/>
              </a:path>
            </a:pathLst>
          </a:custGeom>
          <a:noFill/>
          <a:ln w="88920">
            <a:solidFill>
              <a:srgbClr val="3c8c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с двумя вырезанными противолежащими углами 4"/>
          <p:cNvSpPr/>
          <p:nvPr/>
        </p:nvSpPr>
        <p:spPr>
          <a:xfrm>
            <a:off x="228600" y="228600"/>
            <a:ext cx="8686800" cy="6400800"/>
          </a:xfrm>
          <a:custGeom>
            <a:avLst/>
            <a:gdLst/>
            <a:ahLst/>
            <a:rect l="l" t="t" r="r" b="b"/>
            <a:pathLst>
              <a:path w="8686800" h="6400800">
                <a:moveTo>
                  <a:pt x="0" y="0"/>
                </a:moveTo>
                <a:lnTo>
                  <a:pt x="7619979" y="0"/>
                </a:lnTo>
                <a:lnTo>
                  <a:pt x="8686800" y="1066821"/>
                </a:lnTo>
                <a:lnTo>
                  <a:pt x="8686800" y="6400800"/>
                </a:lnTo>
                <a:lnTo>
                  <a:pt x="8686800" y="6400800"/>
                </a:lnTo>
                <a:lnTo>
                  <a:pt x="1066821" y="6400800"/>
                </a:lnTo>
                <a:lnTo>
                  <a:pt x="0" y="5333979"/>
                </a:lnTo>
                <a:lnTo>
                  <a:pt x="0" y="0"/>
                </a:lnTo>
                <a:close/>
              </a:path>
            </a:pathLst>
          </a:custGeom>
          <a:noFill/>
          <a:ln w="88920">
            <a:solidFill>
              <a:srgbClr val="3c8c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8"/>
          <p:cNvSpPr/>
          <p:nvPr/>
        </p:nvSpPr>
        <p:spPr>
          <a:xfrm>
            <a:off x="380880" y="380880"/>
            <a:ext cx="807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№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1: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Какой из нижеприведенных графиков наиболее точно отражает зависимость работы идеального газа при изобарном расширении от изменения его объем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1"/>
          <a:stretch/>
        </p:blipFill>
        <p:spPr>
          <a:xfrm>
            <a:off x="304920" y="1503360"/>
            <a:ext cx="1695240" cy="127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2"/>
          <a:stretch/>
        </p:blipFill>
        <p:spPr>
          <a:xfrm>
            <a:off x="2000160" y="1486080"/>
            <a:ext cx="1657440" cy="1361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3809880" y="1515960"/>
            <a:ext cx="1714680" cy="1324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"/>
          <p:cNvPicPr/>
          <p:nvPr/>
        </p:nvPicPr>
        <p:blipFill>
          <a:blip r:embed="rId4"/>
          <a:stretch/>
        </p:blipFill>
        <p:spPr>
          <a:xfrm>
            <a:off x="5410080" y="1528920"/>
            <a:ext cx="1685880" cy="1304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"/>
          <p:cNvPicPr/>
          <p:nvPr/>
        </p:nvPicPr>
        <p:blipFill>
          <a:blip r:embed="rId5"/>
          <a:stretch/>
        </p:blipFill>
        <p:spPr>
          <a:xfrm>
            <a:off x="7188120" y="1530360"/>
            <a:ext cx="1714680" cy="1305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9"/>
          <p:cNvSpPr/>
          <p:nvPr/>
        </p:nvSpPr>
        <p:spPr>
          <a:xfrm>
            <a:off x="612000" y="27068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8"/>
          <p:cNvSpPr/>
          <p:nvPr/>
        </p:nvSpPr>
        <p:spPr>
          <a:xfrm>
            <a:off x="2518560" y="2693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9"/>
          <p:cNvSpPr/>
          <p:nvPr/>
        </p:nvSpPr>
        <p:spPr>
          <a:xfrm>
            <a:off x="7878960" y="27068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0"/>
          <p:cNvSpPr/>
          <p:nvPr/>
        </p:nvSpPr>
        <p:spPr>
          <a:xfrm>
            <a:off x="6193800" y="272412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1"/>
          <p:cNvSpPr/>
          <p:nvPr/>
        </p:nvSpPr>
        <p:spPr>
          <a:xfrm>
            <a:off x="4494600" y="2724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3200400"/>
          <a:ext cx="8229600" cy="13111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: </a:t>
                      </a: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а диаграмме показана зависимость работы идеального газа от его количества вещества при изобарном процессе. Какой из нижеуказанных точек соответствует минимальное изменение температуры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2"/>
          <p:cNvSpPr/>
          <p:nvPr/>
        </p:nvSpPr>
        <p:spPr>
          <a:xfrm>
            <a:off x="4938840" y="3084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3" descr=""/>
          <p:cNvPicPr/>
          <p:nvPr/>
        </p:nvPicPr>
        <p:blipFill>
          <a:blip r:embed="rId6"/>
          <a:stretch/>
        </p:blipFill>
        <p:spPr>
          <a:xfrm>
            <a:off x="1692360" y="4543560"/>
            <a:ext cx="2324160" cy="191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5084640" y="4419720"/>
          <a:ext cx="1447920" cy="198108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  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  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  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)  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)  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с двумя вырезанными противолежащими углами 4"/>
          <p:cNvSpPr/>
          <p:nvPr/>
        </p:nvSpPr>
        <p:spPr>
          <a:xfrm>
            <a:off x="228600" y="228600"/>
            <a:ext cx="8686800" cy="6400800"/>
          </a:xfrm>
          <a:custGeom>
            <a:avLst/>
            <a:gdLst/>
            <a:ahLst/>
            <a:rect l="l" t="t" r="r" b="b"/>
            <a:pathLst>
              <a:path w="8686800" h="6400800">
                <a:moveTo>
                  <a:pt x="0" y="0"/>
                </a:moveTo>
                <a:lnTo>
                  <a:pt x="7619979" y="0"/>
                </a:lnTo>
                <a:lnTo>
                  <a:pt x="8686800" y="1066821"/>
                </a:lnTo>
                <a:lnTo>
                  <a:pt x="8686800" y="6400800"/>
                </a:lnTo>
                <a:lnTo>
                  <a:pt x="8686800" y="6400800"/>
                </a:lnTo>
                <a:lnTo>
                  <a:pt x="1066821" y="6400800"/>
                </a:lnTo>
                <a:lnTo>
                  <a:pt x="0" y="5333979"/>
                </a:lnTo>
                <a:lnTo>
                  <a:pt x="0" y="0"/>
                </a:lnTo>
                <a:close/>
              </a:path>
            </a:pathLst>
          </a:custGeom>
          <a:noFill/>
          <a:ln w="88920">
            <a:solidFill>
              <a:srgbClr val="3c8c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"/>
          <p:cNvSpPr/>
          <p:nvPr/>
        </p:nvSpPr>
        <p:spPr>
          <a:xfrm>
            <a:off x="304920" y="38088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№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3: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Какой из нижеприведённых точек на диаграмме работы идеального газа от изменения объёма, соответствует точка с максимальным давлением? ( Процесс изобарны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533520" y="1397160"/>
            <a:ext cx="2104920" cy="178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4038480" y="1397160"/>
          <a:ext cx="1981440" cy="1828800"/>
        </p:xfrm>
        <a:graphic>
          <a:graphicData uri="http://schemas.openxmlformats.org/drawingml/2006/table">
            <a:tbl>
              <a:tblPr/>
              <a:tblGrid>
                <a:gridCol w="19814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  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  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  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)  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)  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Прямоугольник 3"/>
          <p:cNvSpPr/>
          <p:nvPr/>
        </p:nvSpPr>
        <p:spPr>
          <a:xfrm>
            <a:off x="380880" y="3222720"/>
            <a:ext cx="8305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№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4: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Какой из нижеприведённых величин соответствует выражение: 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p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·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a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·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t</a:t>
            </a:r>
            <a:r>
              <a:rPr b="0" lang="ru-RU" sz="2000" spc="-1" strike="noStrike" baseline="30000">
                <a:solidFill>
                  <a:srgbClr val="002060"/>
                </a:solidFill>
                <a:latin typeface="Arial"/>
              </a:rPr>
              <a:t>4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·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v</a:t>
            </a:r>
            <a:r>
              <a:rPr b="0" lang="ru-RU" sz="2000" spc="-1" strike="noStrike" baseline="30000">
                <a:solidFill>
                  <a:srgbClr val="002060"/>
                </a:solidFill>
                <a:latin typeface="Arial"/>
              </a:rPr>
              <a:t>4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?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Где: p- давление; a-ускорение; t-время; v-скор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124080" y="4343400"/>
          <a:ext cx="2133720" cy="1981080"/>
        </p:xfrm>
        <a:graphic>
          <a:graphicData uri="http://schemas.openxmlformats.org/drawingml/2006/table">
            <a:tbl>
              <a:tblPr/>
              <a:tblGrid>
                <a:gridCol w="21337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  Объёму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 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влению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 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щност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) 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е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) 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е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с двумя вырезанными противолежащими углами 4"/>
          <p:cNvSpPr/>
          <p:nvPr/>
        </p:nvSpPr>
        <p:spPr>
          <a:xfrm>
            <a:off x="228600" y="228600"/>
            <a:ext cx="8686800" cy="6400800"/>
          </a:xfrm>
          <a:custGeom>
            <a:avLst/>
            <a:gdLst/>
            <a:ahLst/>
            <a:rect l="l" t="t" r="r" b="b"/>
            <a:pathLst>
              <a:path w="8686800" h="6400800">
                <a:moveTo>
                  <a:pt x="0" y="0"/>
                </a:moveTo>
                <a:lnTo>
                  <a:pt x="7619979" y="0"/>
                </a:lnTo>
                <a:lnTo>
                  <a:pt x="8686800" y="1066821"/>
                </a:lnTo>
                <a:lnTo>
                  <a:pt x="8686800" y="6400800"/>
                </a:lnTo>
                <a:lnTo>
                  <a:pt x="8686800" y="6400800"/>
                </a:lnTo>
                <a:lnTo>
                  <a:pt x="1066821" y="6400800"/>
                </a:lnTo>
                <a:lnTo>
                  <a:pt x="0" y="5333979"/>
                </a:lnTo>
                <a:lnTo>
                  <a:pt x="0" y="0"/>
                </a:lnTo>
                <a:close/>
              </a:path>
            </a:pathLst>
          </a:custGeom>
          <a:noFill/>
          <a:ln w="88920">
            <a:solidFill>
              <a:srgbClr val="3c8c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"/>
          <p:cNvSpPr/>
          <p:nvPr/>
        </p:nvSpPr>
        <p:spPr>
          <a:xfrm>
            <a:off x="295200" y="380880"/>
            <a:ext cx="816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№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5: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На рисунке показан график работ идеального газа при изобарном расширении от изменения температур. В каком из нижеприведённых соотношений находятся между собой количества вещества этих газ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1523880" y="1628640"/>
            <a:ext cx="2176560" cy="187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4495680" y="1600200"/>
          <a:ext cx="2305080" cy="1828800"/>
        </p:xfrm>
        <a:graphic>
          <a:graphicData uri="http://schemas.openxmlformats.org/drawingml/2006/table">
            <a:tbl>
              <a:tblPr/>
              <a:tblGrid>
                <a:gridCol w="2305080"/>
              </a:tblGrid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 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  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  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)  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)  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Прямоугольник 3"/>
          <p:cNvSpPr/>
          <p:nvPr/>
        </p:nvSpPr>
        <p:spPr>
          <a:xfrm>
            <a:off x="457200" y="343224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№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6: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Воздух массой 290г. при изобарном нагревании, совершил работу 640 Дж. На сколько градусов Цельсия был нагрет этот газ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05400" y="4267080"/>
          <a:ext cx="1981080" cy="1981440"/>
        </p:xfrm>
        <a:graphic>
          <a:graphicData uri="http://schemas.openxmlformats.org/drawingml/2006/table">
            <a:tbl>
              <a:tblPr/>
              <a:tblGrid>
                <a:gridCol w="198108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  281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  8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  265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)  0,125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)  272,875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с двумя вырезанными противолежащими углами 4"/>
          <p:cNvSpPr/>
          <p:nvPr/>
        </p:nvSpPr>
        <p:spPr>
          <a:xfrm>
            <a:off x="228600" y="228600"/>
            <a:ext cx="8686800" cy="6400800"/>
          </a:xfrm>
          <a:custGeom>
            <a:avLst/>
            <a:gdLst/>
            <a:ahLst/>
            <a:rect l="l" t="t" r="r" b="b"/>
            <a:pathLst>
              <a:path w="8686800" h="6400800">
                <a:moveTo>
                  <a:pt x="0" y="0"/>
                </a:moveTo>
                <a:lnTo>
                  <a:pt x="7619979" y="0"/>
                </a:lnTo>
                <a:lnTo>
                  <a:pt x="8686800" y="1066821"/>
                </a:lnTo>
                <a:lnTo>
                  <a:pt x="8686800" y="6400800"/>
                </a:lnTo>
                <a:lnTo>
                  <a:pt x="8686800" y="6400800"/>
                </a:lnTo>
                <a:lnTo>
                  <a:pt x="1066821" y="6400800"/>
                </a:lnTo>
                <a:lnTo>
                  <a:pt x="0" y="5333979"/>
                </a:lnTo>
                <a:lnTo>
                  <a:pt x="0" y="0"/>
                </a:lnTo>
                <a:close/>
              </a:path>
            </a:pathLst>
          </a:custGeom>
          <a:noFill/>
          <a:ln w="88920">
            <a:solidFill>
              <a:srgbClr val="3c8c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"/>
          <p:cNvSpPr/>
          <p:nvPr/>
        </p:nvSpPr>
        <p:spPr>
          <a:xfrm>
            <a:off x="380880" y="380880"/>
            <a:ext cx="792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№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7: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Какой из нижеприведённых графиков наиболее точно отражает зависимость работы внешних сил при изобарном охлаждении от изменении температур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1047600" y="1635120"/>
            <a:ext cx="1676520" cy="1314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3914640" y="1649520"/>
            <a:ext cx="1619280" cy="1323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6858000" y="1649520"/>
            <a:ext cx="1657440" cy="1285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4"/>
          <a:stretch/>
        </p:blipFill>
        <p:spPr>
          <a:xfrm>
            <a:off x="2057400" y="3811680"/>
            <a:ext cx="1638360" cy="1305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5"/>
          <a:stretch/>
        </p:blipFill>
        <p:spPr>
          <a:xfrm>
            <a:off x="5715000" y="3619440"/>
            <a:ext cx="1685880" cy="1685880"/>
          </a:xfrm>
          <a:prstGeom prst="rect">
            <a:avLst/>
          </a:prstGeom>
          <a:ln w="0">
            <a:noFill/>
          </a:ln>
        </p:spPr>
      </p:pic>
      <p:sp>
        <p:nvSpPr>
          <p:cNvPr id="86" name="TextBox 2"/>
          <p:cNvSpPr/>
          <p:nvPr/>
        </p:nvSpPr>
        <p:spPr>
          <a:xfrm>
            <a:off x="615240" y="1709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3529080" y="1671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6560640" y="1641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1718640" y="388620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5171400" y="3811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4938840" y="29476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с двумя вырезанными противолежащими углами 4"/>
          <p:cNvSpPr/>
          <p:nvPr/>
        </p:nvSpPr>
        <p:spPr>
          <a:xfrm>
            <a:off x="228600" y="228600"/>
            <a:ext cx="8686800" cy="6400800"/>
          </a:xfrm>
          <a:custGeom>
            <a:avLst/>
            <a:gdLst/>
            <a:ahLst/>
            <a:rect l="l" t="t" r="r" b="b"/>
            <a:pathLst>
              <a:path w="8686800" h="6400800">
                <a:moveTo>
                  <a:pt x="0" y="0"/>
                </a:moveTo>
                <a:lnTo>
                  <a:pt x="7619979" y="0"/>
                </a:lnTo>
                <a:lnTo>
                  <a:pt x="8686800" y="1066821"/>
                </a:lnTo>
                <a:lnTo>
                  <a:pt x="8686800" y="6400800"/>
                </a:lnTo>
                <a:lnTo>
                  <a:pt x="8686800" y="6400800"/>
                </a:lnTo>
                <a:lnTo>
                  <a:pt x="1066821" y="6400800"/>
                </a:lnTo>
                <a:lnTo>
                  <a:pt x="0" y="5333979"/>
                </a:lnTo>
                <a:lnTo>
                  <a:pt x="0" y="0"/>
                </a:lnTo>
                <a:close/>
              </a:path>
            </a:pathLst>
          </a:custGeom>
          <a:noFill/>
          <a:ln w="88920">
            <a:solidFill>
              <a:srgbClr val="3c8c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1"/>
          <a:stretch/>
        </p:blipFill>
        <p:spPr>
          <a:xfrm>
            <a:off x="801720" y="2133720"/>
            <a:ext cx="4933800" cy="376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246240" y="533520"/>
          <a:ext cx="8229600" cy="13111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: </a:t>
                      </a: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Какие из нижеприведенных графиков зависимости некоторых параметров идеального газа ( при постоянном количестве вещества идеального газа) приведённых на рисунке, соответствуют положительной работе внешних сил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6324480" y="2971800"/>
          <a:ext cx="1828800" cy="1981080"/>
        </p:xfrm>
        <a:graphic>
          <a:graphicData uri="http://schemas.openxmlformats.org/drawingml/2006/table">
            <a:tbl>
              <a:tblPr/>
              <a:tblGrid>
                <a:gridCol w="182880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 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  I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  II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)  I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)  I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с двумя вырезанными противолежащими углами 4"/>
          <p:cNvSpPr/>
          <p:nvPr/>
        </p:nvSpPr>
        <p:spPr>
          <a:xfrm>
            <a:off x="228600" y="228600"/>
            <a:ext cx="8686800" cy="6400800"/>
          </a:xfrm>
          <a:custGeom>
            <a:avLst/>
            <a:gdLst/>
            <a:ahLst/>
            <a:rect l="l" t="t" r="r" b="b"/>
            <a:pathLst>
              <a:path w="8686800" h="6400800">
                <a:moveTo>
                  <a:pt x="0" y="0"/>
                </a:moveTo>
                <a:lnTo>
                  <a:pt x="7619979" y="0"/>
                </a:lnTo>
                <a:lnTo>
                  <a:pt x="8686800" y="1066821"/>
                </a:lnTo>
                <a:lnTo>
                  <a:pt x="8686800" y="6400800"/>
                </a:lnTo>
                <a:lnTo>
                  <a:pt x="8686800" y="6400800"/>
                </a:lnTo>
                <a:lnTo>
                  <a:pt x="1066821" y="6400800"/>
                </a:lnTo>
                <a:lnTo>
                  <a:pt x="0" y="5333979"/>
                </a:lnTo>
                <a:lnTo>
                  <a:pt x="0" y="0"/>
                </a:lnTo>
                <a:close/>
              </a:path>
            </a:pathLst>
          </a:custGeom>
          <a:noFill/>
          <a:ln w="88920">
            <a:solidFill>
              <a:srgbClr val="3c8c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"/>
          <p:cNvSpPr/>
          <p:nvPr/>
        </p:nvSpPr>
        <p:spPr>
          <a:xfrm>
            <a:off x="419040" y="609480"/>
            <a:ext cx="8305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№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9: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Данная масса идеального газа изотермически расширя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до некоторого объёма, затем при постоянном давлении переходит в состояние соответствующее первоначальному объёму, а затем изохорно возвращается в первоначальное состояние. В каком из нижеприведённых соотношений находятся между собой работы сил, совершающих данный процесс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200400" y="3352680"/>
          <a:ext cx="2743200" cy="1828800"/>
        </p:xfrm>
        <a:graphic>
          <a:graphicData uri="http://schemas.openxmlformats.org/drawingml/2006/table">
            <a:tbl>
              <a:tblPr/>
              <a:tblGrid>
                <a:gridCol w="2743200"/>
              </a:tblGrid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  А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A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 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A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 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A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) 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A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) 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льзя определить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с двумя вырезанными противолежащими углами 4"/>
          <p:cNvSpPr/>
          <p:nvPr/>
        </p:nvSpPr>
        <p:spPr>
          <a:xfrm>
            <a:off x="228600" y="228600"/>
            <a:ext cx="8686800" cy="6400800"/>
          </a:xfrm>
          <a:custGeom>
            <a:avLst/>
            <a:gdLst/>
            <a:ahLst/>
            <a:rect l="l" t="t" r="r" b="b"/>
            <a:pathLst>
              <a:path w="8686800" h="6400800">
                <a:moveTo>
                  <a:pt x="0" y="0"/>
                </a:moveTo>
                <a:lnTo>
                  <a:pt x="7619979" y="0"/>
                </a:lnTo>
                <a:lnTo>
                  <a:pt x="8686800" y="1066821"/>
                </a:lnTo>
                <a:lnTo>
                  <a:pt x="8686800" y="6400800"/>
                </a:lnTo>
                <a:lnTo>
                  <a:pt x="8686800" y="6400800"/>
                </a:lnTo>
                <a:lnTo>
                  <a:pt x="1066821" y="6400800"/>
                </a:lnTo>
                <a:lnTo>
                  <a:pt x="0" y="5333979"/>
                </a:lnTo>
                <a:lnTo>
                  <a:pt x="0" y="0"/>
                </a:lnTo>
                <a:close/>
              </a:path>
            </a:pathLst>
          </a:custGeom>
          <a:noFill/>
          <a:ln w="88920">
            <a:solidFill>
              <a:srgbClr val="3c8c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"/>
          <p:cNvSpPr/>
          <p:nvPr/>
        </p:nvSpPr>
        <p:spPr>
          <a:xfrm>
            <a:off x="533520" y="380880"/>
            <a:ext cx="7619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№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10: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Идеальный газ, изобарно при постоянной температуре увеличивает свой объём. Какой из ниже приведённых графиков, отражает зависимость работы газа от изменения массы газ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2071800" cy="1600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3719520" y="1995480"/>
            <a:ext cx="1986120" cy="1585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3"/>
          <a:stretch/>
        </p:blipFill>
        <p:spPr>
          <a:xfrm>
            <a:off x="6324480" y="2057400"/>
            <a:ext cx="1981440" cy="1496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4"/>
          <a:stretch/>
        </p:blipFill>
        <p:spPr>
          <a:xfrm>
            <a:off x="1905120" y="4114800"/>
            <a:ext cx="2104920" cy="1633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5"/>
          <a:stretch/>
        </p:blipFill>
        <p:spPr>
          <a:xfrm>
            <a:off x="5415120" y="4278240"/>
            <a:ext cx="1920600" cy="14702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2"/>
          <p:cNvSpPr/>
          <p:nvPr/>
        </p:nvSpPr>
        <p:spPr>
          <a:xfrm>
            <a:off x="671400" y="2071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3384000" y="2071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5976360" y="2092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1566360" y="438768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>
            <a:off x="4955400" y="4387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с двумя вырезанными противолежащими углами 4"/>
          <p:cNvSpPr/>
          <p:nvPr/>
        </p:nvSpPr>
        <p:spPr>
          <a:xfrm>
            <a:off x="228600" y="228600"/>
            <a:ext cx="8686800" cy="6400800"/>
          </a:xfrm>
          <a:custGeom>
            <a:avLst/>
            <a:gdLst/>
            <a:ahLst/>
            <a:rect l="l" t="t" r="r" b="b"/>
            <a:pathLst>
              <a:path w="8686800" h="6400800">
                <a:moveTo>
                  <a:pt x="0" y="0"/>
                </a:moveTo>
                <a:lnTo>
                  <a:pt x="7619979" y="0"/>
                </a:lnTo>
                <a:lnTo>
                  <a:pt x="8686800" y="1066821"/>
                </a:lnTo>
                <a:lnTo>
                  <a:pt x="8686800" y="6400800"/>
                </a:lnTo>
                <a:lnTo>
                  <a:pt x="8686800" y="6400800"/>
                </a:lnTo>
                <a:lnTo>
                  <a:pt x="1066821" y="6400800"/>
                </a:lnTo>
                <a:lnTo>
                  <a:pt x="0" y="5333979"/>
                </a:lnTo>
                <a:lnTo>
                  <a:pt x="0" y="0"/>
                </a:lnTo>
                <a:close/>
              </a:path>
            </a:pathLst>
          </a:custGeom>
          <a:noFill/>
          <a:ln w="88920">
            <a:solidFill>
              <a:srgbClr val="3c8c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nd-team</dc:creator>
  <dc:description/>
  <dc:language>en-US</dc:language>
  <cp:lastModifiedBy>Demo</cp:lastModifiedBy>
  <dcterms:modified xsi:type="dcterms:W3CDTF">2011-10-31T10:51:36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