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F5F-ADDA-4C91-A77E-7B397B8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6B5-2F29-4F53-A811-81F423B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0AC-19EA-4349-8F0C-6FBAB694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B25-EE33-407F-A35A-CAB629D5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ED6-F222-4AD1-BE3B-65704C9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084-4DE6-46AF-BA77-BE70A03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3A5-F12D-461A-BD15-7ECCF708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803-47C4-4CA2-89A7-D7F1F12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D80-69B0-4969-8416-E3A38642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C50-77A4-45A2-A35F-A6E5DA8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A78-95AB-4EC6-AAFB-2B273DD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B9E-DB11-4740-83C4-F668EB4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857A-1048-4EAA-BC67-436AA7BEB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варель М.Ю. Лермонтова «Парус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intings_by_Mikhail_Lermontov,_1828-31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рус  -        пару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-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ятежнос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нтрабандист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приютнос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пой  - странствующий -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перспе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цер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ча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900296346[1]"/>
          <p:cNvPicPr/>
          <p:nvPr/>
        </p:nvPicPr>
        <p:blipFill>
          <a:blip r:embed="rId1"/>
          <a:stretch/>
        </p:blipFill>
        <p:spPr>
          <a:xfrm>
            <a:off x="3448080" y="2755800"/>
            <a:ext cx="1809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касается до героя рома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тут является тем же таинственным лицом, как и в первых повестях. Вы видите человека с сильною волею, отважного, не бледнеющего никакой опасности, напрашивающегося на бури и тревоги, чтобы занять себя чем-нибудь и наполнить бездонную пустоту своего духа, хотя бы и деятельностию без всякой цели»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Г. Бели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elinskiy"/>
          <p:cNvPicPr/>
          <p:nvPr/>
        </p:nvPicPr>
        <p:blipFill>
          <a:blip r:embed="rId1"/>
          <a:stretch/>
        </p:blipFill>
        <p:spPr>
          <a:xfrm>
            <a:off x="6934320" y="457200"/>
            <a:ext cx="1523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игорий Александр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ОТНОШЕНИЕ К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Берег обрывом спускался к морю… и внизу с беспрерывным ропотом плескались тёмно-синие волны. Луна тихо смотрела на беспокойную, но покорную 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стихи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645060_taman"/>
          <p:cNvPicPr/>
          <p:nvPr/>
        </p:nvPicPr>
        <p:blipFill>
          <a:blip r:embed="rId1"/>
          <a:stretch/>
        </p:blipFill>
        <p:spPr>
          <a:xfrm>
            <a:off x="4343400" y="4114800"/>
            <a:ext cx="43527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.Г. Белинск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весть эта отличается каким-то особенным колоритом: несмотря на прозаическую действительность её содержания, всё в ней таинственно, лица — какие-то фантастические тени, мелькающие в вечернем сумраке, при свете зари или месяца. Особенно очаровательна девушка: это какая-то дикая, сверкающая красота»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стоящая русалка…моя унд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Странное существо!.. эти глаза, казалось, были одарены какою-то магнетическою властью… в ней было много породы… необыкновенная гибкость её стана…правильный нос - всё это было для мен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ворожите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лана Светличная в роли Ундины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48575368_184153871"/>
          <p:cNvPicPr/>
          <p:nvPr/>
        </p:nvPicPr>
        <p:blipFill>
          <a:blip r:embed="rId1"/>
          <a:stretch/>
        </p:blipFill>
        <p:spPr>
          <a:xfrm>
            <a:off x="2743200" y="457200"/>
            <a:ext cx="36529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зойдём в лодку», - сказал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я спут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О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ко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цепилась в мою одежду… между нами началась отчаянная борьба… я скоро заметил, что уступаю моем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тивни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ловкости… пальцы её хрустели, но она не вскрикнула: её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меиная н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держала эту пытку…я мгновенно бросил её в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лил к пристани…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то-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бе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дел на берегу…не очень удивился, а почти обрадовался, узна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ю русал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зоркая наблюдательность, настойчивый, последовательный интерес к неизвестному, а пуще всего влечение к опасности и действию, напрягая его безотказно работающую, почти смертоносную волю, создали из заурядно-житейских обстоятельств остро захватывающие приключения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.Н. Мих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«Тамани», как и в «Бэле», Печорин показан снова не в кругу людей одинакового с ним социального положения и культурного уровня, но в среде, глубоким рубежом отделенной от привилегированной господствующей верх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.Н. Михай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ОРИН И КОНТРАБАНД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ОРИН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АБАНД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йвазовский. Буря на Ледовитом океане. 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urya_na_ledovitom_okeane_1000_800"/>
          <p:cNvPicPr/>
          <p:nvPr/>
        </p:nvPicPr>
        <p:blipFill>
          <a:blip r:embed="rId1"/>
          <a:stretch/>
        </p:blipFill>
        <p:spPr>
          <a:xfrm>
            <a:off x="2590920" y="228600"/>
            <a:ext cx="36860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ЕЧОРИН И КОНТРАБАНД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(реч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ая недоговорённость и неясность в жизни контрабандистов и в их взаимных отношениях, оставляющая достаточно простора для работы нашего воображения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.В. Шувалов. (19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900237449[1]"/>
          <p:cNvPicPr/>
          <p:nvPr/>
        </p:nvPicPr>
        <p:blipFill>
          <a:blip r:embed="rId1"/>
          <a:stretch/>
        </p:blipFill>
        <p:spPr>
          <a:xfrm>
            <a:off x="1371600" y="4648320"/>
            <a:ext cx="1828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лава «Тама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ценке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900312512[1]"/>
          <p:cNvPicPr/>
          <p:nvPr/>
        </p:nvPicPr>
        <p:blipFill>
          <a:blip r:embed="rId1"/>
          <a:stretch/>
        </p:blipFill>
        <p:spPr>
          <a:xfrm>
            <a:off x="7086600" y="4648320"/>
            <a:ext cx="1546200" cy="1704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_38cd9_a8b3ac9d_L"/>
          <p:cNvPicPr/>
          <p:nvPr/>
        </p:nvPicPr>
        <p:blipFill>
          <a:blip r:embed="rId2"/>
          <a:stretch/>
        </p:blipFill>
        <p:spPr>
          <a:xfrm>
            <a:off x="380880" y="380880"/>
            <a:ext cx="1643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„Тамань”. Это совершенство. Я видел снимок с рукописи: она вся до того исчерчена, что ничего нельзя разобрать. В повести нет ни одного лишнего слова, ничего, ни одной запятой нельзя ни прибавить, ни убави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lstoiL2"/>
          <p:cNvPicPr/>
          <p:nvPr/>
        </p:nvPicPr>
        <p:blipFill>
          <a:blip r:embed="rId1"/>
          <a:stretch/>
        </p:blipFill>
        <p:spPr>
          <a:xfrm>
            <a:off x="3505320" y="4724280"/>
            <a:ext cx="167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не знаю языка лучше, чем у Лермонтова. Я бы так сделал: взял его рассказ и разбирал бы, как разбирают в школах — по предложениям, по частям предложения... Так бы и учился пис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hekhov-1e"/>
          <p:cNvPicPr/>
          <p:nvPr/>
        </p:nvPicPr>
        <p:blipFill>
          <a:blip r:embed="rId1"/>
          <a:stretch/>
        </p:blipFill>
        <p:spPr>
          <a:xfrm>
            <a:off x="3581280" y="4191120"/>
            <a:ext cx="1757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как мог Лермонтов, будучи почти мальчиком, сделать это? Мечтаю написать такую вещь... тогда бы и умереть можно!»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ник М.Ю. Лермонт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Гелендж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450px-GelendzhikMonumentToLermontoff15Jan2006"/>
          <p:cNvPicPr/>
          <p:nvPr/>
        </p:nvPicPr>
        <p:blipFill>
          <a:blip r:embed="rId1"/>
          <a:stretch/>
        </p:blipFill>
        <p:spPr>
          <a:xfrm>
            <a:off x="5867280" y="365760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амань» - один из самых прекрасных перлов нашей литерату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unin"/>
          <p:cNvPicPr/>
          <p:nvPr/>
        </p:nvPicPr>
        <p:blipFill>
          <a:blip r:embed="rId1"/>
          <a:stretch/>
        </p:blipFill>
        <p:spPr>
          <a:xfrm>
            <a:off x="6172200" y="3505320"/>
            <a:ext cx="1666800" cy="235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erl3"/>
          <p:cNvPicPr/>
          <p:nvPr/>
        </p:nvPicPr>
        <p:blipFill>
          <a:blip r:embed="rId2"/>
          <a:stretch/>
        </p:blipFill>
        <p:spPr>
          <a:xfrm>
            <a:off x="990720" y="2666880"/>
            <a:ext cx="3828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м я ж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кой ц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родился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927c37def21078e0ab15c52493d8f0c"/>
          <p:cNvPicPr/>
          <p:nvPr/>
        </p:nvPicPr>
        <p:blipFill>
          <a:blip r:embed="rId1"/>
          <a:stretch/>
        </p:blipFill>
        <p:spPr>
          <a:xfrm>
            <a:off x="4495680" y="380880"/>
            <a:ext cx="4327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ундина вскочила в лодку и махнула товарищу рукою; он что-то положил слепому в руку… «Ну вот тебе ещё», - и упавшая монета зазвенела, ударяясь о камень. Слепой её не поднял. … и вот мне послышалось что-то похожее на рыдание… Мне стало грустно.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чем было судьбе кинуть ме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мирный круг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стных контрабандис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Ю. Лермонтов писал эту картину на берегу Финского з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aintings_by_Mikhail_Lermontov,_1828-31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 при свете месяца мелькал белый парус между тёмных вол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8645060_taman"/>
          <p:cNvPicPr/>
          <p:nvPr/>
        </p:nvPicPr>
        <p:blipFill>
          <a:blip r:embed="rId1"/>
          <a:stretch/>
        </p:blipFill>
        <p:spPr>
          <a:xfrm>
            <a:off x="990720" y="1447920"/>
            <a:ext cx="761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чем было судьбе кинуть меня в мирный круг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стных контрабандис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hmar"/>
          <p:cNvPicPr/>
          <p:nvPr/>
        </p:nvPicPr>
        <p:blipFill>
          <a:blip r:embed="rId1"/>
          <a:stretch/>
        </p:blipFill>
        <p:spPr>
          <a:xfrm>
            <a:off x="3048120" y="2743200"/>
            <a:ext cx="306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ntitled-5zWNA3a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жет быть, я не прав, но лермонтовская «Тамань» и пушкинская «Капитанская дочка»... прямо доказывают тесное родство сочного русского стиха с изящною прозо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1pus"/>
          <p:cNvPicPr/>
          <p:nvPr/>
        </p:nvPicPr>
        <p:blipFill>
          <a:blip r:embed="rId1"/>
          <a:stretch/>
        </p:blipFill>
        <p:spPr>
          <a:xfrm>
            <a:off x="6324480" y="3808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...образец повести, по-моему, «Тамань», — пусть все литераторы соберутся, и ни один не найдёт слова, которое можно было бы прибавить или убавить, там всё как цельный музыкальный аккорд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.В. Григ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grigorovich"/>
          <p:cNvPicPr/>
          <p:nvPr/>
        </p:nvPicPr>
        <p:blipFill>
          <a:blip r:embed="rId1"/>
          <a:stretch/>
        </p:blipFill>
        <p:spPr>
          <a:xfrm>
            <a:off x="2971800" y="4572000"/>
            <a:ext cx="1776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олько надо было иметь ума и сколько настоящей силы, чтобы так глубоко, как Лермонтов, чувствуя чары лунно-синих волн и чёрной паутины снастей на светлой полосе горизонта, оставить их жить, светиться, играть, как они хотят и могут, не заслоняя их собою, не оскорбляя их красоты...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ей сцене, покинув на бере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ого мальчика, так и покинуть е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хо и безутешно плачущим и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олвиться напоследок ни словом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стве своём..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 Анн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7867"/>
          <p:cNvPicPr/>
          <p:nvPr/>
        </p:nvPicPr>
        <p:blipFill>
          <a:blip r:embed="rId1"/>
          <a:stretch/>
        </p:blipFill>
        <p:spPr>
          <a:xfrm>
            <a:off x="838080" y="3809880"/>
            <a:ext cx="2190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07T19:21:37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