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34DA-285D-4B66-BCC4-A26E610D7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495F-6001-4C24-8C2C-E9209A66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0F2D-33D1-4A35-8ED3-210594D54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3199-0206-4D79-8508-E357C380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A445-099A-4DDB-9F1F-4E6A6F61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D4D2-9CCC-422A-A765-E6E3AABB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A27D-1B5B-4F14-8C7A-FA1F2859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AC28-CBAE-4DD1-863B-8FB02F3D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B27A-2EB3-447C-B6BC-636E643D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05A1-A690-4958-9FBB-495751A7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478D-4E7D-43E4-BFA0-A3C9F946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9585-49EC-48FC-9441-1B023A1B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0453-4C3C-4EB2-BACF-35A1208CED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варель М.Ю. Лермонтова «Парус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Paintings_by_Mikhail_Lermontov,_1828-31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5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РАЛЛ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арус  -        пару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-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ятежность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контрабандистов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есприютность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епой  - странствующий -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есперспектив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фицер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ча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MC900296346[1]"/>
          <p:cNvPicPr/>
          <p:nvPr/>
        </p:nvPicPr>
        <p:blipFill>
          <a:blip r:embed="rId1"/>
          <a:stretch/>
        </p:blipFill>
        <p:spPr>
          <a:xfrm>
            <a:off x="3448080" y="2755800"/>
            <a:ext cx="1809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касается до героя романа 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и тут является тем же таинственным лицом, как и в первых повестях. Вы видите человека с сильною волею, отважного, не бледнеющего никакой опасности, напрашивающегося на бури и тревоги, чтобы занять себя чем-нибудь и наполнить бездонную пустоту своего духа, хотя бы и деятельностию без всякой цели»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.Г. Белинск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Belinskiy"/>
          <p:cNvPicPr/>
          <p:nvPr/>
        </p:nvPicPr>
        <p:blipFill>
          <a:blip r:embed="rId1"/>
          <a:stretch/>
        </p:blipFill>
        <p:spPr>
          <a:xfrm>
            <a:off x="6934320" y="457200"/>
            <a:ext cx="152388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ригорий Александрович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ЧОР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3300"/>
                </a:solidFill>
                <a:uFillTx/>
                <a:latin typeface="Arial"/>
              </a:rPr>
              <a:t>ОТНОШЕНИЕ К ПРИР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Берег обрывом спускался к морю… и внизу с беспрерывным ропотом плескались тёмно-синие волны. Луна тихо смотрела на беспокойную, но покорную 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стихию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8645060_taman"/>
          <p:cNvPicPr/>
          <p:nvPr/>
        </p:nvPicPr>
        <p:blipFill>
          <a:blip r:embed="rId1"/>
          <a:stretch/>
        </p:blipFill>
        <p:spPr>
          <a:xfrm>
            <a:off x="4343400" y="4114800"/>
            <a:ext cx="435276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В.Г. Белинск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овесть эта отличается каким-то особенным колоритом: несмотря на прозаическую действительность её содержания, всё в ней таинственно, лица — какие-то фантастические тени, мелькающие в вечернем сумраке, при свете зари или месяца. Особенно очаровательна девушка: это какая-то дикая, сверкающая красота»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ЧОР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НОШЕНИЕ К ЛЮД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…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стоящая русалка…моя унд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 Странное существо!.. эти глаза, казалось, были одарены какою-то магнетическою властью… в ней было много породы… необыкновенная гибкость её стана…правильный нос - всё это было для мен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бворожитель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тлана Светличная в роли Ундины (196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48575368_184153871"/>
          <p:cNvPicPr/>
          <p:nvPr/>
        </p:nvPicPr>
        <p:blipFill>
          <a:blip r:embed="rId1"/>
          <a:stretch/>
        </p:blipFill>
        <p:spPr>
          <a:xfrm>
            <a:off x="2743200" y="457200"/>
            <a:ext cx="365292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Взойдём в лодку», - сказал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оя спутниц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 Он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ак кош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цепилась в мою одежду… между нами началась отчаянная борьба… я скоро заметил, что уступаю моему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отивник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ловкости… пальцы её хрустели, но она не вскрикнула: её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меиная нату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держала эту пытку…я мгновенно бросил её в вол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чалил к пристани…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то-т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 бел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идел на берегу…не очень удивился, а почти обрадовался, узнав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ою русалк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чор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го зоркая наблюдательность, настойчивый, последовательный интерес к неизвестному, а пуще всего влечение к опасности и действию, напрягая его безотказно работающую, почти смертоносную волю, создали из заурядно-житейских обстоятельств остро захватывающие приключения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.Н. Михай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чор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«Тамани», как и в «Бэле», Печорин показан снова не в кругу людей одинакового с ним социального положения и культурного уровня, но в среде, глубоким рубежом отделенной от привилегированной господствующей верху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.Н. Михай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ЧОРИН И КОНТРАБАНДИС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ЧОРИН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ТРАБАНДИ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н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п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. Айвазовский. Буря на Ледовитом океане. 18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burya_na_ledovitom_okeane_1000_800"/>
          <p:cNvPicPr/>
          <p:nvPr/>
        </p:nvPicPr>
        <p:blipFill>
          <a:blip r:embed="rId1"/>
          <a:stretch/>
        </p:blipFill>
        <p:spPr>
          <a:xfrm>
            <a:off x="2590920" y="228600"/>
            <a:ext cx="36860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ЕЧОРИН И КОНТРАБАНДИС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НОШЕНИЕ К ЛЮД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ЛЬТУРА (реч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которая недоговорённость и неясность в жизни контрабандистов и в их взаимных отношениях, оставляющая достаточно простора для работы нашего воображения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.В. Шувалов. (192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MC900237449[1]"/>
          <p:cNvPicPr/>
          <p:nvPr/>
        </p:nvPicPr>
        <p:blipFill>
          <a:blip r:embed="rId1"/>
          <a:stretch/>
        </p:blipFill>
        <p:spPr>
          <a:xfrm>
            <a:off x="1371600" y="4648320"/>
            <a:ext cx="18288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лава «Таман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оценке русских писа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MC900312512[1]"/>
          <p:cNvPicPr/>
          <p:nvPr/>
        </p:nvPicPr>
        <p:blipFill>
          <a:blip r:embed="rId1"/>
          <a:stretch/>
        </p:blipFill>
        <p:spPr>
          <a:xfrm>
            <a:off x="7086600" y="4648320"/>
            <a:ext cx="1546200" cy="1704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0_38cd9_a8b3ac9d_L"/>
          <p:cNvPicPr/>
          <p:nvPr/>
        </p:nvPicPr>
        <p:blipFill>
          <a:blip r:embed="rId2"/>
          <a:stretch/>
        </p:blipFill>
        <p:spPr>
          <a:xfrm>
            <a:off x="380880" y="380880"/>
            <a:ext cx="164304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„Тамань”. Это совершенство. Я видел снимок с рукописи: она вся до того исчерчена, что ничего нельзя разобрать. В повести нет ни одного лишнего слова, ничего, ни одной запятой нельзя ни прибавить, ни убавит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.Н. Тол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TolstoiL2"/>
          <p:cNvPicPr/>
          <p:nvPr/>
        </p:nvPicPr>
        <p:blipFill>
          <a:blip r:embed="rId1"/>
          <a:stretch/>
        </p:blipFill>
        <p:spPr>
          <a:xfrm>
            <a:off x="3505320" y="4724280"/>
            <a:ext cx="16761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Я не знаю языка лучше, чем у Лермонтова. Я бы так сделал: взял его рассказ и разбирал бы, как разбирают в школах — по предложениям, по частям предложения... Так бы и учился писат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.П. Чех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chekhov-1e"/>
          <p:cNvPicPr/>
          <p:nvPr/>
        </p:nvPicPr>
        <p:blipFill>
          <a:blip r:embed="rId1"/>
          <a:stretch/>
        </p:blipFill>
        <p:spPr>
          <a:xfrm>
            <a:off x="3581280" y="4191120"/>
            <a:ext cx="1757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…как мог Лермонтов, будучи почти мальчиком, сделать это? Мечтаю написать такую вещь... тогда бы и умереть можно!»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А.П. Чех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мятник М.Ю. Лермонто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Гелендж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450px-GelendzhikMonumentToLermontoff15Jan2006"/>
          <p:cNvPicPr/>
          <p:nvPr/>
        </p:nvPicPr>
        <p:blipFill>
          <a:blip r:embed="rId1"/>
          <a:stretch/>
        </p:blipFill>
        <p:spPr>
          <a:xfrm>
            <a:off x="5867280" y="3657600"/>
            <a:ext cx="2171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Тамань» - один из самых прекрасных перлов нашей литератур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.А. Буни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bunin"/>
          <p:cNvPicPr/>
          <p:nvPr/>
        </p:nvPicPr>
        <p:blipFill>
          <a:blip r:embed="rId1"/>
          <a:stretch/>
        </p:blipFill>
        <p:spPr>
          <a:xfrm>
            <a:off x="6172200" y="3505320"/>
            <a:ext cx="1666800" cy="2352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perl3"/>
          <p:cNvPicPr/>
          <p:nvPr/>
        </p:nvPicPr>
        <p:blipFill>
          <a:blip r:embed="rId2"/>
          <a:stretch/>
        </p:blipFill>
        <p:spPr>
          <a:xfrm>
            <a:off x="990720" y="2666880"/>
            <a:ext cx="38289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чем я жил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какой це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родился?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0927c37def21078e0ab15c52493d8f0c"/>
          <p:cNvPicPr/>
          <p:nvPr/>
        </p:nvPicPr>
        <p:blipFill>
          <a:blip r:embed="rId1"/>
          <a:stretch/>
        </p:blipFill>
        <p:spPr>
          <a:xfrm>
            <a:off x="4495680" y="380880"/>
            <a:ext cx="43275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я ундина вскочила в лодку и махнула товарищу рукою; он что-то положил слепому в руку… «Ну вот тебе ещё», - и упавшая монета зазвенела, ударяясь о камень. Слепой её не поднял. … и вот мне послышалось что-то похожее на рыдание… Мне стало грустно.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чем было судьбе кинуть мен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мирный круг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естных контрабандис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Ю. Лермонтов писал эту картину на берегу Финского зал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Paintings_by_Mikhail_Lermontov,_1828-31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5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го при свете месяца мелькал белый парус между тёмных волн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8645060_taman"/>
          <p:cNvPicPr/>
          <p:nvPr/>
        </p:nvPicPr>
        <p:blipFill>
          <a:blip r:embed="rId1"/>
          <a:stretch/>
        </p:blipFill>
        <p:spPr>
          <a:xfrm>
            <a:off x="990720" y="1447920"/>
            <a:ext cx="76197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зачем было судьбе кинуть меня в мирный круг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естных контрабандис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Shmar"/>
          <p:cNvPicPr/>
          <p:nvPr/>
        </p:nvPicPr>
        <p:blipFill>
          <a:blip r:embed="rId1"/>
          <a:stretch/>
        </p:blipFill>
        <p:spPr>
          <a:xfrm>
            <a:off x="3048120" y="2743200"/>
            <a:ext cx="3066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Untitled-5zWNA3a"/>
          <p:cNvPicPr/>
          <p:nvPr/>
        </p:nvPicPr>
        <p:blipFill>
          <a:blip r:embed="rId1"/>
          <a:stretch/>
        </p:blipFill>
        <p:spPr>
          <a:xfrm>
            <a:off x="1295280" y="152280"/>
            <a:ext cx="65534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Может быть, я не прав, но лермонтовская «Тамань» и пушкинская «Капитанская дочка»... прямо доказывают тесное родство сочного русского стиха с изящною прозой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.П. Чех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21pus"/>
          <p:cNvPicPr/>
          <p:nvPr/>
        </p:nvPicPr>
        <p:blipFill>
          <a:blip r:embed="rId1"/>
          <a:stretch/>
        </p:blipFill>
        <p:spPr>
          <a:xfrm>
            <a:off x="6324480" y="380880"/>
            <a:ext cx="2381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...образец повести, по-моему, «Тамань», — пусть все литераторы соберутся, и ни один не найдёт слова, которое можно было бы прибавить или убавить, там всё как цельный музыкальный аккорд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.В. Григо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grigorovich"/>
          <p:cNvPicPr/>
          <p:nvPr/>
        </p:nvPicPr>
        <p:blipFill>
          <a:blip r:embed="rId1"/>
          <a:stretch/>
        </p:blipFill>
        <p:spPr>
          <a:xfrm>
            <a:off x="2971800" y="4572000"/>
            <a:ext cx="177624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колько надо было иметь ума и сколько настоящей силы, чтобы так глубоко, как Лермонтов, чувствуя чары лунно-синих волн и чёрной паутины снастей на светлой полосе горизонта, оставить их жить, светиться, играть, как они хотят и могут, не заслоняя их собою, не оскорбляя их красоты...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следней сцене, покинув на берег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пого мальчика, так и покинуть его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хо и безутешно плачущим и 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молвиться напоследок ни словом 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стве своём...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. Анн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87867"/>
          <p:cNvPicPr/>
          <p:nvPr/>
        </p:nvPicPr>
        <p:blipFill>
          <a:blip r:embed="rId1"/>
          <a:stretch/>
        </p:blipFill>
        <p:spPr>
          <a:xfrm>
            <a:off x="838080" y="3809880"/>
            <a:ext cx="21909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4-01-07T19:21:37Z</dcterms:modified>
  <cp:revision>1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