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662-EBF0-403D-87A5-BF43C58E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86A-C217-46BA-A860-BBD3C2C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F64-F0FD-4CDB-8DD9-B15BF4B6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958-80FB-4128-8741-031816D7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0C5-A449-4A7C-8A58-C94F7BA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D36-9CA6-4D5D-BCE7-BC78C28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9585-A793-410F-8B68-AFB60B51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B76A-97AD-45A4-8E84-550F6EA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D2B7-DA4A-430C-96A9-6ED51B8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093A-3F70-47B4-B777-0C6C442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6A9-60F9-4B2B-B1D5-7109BD1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242-9BFA-492D-B514-08FEFB25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1076-ED2B-426F-8975-B89ED8C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D87C-58F2-41D9-A4B7-D7B80DF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0B2-CDB0-4D77-9CBD-A6D6A70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769F-08A3-4C36-A6CC-17625B3B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EC40-7BE8-4CE4-B186-1A49DB46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DBA-9E0F-42BE-A49E-8E8B07F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A56-6A9B-4142-B1B1-90148AAA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B7C-1ACB-4466-BF0F-478E7C1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F5C-9BA6-4199-94F0-7486582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404-2791-48EC-A79F-6BC01FF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481-F562-4AC5-8580-733E4FCA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431-736A-4C15-BD77-137DED7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405-B55A-4A0E-8397-6CEE25230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6ED-805E-4E22-9F8E-4BB11C322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КЛЮШ</a:t>
            </a:r>
            <a:br>
              <a:rPr sz="44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еминар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етодические рекомендации по организации профилактических и противоэпидемических мероприятий по коклюш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5805360"/>
            <a:ext cx="374508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инар подготов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данов В.А., Кашпур Е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Клинические признаки коклюш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91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упообразный кашель, сопровождаемый гипиремией, цианозом лица, слезотечением, репризами, рвотой, усиливаюшимися в ночное время, после физической и эмоциональной нагрузки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гкая форма до 15 приступов в сутки, средняя - от 16 до 25, тяжелая  - 30 и боле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Слабовыраженные катаральные явления и отсутствие повышения температуры  в период спазматического кашл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Продрома, характеризующаяся непродуктивным кашлем с постепенным усилением и приобретением спазматического характера на 2-3 неделе заболев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Лейко- и лимфоцитоз – 20-70тыс. в 1 мм3  периферической крови при сниженной или нормальной СОЭ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Изменения со стороны бронхолегочной системы: вздутие легочной ткани, жесткое дыхание, отделение вязкой прозрачной мокроты на рентгенограмме, усиление бронхо-сосудистого рисунка, очаговые тени в нижне-медиальных отделах легк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следует дифференцировать  сходный кашель при аденовирусной   инфекции, вирусной пневмонии, инфекционном мононуклеозе и др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50000">
              <a:srgbClr val="ccccf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Схема патогенеза коклюш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692280"/>
            <a:ext cx="4824360" cy="287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e5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оситель В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tus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052640"/>
            <a:ext cx="3024000" cy="50472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50000">
                <a:srgbClr val="ffff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риимчивый организ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628640"/>
            <a:ext cx="4321080" cy="64800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99ff66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множение возбудмтеля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пителии верхн. дых. пут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197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40840 h 1214280"/>
              <a:gd name="textAreaBottom" fmla="*/ 73764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76" stAng="-5400000" swAng="-5400000"/>
                <a:lnTo>
                  <a:pt x="0" y="8832"/>
                </a:lnTo>
                <a:arcTo wR="21600" hR="8576" stAng="10800000" swAng="-1182866"/>
                <a:lnTo>
                  <a:pt x="5565" y="18770"/>
                </a:lnTo>
                <a:lnTo>
                  <a:pt x="21600" y="17280"/>
                </a:lnTo>
                <a:lnTo>
                  <a:pt x="5565" y="10130"/>
                </a:lnTo>
                <a:lnTo>
                  <a:pt x="5565" y="14322"/>
                </a:lnTo>
                <a:arcTo wR="21600" hR="8576" stAng="9617134" swAng="1162492"/>
                <a:lnTo>
                  <a:pt x="2" y="8704"/>
                </a:lnTo>
                <a:arcTo wR="21600" hR="8576" stAng="-10779626" swAng="5379626"/>
                <a:close/>
              </a:path>
              <a:path fill="darkenLess" w="21600" h="21600">
                <a:moveTo>
                  <a:pt x="21600" y="0"/>
                </a:moveTo>
                <a:arcTo wR="21600" hR="8576" stAng="-5400000" swAng="-5400000"/>
                <a:lnTo>
                  <a:pt x="0" y="8576"/>
                </a:lnTo>
                <a:arcTo wR="21600" hR="8576" stAng="10800000" swAng="-20374"/>
                <a:lnTo>
                  <a:pt x="2" y="8704"/>
                </a:lnTo>
                <a:arcTo wR="21600" hR="8576" stAng="-10779626" swAng="5379626"/>
                <a:close/>
              </a:path>
            </a:pathLst>
          </a:cu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349360"/>
            <a:ext cx="1546200" cy="935280"/>
          </a:xfrm>
          <a:prstGeom prst="downArrowCallout">
            <a:avLst>
              <a:gd name="adj1" fmla="val 41334"/>
              <a:gd name="adj2" fmla="val 41330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а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1989000"/>
            <a:ext cx="1706760" cy="432000"/>
          </a:xfrm>
          <a:prstGeom prst="flowChartTerminator">
            <a:avLst/>
          </a:prstGeom>
          <a:gradFill rotWithShape="0">
            <a:gsLst>
              <a:gs pos="0">
                <a:srgbClr val="2b5481"/>
              </a:gs>
              <a:gs pos="50000">
                <a:srgbClr val="ff99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екреция сли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708280"/>
            <a:ext cx="1833480" cy="649440"/>
          </a:xfrm>
          <a:prstGeom prst="downArrowCallout">
            <a:avLst>
              <a:gd name="adj1" fmla="val 70586"/>
              <a:gd name="adj2" fmla="val 70579"/>
              <a:gd name="adj3" fmla="val 16667"/>
              <a:gd name="adj4" fmla="val 66667"/>
            </a:avLst>
          </a:prstGeom>
          <a:gradFill rotWithShape="0">
            <a:gsLst>
              <a:gs pos="0">
                <a:srgbClr val="e5ffff"/>
              </a:gs>
              <a:gs pos="50000">
                <a:srgbClr val="003366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ронхообстру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2280"/>
            <a:ext cx="3059280" cy="432000"/>
          </a:xfrm>
          <a:prstGeom prst="flowChartTerminator">
            <a:avLst/>
          </a:prstGeom>
          <a:gradFill rotWithShape="0">
            <a:gsLst>
              <a:gs pos="0">
                <a:srgbClr val="ff9999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ущивание и метаплаз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пител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258920" y="1989000"/>
            <a:ext cx="72072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191628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3357720"/>
            <a:ext cx="2784600" cy="914400"/>
          </a:xfrm>
          <a:custGeom>
            <a:avLst/>
            <a:gdLst>
              <a:gd name="textAreaLeft" fmla="*/ 635760 w 2784600"/>
              <a:gd name="textAreaRight" fmla="*/ 2148840 w 27846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торич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актериа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невмо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40360" y="2060640"/>
            <a:ext cx="2303280" cy="151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2421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3573360"/>
            <a:ext cx="2282760" cy="432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5400000"/>
          </a:gra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аш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4221000"/>
            <a:ext cx="2787480" cy="609840"/>
          </a:xfrm>
          <a:prstGeom prst="cloudCallout">
            <a:avLst>
              <a:gd name="adj1" fmla="val -6606"/>
              <a:gd name="adj2" fmla="val 34634"/>
            </a:avLst>
          </a:prstGeom>
          <a:gradFill rotWithShape="0">
            <a:gsLst>
              <a:gs pos="0">
                <a:srgbClr val="ff33cc"/>
              </a:gs>
              <a:gs pos="50000">
                <a:srgbClr val="ff9966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алительная эмфизе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2708280"/>
            <a:ext cx="0" cy="15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213000"/>
            <a:ext cx="1655640" cy="609840"/>
          </a:xfrm>
          <a:prstGeom prst="flowChartMagneticTape">
            <a:avLst/>
          </a:prstGeom>
          <a:gradFill rotWithShape="0">
            <a:gsLst>
              <a:gs pos="0">
                <a:srgbClr val="ff9966"/>
              </a:gs>
              <a:gs pos="50000">
                <a:srgbClr val="0099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рв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8360" y="3789360"/>
            <a:ext cx="9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653000"/>
            <a:ext cx="1942920" cy="64764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невмоторак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4581360"/>
            <a:ext cx="28728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589720"/>
            <a:ext cx="2232000" cy="360360"/>
          </a:xfrm>
          <a:prstGeom prst="leftArrowCallout">
            <a:avLst>
              <a:gd name="adj1" fmla="val 25002"/>
              <a:gd name="adj2" fmla="val 25000"/>
              <a:gd name="adj3" fmla="val 103230"/>
              <a:gd name="adj4" fmla="val 6667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гипок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49720"/>
            <a:ext cx="3059280" cy="719280"/>
          </a:xfrm>
          <a:custGeom>
            <a:avLst/>
            <a:gdLst>
              <a:gd name="textAreaLeft" fmla="*/ 698400 w 3059280"/>
              <a:gd name="textAreaRight" fmla="*/ 2360880 w 305928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вышение груд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а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07640" y="3933720"/>
            <a:ext cx="129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1993680" cy="647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0000"/>
              </a:gs>
              <a:gs pos="50000">
                <a:srgbClr val="2b548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енозный за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869000"/>
            <a:ext cx="2808360" cy="1041120"/>
          </a:xfrm>
          <a:prstGeom prst="flowChartDecision">
            <a:avLst/>
          </a:prstGeom>
          <a:gradFill rotWithShape="0">
            <a:gsLst>
              <a:gs pos="0">
                <a:srgbClr val="6699ff"/>
              </a:gs>
              <a:gs pos="50000">
                <a:srgbClr val="e5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нцефалопа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005360"/>
            <a:ext cx="0" cy="1079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6093000"/>
            <a:ext cx="2571840" cy="7650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2b5481"/>
              </a:gs>
              <a:gs pos="50000">
                <a:srgbClr val="ffff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здоро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566100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219640" y="5516640"/>
            <a:ext cx="936720" cy="21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472428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1484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413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81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98100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276640"/>
            <a:ext cx="287280" cy="360360"/>
          </a:xfrm>
          <a:custGeom>
            <a:avLst/>
            <a:gdLst>
              <a:gd name="textAreaLeft" fmla="*/ 38520 w 287280"/>
              <a:gd name="textAreaRight" fmla="*/ 248760 w 287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530064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349360"/>
            <a:ext cx="9144000" cy="1429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076640"/>
            <a:ext cx="9144000" cy="144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836640"/>
            <a:ext cx="104292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5ffff"/>
              </a:gs>
              <a:gs pos="50000">
                <a:srgbClr val="009999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ahoma"/>
              </a:rPr>
              <a:t>13 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1080" y="6093000"/>
            <a:ext cx="1042920" cy="765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0-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97360"/>
            <a:ext cx="108108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e5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-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Коклюш, кровоизлияния в конъюнктиву  обеих глазных ябло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200" y="1341360"/>
            <a:ext cx="8771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риступы кашля при коклюш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370160"/>
            <a:ext cx="82803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5000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5ffff"/>
                </a:solidFill>
                <a:latin typeface="Tahoma"/>
              </a:rPr>
              <a:t>Бронхо-сосудистый рисунок «коклюшного легкого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50000">
              <a:srgbClr val="99ff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8229600" cy="532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2960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91520" cy="6381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мплекс противоэпидемических мероприят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няя диагностика и изоляция больных коклюшем из организованных коллектив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хват прививками АКДС детей не менее 95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упреждение групповых случаев заболеваний, бакобследование:- детей с подозрением на коклюш по клиническим показаниям, кашляющих более 5 дней, дети в возрасте до года – в первый день обращ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общавшихся с больным в ДДУ и дом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зрослых с подозрением на коклюш, которые работают в детских отделениях больниц, родильных домах, санаториях, ДДУ, закрытых детских учреждениях, школах, работающих с детьми кашляющих 5 -7 дней и боле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бактериологически обследуются в ранние сроки (не позднее 2-й недели  заболевания) двукратно ежедневно или через д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араллельно исследуется кровь в серологических реакциях с интервалом 2-3 недели (диагностический титр не привитых -1:80, привитых-четырехкратное нарастание титра антител в парных сыворотка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  бакобследование больных, бактерионосителей  коклюша перед выпиской в закрытые детские учреждения, до получения отрицательного результата (не ранее 2-3 дней после прекращения лечения антибиотикам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Коклюш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18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будитель-грамотриц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движная палочка, содерж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ген-агглютинин, определяется      в сыворотке крови  реакцией РП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ибает при высушиван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йствием уф-лучей, дезсред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мальная температура доставки  нативного 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 бакисследования  +4 – 25 град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590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9:57:51Z</dcterms:created>
  <dc:creator>1</dc:creator>
  <dc:description/>
  <dc:language>en-US</dc:language>
  <cp:lastModifiedBy>1</cp:lastModifiedBy>
  <dcterms:modified xsi:type="dcterms:W3CDTF">2007-04-25T05:22:17Z</dcterms:modified>
  <cp:revision>38</cp:revision>
  <dc:subject/>
  <dc:title>КОКЛЮШ</dc:title>
</cp:coreProperties>
</file>