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DBD-2E2B-4CAA-8923-16C0B0D0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8D1-0A7C-4086-98AF-D59E1874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611-E826-4AF0-8CC2-451E1854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370-B0CC-490A-B4E6-65DB806D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A82E-C473-443A-8410-51782554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8FD6-09A7-4D29-874A-303D19A6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5261-1BB5-4912-80E2-0D232F2A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1E39-6867-4900-B4D3-15A5E6F3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B176-A3DD-4C0A-81C1-25CAC2FE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4A8B-C334-4924-AF95-C6AA27C9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A15F-D940-47CA-9F38-1F0E5A30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B60-350F-44F6-B1F2-1F0055BF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2E13-3077-454F-9CDB-60B8CCF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89D7-358A-4085-9CF6-8DA6AD5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722C-8FEF-45C8-9003-73B64631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3635-8C79-4BA1-A88C-C34AA34C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C737-2D9D-4B49-8B49-C3F9495B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DD6-2DF0-4986-871B-053F8B3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BB8-E9ED-454F-8D49-EE295E70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6F0-60C5-493A-8918-5E003215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CA2-C51C-492A-96A0-AABADD78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86B-68CE-4D98-B191-FEB4402A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8C3-564E-4E0D-BE10-2184E016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129-6FEB-4F3C-BE46-25E316BD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99DD-037E-4D4A-8D2C-20DA3E1FE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DFEF-DB33-4DDA-BDCC-A0AEE5B05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КЛЮШ</a:t>
            </a:r>
            <a:br>
              <a:rPr sz="44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семинар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Методические рекомендации по организации профилактических и противоэпидемических мероприятий по коклюш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5805360"/>
            <a:ext cx="3745080" cy="863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инар подготов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данов В.А., Кашпур Е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b54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Клинические признаки коклюш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915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ступообразный кашель, сопровождаемый гипиремией, цианозом лица, слезотечением, репризами, рвотой, усиливаюшимися в ночное время, после физической и эмоциональной нагрузки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гкая форма до 15 приступов в сутки, средняя - от 16 до 25, тяжелая  - 30 и боле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Слабовыраженные катаральные явления и отсутствие повышения температуры  в период спазматического кашл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Продрома, характеризующаяся непродуктивным кашлем с постепенным усилением и приобретением спазматического характера на 2-3 неделе заболева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Лейко- и лимфоцитоз – 20-70тыс. в 1 мм3  периферической крови при сниженной или нормальной СОЭ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Изменения со стороны бронхолегочной системы: вздутие легочной ткани, жесткое дыхание, отделение вязкой прозрачной мокроты на рентгенограмме, усиление бронхо-сосудистого рисунка, очаговые тени в нижне-медиальных отделах легк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следует дифференцировать  сходный кашель при аденовирусной   инфекции, вирусной пневмонии, инфекционном мононуклеозе и др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50000">
              <a:srgbClr val="ccccf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Схема патогенеза коклюш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692280"/>
            <a:ext cx="4824360" cy="2872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e5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оситель В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tus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1052640"/>
            <a:ext cx="3024000" cy="504720"/>
          </a:xfrm>
          <a:prstGeom prst="ellipse">
            <a:avLst/>
          </a:prstGeom>
          <a:gradFill rotWithShape="0">
            <a:gsLst>
              <a:gs pos="0">
                <a:srgbClr val="2b5481"/>
              </a:gs>
              <a:gs pos="50000">
                <a:srgbClr val="ffff99"/>
              </a:gs>
              <a:gs pos="100000">
                <a:srgbClr val="2b548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Восприимчивый организ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628640"/>
            <a:ext cx="4321080" cy="648000"/>
          </a:xfrm>
          <a:prstGeom prst="ellipse">
            <a:avLst/>
          </a:prstGeom>
          <a:gradFill rotWithShape="0">
            <a:gsLst>
              <a:gs pos="0">
                <a:srgbClr val="005e76"/>
              </a:gs>
              <a:gs pos="50000">
                <a:srgbClr val="99ff66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змножение возбудмтеля 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пителии верхн. дых. путя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197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40840 h 1214280"/>
              <a:gd name="textAreaBottom" fmla="*/ 73764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76" stAng="-5400000" swAng="-5400000"/>
                <a:lnTo>
                  <a:pt x="0" y="8832"/>
                </a:lnTo>
                <a:arcTo wR="21600" hR="8576" stAng="10800000" swAng="-1182866"/>
                <a:lnTo>
                  <a:pt x="5565" y="18770"/>
                </a:lnTo>
                <a:lnTo>
                  <a:pt x="21600" y="17280"/>
                </a:lnTo>
                <a:lnTo>
                  <a:pt x="5565" y="10130"/>
                </a:lnTo>
                <a:lnTo>
                  <a:pt x="5565" y="14322"/>
                </a:lnTo>
                <a:arcTo wR="21600" hR="8576" stAng="9617134" swAng="1162492"/>
                <a:lnTo>
                  <a:pt x="2" y="8704"/>
                </a:lnTo>
                <a:arcTo wR="21600" hR="8576" stAng="-10779626" swAng="5379626"/>
                <a:close/>
              </a:path>
              <a:path fill="darkenLess" w="21600" h="21600">
                <a:moveTo>
                  <a:pt x="21600" y="0"/>
                </a:moveTo>
                <a:arcTo wR="21600" hR="8576" stAng="-5400000" swAng="-5400000"/>
                <a:lnTo>
                  <a:pt x="0" y="8576"/>
                </a:lnTo>
                <a:arcTo wR="21600" hR="8576" stAng="10800000" swAng="-20374"/>
                <a:lnTo>
                  <a:pt x="2" y="8704"/>
                </a:lnTo>
                <a:arcTo wR="21600" hR="8576" stAng="-10779626" swAng="5379626"/>
                <a:close/>
              </a:path>
            </a:pathLst>
          </a:custGeom>
          <a:solidFill>
            <a:srgbClr val="00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2349360"/>
            <a:ext cx="1546200" cy="935280"/>
          </a:xfrm>
          <a:prstGeom prst="downArrowCallout">
            <a:avLst>
              <a:gd name="adj1" fmla="val 41334"/>
              <a:gd name="adj2" fmla="val 41330"/>
              <a:gd name="adj3" fmla="val 16667"/>
              <a:gd name="adj4" fmla="val 66667"/>
            </a:avLst>
          </a:prstGeom>
          <a:gradFill rotWithShape="0">
            <a:gsLst>
              <a:gs pos="0">
                <a:srgbClr val="ff33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воспа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88000" y="1989000"/>
            <a:ext cx="1706760" cy="432000"/>
          </a:xfrm>
          <a:prstGeom prst="flowChartTerminator">
            <a:avLst/>
          </a:prstGeom>
          <a:gradFill rotWithShape="0">
            <a:gsLst>
              <a:gs pos="0">
                <a:srgbClr val="2b5481"/>
              </a:gs>
              <a:gs pos="50000">
                <a:srgbClr val="ff9999"/>
              </a:gs>
              <a:gs pos="100000">
                <a:srgbClr val="2b548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екреция слиз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2708280"/>
            <a:ext cx="1833480" cy="649440"/>
          </a:xfrm>
          <a:prstGeom prst="downArrowCallout">
            <a:avLst>
              <a:gd name="adj1" fmla="val 70586"/>
              <a:gd name="adj2" fmla="val 70579"/>
              <a:gd name="adj3" fmla="val 16667"/>
              <a:gd name="adj4" fmla="val 66667"/>
            </a:avLst>
          </a:prstGeom>
          <a:gradFill rotWithShape="0">
            <a:gsLst>
              <a:gs pos="0">
                <a:srgbClr val="e5ffff"/>
              </a:gs>
              <a:gs pos="50000">
                <a:srgbClr val="003366"/>
              </a:gs>
              <a:gs pos="100000">
                <a:srgbClr val="e5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ронхообстру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2280"/>
            <a:ext cx="3059280" cy="432000"/>
          </a:xfrm>
          <a:prstGeom prst="flowChartTerminator">
            <a:avLst/>
          </a:prstGeom>
          <a:gradFill rotWithShape="0">
            <a:gsLst>
              <a:gs pos="0">
                <a:srgbClr val="ff9999"/>
              </a:gs>
              <a:gs pos="100000">
                <a:srgbClr val="e5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лущивание и метаплаз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пител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258920" y="1989000"/>
            <a:ext cx="72072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191628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4720" y="3357720"/>
            <a:ext cx="2784600" cy="914400"/>
          </a:xfrm>
          <a:custGeom>
            <a:avLst/>
            <a:gdLst>
              <a:gd name="textAreaLeft" fmla="*/ 635760 w 2784600"/>
              <a:gd name="textAreaRight" fmla="*/ 2148840 w 27846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Вторич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Бактериаль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невмо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140360" y="2060640"/>
            <a:ext cx="2303280" cy="1512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24210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3573360"/>
            <a:ext cx="2282760" cy="432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46752f"/>
              </a:gs>
              <a:gs pos="50000">
                <a:srgbClr val="99ff66"/>
              </a:gs>
              <a:gs pos="100000">
                <a:srgbClr val="46752f"/>
              </a:gs>
            </a:gsLst>
            <a:lin ang="5400000"/>
          </a:gra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аше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4221000"/>
            <a:ext cx="2787480" cy="609840"/>
          </a:xfrm>
          <a:prstGeom prst="cloudCallout">
            <a:avLst>
              <a:gd name="adj1" fmla="val -6606"/>
              <a:gd name="adj2" fmla="val 34634"/>
            </a:avLst>
          </a:prstGeom>
          <a:gradFill rotWithShape="0">
            <a:gsLst>
              <a:gs pos="0">
                <a:srgbClr val="ff33cc"/>
              </a:gs>
              <a:gs pos="50000">
                <a:srgbClr val="ff9966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Воспалительная эмфизе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2708280"/>
            <a:ext cx="0" cy="158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3213000"/>
            <a:ext cx="1655640" cy="609840"/>
          </a:xfrm>
          <a:prstGeom prst="flowChartMagneticTape">
            <a:avLst/>
          </a:prstGeom>
          <a:gradFill rotWithShape="0">
            <a:gsLst>
              <a:gs pos="0">
                <a:srgbClr val="ff9966"/>
              </a:gs>
              <a:gs pos="50000">
                <a:srgbClr val="0099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рво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68360" y="3789360"/>
            <a:ext cx="93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4653000"/>
            <a:ext cx="1942920" cy="64764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2b548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невмоторак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4581360"/>
            <a:ext cx="287280" cy="28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5589720"/>
            <a:ext cx="2232000" cy="360360"/>
          </a:xfrm>
          <a:prstGeom prst="leftArrowCallout">
            <a:avLst>
              <a:gd name="adj1" fmla="val 25002"/>
              <a:gd name="adj2" fmla="val 25000"/>
              <a:gd name="adj3" fmla="val 103230"/>
              <a:gd name="adj4" fmla="val 66673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гипок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149720"/>
            <a:ext cx="3059280" cy="719280"/>
          </a:xfrm>
          <a:custGeom>
            <a:avLst/>
            <a:gdLst>
              <a:gd name="textAreaLeft" fmla="*/ 698400 w 3059280"/>
              <a:gd name="textAreaRight" fmla="*/ 2360880 w 305928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овышение груд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а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07640" y="3933720"/>
            <a:ext cx="1295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373720"/>
            <a:ext cx="1993680" cy="647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0000"/>
              </a:gs>
              <a:gs pos="50000">
                <a:srgbClr val="2b548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енозный заст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4869000"/>
            <a:ext cx="2808360" cy="1041120"/>
          </a:xfrm>
          <a:prstGeom prst="flowChartDecision">
            <a:avLst/>
          </a:prstGeom>
          <a:gradFill rotWithShape="0">
            <a:gsLst>
              <a:gs pos="0">
                <a:srgbClr val="6699ff"/>
              </a:gs>
              <a:gs pos="50000">
                <a:srgbClr val="e5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нцефалопа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005360"/>
            <a:ext cx="0" cy="1079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6093000"/>
            <a:ext cx="2571840" cy="7650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2b5481"/>
              </a:gs>
              <a:gs pos="50000">
                <a:srgbClr val="ffff99"/>
              </a:gs>
              <a:gs pos="100000">
                <a:srgbClr val="2b548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здоро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566100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219640" y="5516640"/>
            <a:ext cx="936720" cy="217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4724280"/>
            <a:ext cx="0" cy="72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000" y="1484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413000"/>
            <a:ext cx="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8100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98100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276640"/>
            <a:ext cx="287280" cy="360360"/>
          </a:xfrm>
          <a:custGeom>
            <a:avLst/>
            <a:gdLst>
              <a:gd name="textAreaLeft" fmla="*/ 38520 w 287280"/>
              <a:gd name="textAreaRight" fmla="*/ 248760 w 28728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96360" y="530064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349360"/>
            <a:ext cx="9144000" cy="1429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076640"/>
            <a:ext cx="9144000" cy="1443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836640"/>
            <a:ext cx="104292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5ffff"/>
              </a:gs>
              <a:gs pos="50000">
                <a:srgbClr val="009999"/>
              </a:gs>
              <a:gs pos="100000">
                <a:srgbClr val="e5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ahoma"/>
              </a:rPr>
              <a:t>13 дн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01080" y="6093000"/>
            <a:ext cx="1042920" cy="7650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0-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дн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997360"/>
            <a:ext cx="108108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e5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-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дн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Коклюш, кровоизлияния в конъюнктиву  обеих глазных яблок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7200" y="1341360"/>
            <a:ext cx="87710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5e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риступы кашля при коклюш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1370160"/>
            <a:ext cx="828036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5000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5ffff"/>
                </a:solidFill>
                <a:latin typeface="Tahoma"/>
              </a:rPr>
              <a:t>Бронхо-сосудистый рисунок «коклюшного легкого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50000">
              <a:srgbClr val="99ff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8229600" cy="532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2960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91520" cy="6381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b54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мплекс противоэпидемических мероприят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нняя диагностика и изоляция больных коклюшем из организованных коллектив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хват прививками АКДС детей не менее 95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упреждение групповых случаев заболеваний, бакобследование:- детей с подозрением на коклюш по клиническим показаниям, кашляющих более 5 дней, дети в возрасте до года – в первый день обращ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общавшихся с больным в ДДУ и дом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взрослых с подозрением на коклюш, которые работают в детских отделениях больниц, родильных домах, санаториях, ДДУ, закрытых детских учреждениях, школах, работающих с детьми кашляющих 5 -7 дней и боле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бактериологически обследуются в ранние сроки (не позднее 2-й недели  заболевания) двукратно ежедневно или через д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параллельно исследуется кровь в серологических реакциях с интервалом 2-3 недели (диагностический титр не привитых -1:80, привитых-четырехкратное нарастание титра антител в парных сыворотка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  бакобследование больных, бактерионосителей  коклюша перед выпиской в закрытые детские учреждения, до получения отрицательного результата (не ранее 2-3 дней после прекращения лечения антибиотикам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Коклюш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5184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будитель-грамотрицате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одвижная палочка, содерж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иген-агглютинин, определяется      в сыворотке крови  реакцией РП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гибает при высушиван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действием уф-лучей, дезсред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мальная температура доставки  нативного  матери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 бакисследования  +4 – 25 град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84720" y="1268280"/>
            <a:ext cx="2590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9:57:51Z</dcterms:created>
  <dc:creator>1</dc:creator>
  <dc:description/>
  <dc:language>en-US</dc:language>
  <cp:lastModifiedBy>1</cp:lastModifiedBy>
  <dcterms:modified xsi:type="dcterms:W3CDTF">2007-04-25T05:22:17Z</dcterms:modified>
  <cp:revision>38</cp:revision>
  <dc:subject/>
  <dc:title>КОКЛЮШ</dc:title>
</cp:coreProperties>
</file>