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B2F-9F7E-4F10-9516-1332BB23F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EBB-277F-4C68-A1B4-702E51AD3B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5A5-7630-40A7-8064-0B6849A4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3BD-1856-4E58-95DC-B7DD1332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BED-439C-4C24-96C8-DA7E8CFD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2CD-2B12-4B86-A369-F044528A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211E-CCDC-4E76-BB42-77D3CF3C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3A0-698C-43B7-B42B-8B90C37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A287-823D-400E-8551-DA8A8B48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0B3D-2572-4C91-8A74-0DDE037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F0BA-5C78-42CF-A789-949D971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27F7-3881-4E7E-98D4-470DBD5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E3E7-EC7B-4D31-9087-113C27D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451-9D76-4082-9601-47FCC5C6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4C22-147C-4B01-ABBC-AA8EB3D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4B46-E27C-4609-A3DB-B0A786E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290-BF75-4969-8D8B-5B72BDC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870-E8DB-471B-8D52-2AB25FD5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C23B-F040-4A84-A4D7-442E99AC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DB4-228F-4D34-9CAF-98FC058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2CA-8BCC-42BF-B9AA-767C252A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7CF-658B-4878-944A-244405E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77-ED70-4D4D-84CD-3BBEC169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685-5FF6-4087-835E-E2403BC0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CD4-2C78-4C14-A63C-60C043B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F5A-E6B6-4EC9-AD5A-D5324CF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602E-E447-46E8-BDCB-E8B9D41DB0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2B5-BCD1-43BB-9166-85A1504D03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МБОУ СОШ №20 г. Архангельск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8920" y="198864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КОЛОГИЧЕСК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ПАСНЫЕ ОБЪЕКТЫ И ПРОИЗВОДСТВА НА ТЕРРИТОРИИ АРХАНГЕЛЬ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78800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 Орлова Т. А., учитель географии, высш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сударственный Российский центр атомного судострое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51280" y="1895400"/>
            <a:ext cx="3246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ЦАС (г. Северодвинск) занимается строительством и ремонтом атомных подводных лод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причалов ГРЦАС находятся атомные подводные лодки с невыгруженным отработавшим ядерным топли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бласти отсутствуют специально оборудованные пункты захоронения радиоактивных отхо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2" descr="АПЛ архангельска"/>
          <p:cNvPicPr/>
          <p:nvPr/>
        </p:nvPicPr>
        <p:blipFill>
          <a:blip r:embed="rId1"/>
          <a:stretch/>
        </p:blipFill>
        <p:spPr>
          <a:xfrm>
            <a:off x="179280" y="1484280"/>
            <a:ext cx="5256360" cy="5184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02680" y="148428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Атомная подводная лодка у причала Северодви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объектов энергетики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53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вным источником энергии в Архангельской области являются ТЭС. Сжигая топливо, предприятия энергетики выбрасывают в атмосферу свыше 129000 тонн  загрязняющих веществ, что составляет около 30% от общего объема по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дукты сгорания топл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зывают выпадение кислотных дождей и парниковый эфф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ижают прозрачность атмосферы и способствуют образованию см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худшают условия произрастания растений, обитания животных и чело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вод объектов энергетики на газ позволит существенно снизить выбросы загрязняющих веще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ТЭЦ ВАрхангельске"/>
          <p:cNvPicPr/>
          <p:nvPr/>
        </p:nvPicPr>
        <p:blipFill>
          <a:blip r:embed="rId1"/>
          <a:stretch/>
        </p:blipFill>
        <p:spPr>
          <a:xfrm>
            <a:off x="4716360" y="1413000"/>
            <a:ext cx="4248360" cy="5040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6837120" y="148428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Архангельская ТЭ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рнодобывающая промышлен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5013360"/>
            <a:ext cx="882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добывающая промышленность в Архангельской области представлена добычей бокситов (Северо – Онежское месторождение) и добычей алмазов (месторождение имени Ломоносов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североонежский бокситовый рудник"/>
          <p:cNvPicPr/>
          <p:nvPr/>
        </p:nvPicPr>
        <p:blipFill>
          <a:blip r:embed="rId1"/>
          <a:stretch/>
        </p:blipFill>
        <p:spPr>
          <a:xfrm>
            <a:off x="108000" y="1197000"/>
            <a:ext cx="4537080" cy="35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алмазы"/>
          <p:cNvPicPr/>
          <p:nvPr/>
        </p:nvPicPr>
        <p:blipFill>
          <a:blip r:embed="rId2"/>
          <a:stretch/>
        </p:blipFill>
        <p:spPr>
          <a:xfrm>
            <a:off x="4788000" y="1197000"/>
            <a:ext cx="424800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191520" y="425304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Северо-Онежский - бокситовый руд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горнодобывающей промышленности на окружающую сред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80" y="2060640"/>
            <a:ext cx="40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еличиваются пространства, нарушенные горными вырабо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состояние и режим грунтовых 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грязняется атмосфера пылегазовыми выброс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худшаются условия произрастания растений, обитания животных и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9" descr="добыча алмазов"/>
          <p:cNvPicPr/>
          <p:nvPr/>
        </p:nvPicPr>
        <p:blipFill>
          <a:blip r:embed="rId1"/>
          <a:stretch/>
        </p:blipFill>
        <p:spPr>
          <a:xfrm>
            <a:off x="4140360" y="1844640"/>
            <a:ext cx="4760640" cy="4392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4305600" y="6377040"/>
            <a:ext cx="45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обыча алмазов на месторождении им. Гри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 ближайшие годы нагрузка на окружающую среду в Архангельской области возрастет в связи с освоением месторождений нефти и газа Арктического шельф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Picture 6" descr="обзорная карта месторождений нефти и газа в баренцевом и Карсском морях"/>
          <p:cNvPicPr/>
          <p:nvPr/>
        </p:nvPicPr>
        <p:blipFill>
          <a:blip r:embed="rId1"/>
          <a:stretch/>
        </p:blipFill>
        <p:spPr>
          <a:xfrm>
            <a:off x="1042920" y="191628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Освоение месторождений нефти и газа Арктического шельф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7520" y="1267920"/>
            <a:ext cx="88567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из шельфовых месторождений будут осваиваться Штокмановское месторождение газа и Приразломное месторождение нефти. Для этого в г. Северодвинске построена первая из буровых платформ – Приразлом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7" descr="штокмановское месторождение"/>
          <p:cNvPicPr/>
          <p:nvPr/>
        </p:nvPicPr>
        <p:blipFill>
          <a:blip r:embed="rId1"/>
          <a:stretch/>
        </p:blipFill>
        <p:spPr>
          <a:xfrm>
            <a:off x="179280" y="3110040"/>
            <a:ext cx="4537080" cy="34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платформа приразломная"/>
          <p:cNvPicPr/>
          <p:nvPr/>
        </p:nvPicPr>
        <p:blipFill>
          <a:blip r:embed="rId2"/>
          <a:stretch/>
        </p:blipFill>
        <p:spPr>
          <a:xfrm>
            <a:off x="4859280" y="3141720"/>
            <a:ext cx="4114800" cy="345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6441480" y="3213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33"/>
                </a:solidFill>
                <a:latin typeface="Arial"/>
              </a:rPr>
              <a:t>Платформа Приразлом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78544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смотря на малую плотность населения, слабую освоенность территории, экологические проблемы в Архангельской области являются одними из самых остр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-2043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ая работа заняла 1 место в городском конкурсе «Эко-ин» (экологическая инициатива) в номинации «Виртуальный проект-презентация «Экология Архангельской област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арт 2012 г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Экологически опасные объекты и производства на территории Архангельской обла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5" descr="2"/>
          <p:cNvPicPr/>
          <p:nvPr/>
        </p:nvPicPr>
        <p:blipFill>
          <a:blip r:embed="rId1"/>
          <a:stretch/>
        </p:blipFill>
        <p:spPr>
          <a:xfrm>
            <a:off x="4140360" y="1989000"/>
            <a:ext cx="482436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1476360" y="3284640"/>
            <a:ext cx="6745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 flipV="1">
            <a:off x="108000" y="1915920"/>
            <a:ext cx="352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Учитывая сырьевую направленность экономики, очаговое природопользование и преобладание ландшафтов с низкой и слабой устойчивостью к техногенному воздействию, хозяйство Архангельской области оказывает большое негативное влияние на окружающую среду.  На территории Архангельской области расположено более 160 потенциально опас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51280" y="1557360"/>
            <a:ext cx="331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рганизован в 1954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 полигоне было проведено 132 ядерных взрыва общей мощностью более 300 мегатонн, что составляет 94% всех взрывов, произведенных в ССС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2" descr="ядерный полигон"/>
          <p:cNvPicPr/>
          <p:nvPr/>
        </p:nvPicPr>
        <p:blipFill>
          <a:blip r:embed="rId1"/>
          <a:stretch/>
        </p:blipFill>
        <p:spPr>
          <a:xfrm>
            <a:off x="395280" y="1052640"/>
            <a:ext cx="50403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 в настоящее время - единственный в Росс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957 года на полигоне производились воздушные, наземные и подводные ядерные взрывы. С 1963 года - только подземные. 30 октября 1961 года в атмосфере был взорван самый мощный  ядерный заряд за всю историю испытаний ядерного оруж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результате ядерных испытан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сходит механическое разрушение горных п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радиационная обстановка в Аркт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ядерный взрыв на новой земле"/>
          <p:cNvPicPr/>
          <p:nvPr/>
        </p:nvPicPr>
        <p:blipFill>
          <a:blip r:embed="rId1"/>
          <a:stretch/>
        </p:blipFill>
        <p:spPr>
          <a:xfrm>
            <a:off x="4500720" y="126828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Космодром «Плесецк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12" descr="ples"/>
          <p:cNvPicPr/>
          <p:nvPr/>
        </p:nvPicPr>
        <p:blipFill>
          <a:blip r:embed="rId1"/>
          <a:stretch/>
        </p:blipFill>
        <p:spPr>
          <a:xfrm>
            <a:off x="108000" y="981000"/>
            <a:ext cx="5184720" cy="298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16720" y="980640"/>
            <a:ext cx="352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снован в 1957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самым северным и одним из самых эксплуатируемых космодромов в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с космодрома осуществлено более 2000 запусков (около 40% всех запусков космических аппаратов нашей стра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4" descr="старт плесецк"/>
          <p:cNvPicPr/>
          <p:nvPr/>
        </p:nvPicPr>
        <p:blipFill>
          <a:blip r:embed="rId2"/>
          <a:stretch/>
        </p:blipFill>
        <p:spPr>
          <a:xfrm>
            <a:off x="108000" y="4076640"/>
            <a:ext cx="51847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3595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космодрома «Плесецк»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8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запусках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смодро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Плесецк»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ят выбросы ядовитого топли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еляемые ступени ракет с остатками ядовитого топлива падают в 13 районах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ит повреждение лесов в зоне космо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2"/>
          <p:cNvPicPr/>
          <p:nvPr/>
        </p:nvPicPr>
        <p:blipFill>
          <a:blip r:embed="rId1"/>
          <a:stretch/>
        </p:blipFill>
        <p:spPr>
          <a:xfrm>
            <a:off x="4067280" y="1557360"/>
            <a:ext cx="4605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лесной промышленности на окружающую среду: сокращение площади коренных лес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5516280"/>
            <a:ext cx="8605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езультате сплошных рубок вдоль желез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мобильных дорог и сплавных рек площадь коре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сов в области сократилась во много р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Рисунок1"/>
          <p:cNvPicPr/>
          <p:nvPr/>
        </p:nvPicPr>
        <p:blipFill>
          <a:blip r:embed="rId1"/>
          <a:stretch/>
        </p:blipFill>
        <p:spPr>
          <a:xfrm>
            <a:off x="395280" y="1989000"/>
            <a:ext cx="309708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Рисунок3"/>
          <p:cNvPicPr/>
          <p:nvPr/>
        </p:nvPicPr>
        <p:blipFill>
          <a:blip r:embed="rId2"/>
          <a:stretch/>
        </p:blipFill>
        <p:spPr>
          <a:xfrm>
            <a:off x="5292720" y="1989000"/>
            <a:ext cx="3095640" cy="3024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11528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608400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плав ле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самым дешевым способом транспортировки древесины. Раньше в области лес сплавляли молем, в настоящее время – только в пло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сплаве лес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древесины тонет, так как тонкомерная древесина способна продержаться в воде не более 120 су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исходит загрязнение воды в т. ч. танидами: с каждого куб. метра древесины – 4, 2 кг тани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9" descr="сплав леса по сев"/>
          <p:cNvPicPr/>
          <p:nvPr/>
        </p:nvPicPr>
        <p:blipFill>
          <a:blip r:embed="rId1"/>
          <a:stretch/>
        </p:blipFill>
        <p:spPr>
          <a:xfrm>
            <a:off x="3780000" y="1197000"/>
            <a:ext cx="5184720" cy="5400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5486760" y="134136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Сплав леса по Северной Дви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лияние целлюлозно - бумажной промышленности на окружающую сред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150624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рхангельской области располагаются 3 крупнейших в Европе ЦБК: Архангельский, Соломбальский, Котласск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брасывают в атмосферу более 80000 тонн загрязняющих веществ, что составляет более 25% от общего объема по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более 60% от общего объема воды, забранной в области, и загрязняют ее лигносульфатами и другими опасными загрязн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архангельский цбк"/>
          <p:cNvPicPr/>
          <p:nvPr/>
        </p:nvPicPr>
        <p:blipFill>
          <a:blip r:embed="rId1"/>
          <a:stretch/>
        </p:blipFill>
        <p:spPr>
          <a:xfrm>
            <a:off x="209520" y="1455840"/>
            <a:ext cx="4680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92240" y="1484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Arial"/>
              </a:rPr>
              <a:t>Архангельский ЦБ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1:21:36Z</dcterms:created>
  <dc:creator>07</dc:creator>
  <dc:description/>
  <dc:language>en-US</dc:language>
  <cp:lastModifiedBy>Тамара_2</cp:lastModifiedBy>
  <dcterms:modified xsi:type="dcterms:W3CDTF">2012-05-21T19:20:19Z</dcterms:modified>
  <cp:revision>76</cp:revision>
  <dc:subject/>
  <dc:title>Региональная экология</dc:title>
</cp:coreProperties>
</file>