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4A88-111B-4B35-A071-6CFEEE715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061-8767-4DA0-9244-84956B4924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A4C-AB9A-43AA-A3EE-9E6FC9CB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1FC-CAAE-4696-9393-A48D000D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9A6-AB6A-42F5-B101-053B14E1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50E-4BFB-4E49-9E90-F88E2012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A829-2122-4DB2-8A07-87A1CC0A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2685-8C63-4C81-969F-63CD4AC5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83DD-4352-408A-80FB-38293ED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79E5-C490-4CBB-AF1C-04266D07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BFD5-8C20-46E0-A428-7BDE7D8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138-C0FF-48AC-BBEF-D0E50791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E29D-E1F0-4340-A55B-4035F90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9AC9-3318-45D7-B4E9-82D9E16F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C681-AFC9-4EF8-8BB8-2477FF1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58E8-9420-4AA3-9551-6D00A1BF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AC1B-DFF8-4DDB-B531-E648701F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CAEA-1480-44A1-8374-88038FD6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0939-B403-49BE-8742-0F23D5C5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85CD-4F83-4D9A-B289-9AFF0C1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F55-90B5-4DBE-A3AA-ECDBB3F5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F12-D3C4-4D1C-9594-247372B5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A17-3B10-4D98-BA1D-E1634902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115-6621-4C21-BB2C-074BA44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AA6-0C46-431B-A973-5B031CD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245-51AD-4090-956A-D8CFF9F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02C-B229-4984-8DE8-44E3A2F8FE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4DD6-E179-4489-9856-8BE255B754A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МБОУ СОШ №20 г. Архангельск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8920" y="1988640"/>
            <a:ext cx="871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КОЛОГИЧЕСК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ОПАСНЫЕ ОБЪЕКТЫ И ПРОИЗВОДСТВА НА ТЕРРИТОРИИ АРХАНГЕЛЬСКОЙ ОБЛА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78800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втор: Орлова Т. А., учитель географии, высшая квалификационная катег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осударственный Российский центр атомного судостроен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51280" y="1895400"/>
            <a:ext cx="32461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ЦАС (г. Северодвинск) занимается строительством и ремонтом атомных подводных лод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причалов ГРЦАС находятся атомные подводные лодки с невыгруженным отработавшим ядерным топлив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бласти отсутствуют специально оборудованные пункты захоронения радиоактивных отход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2" descr="АПЛ архангельска"/>
          <p:cNvPicPr/>
          <p:nvPr/>
        </p:nvPicPr>
        <p:blipFill>
          <a:blip r:embed="rId1"/>
          <a:stretch/>
        </p:blipFill>
        <p:spPr>
          <a:xfrm>
            <a:off x="179280" y="1484280"/>
            <a:ext cx="5256360" cy="5184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02680" y="1484280"/>
            <a:ext cx="51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Атомная подводная лодка у причала Северодвинс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2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лияние объектов энергетики на окружающую сред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53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вным источником энергии в Архангельской области являются ТЭС. Сжигая топливо, предприятия энергетики выбрасывают в атмосферу свыше 129000 тонн  загрязняющих веществ, что составляет около 30% от общего объема по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дукты сгорания топл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зывают выпадение кислотных дождей и парниковый эфф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нижают прозрачность атмосферы и способствуют образованию см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худшают условия произрастания растений, обитания животных и челове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еревод объектов энергетики на газ позволит существенно снизить выбросы загрязняющих вещест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ТЭЦ ВАрхангельске"/>
          <p:cNvPicPr/>
          <p:nvPr/>
        </p:nvPicPr>
        <p:blipFill>
          <a:blip r:embed="rId1"/>
          <a:stretch/>
        </p:blipFill>
        <p:spPr>
          <a:xfrm>
            <a:off x="4716360" y="1413000"/>
            <a:ext cx="4248360" cy="5040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"/>
          <p:cNvSpPr/>
          <p:nvPr/>
        </p:nvSpPr>
        <p:spPr>
          <a:xfrm>
            <a:off x="6837120" y="148428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Архангельская ТЭ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Горнодобывающая промышленность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5013360"/>
            <a:ext cx="882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рнодобывающая промышленность в Архангельской области представлена добычей бокситов (Северо – Онежское месторождение) и добычей алмазов (месторождение имени Ломоносова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8" descr="североонежский бокситовый рудник"/>
          <p:cNvPicPr/>
          <p:nvPr/>
        </p:nvPicPr>
        <p:blipFill>
          <a:blip r:embed="rId1"/>
          <a:stretch/>
        </p:blipFill>
        <p:spPr>
          <a:xfrm>
            <a:off x="108000" y="1197000"/>
            <a:ext cx="4537080" cy="35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алмазы"/>
          <p:cNvPicPr/>
          <p:nvPr/>
        </p:nvPicPr>
        <p:blipFill>
          <a:blip r:embed="rId2"/>
          <a:stretch/>
        </p:blipFill>
        <p:spPr>
          <a:xfrm>
            <a:off x="4788000" y="1197000"/>
            <a:ext cx="4248000" cy="3527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191520" y="4253040"/>
            <a:ext cx="43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Северо-Онежский - бокситовый руд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Влияние горнодобывающей промышленности на окружающую сред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80" y="2060640"/>
            <a:ext cx="406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величиваются пространства, нарушенные горными вырабо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меняется состояние и режим грунтовых в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грязняется атмосфера пылегазовыми выброс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худшаются условия произрастания растений, обитания животных и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9" descr="добыча алмазов"/>
          <p:cNvPicPr/>
          <p:nvPr/>
        </p:nvPicPr>
        <p:blipFill>
          <a:blip r:embed="rId1"/>
          <a:stretch/>
        </p:blipFill>
        <p:spPr>
          <a:xfrm>
            <a:off x="4140360" y="1844640"/>
            <a:ext cx="4760640" cy="4392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"/>
          <p:cNvSpPr/>
          <p:nvPr/>
        </p:nvSpPr>
        <p:spPr>
          <a:xfrm>
            <a:off x="4305600" y="6377040"/>
            <a:ext cx="457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обыча алмазов на месторождении им. Гри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 ближайшие годы нагрузка на окружающую среду в Архангельской области возрастет в связи с освоением месторождений нефти и газа Арктического шельф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8" name="Picture 6" descr="обзорная карта месторождений нефти и газа в баренцевом и Карсском морях"/>
          <p:cNvPicPr/>
          <p:nvPr/>
        </p:nvPicPr>
        <p:blipFill>
          <a:blip r:embed="rId1"/>
          <a:stretch/>
        </p:blipFill>
        <p:spPr>
          <a:xfrm>
            <a:off x="1042920" y="191628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Освоение месторождений нефти и газа Арктического шельф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7520" y="1267920"/>
            <a:ext cx="88567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выми из шельфовых месторождений будут осваиваться Штокмановское месторождение газа и Приразломное месторождение нефти. Для этого в г. Северодвинске построена первая из буровых платформ – Приразлом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7" descr="штокмановское месторождение"/>
          <p:cNvPicPr/>
          <p:nvPr/>
        </p:nvPicPr>
        <p:blipFill>
          <a:blip r:embed="rId1"/>
          <a:stretch/>
        </p:blipFill>
        <p:spPr>
          <a:xfrm>
            <a:off x="179280" y="3110040"/>
            <a:ext cx="4537080" cy="3462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платформа приразломная"/>
          <p:cNvPicPr/>
          <p:nvPr/>
        </p:nvPicPr>
        <p:blipFill>
          <a:blip r:embed="rId2"/>
          <a:stretch/>
        </p:blipFill>
        <p:spPr>
          <a:xfrm>
            <a:off x="4859280" y="3141720"/>
            <a:ext cx="4114800" cy="3456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"/>
          <p:cNvSpPr/>
          <p:nvPr/>
        </p:nvSpPr>
        <p:spPr>
          <a:xfrm>
            <a:off x="6441480" y="321300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33"/>
                </a:solidFill>
                <a:latin typeface="Arial"/>
              </a:rPr>
              <a:t>Платформа Приразлом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80" y="304560"/>
            <a:ext cx="8785440" cy="59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Несмотря на малую плотность населения, слабую освоенность территории, экологические проблемы в Архангельской области являются одними из самых острых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560" y="-20430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ая работа заняла 1 место в городском конкурсе «Эко-ин» (экологическая инициатива) в номинации «Виртуальный проект-презентация «Экология Архангельской области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арт 2012 год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Экологически опасные объекты и производства на территории Архангельской обла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5" descr="2"/>
          <p:cNvPicPr/>
          <p:nvPr/>
        </p:nvPicPr>
        <p:blipFill>
          <a:blip r:embed="rId1"/>
          <a:stretch/>
        </p:blipFill>
        <p:spPr>
          <a:xfrm>
            <a:off x="4140360" y="1989000"/>
            <a:ext cx="482436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1476360" y="3284640"/>
            <a:ext cx="6745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 flipV="1">
            <a:off x="108000" y="1915920"/>
            <a:ext cx="35272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Учитывая сырьевую направленность экономики, очаговое природопользование и преобладание ландшафтов с низкой и слабой устойчивостью к техногенному воздействию, хозяйство Архангельской области оказывает большое негативное влияние на окружающую среду.  На территории Архангельской области расположено более 160 потенциально опас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Новоземельский ядерный полиг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51280" y="1557360"/>
            <a:ext cx="331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 организован в 1954 год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на  полигоне было проведено 132 ядерных взрыва общей мощностью более 300 мегатонн, что составляет 94% всех взрывов, произведенных в ССС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2" descr="ядерный полигон"/>
          <p:cNvPicPr/>
          <p:nvPr/>
        </p:nvPicPr>
        <p:blipFill>
          <a:blip r:embed="rId1"/>
          <a:stretch/>
        </p:blipFill>
        <p:spPr>
          <a:xfrm>
            <a:off x="395280" y="1052640"/>
            <a:ext cx="504036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Новоземельский ядерный полигон в настоящее время - единственный в Росси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1957 года на полигоне производились воздушные, наземные и подводные ядерные взрывы. С 1963 года - только подземные. 30 октября 1961 года в атмосфере был взорван самый мощный  ядерный заряд за всю историю испытаний ядерного оруж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результате ядерных испытан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сходит механическое разрушение горных поро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меняется радиационная обстановка в Аркти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ядерный взрыв на новой земле"/>
          <p:cNvPicPr/>
          <p:nvPr/>
        </p:nvPicPr>
        <p:blipFill>
          <a:blip r:embed="rId1"/>
          <a:stretch/>
        </p:blipFill>
        <p:spPr>
          <a:xfrm>
            <a:off x="4500720" y="1268280"/>
            <a:ext cx="4248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Космодром «Плесецк»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Picture 12" descr="ples"/>
          <p:cNvPicPr/>
          <p:nvPr/>
        </p:nvPicPr>
        <p:blipFill>
          <a:blip r:embed="rId1"/>
          <a:stretch/>
        </p:blipFill>
        <p:spPr>
          <a:xfrm>
            <a:off x="108000" y="981000"/>
            <a:ext cx="5184720" cy="2989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16720" y="980640"/>
            <a:ext cx="3527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 основан в 1957 год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Является самым северным и одним из самых эксплуатируемых космодромов в ми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го с космодрома осуществлено более 2000 запусков (около 40% всех запусков космических аппаратов нашей стра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4" descr="старт плесецк"/>
          <p:cNvPicPr/>
          <p:nvPr/>
        </p:nvPicPr>
        <p:blipFill>
          <a:blip r:embed="rId2"/>
          <a:stretch/>
        </p:blipFill>
        <p:spPr>
          <a:xfrm>
            <a:off x="108000" y="4076640"/>
            <a:ext cx="518472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3595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лияние космодрома «Плесецк» на окружающую сред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88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 запусках 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смодро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«Плесецк»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сходят выбросы ядовитого топлив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деляемые ступени ракет с остатками ядовитого топлива падают в 13 районах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исходит повреждение лесов в зоне космо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2"/>
          <p:cNvPicPr/>
          <p:nvPr/>
        </p:nvPicPr>
        <p:blipFill>
          <a:blip r:embed="rId1"/>
          <a:stretch/>
        </p:blipFill>
        <p:spPr>
          <a:xfrm>
            <a:off x="4067280" y="1557360"/>
            <a:ext cx="4605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6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Влияние лесной промышленности на окружающую среду: сокращение площади коренных лес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5516280"/>
            <a:ext cx="86058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результате сплошных рубок вдоль желез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втомобильных дорог и сплавных рек площадь коренн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сов в области сократилась во много р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Рисунок1"/>
          <p:cNvPicPr/>
          <p:nvPr/>
        </p:nvPicPr>
        <p:blipFill>
          <a:blip r:embed="rId1"/>
          <a:stretch/>
        </p:blipFill>
        <p:spPr>
          <a:xfrm>
            <a:off x="395280" y="1989000"/>
            <a:ext cx="3097080" cy="302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Рисунок3"/>
          <p:cNvPicPr/>
          <p:nvPr/>
        </p:nvPicPr>
        <p:blipFill>
          <a:blip r:embed="rId2"/>
          <a:stretch/>
        </p:blipFill>
        <p:spPr>
          <a:xfrm>
            <a:off x="5292720" y="1989000"/>
            <a:ext cx="3095640" cy="3024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1115280" y="5013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6084000" y="5013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4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Сплав лес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57280"/>
            <a:ext cx="345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вляется самым дешевым способом транспортировки древесины. Раньше в области лес сплавляли молем, в настоящее время – только в пло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сплаве лес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сть древесины тонет, так как тонкомерная древесина способна продержаться в воде не более 120 су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исходит загрязнение воды в т. ч. танидами: с каждого куб. метра древесины – 4, 2 кг тани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9" descr="сплав леса по сев"/>
          <p:cNvPicPr/>
          <p:nvPr/>
        </p:nvPicPr>
        <p:blipFill>
          <a:blip r:embed="rId1"/>
          <a:stretch/>
        </p:blipFill>
        <p:spPr>
          <a:xfrm>
            <a:off x="3780000" y="1197000"/>
            <a:ext cx="5184720" cy="5400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5486760" y="134136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Сплав леса по Северной Двин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Влияние целлюлозно - бумажной промышленности на окружающую среду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59280" y="1506240"/>
            <a:ext cx="417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Архангельской области располагаются 3 крупнейших в Европе ЦБК: Архангельский, Соломбальский, Котласск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брасывают в атмосферу более 80000 тонн загрязняющих веществ, что составляет более 25% от общего объема по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уют более 60% от общего объема воды, забранной в области, и загрязняют ее лигносульфатами и другими опасными загрязн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архангельский цбк"/>
          <p:cNvPicPr/>
          <p:nvPr/>
        </p:nvPicPr>
        <p:blipFill>
          <a:blip r:embed="rId1"/>
          <a:stretch/>
        </p:blipFill>
        <p:spPr>
          <a:xfrm>
            <a:off x="209520" y="1455840"/>
            <a:ext cx="4680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192240" y="1484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3"/>
                </a:solidFill>
                <a:latin typeface="Arial"/>
              </a:rPr>
              <a:t>Архангельский ЦБ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1:21:36Z</dcterms:created>
  <dc:creator>07</dc:creator>
  <dc:description/>
  <dc:language>en-US</dc:language>
  <cp:lastModifiedBy>Тамара_2</cp:lastModifiedBy>
  <dcterms:modified xsi:type="dcterms:W3CDTF">2012-05-21T19:20:19Z</dcterms:modified>
  <cp:revision>76</cp:revision>
  <dc:subject/>
  <dc:title>Региональная экология</dc:title>
</cp:coreProperties>
</file>