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8189-9F51-45F3-8EF3-2C647DF92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A7F-43BB-4A7E-B4AA-3957FC044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FC7-AAD8-4DB9-9F4F-2A742A40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BAE-F286-4B8C-8B72-B1742E6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015-8D0A-46D5-BF8B-0BF5F382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209-A788-49CE-80B5-106E9774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3C1B-AB83-4030-A63F-2630B33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A3A-B3E8-49AE-B859-61C24CF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C9ED-F754-49CA-A390-A8F481A7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8C0-E829-4F73-920F-6FE1F2E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34F-32CA-4445-A2ED-6EF1172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2926-7C78-4982-9823-06D4AB07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C6D1-7728-4632-A11F-1DA2064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4CD-1030-4C34-BE84-DD98FE2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510A-C546-43E2-BFC7-1757469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087D-598C-4A4D-9008-A3CDC0B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E8F3-FA95-4188-A877-065F53B4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F606-2B0F-49C7-8B50-C5878AF6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84F-86E7-41FB-ACC4-5AA7451C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317-A415-4DB5-B43B-2FB8432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8A4-5F4A-4673-BB79-0E275220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01E-61CE-48E2-9BCD-D42A3E3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6ED-39D5-45A7-9A46-A24C6A6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328-9B93-42FE-93AE-CFB6812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4D2-92D3-4F3B-92C0-7DD5B08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6FF-6903-473F-A8A9-D347397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245-C9BC-4C88-A850-F7B82CAF34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93E-3155-4625-B435-32C6754FD1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МБОУ СОШ №20 г. Архангельск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8920" y="198864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КОЛОГИЧЕСК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ПАСНЫЕ ОБЪЕКТЫ И ПРОИЗВОДСТВА НА ТЕРРИТОРИИ АРХАНГЕЛЬ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78800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 Орлова Т. А., учитель географии, высш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сударственный Российский центр атомного судострое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51280" y="1895400"/>
            <a:ext cx="3246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ЦАС (г. Северодвинск) занимается строительством и ремонтом атомных подводных лод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причалов ГРЦАС находятся атомные подводные лодки с невыгруженным отработавшим ядерным топли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бласти отсутствуют специально оборудованные пункты захоронения радиоактивных отхо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2" descr="АПЛ архангельска"/>
          <p:cNvPicPr/>
          <p:nvPr/>
        </p:nvPicPr>
        <p:blipFill>
          <a:blip r:embed="rId1"/>
          <a:stretch/>
        </p:blipFill>
        <p:spPr>
          <a:xfrm>
            <a:off x="179280" y="1484280"/>
            <a:ext cx="5256360" cy="5184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02680" y="148428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Атомная подводная лодка у причала Северодви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объектов энергетики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53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вным источником энергии в Архангельской области являются ТЭС. Сжигая топливо, предприятия энергетики выбрасывают в атмосферу свыше 129000 тонн  загрязняющих веществ, что составляет около 30% от общего объема по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дукты сгорания топл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зывают выпадение кислотных дождей и парниковый эфф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ижают прозрачность атмосферы и способствуют образованию см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худшают условия произрастания растений, обитания животных и чело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вод объектов энергетики на газ позволит существенно снизить выбросы загрязняющих веще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ТЭЦ ВАрхангельске"/>
          <p:cNvPicPr/>
          <p:nvPr/>
        </p:nvPicPr>
        <p:blipFill>
          <a:blip r:embed="rId1"/>
          <a:stretch/>
        </p:blipFill>
        <p:spPr>
          <a:xfrm>
            <a:off x="4716360" y="1413000"/>
            <a:ext cx="4248360" cy="5040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6837120" y="148428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Архангельская ТЭ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рнодобывающая промышлен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5013360"/>
            <a:ext cx="882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добывающая промышленность в Архангельской области представлена добычей бокситов (Северо – Онежское месторождение) и добычей алмазов (месторождение имени Ломоносов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североонежский бокситовый рудник"/>
          <p:cNvPicPr/>
          <p:nvPr/>
        </p:nvPicPr>
        <p:blipFill>
          <a:blip r:embed="rId1"/>
          <a:stretch/>
        </p:blipFill>
        <p:spPr>
          <a:xfrm>
            <a:off x="108000" y="1197000"/>
            <a:ext cx="4537080" cy="35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алмазы"/>
          <p:cNvPicPr/>
          <p:nvPr/>
        </p:nvPicPr>
        <p:blipFill>
          <a:blip r:embed="rId2"/>
          <a:stretch/>
        </p:blipFill>
        <p:spPr>
          <a:xfrm>
            <a:off x="4788000" y="1197000"/>
            <a:ext cx="424800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191520" y="425304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Северо-Онежский - бокситовый руд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горнодобывающей промышленности на окружающую сред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80" y="2060640"/>
            <a:ext cx="40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еличиваются пространства, нарушенные горными вырабо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состояние и режим грунтовых 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грязняется атмосфера пылегазовыми выброс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худшаются условия произрастания растений, обитания животных и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9" descr="добыча алмазов"/>
          <p:cNvPicPr/>
          <p:nvPr/>
        </p:nvPicPr>
        <p:blipFill>
          <a:blip r:embed="rId1"/>
          <a:stretch/>
        </p:blipFill>
        <p:spPr>
          <a:xfrm>
            <a:off x="4140360" y="1844640"/>
            <a:ext cx="4760640" cy="4392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4305600" y="6377040"/>
            <a:ext cx="45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обыча алмазов на месторождении им. Гри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 ближайшие годы нагрузка на окружающую среду в Архангельской области возрастет в связи с освоением месторождений нефти и газа Арктического шельф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Picture 6" descr="обзорная карта месторождений нефти и газа в баренцевом и Карсском морях"/>
          <p:cNvPicPr/>
          <p:nvPr/>
        </p:nvPicPr>
        <p:blipFill>
          <a:blip r:embed="rId1"/>
          <a:stretch/>
        </p:blipFill>
        <p:spPr>
          <a:xfrm>
            <a:off x="1042920" y="191628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Освоение месторождений нефти и газа Арктического шельф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7520" y="1267920"/>
            <a:ext cx="88567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из шельфовых месторождений будут осваиваться Штокмановское месторождение газа и Приразломное месторождение нефти. Для этого в г. Северодвинске построена первая из буровых платформ – Приразлом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7" descr="штокмановское месторождение"/>
          <p:cNvPicPr/>
          <p:nvPr/>
        </p:nvPicPr>
        <p:blipFill>
          <a:blip r:embed="rId1"/>
          <a:stretch/>
        </p:blipFill>
        <p:spPr>
          <a:xfrm>
            <a:off x="179280" y="3110040"/>
            <a:ext cx="4537080" cy="34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платформа приразломная"/>
          <p:cNvPicPr/>
          <p:nvPr/>
        </p:nvPicPr>
        <p:blipFill>
          <a:blip r:embed="rId2"/>
          <a:stretch/>
        </p:blipFill>
        <p:spPr>
          <a:xfrm>
            <a:off x="4859280" y="3141720"/>
            <a:ext cx="4114800" cy="345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6441480" y="3213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33"/>
                </a:solidFill>
                <a:latin typeface="Arial"/>
              </a:rPr>
              <a:t>Платформа Приразлом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78544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смотря на малую плотность населения, слабую освоенность территории, экологические проблемы в Архангельской области являются одними из самых остр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-2043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ая работа заняла 1 место в городском конкурсе «Эко-ин» (экологическая инициатива) в номинации «Виртуальный проект-презентация «Экология Архангельской област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арт 2012 г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Экологически опасные объекты и производства на территории Архангельской обла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5" descr="2"/>
          <p:cNvPicPr/>
          <p:nvPr/>
        </p:nvPicPr>
        <p:blipFill>
          <a:blip r:embed="rId1"/>
          <a:stretch/>
        </p:blipFill>
        <p:spPr>
          <a:xfrm>
            <a:off x="4140360" y="1989000"/>
            <a:ext cx="482436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1476360" y="3284640"/>
            <a:ext cx="6745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 flipV="1">
            <a:off x="108000" y="1915920"/>
            <a:ext cx="352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Учитывая сырьевую направленность экономики, очаговое природопользование и преобладание ландшафтов с низкой и слабой устойчивостью к техногенному воздействию, хозяйство Архангельской области оказывает большое негативное влияние на окружающую среду.  На территории Архангельской области расположено более 160 потенциально опас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51280" y="1557360"/>
            <a:ext cx="331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рганизован в 1954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 полигоне было проведено 132 ядерных взрыва общей мощностью более 300 мегатонн, что составляет 94% всех взрывов, произведенных в ССС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2" descr="ядерный полигон"/>
          <p:cNvPicPr/>
          <p:nvPr/>
        </p:nvPicPr>
        <p:blipFill>
          <a:blip r:embed="rId1"/>
          <a:stretch/>
        </p:blipFill>
        <p:spPr>
          <a:xfrm>
            <a:off x="395280" y="1052640"/>
            <a:ext cx="50403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 в настоящее время - единственный в Росс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957 года на полигоне производились воздушные, наземные и подводные ядерные взрывы. С 1963 года - только подземные. 30 октября 1961 года в атмосфере был взорван самый мощный  ядерный заряд за всю историю испытаний ядерного оруж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результате ядерных испытан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сходит механическое разрушение горных п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радиационная обстановка в Аркт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ядерный взрыв на новой земле"/>
          <p:cNvPicPr/>
          <p:nvPr/>
        </p:nvPicPr>
        <p:blipFill>
          <a:blip r:embed="rId1"/>
          <a:stretch/>
        </p:blipFill>
        <p:spPr>
          <a:xfrm>
            <a:off x="4500720" y="126828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Космодром «Плесецк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12" descr="ples"/>
          <p:cNvPicPr/>
          <p:nvPr/>
        </p:nvPicPr>
        <p:blipFill>
          <a:blip r:embed="rId1"/>
          <a:stretch/>
        </p:blipFill>
        <p:spPr>
          <a:xfrm>
            <a:off x="108000" y="981000"/>
            <a:ext cx="5184720" cy="298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16720" y="980640"/>
            <a:ext cx="352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снован в 1957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самым северным и одним из самых эксплуатируемых космодромов в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с космодрома осуществлено более 2000 запусков (около 40% всех запусков космических аппаратов нашей стра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4" descr="старт плесецк"/>
          <p:cNvPicPr/>
          <p:nvPr/>
        </p:nvPicPr>
        <p:blipFill>
          <a:blip r:embed="rId2"/>
          <a:stretch/>
        </p:blipFill>
        <p:spPr>
          <a:xfrm>
            <a:off x="108000" y="4076640"/>
            <a:ext cx="51847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3595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космодрома «Плесецк»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8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запусках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смодро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Плесецк»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ят выбросы ядовитого топли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еляемые ступени ракет с остатками ядовитого топлива падают в 13 районах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ит повреждение лесов в зоне космо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2"/>
          <p:cNvPicPr/>
          <p:nvPr/>
        </p:nvPicPr>
        <p:blipFill>
          <a:blip r:embed="rId1"/>
          <a:stretch/>
        </p:blipFill>
        <p:spPr>
          <a:xfrm>
            <a:off x="4067280" y="1557360"/>
            <a:ext cx="4605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лесной промышленности на окружающую среду: сокращение площади коренных лес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5516280"/>
            <a:ext cx="8605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езультате сплошных рубок вдоль желез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мобильных дорог и сплавных рек площадь коре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сов в области сократилась во много р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Рисунок1"/>
          <p:cNvPicPr/>
          <p:nvPr/>
        </p:nvPicPr>
        <p:blipFill>
          <a:blip r:embed="rId1"/>
          <a:stretch/>
        </p:blipFill>
        <p:spPr>
          <a:xfrm>
            <a:off x="395280" y="1989000"/>
            <a:ext cx="309708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Рисунок3"/>
          <p:cNvPicPr/>
          <p:nvPr/>
        </p:nvPicPr>
        <p:blipFill>
          <a:blip r:embed="rId2"/>
          <a:stretch/>
        </p:blipFill>
        <p:spPr>
          <a:xfrm>
            <a:off x="5292720" y="1989000"/>
            <a:ext cx="3095640" cy="3024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11528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608400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плав ле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самым дешевым способом транспортировки древесины. Раньше в области лес сплавляли молем, в настоящее время – только в пло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сплаве лес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древесины тонет, так как тонкомерная древесина способна продержаться в воде не более 120 су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исходит загрязнение воды в т. ч. танидами: с каждого куб. метра древесины – 4, 2 кг тани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9" descr="сплав леса по сев"/>
          <p:cNvPicPr/>
          <p:nvPr/>
        </p:nvPicPr>
        <p:blipFill>
          <a:blip r:embed="rId1"/>
          <a:stretch/>
        </p:blipFill>
        <p:spPr>
          <a:xfrm>
            <a:off x="3780000" y="1197000"/>
            <a:ext cx="5184720" cy="5400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5486760" y="134136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Сплав леса по Северной Дви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лияние целлюлозно - бумажной промышленности на окружающую сред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150624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рхангельской области располагаются 3 крупнейших в Европе ЦБК: Архангельский, Соломбальский, Котласск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брасывают в атмосферу более 80000 тонн загрязняющих веществ, что составляет более 25% от общего объема по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более 60% от общего объема воды, забранной в области, и загрязняют ее лигносульфатами и другими опасными загрязн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архангельский цбк"/>
          <p:cNvPicPr/>
          <p:nvPr/>
        </p:nvPicPr>
        <p:blipFill>
          <a:blip r:embed="rId1"/>
          <a:stretch/>
        </p:blipFill>
        <p:spPr>
          <a:xfrm>
            <a:off x="209520" y="1455840"/>
            <a:ext cx="4680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92240" y="1484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Arial"/>
              </a:rPr>
              <a:t>Архангельский ЦБ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1:21:36Z</dcterms:created>
  <dc:creator>07</dc:creator>
  <dc:description/>
  <dc:language>en-US</dc:language>
  <cp:lastModifiedBy>Тамара_2</cp:lastModifiedBy>
  <dcterms:modified xsi:type="dcterms:W3CDTF">2012-05-21T19:20:19Z</dcterms:modified>
  <cp:revision>76</cp:revision>
  <dc:subject/>
  <dc:title>Региональная экология</dc:title>
</cp:coreProperties>
</file>